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dt" idx="2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ftr" idx="2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 type="sldNum" idx="2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83FA6-79A2-4A73-B14A-699E7CC3C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A6F8A-3089-476C-9015-12C08B6C3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851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DE269-A802-4BB9-8802-F451A42A6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F021A-3869-4631-BA1F-42AEDFBAE4E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D35C7E-3AD1-4129-8BB3-B637484B2795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1FAAC8E-6F62-4AEC-A2F1-698A346158E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44C61B-A0D3-4D6D-87B4-5E407176664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CA3EE3-98AA-4DB9-9C74-5402461B7260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224E24-C0F4-4F11-A8E5-8FF454208DCE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F2B77B5-3838-4959-9B8C-50B8A5720F2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8832F0-8801-4681-B490-A194B64629E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C8571F-3070-4B54-BA01-F4812D72DAB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E56EE95-B8B3-47A9-9AEF-973D0650C5C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D572EF-74A9-4AC1-843A-7509224FE2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EBDD34-49EC-4037-A334-605F0FA5A270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E43D3-5A0B-49F2-9FF0-8457EF38B0E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91972-61AF-4366-BCA6-86AD93AAE4F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5DB295-85E8-4339-B459-3A10DAF1944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45F08-02CB-4816-A0D6-E176EF58B352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AA74A-CBC4-4CA6-8742-353442F6538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92EE7-4E2E-471F-8C9A-A8CE4DE06FF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081285-105E-463D-8173-08B3C8D141A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3873A-4EA0-4ADB-84C7-B09BBF13CBE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36B81-4D60-435A-807E-953A67071B7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EF5B4-8076-4D04-93BC-B913C46BAD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D352F-659B-49C2-ADDF-F118035E6CB7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F7874D-E694-49B5-9FD4-97AB39ACF4E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C3F0AA-5102-4C7D-8B3C-E74D0626A7CD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E55C0E-67D6-4762-AA59-F9BB59E0837D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CB8EB3-4FA9-4679-82A7-EE45258D671F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02B641-5A23-42B9-814A-C0A4F9E836B2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37EF13-585F-4DBC-96D8-A773E9A8648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4912EF-566B-4923-AF4C-982373262F2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49579E-5A53-427D-A233-7AFC0FAF1042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C44A77-87DC-40A2-8D60-081292CE0CFA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54C897-55FA-44CA-ABC2-E3643E6DC2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B7038B-4F6F-4942-B079-8BD27FADFB7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06C0A8-2EAF-4D2A-A6DD-34711AC8D3D5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8ABC73-51AF-474A-BA4C-F8EFB53A622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117C6C4-F085-4619-A677-8D6250F5469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E757E0D-F0A4-4772-8EE7-C76B6D9CE49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06E8B19-BDBE-4655-9687-14B476CA1C84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F079F1-F11E-4082-8530-D2999C42B46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9D0BE81-0492-42C0-B660-5D3127D42FFD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D6B186-679D-4A20-85E9-C6554E9FD99F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667956-B97F-47E3-AC7B-6714FDB89E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B03FB16-C27D-42DD-9C57-02C30B10D315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B11824A-B000-4926-B4B9-74561B1DEC9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4DAB33E-E7B2-4E17-9F59-F3A7FD63B6F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F0116F-AE2A-441F-BA61-9F63E54D0F6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9DAB18-3D29-406D-A68B-BF659883EC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97551-DC7B-4D09-B397-4C354FE20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64237-49F4-42A9-A7E4-B5ACB84EB1D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DC8632-5574-4D5D-8A35-F67223D414D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FC398D-24F7-478F-AB94-BA9B074DFC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409F9-A99B-47F1-A8B9-692E0983452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53D46C-DE5F-45E6-B2F8-5E78CB034E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FA5F0-8EEC-40DE-A8EF-B399AD8EEB3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E62DCB-17F0-484D-85AC-9C84129EE7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F705C-6894-4C25-8A8C-70E497AEDA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DAB12-AB2E-4270-A1D1-A8036107541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9BD327-72F4-4C0B-90B4-7DD630B0A8F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A3C8E3-4390-4AA3-9112-A50C712671C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6358BA-BC4C-4D4F-B68D-601F580BD95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651A8-853A-4A96-9CC8-3C5D89A4F7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DC3FE-3A68-4C45-B69E-2BA45A7037E0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A6E4B-B1AA-4E22-8F90-B280406526B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27EAF-47DB-4497-B7A3-848BA058B2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EEF9-2A94-44EB-8BFE-E275A5634B7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559D-9A99-45AF-B623-00F427EBC18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49D58-8D7E-454C-8A3B-9B1A7F263C4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548D4-9B69-4E8C-81F3-CC5B6378115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D7E73-A92C-4C0B-B37A-3D66188E4C8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420F-265C-4518-AB45-95628197F86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4B2E6-CC54-42ED-B37C-34B8B72BF26E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378F4-65B8-46D9-A097-64564DAB61A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CABC6-6ACE-4879-9AE5-DDF3195BA9C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358A-8018-4FB9-B0D1-C50202B6278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15110-EB5B-46B3-B5F8-F293BDF900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5974D-2F77-4BD0-849A-C7DFE8ACC89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7A5B42-1708-4E3A-93EB-91665D7F8F5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9AF742-37AE-4E08-83B5-8C1D6610404B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C87345-24FE-46CA-A1F8-7EF93DB0DBD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E78E14-B7B6-486D-BF86-393FEEAF5DD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E3B65D-5EEC-4852-8FD1-53B7EABDE3E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E2EBC5-A86C-49C1-A295-9ABBCF520F3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98811B-1960-4183-8DEA-CDBC92174E0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66E3B0-7748-4F2D-81F4-7D5710F1CF4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E1E164-D46E-4BB4-83F9-266969221833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ADB5D3-FE14-4C60-A4B4-74C1EE77CA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D33DB-A06F-444E-B7AB-60C3CAECFA6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8F620D-C1F6-4FFF-8345-DD7F7954B82E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670E15-ABAD-4D23-8CC3-08FC3F8EA94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0C384E-6248-4C74-B338-DE278AB47155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59795C-9678-4ABE-AEA0-27FA0B5FE5F4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08C632-E210-4C1E-A8A2-9FBF3643580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5C7EEC-1A7C-4C64-9F4C-06FB056A7A7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EF4BD6-19D0-4380-8CFA-BA327B0F143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9CB241-CBCC-4962-A617-A68FDF1F71C3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CB456F2-5C88-447C-8D1A-97A28229CD40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DB9B4A-715A-484E-B3B0-F91869217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EEFAF-DF65-4106-8178-215E309B1A5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A61175-CC75-4074-B7EF-488CE04AB96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1A0B47-1077-4AE7-BA13-FE89E19F5F3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B85D74-6532-4A85-B0CE-63C707DEC128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496741-C70C-4B8D-B146-F305F2922E1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BAB2F-E57B-4597-A5F3-6DB8342AC4C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C0659-6D8C-4985-935E-20DF8B4F06F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F13963-E3D5-423F-8325-831C75859A2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52A90-F94C-4930-948B-D9B19C1F78C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9A0490-63AF-4895-BE26-DAE0503F133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DB33FD-5368-4622-B3C3-4D3A5DD089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31536-9A8C-47D6-83DE-669F0AB3B9E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751DE-0E52-4B15-83CB-C79487A5E550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469B7-64A1-4C72-ACD0-867823D0E649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C7B0A-E7F6-4701-B5C5-DBF98DC5A14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9557C-551C-4D15-AABE-A587B4AE7AF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40F3A-756E-46AC-B6D9-97D0D006F082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E48FA7-32E6-4D74-B59A-4E28C7279BE2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F5467F3-6503-4198-BF0D-09876818C71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F56C50-EF87-41BD-B168-0F56339B6C64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D6F026-05D3-4331-A79A-845F7E2FA9D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98A784-9318-4E77-AD8A-FC2246C44A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2BF74-67F7-4BB4-895D-F4E44D366AD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98D770-64E7-4E05-A1D2-A3ADC4E203B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69F086-C0A4-42F9-81F7-51D9F3FF73C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AC3066-FA9E-4116-BD36-BAD76886F725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116E82-DA8D-4DF0-9E6B-C5BE783B50C1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C4B1DD-7F1B-4226-ACDA-6BEBDA27634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2B6059-6478-4E06-A5A0-82AE5B7F43C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DAADAA-FD8B-49DD-A521-100F62E623B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8C1D8E1-417A-4649-9CFD-CD22E7AA5D9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A10A3E-942E-461E-A766-F0ADD5A4FFD1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646BF3-FBCF-4A13-83D2-A88ACC747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A896-CC6D-4D8B-97E0-6BFD394B985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C3BB-438E-43D7-B5AA-397A757FD92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58493-E6B1-4DD4-9022-57ED9C5B191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DCFD-05FE-4E3D-A46B-2FB056A17AE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3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953D7-42AD-4C9B-BCFE-B349D07E7B0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B941-9F78-4DBD-9F8A-BD448C035A1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33A8-6DBA-4068-90D7-67341371C871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2623-2151-4815-B2B3-CCE24636AE0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DE0FA-2C0D-4779-849E-9B15829BD0B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2E59-E835-4909-AC21-AD44416AA03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F4B6-ED24-4B73-A0B7-1776F2EA387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604960" y="3171600"/>
            <a:ext cx="430560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Remote Sens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ptember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35AEF-E68F-445D-9BD7-6DE9E08CEB0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30360" y="380520"/>
            <a:ext cx="591048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getsta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693" name="Group 6"/>
          <p:cNvGrpSpPr/>
          <p:nvPr/>
        </p:nvGrpSpPr>
        <p:grpSpPr>
          <a:xfrm>
            <a:off x="3225600" y="3123720"/>
            <a:ext cx="1674000" cy="927720"/>
            <a:chOff x="3225600" y="3123720"/>
            <a:chExt cx="1674000" cy="927720"/>
          </a:xfrm>
        </p:grpSpPr>
        <p:sp>
          <p:nvSpPr>
            <p:cNvPr id="694" name="Parallelogram 7"/>
            <p:cNvSpPr/>
            <p:nvPr/>
          </p:nvSpPr>
          <p:spPr>
            <a:xfrm rot="9700800">
              <a:off x="4118760" y="327960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Parallelogram 8"/>
            <p:cNvSpPr/>
            <p:nvPr/>
          </p:nvSpPr>
          <p:spPr>
            <a:xfrm rot="17591400">
              <a:off x="3810240" y="340776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Parallelogram 9"/>
            <p:cNvSpPr/>
            <p:nvPr/>
          </p:nvSpPr>
          <p:spPr>
            <a:xfrm rot="2221800">
              <a:off x="4066560" y="320652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Parallelogram 10"/>
            <p:cNvSpPr/>
            <p:nvPr/>
          </p:nvSpPr>
          <p:spPr>
            <a:xfrm rot="9717600">
              <a:off x="3992040" y="3386160"/>
              <a:ext cx="478080" cy="326160"/>
            </a:xfrm>
            <a:prstGeom prst="parallelogram">
              <a:avLst>
                <a:gd name="adj" fmla="val 8792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Group 24"/>
            <p:cNvGrpSpPr/>
            <p:nvPr/>
          </p:nvGrpSpPr>
          <p:grpSpPr>
            <a:xfrm>
              <a:off x="3931920" y="3717720"/>
              <a:ext cx="417600" cy="333720"/>
              <a:chOff x="3931920" y="3717720"/>
              <a:chExt cx="417600" cy="333720"/>
            </a:xfrm>
          </p:grpSpPr>
          <p:sp>
            <p:nvSpPr>
              <p:cNvPr id="699" name="Isosceles Triangle 15"/>
              <p:cNvSpPr/>
              <p:nvPr/>
            </p:nvSpPr>
            <p:spPr>
              <a:xfrm rot="1825800">
                <a:off x="4006440" y="379656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Oval 16"/>
              <p:cNvSpPr/>
              <p:nvPr/>
            </p:nvSpPr>
            <p:spPr>
              <a:xfrm rot="6727800">
                <a:off x="4040640" y="374184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Oval 17"/>
              <p:cNvSpPr/>
              <p:nvPr/>
            </p:nvSpPr>
            <p:spPr>
              <a:xfrm rot="6727800">
                <a:off x="4097160" y="392076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Straight Connector 18"/>
              <p:cNvSpPr/>
              <p:nvPr/>
            </p:nvSpPr>
            <p:spPr>
              <a:xfrm flipH="1">
                <a:off x="4115160" y="383904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Straight Connector 19"/>
              <p:cNvSpPr/>
              <p:nvPr/>
            </p:nvSpPr>
            <p:spPr>
              <a:xfrm>
                <a:off x="3983400" y="392724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Straight Connector 20"/>
              <p:cNvSpPr/>
              <p:nvPr/>
            </p:nvSpPr>
            <p:spPr>
              <a:xfrm flipH="1" flipV="1">
                <a:off x="4134960" y="395676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5" name="Straight Connector 12"/>
            <p:cNvSpPr/>
            <p:nvPr/>
          </p:nvSpPr>
          <p:spPr>
            <a:xfrm>
              <a:off x="4145400" y="374904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Straight Connector 13"/>
            <p:cNvSpPr/>
            <p:nvPr/>
          </p:nvSpPr>
          <p:spPr>
            <a:xfrm flipV="1">
              <a:off x="4008600" y="351684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Parallelogram 14"/>
            <p:cNvSpPr/>
            <p:nvPr/>
          </p:nvSpPr>
          <p:spPr>
            <a:xfrm rot="9700800">
              <a:off x="3239640" y="352836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8" name="Group 21" descr=""/>
          <p:cNvPicPr/>
          <p:nvPr/>
        </p:nvPicPr>
        <p:blipFill>
          <a:blip r:embed="rId1"/>
          <a:stretch/>
        </p:blipFill>
        <p:spPr>
          <a:xfrm>
            <a:off x="1517760" y="159696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09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0" name="Group 25" descr=""/>
          <p:cNvPicPr/>
          <p:nvPr/>
        </p:nvPicPr>
        <p:blipFill>
          <a:blip r:embed="rId2"/>
          <a:stretch/>
        </p:blipFill>
        <p:spPr>
          <a:xfrm>
            <a:off x="7596360" y="3328920"/>
            <a:ext cx="669600" cy="669960"/>
          </a:xfrm>
          <a:prstGeom prst="rect">
            <a:avLst/>
          </a:prstGeom>
          <a:ln w="0">
            <a:noFill/>
          </a:ln>
        </p:spPr>
      </p:pic>
      <p:sp>
        <p:nvSpPr>
          <p:cNvPr id="711" name="TextBox 29"/>
          <p:cNvSpPr/>
          <p:nvPr/>
        </p:nvSpPr>
        <p:spPr>
          <a:xfrm>
            <a:off x="1073160" y="16066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30"/>
          <p:cNvSpPr/>
          <p:nvPr/>
        </p:nvSpPr>
        <p:spPr>
          <a:xfrm>
            <a:off x="3164040" y="38592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31"/>
          <p:cNvSpPr/>
          <p:nvPr/>
        </p:nvSpPr>
        <p:spPr>
          <a:xfrm>
            <a:off x="7931160" y="31305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33"/>
          <p:cNvSpPr/>
          <p:nvPr/>
        </p:nvSpPr>
        <p:spPr>
          <a:xfrm>
            <a:off x="5797440" y="54928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Obtaining Target States and Position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6" name="Straight Arrow Connector 35"/>
          <p:cNvCxnSpPr/>
          <p:nvPr/>
        </p:nvCxnSpPr>
        <p:spPr>
          <a:xfrm flipH="1">
            <a:off x="3164040" y="3445560"/>
            <a:ext cx="1033560" cy="26564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17" name="TextBox 37"/>
          <p:cNvSpPr/>
          <p:nvPr/>
        </p:nvSpPr>
        <p:spPr>
          <a:xfrm>
            <a:off x="3544920" y="48837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Earth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8" name="Straight Arrow Connector 38"/>
          <p:cNvCxnSpPr/>
          <p:nvPr/>
        </p:nvCxnSpPr>
        <p:spPr>
          <a:xfrm flipH="1" flipV="1">
            <a:off x="2215440" y="2368080"/>
            <a:ext cx="1981800" cy="1078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19" name="TextBox 41"/>
          <p:cNvSpPr/>
          <p:nvPr/>
        </p:nvSpPr>
        <p:spPr>
          <a:xfrm>
            <a:off x="2521080" y="311220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Mars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0" name="Straight Arrow Connector 44"/>
          <p:cNvCxnSpPr/>
          <p:nvPr/>
        </p:nvCxnSpPr>
        <p:spPr>
          <a:xfrm>
            <a:off x="2215800" y="2368080"/>
            <a:ext cx="5715720" cy="12963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21" name="TextBox 48"/>
          <p:cNvSpPr/>
          <p:nvPr/>
        </p:nvSpPr>
        <p:spPr>
          <a:xfrm>
            <a:off x="5340240" y="2674080"/>
            <a:ext cx="9144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n as seen from 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2" name="Group 36" descr=""/>
          <p:cNvPicPr/>
          <p:nvPr/>
        </p:nvPicPr>
        <p:blipFill>
          <a:blip r:embed="rId1"/>
          <a:stretch/>
        </p:blipFill>
        <p:spPr>
          <a:xfrm>
            <a:off x="1504800" y="189540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23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C15E-46FE-4B44-AB57-715A8DF2B303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436840" y="380520"/>
            <a:ext cx="589752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xform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725" name="Group 6"/>
          <p:cNvGrpSpPr/>
          <p:nvPr/>
        </p:nvGrpSpPr>
        <p:grpSpPr>
          <a:xfrm>
            <a:off x="3682800" y="3885480"/>
            <a:ext cx="1674000" cy="928080"/>
            <a:chOff x="3682800" y="3885480"/>
            <a:chExt cx="1674000" cy="928080"/>
          </a:xfrm>
        </p:grpSpPr>
        <p:sp>
          <p:nvSpPr>
            <p:cNvPr id="726" name="Parallelogram 7"/>
            <p:cNvSpPr/>
            <p:nvPr/>
          </p:nvSpPr>
          <p:spPr>
            <a:xfrm rot="9700800">
              <a:off x="4575960" y="404136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Parallelogram 8"/>
            <p:cNvSpPr/>
            <p:nvPr/>
          </p:nvSpPr>
          <p:spPr>
            <a:xfrm rot="17591400">
              <a:off x="4267440" y="416952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Parallelogram 9"/>
            <p:cNvSpPr/>
            <p:nvPr/>
          </p:nvSpPr>
          <p:spPr>
            <a:xfrm rot="2221800">
              <a:off x="4523760" y="396828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Parallelogram 10"/>
            <p:cNvSpPr/>
            <p:nvPr/>
          </p:nvSpPr>
          <p:spPr>
            <a:xfrm rot="9717600">
              <a:off x="4449240" y="4147560"/>
              <a:ext cx="478080" cy="326520"/>
            </a:xfrm>
            <a:prstGeom prst="parallelogram">
              <a:avLst>
                <a:gd name="adj" fmla="val 8782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24"/>
            <p:cNvGrpSpPr/>
            <p:nvPr/>
          </p:nvGrpSpPr>
          <p:grpSpPr>
            <a:xfrm>
              <a:off x="4389120" y="4479840"/>
              <a:ext cx="417600" cy="333720"/>
              <a:chOff x="4389120" y="4479840"/>
              <a:chExt cx="417600" cy="333720"/>
            </a:xfrm>
          </p:grpSpPr>
          <p:sp>
            <p:nvSpPr>
              <p:cNvPr id="731" name="Isosceles Triangle 15"/>
              <p:cNvSpPr/>
              <p:nvPr/>
            </p:nvSpPr>
            <p:spPr>
              <a:xfrm rot="1825800">
                <a:off x="4463640" y="455868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Oval 16"/>
              <p:cNvSpPr/>
              <p:nvPr/>
            </p:nvSpPr>
            <p:spPr>
              <a:xfrm rot="6727800">
                <a:off x="4497840" y="450396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Oval 17"/>
              <p:cNvSpPr/>
              <p:nvPr/>
            </p:nvSpPr>
            <p:spPr>
              <a:xfrm rot="6727800">
                <a:off x="4554360" y="468288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Straight Connector 18"/>
              <p:cNvSpPr/>
              <p:nvPr/>
            </p:nvSpPr>
            <p:spPr>
              <a:xfrm flipH="1">
                <a:off x="4572360" y="460116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Straight Connector 19"/>
              <p:cNvSpPr/>
              <p:nvPr/>
            </p:nvSpPr>
            <p:spPr>
              <a:xfrm>
                <a:off x="4440600" y="468936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Straight Connector 20"/>
              <p:cNvSpPr/>
              <p:nvPr/>
            </p:nvSpPr>
            <p:spPr>
              <a:xfrm flipH="1" flipV="1">
                <a:off x="4592160" y="471888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Straight Connector 12"/>
            <p:cNvSpPr/>
            <p:nvPr/>
          </p:nvSpPr>
          <p:spPr>
            <a:xfrm>
              <a:off x="4602600" y="451116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Straight Connector 13"/>
            <p:cNvSpPr/>
            <p:nvPr/>
          </p:nvSpPr>
          <p:spPr>
            <a:xfrm flipV="1">
              <a:off x="4465800" y="427860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Parallelogram 14"/>
            <p:cNvSpPr/>
            <p:nvPr/>
          </p:nvSpPr>
          <p:spPr>
            <a:xfrm rot="9700800">
              <a:off x="3696840" y="429012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0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Group 25" descr=""/>
          <p:cNvPicPr/>
          <p:nvPr/>
        </p:nvPicPr>
        <p:blipFill>
          <a:blip r:embed="rId2"/>
          <a:stretch/>
        </p:blipFill>
        <p:spPr>
          <a:xfrm>
            <a:off x="7596360" y="5005440"/>
            <a:ext cx="669600" cy="669960"/>
          </a:xfrm>
          <a:prstGeom prst="rect">
            <a:avLst/>
          </a:prstGeom>
          <a:ln w="0">
            <a:noFill/>
          </a:ln>
        </p:spPr>
      </p:pic>
      <p:sp>
        <p:nvSpPr>
          <p:cNvPr id="742" name="TextBox 29"/>
          <p:cNvSpPr/>
          <p:nvPr/>
        </p:nvSpPr>
        <p:spPr>
          <a:xfrm>
            <a:off x="1073160" y="19112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Box 30"/>
          <p:cNvSpPr/>
          <p:nvPr/>
        </p:nvSpPr>
        <p:spPr>
          <a:xfrm>
            <a:off x="3621240" y="462132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Box 31"/>
          <p:cNvSpPr/>
          <p:nvPr/>
        </p:nvSpPr>
        <p:spPr>
          <a:xfrm>
            <a:off x="7931160" y="48070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Box 33"/>
          <p:cNvSpPr/>
          <p:nvPr/>
        </p:nvSpPr>
        <p:spPr>
          <a:xfrm>
            <a:off x="6635880" y="20638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Spacecraft Orientation and Reference Fram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7" name="Straight Arrow Connector 38"/>
          <p:cNvCxnSpPr/>
          <p:nvPr/>
        </p:nvCxnSpPr>
        <p:spPr>
          <a:xfrm flipH="1" flipV="1">
            <a:off x="2292120" y="2673000"/>
            <a:ext cx="2381760" cy="13816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48" name="TextBox 41"/>
          <p:cNvSpPr/>
          <p:nvPr/>
        </p:nvSpPr>
        <p:spPr>
          <a:xfrm>
            <a:off x="2825640" y="3588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Mars as seen from ExoMars-16 T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9" name="Straight Arrow Connector 43"/>
          <p:cNvCxnSpPr/>
          <p:nvPr/>
        </p:nvCxnSpPr>
        <p:spPr>
          <a:xfrm flipH="1" flipV="1">
            <a:off x="2063160" y="1682280"/>
            <a:ext cx="229320" cy="9914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0" name="Straight Arrow Connector 45"/>
          <p:cNvCxnSpPr/>
          <p:nvPr/>
        </p:nvCxnSpPr>
        <p:spPr>
          <a:xfrm>
            <a:off x="2292480" y="267336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1" name="Straight Arrow Connector 49"/>
          <p:cNvCxnSpPr/>
          <p:nvPr/>
        </p:nvCxnSpPr>
        <p:spPr>
          <a:xfrm flipH="1">
            <a:off x="1878840" y="2673000"/>
            <a:ext cx="413640" cy="7038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752" name="TextBox 58"/>
          <p:cNvSpPr/>
          <p:nvPr/>
        </p:nvSpPr>
        <p:spPr>
          <a:xfrm>
            <a:off x="2139840" y="160668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3" name="Straight Arrow Connector 62"/>
          <p:cNvCxnSpPr/>
          <p:nvPr/>
        </p:nvCxnSpPr>
        <p:spPr>
          <a:xfrm>
            <a:off x="4697280" y="4049640"/>
            <a:ext cx="610560" cy="4579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4" name="Straight Arrow Connector 64"/>
          <p:cNvCxnSpPr/>
          <p:nvPr/>
        </p:nvCxnSpPr>
        <p:spPr>
          <a:xfrm flipV="1">
            <a:off x="4700160" y="3752280"/>
            <a:ext cx="842040" cy="2862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5" name="Straight Arrow Connector 71"/>
          <p:cNvCxnSpPr/>
          <p:nvPr/>
        </p:nvCxnSpPr>
        <p:spPr>
          <a:xfrm flipV="1">
            <a:off x="4697280" y="3206160"/>
            <a:ext cx="339120" cy="8434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56" name="Straight Arrow Connector 74"/>
          <p:cNvCxnSpPr/>
          <p:nvPr/>
        </p:nvCxnSpPr>
        <p:spPr>
          <a:xfrm flipH="1" flipV="1">
            <a:off x="3282120" y="2977920"/>
            <a:ext cx="1415160" cy="10720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arrow" w="med"/>
          </a:ln>
        </p:spPr>
      </p:cxnSp>
      <p:sp>
        <p:nvSpPr>
          <p:cNvPr id="757" name="TextBox 76"/>
          <p:cNvSpPr/>
          <p:nvPr/>
        </p:nvSpPr>
        <p:spPr>
          <a:xfrm>
            <a:off x="4883040" y="351144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TGO_SPACECRA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Box 77"/>
          <p:cNvSpPr/>
          <p:nvPr/>
        </p:nvSpPr>
        <p:spPr>
          <a:xfrm>
            <a:off x="3664080" y="31312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Nominal instrument view dir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Freeform 79"/>
          <p:cNvSpPr/>
          <p:nvPr/>
        </p:nvSpPr>
        <p:spPr>
          <a:xfrm>
            <a:off x="3435480" y="3282840"/>
            <a:ext cx="228600" cy="76320"/>
          </a:xfrm>
          <a:prstGeom prst="pie">
            <a:avLst/>
          </a:prstGeom>
          <a:noFill/>
          <a:ln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880" bIns="29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82"/>
          <p:cNvSpPr/>
          <p:nvPr/>
        </p:nvSpPr>
        <p:spPr>
          <a:xfrm>
            <a:off x="3206880" y="2978280"/>
            <a:ext cx="30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Lucida Grande"/>
              </a:rPr>
              <a:t>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83"/>
          <p:cNvSpPr/>
          <p:nvPr/>
        </p:nvSpPr>
        <p:spPr>
          <a:xfrm>
            <a:off x="615960" y="4730760"/>
            <a:ext cx="21337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c0128"/>
                </a:solidFill>
                <a:latin typeface="Lucida Grande"/>
              </a:rPr>
              <a:t>α: </a:t>
            </a:r>
            <a:r>
              <a:rPr b="0" lang="en-US" sz="1000" spc="-1" strike="noStrike">
                <a:solidFill>
                  <a:srgbClr val="fc0128"/>
                </a:solidFill>
                <a:latin typeface="Lucida Grande"/>
              </a:rPr>
              <a:t>Angular separation between nominal instrument direction and direction to 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Group 36" descr=""/>
          <p:cNvPicPr/>
          <p:nvPr/>
        </p:nvPicPr>
        <p:blipFill>
          <a:blip r:embed="rId1"/>
          <a:stretch/>
        </p:blipFill>
        <p:spPr>
          <a:xfrm>
            <a:off x="1504800" y="1974960"/>
            <a:ext cx="1549440" cy="1622160"/>
          </a:xfrm>
          <a:prstGeom prst="rect">
            <a:avLst/>
          </a:prstGeom>
          <a:ln w="0">
            <a:noFill/>
          </a:ln>
        </p:spPr>
      </p:pic>
      <p:sp>
        <p:nvSpPr>
          <p:cNvPr id="763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3F4D-F6CA-498E-9C1D-20F2CBE2E3D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2333520" y="380520"/>
            <a:ext cx="610416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subpts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765" name="Group 6"/>
          <p:cNvGrpSpPr/>
          <p:nvPr/>
        </p:nvGrpSpPr>
        <p:grpSpPr>
          <a:xfrm>
            <a:off x="3682800" y="3961800"/>
            <a:ext cx="1674000" cy="928080"/>
            <a:chOff x="3682800" y="3961800"/>
            <a:chExt cx="1674000" cy="928080"/>
          </a:xfrm>
        </p:grpSpPr>
        <p:sp>
          <p:nvSpPr>
            <p:cNvPr id="766" name="Parallelogram 7"/>
            <p:cNvSpPr/>
            <p:nvPr/>
          </p:nvSpPr>
          <p:spPr>
            <a:xfrm rot="9700800">
              <a:off x="4575960" y="411768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Parallelogram 8"/>
            <p:cNvSpPr/>
            <p:nvPr/>
          </p:nvSpPr>
          <p:spPr>
            <a:xfrm rot="17591400">
              <a:off x="4267440" y="424584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Parallelogram 9"/>
            <p:cNvSpPr/>
            <p:nvPr/>
          </p:nvSpPr>
          <p:spPr>
            <a:xfrm rot="2221800">
              <a:off x="4523760" y="404460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Parallelogram 10"/>
            <p:cNvSpPr/>
            <p:nvPr/>
          </p:nvSpPr>
          <p:spPr>
            <a:xfrm rot="9717600">
              <a:off x="4449240" y="4223880"/>
              <a:ext cx="478080" cy="326520"/>
            </a:xfrm>
            <a:prstGeom prst="parallelogram">
              <a:avLst>
                <a:gd name="adj" fmla="val 87822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" name="Group 24"/>
            <p:cNvGrpSpPr/>
            <p:nvPr/>
          </p:nvGrpSpPr>
          <p:grpSpPr>
            <a:xfrm>
              <a:off x="4389120" y="4556160"/>
              <a:ext cx="417600" cy="333720"/>
              <a:chOff x="4389120" y="4556160"/>
              <a:chExt cx="417600" cy="333720"/>
            </a:xfrm>
          </p:grpSpPr>
          <p:sp>
            <p:nvSpPr>
              <p:cNvPr id="771" name="Isosceles Triangle 15"/>
              <p:cNvSpPr/>
              <p:nvPr/>
            </p:nvSpPr>
            <p:spPr>
              <a:xfrm rot="1825800">
                <a:off x="4463640" y="463500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16"/>
              <p:cNvSpPr/>
              <p:nvPr/>
            </p:nvSpPr>
            <p:spPr>
              <a:xfrm rot="6727800">
                <a:off x="4497840" y="458028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Oval 17"/>
              <p:cNvSpPr/>
              <p:nvPr/>
            </p:nvSpPr>
            <p:spPr>
              <a:xfrm rot="6727800">
                <a:off x="4554360" y="475920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Straight Connector 18"/>
              <p:cNvSpPr/>
              <p:nvPr/>
            </p:nvSpPr>
            <p:spPr>
              <a:xfrm flipH="1">
                <a:off x="4572360" y="467748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Straight Connector 19"/>
              <p:cNvSpPr/>
              <p:nvPr/>
            </p:nvSpPr>
            <p:spPr>
              <a:xfrm>
                <a:off x="4440600" y="476568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Straight Connector 20"/>
              <p:cNvSpPr/>
              <p:nvPr/>
            </p:nvSpPr>
            <p:spPr>
              <a:xfrm flipH="1" flipV="1">
                <a:off x="4592160" y="479520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7" name="Straight Connector 12"/>
            <p:cNvSpPr/>
            <p:nvPr/>
          </p:nvSpPr>
          <p:spPr>
            <a:xfrm>
              <a:off x="4602600" y="458748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Straight Connector 13"/>
            <p:cNvSpPr/>
            <p:nvPr/>
          </p:nvSpPr>
          <p:spPr>
            <a:xfrm flipV="1">
              <a:off x="4465800" y="435492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Parallelogram 14"/>
            <p:cNvSpPr/>
            <p:nvPr/>
          </p:nvSpPr>
          <p:spPr>
            <a:xfrm rot="9700800">
              <a:off x="3696840" y="436644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Group 25" descr=""/>
          <p:cNvPicPr/>
          <p:nvPr/>
        </p:nvPicPr>
        <p:blipFill>
          <a:blip r:embed="rId2"/>
          <a:stretch/>
        </p:blipFill>
        <p:spPr>
          <a:xfrm>
            <a:off x="7523280" y="2798640"/>
            <a:ext cx="663480" cy="663840"/>
          </a:xfrm>
          <a:prstGeom prst="rect">
            <a:avLst/>
          </a:prstGeom>
          <a:ln w="0">
            <a:noFill/>
          </a:ln>
        </p:spPr>
      </p:pic>
      <p:sp>
        <p:nvSpPr>
          <p:cNvPr id="782" name="TextBox 29"/>
          <p:cNvSpPr/>
          <p:nvPr/>
        </p:nvSpPr>
        <p:spPr>
          <a:xfrm>
            <a:off x="1073160" y="19875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30"/>
          <p:cNvSpPr/>
          <p:nvPr/>
        </p:nvSpPr>
        <p:spPr>
          <a:xfrm>
            <a:off x="3621240" y="469728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Box 31"/>
          <p:cNvSpPr/>
          <p:nvPr/>
        </p:nvSpPr>
        <p:spPr>
          <a:xfrm>
            <a:off x="7854840" y="259704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33"/>
          <p:cNvSpPr/>
          <p:nvPr/>
        </p:nvSpPr>
        <p:spPr>
          <a:xfrm>
            <a:off x="6102360" y="534024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Computing Sub-spacecraft and Sub-solar Poin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7" name="Straight Arrow Connector 38"/>
          <p:cNvCxnSpPr/>
          <p:nvPr/>
        </p:nvCxnSpPr>
        <p:spPr>
          <a:xfrm flipH="1" flipV="1">
            <a:off x="2596680" y="3053880"/>
            <a:ext cx="2057760" cy="123120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788" name="TextBox 41"/>
          <p:cNvSpPr/>
          <p:nvPr/>
        </p:nvSpPr>
        <p:spPr>
          <a:xfrm>
            <a:off x="1682640" y="361692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b-spacecraft point on Mars (nearest-poi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" name="Straight Arrow Connector 43"/>
          <p:cNvCxnSpPr/>
          <p:nvPr/>
        </p:nvCxnSpPr>
        <p:spPr>
          <a:xfrm flipH="1" flipV="1">
            <a:off x="2063160" y="1758600"/>
            <a:ext cx="229320" cy="99144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90" name="Straight Arrow Connector 45"/>
          <p:cNvCxnSpPr/>
          <p:nvPr/>
        </p:nvCxnSpPr>
        <p:spPr>
          <a:xfrm>
            <a:off x="2292480" y="274932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791" name="Straight Arrow Connector 49"/>
          <p:cNvCxnSpPr/>
          <p:nvPr/>
        </p:nvCxnSpPr>
        <p:spPr>
          <a:xfrm flipH="1">
            <a:off x="1878840" y="2749320"/>
            <a:ext cx="413640" cy="70380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792" name="TextBox 58"/>
          <p:cNvSpPr/>
          <p:nvPr/>
        </p:nvSpPr>
        <p:spPr>
          <a:xfrm>
            <a:off x="2139840" y="168264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Straight Arrow Connector 48"/>
          <p:cNvCxnSpPr/>
          <p:nvPr/>
        </p:nvCxnSpPr>
        <p:spPr>
          <a:xfrm flipH="1" flipV="1">
            <a:off x="2901960" y="2901240"/>
            <a:ext cx="4953240" cy="2293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794" name="Straight Arrow Connector 52"/>
          <p:cNvCxnSpPr/>
          <p:nvPr/>
        </p:nvCxnSpPr>
        <p:spPr>
          <a:xfrm>
            <a:off x="2292480" y="2749680"/>
            <a:ext cx="305280" cy="3052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cxnSp>
        <p:nvCxnSpPr>
          <p:cNvPr id="795" name="Straight Arrow Connector 55"/>
          <p:cNvCxnSpPr/>
          <p:nvPr/>
        </p:nvCxnSpPr>
        <p:spPr>
          <a:xfrm>
            <a:off x="2292120" y="2749320"/>
            <a:ext cx="610200" cy="1544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796" name="TextBox 59"/>
          <p:cNvSpPr/>
          <p:nvPr/>
        </p:nvSpPr>
        <p:spPr>
          <a:xfrm>
            <a:off x="3054240" y="252180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Sub-solar point on Mars (nearest-poi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7" name="Group 36" descr=""/>
          <p:cNvPicPr/>
          <p:nvPr/>
        </p:nvPicPr>
        <p:blipFill>
          <a:blip r:embed="rId1"/>
          <a:stretch/>
        </p:blipFill>
        <p:spPr>
          <a:xfrm>
            <a:off x="1504800" y="1822320"/>
            <a:ext cx="1549440" cy="1622520"/>
          </a:xfrm>
          <a:prstGeom prst="rect">
            <a:avLst/>
          </a:prstGeom>
          <a:ln w="0">
            <a:noFill/>
          </a:ln>
        </p:spPr>
      </p:pic>
      <p:sp>
        <p:nvSpPr>
          <p:cNvPr id="798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F1A7-330F-4749-90F4-60376BD053D1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448000" y="380520"/>
            <a:ext cx="5875200" cy="4906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Diagram for “fovint” Exercis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grpSp>
        <p:nvGrpSpPr>
          <p:cNvPr id="800" name="Group 6"/>
          <p:cNvGrpSpPr/>
          <p:nvPr/>
        </p:nvGrpSpPr>
        <p:grpSpPr>
          <a:xfrm>
            <a:off x="3682800" y="3809520"/>
            <a:ext cx="1674000" cy="927720"/>
            <a:chOff x="3682800" y="3809520"/>
            <a:chExt cx="1674000" cy="927720"/>
          </a:xfrm>
        </p:grpSpPr>
        <p:sp>
          <p:nvSpPr>
            <p:cNvPr id="801" name="Parallelogram 7"/>
            <p:cNvSpPr/>
            <p:nvPr/>
          </p:nvSpPr>
          <p:spPr>
            <a:xfrm rot="9700800">
              <a:off x="4575960" y="3965400"/>
              <a:ext cx="763560" cy="232200"/>
            </a:xfrm>
            <a:prstGeom prst="parallelogram">
              <a:avLst>
                <a:gd name="adj" fmla="val 87918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Parallelogram 8"/>
            <p:cNvSpPr/>
            <p:nvPr/>
          </p:nvSpPr>
          <p:spPr>
            <a:xfrm rot="17591400">
              <a:off x="4267440" y="4093560"/>
              <a:ext cx="488880" cy="208440"/>
            </a:xfrm>
            <a:prstGeom prst="parallelogram">
              <a:avLst>
                <a:gd name="adj" fmla="val 26093"/>
              </a:avLst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Parallelogram 9"/>
            <p:cNvSpPr/>
            <p:nvPr/>
          </p:nvSpPr>
          <p:spPr>
            <a:xfrm rot="2221800">
              <a:off x="4523760" y="3892320"/>
              <a:ext cx="327600" cy="154800"/>
            </a:xfrm>
            <a:prstGeom prst="parallelogram">
              <a:avLst>
                <a:gd name="adj" fmla="val 7029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Parallelogram 10"/>
            <p:cNvSpPr/>
            <p:nvPr/>
          </p:nvSpPr>
          <p:spPr>
            <a:xfrm rot="9717600">
              <a:off x="4449240" y="4071960"/>
              <a:ext cx="478080" cy="326160"/>
            </a:xfrm>
            <a:prstGeom prst="parallelogram">
              <a:avLst>
                <a:gd name="adj" fmla="val 8792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Group 24"/>
            <p:cNvGrpSpPr/>
            <p:nvPr/>
          </p:nvGrpSpPr>
          <p:grpSpPr>
            <a:xfrm>
              <a:off x="4389120" y="4403520"/>
              <a:ext cx="417600" cy="333720"/>
              <a:chOff x="4389120" y="4403520"/>
              <a:chExt cx="417600" cy="333720"/>
            </a:xfrm>
          </p:grpSpPr>
          <p:sp>
            <p:nvSpPr>
              <p:cNvPr id="806" name="Isosceles Triangle 15"/>
              <p:cNvSpPr/>
              <p:nvPr/>
            </p:nvSpPr>
            <p:spPr>
              <a:xfrm rot="1825800">
                <a:off x="4463640" y="4482360"/>
                <a:ext cx="339840" cy="10476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Oval 16"/>
              <p:cNvSpPr/>
              <p:nvPr/>
            </p:nvSpPr>
            <p:spPr>
              <a:xfrm rot="6727800">
                <a:off x="4497840" y="4427640"/>
                <a:ext cx="159120" cy="3427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Oval 17"/>
              <p:cNvSpPr/>
              <p:nvPr/>
            </p:nvSpPr>
            <p:spPr>
              <a:xfrm rot="6727800">
                <a:off x="4554360" y="4606560"/>
                <a:ext cx="22680" cy="550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560" bIns="-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Straight Connector 18"/>
              <p:cNvSpPr/>
              <p:nvPr/>
            </p:nvSpPr>
            <p:spPr>
              <a:xfrm flipH="1">
                <a:off x="4572360" y="4524840"/>
                <a:ext cx="42120" cy="98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Straight Connector 19"/>
              <p:cNvSpPr/>
              <p:nvPr/>
            </p:nvSpPr>
            <p:spPr>
              <a:xfrm>
                <a:off x="4440600" y="4613040"/>
                <a:ext cx="100440" cy="12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Straight Connector 20"/>
              <p:cNvSpPr/>
              <p:nvPr/>
            </p:nvSpPr>
            <p:spPr>
              <a:xfrm flipH="1" flipV="1">
                <a:off x="4592160" y="4642560"/>
                <a:ext cx="72720" cy="46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Straight Connector 12"/>
            <p:cNvSpPr/>
            <p:nvPr/>
          </p:nvSpPr>
          <p:spPr>
            <a:xfrm>
              <a:off x="4602600" y="4434840"/>
              <a:ext cx="58320" cy="5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sm" type="oval" w="sm"/>
              <a:tail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Straight Connector 13"/>
            <p:cNvSpPr/>
            <p:nvPr/>
          </p:nvSpPr>
          <p:spPr>
            <a:xfrm flipV="1">
              <a:off x="4465800" y="4202640"/>
              <a:ext cx="60120" cy="198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Parallelogram 14"/>
            <p:cNvSpPr/>
            <p:nvPr/>
          </p:nvSpPr>
          <p:spPr>
            <a:xfrm rot="9700800">
              <a:off x="3696840" y="4214160"/>
              <a:ext cx="888120" cy="232200"/>
            </a:xfrm>
            <a:prstGeom prst="parallelogram">
              <a:avLst>
                <a:gd name="adj" fmla="val 87900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5" name="Oval 24"/>
          <p:cNvSpPr/>
          <p:nvPr/>
        </p:nvSpPr>
        <p:spPr>
          <a:xfrm>
            <a:off x="3011400" y="5950080"/>
            <a:ext cx="304920" cy="304560"/>
          </a:xfrm>
          <a:prstGeom prst="ellipse">
            <a:avLst/>
          </a:prstGeom>
          <a:solidFill>
            <a:srgbClr val="a0b7f6"/>
          </a:solidFill>
          <a:ln w="12600">
            <a:solidFill>
              <a:srgbClr val="416f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Group 25" descr=""/>
          <p:cNvPicPr/>
          <p:nvPr/>
        </p:nvPicPr>
        <p:blipFill>
          <a:blip r:embed="rId2"/>
          <a:stretch/>
        </p:blipFill>
        <p:spPr>
          <a:xfrm>
            <a:off x="7523280" y="2646360"/>
            <a:ext cx="663480" cy="663480"/>
          </a:xfrm>
          <a:prstGeom prst="rect">
            <a:avLst/>
          </a:prstGeom>
          <a:ln w="0">
            <a:noFill/>
          </a:ln>
        </p:spPr>
      </p:pic>
      <p:sp>
        <p:nvSpPr>
          <p:cNvPr id="817" name="TextBox 29"/>
          <p:cNvSpPr/>
          <p:nvPr/>
        </p:nvSpPr>
        <p:spPr>
          <a:xfrm>
            <a:off x="1073160" y="183528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30"/>
          <p:cNvSpPr/>
          <p:nvPr/>
        </p:nvSpPr>
        <p:spPr>
          <a:xfrm>
            <a:off x="3621240" y="4545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TG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Box 31"/>
          <p:cNvSpPr/>
          <p:nvPr/>
        </p:nvSpPr>
        <p:spPr>
          <a:xfrm>
            <a:off x="7854840" y="2444760"/>
            <a:ext cx="76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S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Box 32"/>
          <p:cNvSpPr/>
          <p:nvPr/>
        </p:nvSpPr>
        <p:spPr>
          <a:xfrm>
            <a:off x="3164040" y="617868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Box 33"/>
          <p:cNvSpPr/>
          <p:nvPr/>
        </p:nvSpPr>
        <p:spPr>
          <a:xfrm>
            <a:off x="6102360" y="534024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ff"/>
                </a:solidFill>
                <a:latin typeface="Arial"/>
              </a:rPr>
              <a:t>Remote Sensing Lesson “Intersecting Vectors with a Triaxial Ellipsoid 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2" name="Straight Arrow Connector 38"/>
          <p:cNvCxnSpPr/>
          <p:nvPr/>
        </p:nvCxnSpPr>
        <p:spPr>
          <a:xfrm flipH="1" flipV="1">
            <a:off x="2977920" y="2596680"/>
            <a:ext cx="1620000" cy="1402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sp>
        <p:nvSpPr>
          <p:cNvPr id="823" name="TextBox 41"/>
          <p:cNvSpPr/>
          <p:nvPr/>
        </p:nvSpPr>
        <p:spPr>
          <a:xfrm>
            <a:off x="3816360" y="22932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Normal to the surface at intersect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4" name="Straight Arrow Connector 43"/>
          <p:cNvCxnSpPr/>
          <p:nvPr/>
        </p:nvCxnSpPr>
        <p:spPr>
          <a:xfrm flipH="1" flipV="1">
            <a:off x="2063160" y="1605960"/>
            <a:ext cx="229320" cy="9910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25" name="Straight Arrow Connector 45"/>
          <p:cNvCxnSpPr/>
          <p:nvPr/>
        </p:nvCxnSpPr>
        <p:spPr>
          <a:xfrm>
            <a:off x="2292480" y="2597040"/>
            <a:ext cx="915120" cy="766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26" name="Straight Arrow Connector 49"/>
          <p:cNvCxnSpPr/>
          <p:nvPr/>
        </p:nvCxnSpPr>
        <p:spPr>
          <a:xfrm flipH="1">
            <a:off x="1878840" y="2597040"/>
            <a:ext cx="413640" cy="7041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827" name="TextBox 58"/>
          <p:cNvSpPr/>
          <p:nvPr/>
        </p:nvSpPr>
        <p:spPr>
          <a:xfrm>
            <a:off x="2139840" y="1530360"/>
            <a:ext cx="91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8000"/>
                </a:solidFill>
                <a:latin typeface="Arial"/>
              </a:rPr>
              <a:t>IAU_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8" name="Straight Arrow Connector 48"/>
          <p:cNvCxnSpPr/>
          <p:nvPr/>
        </p:nvCxnSpPr>
        <p:spPr>
          <a:xfrm flipH="1" flipV="1">
            <a:off x="2977920" y="2596320"/>
            <a:ext cx="4877280" cy="3819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29" name="Straight Arrow Connector 55"/>
          <p:cNvCxnSpPr/>
          <p:nvPr/>
        </p:nvCxnSpPr>
        <p:spPr>
          <a:xfrm>
            <a:off x="2292120" y="2596680"/>
            <a:ext cx="595800" cy="1897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830" name="TextBox 59"/>
          <p:cNvSpPr/>
          <p:nvPr/>
        </p:nvSpPr>
        <p:spPr>
          <a:xfrm>
            <a:off x="5721480" y="24454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c0128"/>
                </a:solidFill>
                <a:latin typeface="Arial"/>
              </a:rPr>
              <a:t>Direction to the Sun from the surface intersect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1" name="Straight Arrow Connector 44"/>
          <p:cNvCxnSpPr/>
          <p:nvPr/>
        </p:nvCxnSpPr>
        <p:spPr>
          <a:xfrm flipH="1" flipV="1">
            <a:off x="4196880" y="3663720"/>
            <a:ext cx="348480" cy="31032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32" name="Straight Arrow Connector 46"/>
          <p:cNvCxnSpPr/>
          <p:nvPr/>
        </p:nvCxnSpPr>
        <p:spPr>
          <a:xfrm flipV="1">
            <a:off x="4548240" y="3816000"/>
            <a:ext cx="411840" cy="14688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cxnSp>
        <p:nvCxnSpPr>
          <p:cNvPr id="833" name="Straight Arrow Connector 47"/>
          <p:cNvCxnSpPr/>
          <p:nvPr/>
        </p:nvCxnSpPr>
        <p:spPr>
          <a:xfrm flipV="1">
            <a:off x="4545000" y="3511080"/>
            <a:ext cx="186480" cy="462960"/>
          </a:xfrm>
          <a:prstGeom prst="straightConnector1">
            <a:avLst/>
          </a:prstGeom>
          <a:ln w="12600">
            <a:solidFill>
              <a:srgbClr val="008000"/>
            </a:solidFill>
            <a:miter/>
            <a:tailEnd len="med" type="arrow" w="med"/>
          </a:ln>
        </p:spPr>
      </p:cxnSp>
      <p:sp>
        <p:nvSpPr>
          <p:cNvPr id="834" name="TextBox 50"/>
          <p:cNvSpPr/>
          <p:nvPr/>
        </p:nvSpPr>
        <p:spPr>
          <a:xfrm>
            <a:off x="4730760" y="3556080"/>
            <a:ext cx="14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8000"/>
                </a:solidFill>
                <a:latin typeface="Arial"/>
              </a:rPr>
              <a:t>TGO_NOMAD_LNO_N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5" name="Straight Arrow Connector 62"/>
          <p:cNvCxnSpPr/>
          <p:nvPr/>
        </p:nvCxnSpPr>
        <p:spPr>
          <a:xfrm flipH="1" flipV="1">
            <a:off x="2672640" y="2749320"/>
            <a:ext cx="1924920" cy="124992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6" name="Straight Arrow Connector 69"/>
          <p:cNvCxnSpPr/>
          <p:nvPr/>
        </p:nvCxnSpPr>
        <p:spPr>
          <a:xfrm flipH="1" flipV="1">
            <a:off x="2862000" y="2785320"/>
            <a:ext cx="1735920" cy="12135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7" name="Straight Arrow Connector 72"/>
          <p:cNvCxnSpPr/>
          <p:nvPr/>
        </p:nvCxnSpPr>
        <p:spPr>
          <a:xfrm flipH="1" flipV="1">
            <a:off x="2748960" y="2901240"/>
            <a:ext cx="1848600" cy="109764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8" name="Straight Arrow Connector 75"/>
          <p:cNvCxnSpPr/>
          <p:nvPr/>
        </p:nvCxnSpPr>
        <p:spPr>
          <a:xfrm flipH="1" flipV="1">
            <a:off x="2977920" y="2824920"/>
            <a:ext cx="1620000" cy="117396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med" type="triangle" w="med"/>
          </a:ln>
        </p:spPr>
      </p:cxnSp>
      <p:cxnSp>
        <p:nvCxnSpPr>
          <p:cNvPr id="839" name="Straight Arrow Connector 81"/>
          <p:cNvCxnSpPr/>
          <p:nvPr/>
        </p:nvCxnSpPr>
        <p:spPr>
          <a:xfrm flipV="1">
            <a:off x="2978280" y="2520360"/>
            <a:ext cx="915120" cy="76680"/>
          </a:xfrm>
          <a:prstGeom prst="straightConnector1">
            <a:avLst/>
          </a:prstGeom>
          <a:ln w="12600">
            <a:solidFill>
              <a:srgbClr val="fc0128"/>
            </a:solidFill>
            <a:miter/>
            <a:tailEnd len="sm" type="arrow" w="sm"/>
          </a:ln>
        </p:spPr>
      </p:cxnSp>
      <p:sp>
        <p:nvSpPr>
          <p:cNvPr id="840" name="TextBox 88"/>
          <p:cNvSpPr/>
          <p:nvPr/>
        </p:nvSpPr>
        <p:spPr>
          <a:xfrm>
            <a:off x="3130560" y="3741120"/>
            <a:ext cx="1295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c0128"/>
                </a:solidFill>
                <a:latin typeface="Arial"/>
              </a:rPr>
              <a:t>NOMAD LNO Nadir boresight and FOV corner vecto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Box 89"/>
          <p:cNvSpPr/>
          <p:nvPr/>
        </p:nvSpPr>
        <p:spPr>
          <a:xfrm>
            <a:off x="2859120" y="1836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llumination angles at the intersect poi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90"/>
          <p:cNvSpPr/>
          <p:nvPr/>
        </p:nvSpPr>
        <p:spPr>
          <a:xfrm>
            <a:off x="1735200" y="3584160"/>
            <a:ext cx="129528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ars surface intersects for NOMAD LNO Nadir boresight and FOV corners (five point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3" name="Straight Arrow Connector 3"/>
          <p:cNvCxnSpPr/>
          <p:nvPr/>
        </p:nvCxnSpPr>
        <p:spPr>
          <a:xfrm flipH="1">
            <a:off x="3076200" y="2204640"/>
            <a:ext cx="240480" cy="2739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Straight Arrow Connector 6"/>
          <p:cNvCxnSpPr/>
          <p:nvPr/>
        </p:nvCxnSpPr>
        <p:spPr>
          <a:xfrm flipV="1">
            <a:off x="2550600" y="3030480"/>
            <a:ext cx="167040" cy="6210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26T09:04:14Z</dcterms:created>
  <dc:creator/>
  <dc:description/>
  <dc:language>en-US</dc:language>
  <cp:lastModifiedBy>J</cp:lastModifiedBy>
  <cp:lastPrinted>2004-04-30T20:29:12Z</cp:lastPrinted>
  <dcterms:modified xsi:type="dcterms:W3CDTF">2016-08-31T16:00:32Z</dcterms:modified>
  <cp:revision>111</cp:revision>
  <dc:subject/>
  <dc:title>Preview of Coming Attractions</dc:title>
</cp:coreProperties>
</file>