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3FDF-D77B-4B42-B579-C23CA0C48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740B-D52A-483E-855B-9747C8BE999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E9FD39-0FE1-4037-9CC2-989A5511958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59C73-5E7B-48B6-82BD-D8DAAFE31B7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A1E8A-8449-4B7A-8CA9-F13EFB8EF31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790DCC-867B-4C05-AD02-95BC2369DA4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EED1A6-E618-43B1-8370-487CFCD4C8B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C21516-EA33-4DF5-95B8-42AE6E84E6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9076E5-29DF-4A28-9BD1-461E9DCA654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D370F6-A53C-434D-A47E-01DDF5EF27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15DE7A-9FC2-4C27-B063-52C2B7C1EA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0357-7B9D-4A6E-A16D-65F78B749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68DF-D858-4F3B-968A-1A2A360335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92964-A2C0-4B45-ADC5-49DAC33E546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3E2D-1E38-4BCC-BAE5-09AFDAF0870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0C44E-9EBC-406F-A54A-4C2F792321C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2D166-9DB2-4194-B44D-98E956E3528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144B5-6946-490C-B720-6EFFF9C7403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CF7E9-BB91-4235-9B93-23E8236F8CF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92EB1-B331-4008-A60A-4305A392A78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C0895-EF9A-429C-931C-5B9156B7470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1337D-A7AF-4200-9031-A582D1911B7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5CF41-1C31-4F10-B412-F6BE17076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13B6-E115-4226-B86F-0476DF65A10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2263-99BD-42ED-BB1C-58082F83C71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D331C-C306-4125-BCF8-57DF679E19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94E6D-7541-48D4-A99F-442040D5A8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41A2C4-55B1-4463-9B81-6FD26F9D216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899F5-6153-4D8A-BA21-F53224EEF0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04A17-0774-4B21-A6F6-BFF146227AF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F3CED-3F2F-4036-8DC8-8B6B693BFDD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88960-0385-4665-A3FC-925D6C9DF3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A4F50-71C4-4DB0-ACA8-959C4E426A5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E7D58-ACC7-4BD0-A25B-5CAB30ACC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16A20-C7E7-4556-A3EB-1D011B019E4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6782F-98E3-45EF-A9B9-ACA354D834F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20869-00E4-4173-B3B2-C1A74349996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4EA00A-5107-4057-8108-4A55C4FB2EE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33A5A1-AA08-4D50-9516-8E055980CDA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EFF8DD-121C-4C9D-907C-D9BC8BD0BAF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44F164-C8EC-49C7-9891-C66FAB7C718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F0D26E-9465-44C8-B40C-A3F1B451B75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BDABCD-9C28-4A71-A8B0-B8D13E0A1D9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4EDEB8-73BD-4396-96FC-5E42C18E56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91FE47-4320-4EE1-8C12-6D47AEFB3B9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D5032D-CA13-42E9-8519-81AAC591EAD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FB9D9E-5004-49D5-831F-E462995E50A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EFCD30-72BE-4FDF-9EBF-5F352C3D1AB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667BEE-9552-472D-9506-D7B3AE29F7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DD98-FE6A-4E52-93D8-1A07B443C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2AE41-5793-4297-A0F4-7FD34C9343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55C12-1F57-435C-8AA7-4BBAC16209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9F8CC-F4F3-48E7-9FFB-AC94C6BAF9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BB480-BD37-4C08-8E4C-41C4554069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6C234-9BBB-4E42-A434-AEB6460D6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FD75-CA41-411C-A642-9A9EC63E92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F25CF-0724-462E-B8C1-F10310FABF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78E73-5705-4EA8-9A63-3AED21C5E2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05FC8-BD43-4A57-BAFC-9D5AC690E8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E0F7E-C95C-4E87-B384-3F55BABE3A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1F586-0D19-40EA-8694-3533FB9D3E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AB413-39F5-4F67-9F68-4915F94E57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AE381-7508-4FB8-8C58-FCE510874E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2CC-DE69-4374-AFCE-FE0F380D2E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726E-DCEC-4F4E-AB58-6F02545E1D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FF3A-8D83-4E2A-B09D-9F935345E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ACC0-871E-40DF-A5E6-56ED38D073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223A-007D-48F8-A59A-0176B1F32F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063F-EE09-4CD7-8276-A406356CBA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993C-77F3-45DF-A0D6-2B4018DC43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B353-1FBF-4934-ACFD-A257933A88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1732-F4F8-4D76-844E-147DB609B2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B517-5968-4FC7-8631-9EBAD2337C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0608-FB17-44C7-8734-75D0478623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A7FC-3920-490B-8C58-1B2E57D6DC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267E-F4E4-465D-BF1E-590D69AA3B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38E29-3FE8-4F45-B76C-560386842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4089-FB5B-4E64-8AB4-81B7D052D6E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AB29F-40D2-423D-AF0A-0AC1D78C975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0A17D-3E54-4789-BE16-35F46D024FC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6E714-785D-411D-BE36-8AC37C4F742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14D02-0B25-428A-AB84-71B36879D6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469ED-57F9-4261-8FA9-9B2F53A777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C82E8-73C0-419E-8B3A-4CCBB32AA8E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C5718-30D2-4A7F-B789-C9509D95CE9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05BF2-FB60-4465-A135-945FC9FB2C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7CEE9-6E93-4778-BB77-A7DDA096606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74C52-3823-4E98-B8F9-FD36E6C2F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F989-2785-4992-91AA-F69EEC1238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ABD07-B1D3-4663-803A-8D49A7C417C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E1D96-0962-4FD2-9CD1-94B54D9B552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C152F-119A-4561-927D-166350DC6BD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AF54E-CD53-40CE-817C-BA0218AD02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F6D7F-4E8F-4E76-BAD5-C77A6ECC119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CD838-F2C0-4C1B-8BE7-8B494B72F35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859A2-D89E-4529-B89F-AE9E484D72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450E7-8074-452B-973A-4885D21102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2266B-FAA3-49AE-9E2D-F36BE79F92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4DF51-B732-4FCF-B4CE-08B359C74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86A5-FD37-4CD7-979B-013C3B2768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37F19-B7AD-4434-A02F-19B1608425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284F2-848E-4BEF-9D4E-BB3E2162570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04032-9CBD-4F1F-9029-B26C9192ACC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62CF-5636-48AC-ADCC-F4ABDC9C89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808F1-AD05-498B-A80B-7B6ED32580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B19F-291F-4FA0-915F-508EE092DD5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7EF6D-1A82-4339-9859-F5DAEB2753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8BD1-15CA-4559-B708-79FB03CFB5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BBD7-7FE2-4D12-8C58-9AB9196B79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E573-79BF-4EF2-9BE1-DEE6ACA4C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7900-9E2A-46DF-81F4-014E33655D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BA03-31D9-49D6-A987-5D634C26FD2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75FD4-6CD2-4318-BB35-5D6165A6F0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B697-42F0-4ECE-93C8-5D081160C7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F8B68-B827-4697-A6C9-67BE8BD135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EC7E2-BFD3-43DF-9574-8182703669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34554-A431-4DB6-80EC-D0F07D49DF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6B861D-536E-4A0B-A74C-B2EE5B3626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875F7-7E69-4605-B89B-5F41824E13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D9808-CBEF-4D0F-A2E9-750F50C718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5857F-EAEB-4FB6-BAAB-E6EAEB671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2FB8-4BED-4EB9-A42F-B565412640E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BB17C-4B6D-4FDA-9F05-3F2FFEA8C21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2EBD4-C508-42E0-9D5A-335C67172F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2AB1A-214F-402E-B27F-5E146E0210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44DE9-2A87-4F3C-920F-9B38C4AD36E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0B3EA-2311-4D20-A545-1CDE904249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76BA1-CE01-40E6-9985-334B3A36992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2A209-5C92-467E-A6C8-8CC69265A9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B95463-DF87-4757-BF9D-FE35337C167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EF0D9B-B14A-48E2-A176-0D73DCE224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322326-6335-406B-B27C-8E438084B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5E0B-4CA6-445A-92BA-EE367998C2A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807A-A3F7-4FDF-87E5-D60A735FFF9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34E5-3616-4F1C-8AAA-5E705FB67D0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4994-79DF-405B-84E4-E4316825D68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505-FD0B-4AB1-A61B-F61E26337EF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A837-7406-485B-8817-F4464C5B93E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8F76-5042-44C4-B710-B139C95E6C3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6FEB-4EED-42A5-8327-43D07BFC847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517D-A1D8-4121-B142-4F25107DD07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642-2C9A-488C-A976-1AC170D2454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E82D-A2B1-4111-A30C-210298A5575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3A81-00DF-4691-B1C7-BD50BF25AD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ExoMars-16 Trace Gas Orbiter (TGO) is visible from ESA’s New Norcia station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0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4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New Norcia station must have elevation of at least 6 degrees in the station’s topocentric reference frame NEW_NORCIA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New Nor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F9C2-B6A2-4CAC-950A-991C6B7CF4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Oval 69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31c6b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0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2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3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4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5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6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78"/>
          <p:cNvSpPr/>
          <p:nvPr/>
        </p:nvSpPr>
        <p:spPr>
          <a:xfrm rot="2415600">
            <a:off x="3176280" y="3588840"/>
            <a:ext cx="549360" cy="53028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_NORCIA_T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1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1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88"/>
          <p:cNvSpPr/>
          <p:nvPr/>
        </p:nvSpPr>
        <p:spPr>
          <a:xfrm rot="2545800">
            <a:off x="3041280" y="3740040"/>
            <a:ext cx="633600" cy="3175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9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0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rc 79"/>
          <p:cNvSpPr/>
          <p:nvPr/>
        </p:nvSpPr>
        <p:spPr>
          <a:xfrm rot="2911800">
            <a:off x="3080160" y="3731400"/>
            <a:ext cx="344520" cy="38124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rc 87"/>
          <p:cNvSpPr/>
          <p:nvPr/>
        </p:nvSpPr>
        <p:spPr>
          <a:xfrm rot="4287000">
            <a:off x="2469960" y="3402000"/>
            <a:ext cx="1287360" cy="2491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1"/>
          <p:cNvSpPr/>
          <p:nvPr/>
        </p:nvSpPr>
        <p:spPr>
          <a:xfrm>
            <a:off x="1258920" y="3800520"/>
            <a:ext cx="1303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ew No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2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3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  not occult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5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8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</cp:lastModifiedBy>
  <dcterms:modified xsi:type="dcterms:W3CDTF">2016-08-26T16:37:30Z</dcterms:modified>
  <cp:revision>121</cp:revision>
  <dc:subject/>
  <dc:title>Time Conversion and Formats</dc:title>
</cp:coreProperties>
</file>