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52360" y="698400"/>
            <a:ext cx="455328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81E85-D10D-49EC-ABB0-DFF241336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250CB-D322-4C1B-9372-51E66931B8C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411AEC-87B7-4CC3-9503-4BF6B1F6034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C2B706-CF44-414D-8925-3A6A704766C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2E8CC3-31FC-47E4-B2E4-853A5F0657E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82E289-08CC-40D9-B2D6-797F8DA2BB4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89FF3B-7881-42ED-991F-7248144035A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372BCC-987E-4C14-9EE8-92B9ADE9127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907AC7-D921-4DFD-BEF6-0D876D4DB2D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D33081-3345-4F0E-AD7B-4C70542CE42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321151-8BC5-4E48-94E4-4EE69E14218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AAEF5-3A8B-460F-AEB1-A7DDB1A18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AECCB-1D9A-4AD7-823E-C8F2F2A8815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81202-07D4-4FF4-8EC3-8D3DCE34416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76B95-DA78-44F8-B969-392A2A2693F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525FB-A115-410F-A236-F1DCB889EE0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61E3C-2EDE-4D4B-872A-7850946F28D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0744B-EC3B-4DD8-AB9C-6DCF696C2E0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EA075-B818-40D6-9A84-4EF5B55883F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97434-EBED-48CA-9571-234E84110AD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9A964-4E6D-4D75-B871-9EF3480F562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56363-57DB-4468-BC47-B12EA663696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82F51-FD93-4F2C-A0AF-0A69E9BC8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7F530-B4D5-4F92-9EA4-904F82C992F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6D22A-4319-4C1E-BCE6-FB4E8DD2C9F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1F7718-5BFF-4B39-9A1A-005BE8D950B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332F91-86B0-4785-AFAB-84E1DA0B8E8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0125A1-1002-4DC2-9481-5992DD1EF36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84B901-AA6A-488C-9DD1-B9752A6176B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B6B54A-56C0-4993-B1E7-8885F280B14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2838CF-244B-462E-8557-85C8D82D422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86A761-8730-4F44-B5B1-BD78A0D4D53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B441F6-B925-4FAD-AE4E-18D75B2851E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CFB977-BE44-42A6-B281-B8C101572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E8271C-03E5-47C5-BEB6-B2759BF59D4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891085-88BE-4E00-A890-3B1770DF857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A8D4F7-3E8B-49D4-8359-E6429B02D8B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12DBB8-1F3B-4052-96D3-50AEF2A19F0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B4A363-77CC-494E-B557-FE39BBBDE79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5972A6-C46C-4376-BD7C-D5572D98EAE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08F301-DD01-4C6F-860C-6C3A2AAE5A8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E3BC91-D58C-4C4A-9572-A481D1CF88B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10FD6E-9BAA-46F6-961C-A5EAE806A46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B75E3E-A41D-40F9-AC47-78ABADDA6B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CC59F0-D930-46C6-ACFF-B3F3C41828B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C31C9C-0EF2-4A12-857A-E032C368135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A5B902-2F07-405E-98C5-4DAC597C0E6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64F702-F810-4776-8EC4-A9E47B53FA6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3C9503-E72C-419C-B170-975C12399D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4CE45-758C-4BBF-BA25-7B785D0A32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75496-DFAE-4A00-BADB-8CECB3B736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6EC27-AAAA-4420-AADF-6E0EEE305C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276B1-5F20-4948-B71C-37477F5727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50255-EDD0-468C-8522-91AA2C31FE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26563-7E2F-450D-A761-3EBDE1082F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DAA8E-A622-4DB7-A281-F8E82C1C1F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A74D8-FFC7-4496-9248-55A8CA2E04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E315B-DF9D-4B23-BCDC-D7BD5D2354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DD342-9964-4640-9A4E-5FE55A4A6F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90B2D-8629-4A34-8E0A-326B86392DF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15CF3-CDD9-4029-A43A-31225A342A5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F00E1-3D39-4759-A1D8-D9A0CFDAA0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DCF19-F22F-4B57-B1C6-CCB6FCE90A8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D347-9AA2-47BB-94D2-96554C6A438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D146-FE70-421A-9C4C-B5FA275A360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835D-1991-49FB-9669-18EA594813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67742-10E6-40A4-9EE3-5904876953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126A-C0FD-4E6D-BB6B-15931FC4837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E0CF-D245-4B50-AA60-EBC7AB944EA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F09C-1F2A-4FC5-A14E-0495F68AFC4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DC10-58F2-4D61-BA4F-962330C8E86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153E-0ACF-4534-8C12-853E0630F36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EE6D-279B-4D75-A441-9A3E95FF8FF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19AD-68CA-4983-9A5B-07DED947986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9813-E606-4368-B00E-F7194A578D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4A75-B590-4E38-B0F5-42BAF7FD3F2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6DDA72-E09B-4CEA-9F8A-AC1CC077E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96D5D-161F-419D-9510-0DDAC2C195E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799017-D602-44B8-B24A-F1EAE8DAFD8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AFBD63-7754-4A1C-991B-9A604C01AB1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F5E22D-E4C6-4EAB-95CD-DBA7986C69B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E0DE1-1BA4-47DC-B886-4A4D31F858C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9D7E26-6899-4A4E-9503-B019901F197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9C4F84-794D-4757-90C4-E57FB6EB0D8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B73E0-90A4-4E4D-902E-62593E1F59F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77E36-FDE1-4768-A3A5-C1083842FCE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1265A3-6FB9-4B30-9BFA-8EE0941E624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B3F598-7000-4F98-B131-1F2301940D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09F38-A435-4570-8E8B-BEA40B7099A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DB68C-B25C-4D98-A990-C3843BB938E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DAC1C0-018B-47A0-BB13-984CAE6FA6B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1BF5AE-F5A1-443B-A6FF-4DC4814ADEC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E4C4DA-62EA-4DC6-BCAF-0384216FCA2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DD1993-7CB3-4E6C-AEC1-FCA3C2A0365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5A2227-CB17-4083-B7DB-606726B4595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29A13D-C7F0-4967-8F4E-344CE27056B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3BED9C-7B67-4EBF-930C-4E78805B6AB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8F4D85-9136-4912-A342-57DA3975C47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8D02AF-DADD-4D34-AF49-74C3E5F3E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A846A-0A8B-4EAD-9BB2-5926227D6AB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DE1D98-6526-4439-BE1B-0C0160F7F17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1C647E-2CF2-470F-8A1B-C4305B7B633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7C91F5-8625-4663-BEAB-6746658D3F8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63A01-5841-4FFE-BFDE-CA4D5B46FC5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7C084-98F3-440E-9D3F-70B7D8E13F5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26A16-3195-4DF7-8F82-DC5476409DB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B58E2-ED1B-4B95-A044-78F05200A60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96434-E955-4ED0-8845-5BD8FE5731E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72E35-92D4-4B83-A55C-02388AF6174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FF0D8-88F8-44FE-B705-FE855E106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30FA2-2A82-473E-BDE8-3F6B530F55B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EBA15-4FF2-4703-AB29-FDE11935A6D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F94B2-F91B-4D18-A42C-81EB65E4E81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8E3BA-947F-4935-9CBB-EF3589AEDA4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0A2E5-684F-42A3-995B-233E278CF3B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4DADB-4C91-4F5C-965C-A46876A06E6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9F284D-DCDC-4CEE-9EEA-C0FA467FB37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BF42F1-451E-436D-9959-BBCD2898238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9F14A4-86B7-4E97-BF64-8B43C42D81D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C35D6A-CBAC-4495-AA43-2A75F6D9013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CAB84A-5374-4535-9CC5-18A2BD6BA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92885-6DE0-4500-B277-DC9918B7E78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FA1830-579C-4318-A303-B2411A9BEF5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917CA1-7FEC-4A76-A9A3-1F5DDB1E96A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E697A3-75C8-43F5-A77F-B2AF5BA89B3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D3CC07-9174-458D-9A42-10129DEF0D7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217A10-507E-41CC-8446-BA776500E21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33412B-9EEB-41B1-A4F1-F2B8E778A51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68B613-F759-44A7-A7D5-EBD82EA6E94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7960EA-1E3E-42FB-833C-F12CD1FD63E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279410-97B5-4B8B-911E-4F3BDF8C48A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FE62EB-2585-47B7-811E-EB23A3C01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5F59-B45B-4EA1-BB62-63A1F4882D3E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15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1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28E4-3624-4BF3-A3B0-0A257F75E62D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72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1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2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2A8E-47E1-4AF8-A8B8-00C828821F7D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29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2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B08E-0106-451F-86D3-689198760C97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1" name="Arc 8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9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2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13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5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7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16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8E67-B90C-4B91-9C50-246090314C83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73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66FD-7B3D-4A64-8F94-566CA9EFEF92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30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48D9-6FB0-408A-96B6-08309E028D5E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87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573D-F030-46E9-8C3F-8347F183B51B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344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1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1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5546-43E5-428D-A713-CB347C9F0341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01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2511-3FFD-47C1-BC85-0CBA08DB8542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5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C1EB-5BF1-4DA0-9D4B-4FCCC9164D2F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988640" y="3171600"/>
            <a:ext cx="553716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Geometric Event Find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September 20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123E-53BD-4CBB-83B9-C43D794B6A2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704880" y="1527120"/>
            <a:ext cx="7772400" cy="486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 statem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when the ExoMars-16 Trace Gas Orbiter (TGO) is visible from ESA’s New Norcia station, within the time interv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8 Jun 10 T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8 Jun 14 T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pacecraft to be considered visible, the apparent spacecraft position relative to New Norcia station must have elevation of at least 6 degrees in the station’s topocentric reference frame NEW_NORCIA_TOP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light time and stellar aberration corrections to compute the spacecraft position relative to New Norc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 for possible occultation of the spacecraft by Ma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a SPICE window representing the visibility perio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lay the start and stop times of each time interval in this SPICE window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41360" y="380520"/>
            <a:ext cx="6237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Geometric Event Finding:  Overview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7919-508B-44C5-8F7C-D2F8019EA4E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3656160" y="3691080"/>
            <a:ext cx="984240" cy="38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3457440" y="380520"/>
            <a:ext cx="38037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Visibility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3" name="Oval 69"/>
          <p:cNvSpPr/>
          <p:nvPr/>
        </p:nvSpPr>
        <p:spPr>
          <a:xfrm>
            <a:off x="555480" y="3308400"/>
            <a:ext cx="3276720" cy="3133800"/>
          </a:xfrm>
          <a:prstGeom prst="ellipse">
            <a:avLst/>
          </a:prstGeom>
          <a:gradFill rotWithShape="0">
            <a:gsLst>
              <a:gs pos="0">
                <a:srgbClr val="031c6b"/>
              </a:gs>
              <a:gs pos="100000">
                <a:srgbClr val="063de8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70"/>
          <p:cNvSpPr/>
          <p:nvPr/>
        </p:nvSpPr>
        <p:spPr>
          <a:xfrm>
            <a:off x="5572080" y="2808360"/>
            <a:ext cx="1501920" cy="1434960"/>
          </a:xfrm>
          <a:prstGeom prst="ellipse">
            <a:avLst/>
          </a:prstGeom>
          <a:solidFill>
            <a:srgbClr val="ce1a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72"/>
          <p:cNvSpPr/>
          <p:nvPr/>
        </p:nvSpPr>
        <p:spPr>
          <a:xfrm flipV="1">
            <a:off x="2685960" y="2628720"/>
            <a:ext cx="609840" cy="1089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73"/>
          <p:cNvSpPr/>
          <p:nvPr/>
        </p:nvSpPr>
        <p:spPr>
          <a:xfrm flipH="1">
            <a:off x="2625840" y="3719520"/>
            <a:ext cx="64800" cy="8874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74"/>
          <p:cNvSpPr/>
          <p:nvPr/>
        </p:nvSpPr>
        <p:spPr>
          <a:xfrm flipV="1">
            <a:off x="2728800" y="3338280"/>
            <a:ext cx="3248280" cy="385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75"/>
          <p:cNvSpPr/>
          <p:nvPr/>
        </p:nvSpPr>
        <p:spPr>
          <a:xfrm flipV="1">
            <a:off x="7053120" y="3141720"/>
            <a:ext cx="838440" cy="95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76"/>
          <p:cNvSpPr/>
          <p:nvPr/>
        </p:nvSpPr>
        <p:spPr>
          <a:xfrm flipV="1">
            <a:off x="2736720" y="2126880"/>
            <a:ext cx="4573800" cy="159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rc 78"/>
          <p:cNvSpPr/>
          <p:nvPr/>
        </p:nvSpPr>
        <p:spPr>
          <a:xfrm rot="2415600">
            <a:off x="3176280" y="3588840"/>
            <a:ext cx="549360" cy="530280"/>
          </a:xfrm>
          <a:prstGeom prst="pie">
            <a:avLst/>
          </a:prstGeom>
          <a:noFill/>
          <a:ln w="38160">
            <a:solidFill>
              <a:srgbClr val="46ec1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80"/>
          <p:cNvSpPr/>
          <p:nvPr/>
        </p:nvSpPr>
        <p:spPr>
          <a:xfrm>
            <a:off x="1136520" y="2141640"/>
            <a:ext cx="2311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s vectors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_NORCIA_TO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pocentric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81"/>
          <p:cNvSpPr/>
          <p:nvPr/>
        </p:nvSpPr>
        <p:spPr>
          <a:xfrm>
            <a:off x="6122880" y="4316400"/>
            <a:ext cx="755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82"/>
          <p:cNvSpPr/>
          <p:nvPr/>
        </p:nvSpPr>
        <p:spPr>
          <a:xfrm>
            <a:off x="3444840" y="5956200"/>
            <a:ext cx="920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83"/>
          <p:cNvSpPr/>
          <p:nvPr/>
        </p:nvSpPr>
        <p:spPr>
          <a:xfrm>
            <a:off x="7994520" y="2908440"/>
            <a:ext cx="1162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cul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86"/>
          <p:cNvSpPr/>
          <p:nvPr/>
        </p:nvSpPr>
        <p:spPr>
          <a:xfrm>
            <a:off x="7107120" y="1550880"/>
            <a:ext cx="15303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1"/>
          <p:cNvSpPr/>
          <p:nvPr/>
        </p:nvSpPr>
        <p:spPr>
          <a:xfrm flipH="1" flipV="1">
            <a:off x="1412280" y="3204360"/>
            <a:ext cx="1283760" cy="5018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rc 88"/>
          <p:cNvSpPr/>
          <p:nvPr/>
        </p:nvSpPr>
        <p:spPr>
          <a:xfrm rot="2545800">
            <a:off x="3041280" y="3740040"/>
            <a:ext cx="633600" cy="317520"/>
          </a:xfrm>
          <a:prstGeom prst="pie">
            <a:avLst/>
          </a:prstGeom>
          <a:noFill/>
          <a:ln w="57240">
            <a:solidFill>
              <a:srgbClr val="e908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89"/>
          <p:cNvSpPr/>
          <p:nvPr/>
        </p:nvSpPr>
        <p:spPr>
          <a:xfrm>
            <a:off x="4102200" y="4511520"/>
            <a:ext cx="984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90"/>
          <p:cNvSpPr/>
          <p:nvPr/>
        </p:nvSpPr>
        <p:spPr>
          <a:xfrm flipH="1" flipV="1">
            <a:off x="3636720" y="4276800"/>
            <a:ext cx="425160" cy="450720"/>
          </a:xfrm>
          <a:prstGeom prst="line">
            <a:avLst/>
          </a:prstGeom>
          <a:ln w="57240">
            <a:solidFill>
              <a:srgbClr val="e908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rc 79"/>
          <p:cNvSpPr/>
          <p:nvPr/>
        </p:nvSpPr>
        <p:spPr>
          <a:xfrm rot="2911800">
            <a:off x="3080160" y="3731400"/>
            <a:ext cx="344520" cy="381240"/>
          </a:xfrm>
          <a:prstGeom prst="pie">
            <a:avLst/>
          </a:prstGeom>
          <a:noFill/>
          <a:ln w="38160">
            <a:solidFill>
              <a:srgbClr val="46ec1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rc 87"/>
          <p:cNvSpPr/>
          <p:nvPr/>
        </p:nvSpPr>
        <p:spPr>
          <a:xfrm rot="4287000">
            <a:off x="2469960" y="3402000"/>
            <a:ext cx="1287360" cy="249120"/>
          </a:xfrm>
          <a:prstGeom prst="pie">
            <a:avLst/>
          </a:prstGeom>
          <a:noFill/>
          <a:ln w="57240">
            <a:solidFill>
              <a:srgbClr val="e908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91"/>
          <p:cNvSpPr/>
          <p:nvPr/>
        </p:nvSpPr>
        <p:spPr>
          <a:xfrm>
            <a:off x="1258920" y="3800520"/>
            <a:ext cx="13032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New Nor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92"/>
          <p:cNvSpPr/>
          <p:nvPr/>
        </p:nvSpPr>
        <p:spPr>
          <a:xfrm>
            <a:off x="2706840" y="3727440"/>
            <a:ext cx="4510080" cy="1671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3"/>
          <p:cNvSpPr/>
          <p:nvPr/>
        </p:nvSpPr>
        <p:spPr>
          <a:xfrm>
            <a:off x="5927760" y="5425920"/>
            <a:ext cx="28764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O:  not occulted, b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low elevation lim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visi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95"/>
          <p:cNvSpPr/>
          <p:nvPr/>
        </p:nvSpPr>
        <p:spPr>
          <a:xfrm>
            <a:off x="331920" y="1373040"/>
            <a:ext cx="87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96"/>
          <p:cNvSpPr/>
          <p:nvPr/>
        </p:nvSpPr>
        <p:spPr>
          <a:xfrm>
            <a:off x="1092240" y="2949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97"/>
          <p:cNvSpPr/>
          <p:nvPr/>
        </p:nvSpPr>
        <p:spPr>
          <a:xfrm>
            <a:off x="2430000" y="460692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98"/>
          <p:cNvSpPr/>
          <p:nvPr/>
        </p:nvSpPr>
        <p:spPr>
          <a:xfrm>
            <a:off x="2976480" y="224172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U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</cp:lastModifiedBy>
  <dcterms:modified xsi:type="dcterms:W3CDTF">2016-08-26T16:37:30Z</dcterms:modified>
  <cp:revision>121</cp:revision>
  <dc:subject/>
  <dc:title>Time Conversion and Formats</dc:title>
</cp:coreProperties>
</file>