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E9BB-EC0F-4612-9BF6-CDCC4F936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EB89-F96F-44DB-9420-3ED666116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F032B-D976-4CD5-B64E-B126B43C7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5CE9-6919-4232-BC64-3E5A4E158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03E6-CF0C-408B-9423-2601C59A4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1E5C-BB87-429A-97B4-338DDB909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69A32-5517-444B-82AF-9EBA9F37F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DDE9-78D5-47F2-A248-7B3B67CF7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4093-6B4F-423A-A7FD-4D4036B8A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BEAE-DF89-435F-9A4C-5BF0D1159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805A-57CD-4531-B076-35B606387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D496-7ACE-4876-9878-FEFA2D76F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3148-9C1E-4CB6-BCC4-A7B69A8C5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4010-A6E2-4A61-9295-A0E1B003AA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112160" cy="1908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Navigating Through the SPICE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mponents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82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’s in the Toolkit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 and exam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Toolkit direct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bdirectories under the main Toolkit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.txt”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”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p level SPICE HTML documentation 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SPICE API Reference Guide” HTML index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Most Used APIs” HTML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Required Reading Documents’’ HTML index and the Required Reading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User’s Guides” HTML index and the User’s Guide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What's New in SPICE” HTML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urce code of a specific Toolkit rout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nswer a set of simple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0C4D-BD44-4ECE-B278-B277F68936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14:51Z</cp:lastPrinted>
  <dcterms:modified xsi:type="dcterms:W3CDTF">2007-05-04T23:37:08Z</dcterms:modified>
  <cp:revision>68</cp:revision>
  <dc:subject/>
  <dc:title>Preview of Coming Attractions</dc:title>
</cp:coreProperties>
</file>