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380B-15E6-48E1-8EB3-94813000B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AFAC7-0FBD-42A3-9CF3-E534C05CB7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6B04E-8914-4DCE-96AA-570BB4864F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E46C8-9E95-4930-A87F-0F683CE551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FCE73-1B16-4143-9EAC-0EE59A6626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B1A97-53C6-4C0E-A3E2-7193BD038A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99255-B135-4935-8227-8AFCDB5647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BB027-0763-451A-8CBB-6489C7B653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717A6-AF1F-46FF-8D70-8FC2BCD45A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3D646-EB60-4E2C-A2B3-EA28D9F8E7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4CE6F-D471-4A82-A265-96BC7D78B3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6F29E-4CFA-47AA-BA53-4E758B653B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E2D95-8A25-477A-A652-6FC5F927E5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AF01-078C-455F-A742-45FEDE177A0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04960" y="3171600"/>
            <a:ext cx="4305600" cy="952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Other Stuff”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March 200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90680" y="380520"/>
            <a:ext cx="615312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Other Stuff Programming Examples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eper subsystem basic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rv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rnel pool subsystem basic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ordinate system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of advanced time routine cal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rsys, adder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nstration of error handling (language dependen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, sets, and cells basics (language dependen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nstrate utility fun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SPICE constants fun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78129-E2B7-4AD6-8A8A-CBFB866160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 Semenov</cp:lastModifiedBy>
  <cp:lastPrinted>2004-04-30T20:29:12Z</cp:lastPrinted>
  <dcterms:modified xsi:type="dcterms:W3CDTF">2006-03-14T18:57:55Z</dcterms:modified>
  <cp:revision>65</cp:revision>
  <dc:subject/>
  <dc:title>Preview of Coming Attractions</dc:title>
</cp:coreProperties>
</file>