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8090-699A-4F12-B6CF-C55D548CC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143E7-45E6-4B91-9166-387CFB5EC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DAB3-EAB2-4B5D-89F3-45E012DF4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2ADC-A3F5-4732-A982-3E4C7A313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F17A-8FFC-4D09-A55B-3970CDF66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1F4E-EE20-4D4C-9EF0-745A6E730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69C2-1EF7-4C19-B408-EC73556CE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7198A-B839-4104-9B97-E78FF8493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1F81-DA0C-4ACC-B5D0-A130EDB76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6D9C-79AD-4718-9A91-0F1816F64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7A5C5-CEC1-4AA2-BCFF-A2420AF6E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CE5EE-FFC5-4E45-8F77-876AC09D8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2E340-E79D-4B9A-BA51-64556B125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AFE8-0FBE-4E07-B9B6-F18A59A4839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ther Stuff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90680" y="380520"/>
            <a:ext cx="61531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Other Stuff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er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v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pool subsystem bas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system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advanced time routine cal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sys, adder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error handling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, sets, and cells basics (language depend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utility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SPICE constants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D6881-926A-4560-BE27-A58CCC24C8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7:55Z</dcterms:modified>
  <cp:revision>65</cp:revision>
  <dc:subject/>
  <dc:title>Preview of Coming Attractions</dc:title>
</cp:coreProperties>
</file>