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A8F9-8BC7-49BE-9E63-3ECE67544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BC347-63FB-427B-A3E0-862E08BAE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6727A-728C-46F5-A161-D52DD6995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4DFF8-C08F-4F67-9B6A-6772952C5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442CF-144C-4541-A438-D99E6F68A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A4653-8EF3-40F0-84A0-21B81F4A2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E5DE8-9071-410A-B35E-34A416142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5A9A6-228C-40A4-B3E9-941FB21C8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4716F-87F1-495F-BF89-D8C25004A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5F3F-88BB-4788-ACA3-04DA33DF7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35872-6A5F-4EC8-ABEF-7A303620A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3F32-B73D-42C1-AF2C-20EB7B713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E6264-EF4A-47B0-8420-32858D94C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7FC1-7EC2-41FF-ADBE-5333CC0F1B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Other Stuff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90680" y="380520"/>
            <a:ext cx="615312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Other Stuff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er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v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pool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e system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of advanced time routine cal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sys, adder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ion of error handling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, sets, and cells basics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utility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SPICE constants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185BB-84E8-4B6C-A721-AB4CB587F7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7:55Z</dcterms:modified>
  <cp:revision>65</cp:revision>
  <dc:subject/>
  <dc:title>Preview of Coming Attractions</dc:title>
</cp:coreProperties>
</file>