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E2F3-6C52-429B-B7B0-27981D652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4562-016B-443A-95C6-91DC6E160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F99C-00E5-4E04-9575-6976F1891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4219-B1C9-4980-BAC8-D3BBD2A7C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8C58-8722-4106-B037-5D46C42BA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E8A73-15D4-4F4F-8C29-4589973AA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2E2E-5814-4160-A541-0A54F3824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1D18-EBA2-4876-9348-E43FCBF7F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C34F-9076-46C8-8B67-014636813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77076-9D24-4E45-9266-7D3A684EB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0422-6DAF-4A2A-ADF1-5718BD492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6E7E-7FED-406A-B123-CA7DD1B1C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325A-009F-423E-BA3F-1A95EDC35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98D1-5732-4C98-A69C-584D58D31B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112160" cy="1908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Navigating Through the SPICE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mponents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82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’s in the Toolkit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 and exam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Toolkit direct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bdirectories under the main Toolkit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.txt”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”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p level SPICE HTML documentation ind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SPICE API Reference Guide” HTML index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Most Used APIs” HTML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Required Reading Documents’’ HTML index and the Required Reading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User’s Guides” HTML index and the User’s Guide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What's New in SPICE” HTML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urce code of a specific Toolkit rout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nswer a set of simple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65FB-41A8-434D-9B3B-1010E78FB3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14:51Z</cp:lastPrinted>
  <dcterms:modified xsi:type="dcterms:W3CDTF">2007-05-04T23:37:08Z</dcterms:modified>
  <cp:revision>68</cp:revision>
  <dc:subject/>
  <dc:title>Preview of Coming Attractions</dc:title>
</cp:coreProperties>
</file>