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BE05-6359-4F9A-92A4-DBBB3BF26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94EE-79FD-40F1-9124-0DEBBED818A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5AD6D0-B325-4A50-8804-3721B7B574C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3397F3-1632-46F9-B97A-3789057BA17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02393B-1BFB-4230-8740-88CA18DF3AE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E26113-9EAE-4A26-9D8A-D7CDB6A1917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2EBCE4-814D-4152-A3EC-7E52BA4CC85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D5E816-3157-42BA-9C9A-D8C662DBB7A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E167B2-5037-432A-A28B-D732B17FAD9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B71A00-52AB-47DE-805D-5A713DE2CCE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BE26A0-E010-4790-A8E9-7B6F8B6A790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6BFD5-2334-4D64-A962-4FF33AFA0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7D29-2287-41F8-8D7C-0F1F7FD8D04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10ACB-2B89-4B76-9180-4BD2D14E52A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E1182-0623-4343-A1F7-205033ADFAF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8A15C-3C0F-49F1-BF11-B1C9C827647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EC6D7-C2C0-4350-83DC-555C7C68C28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FE411-6943-4E02-96D0-49BE4619B43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DDB38-10F4-4E62-AAD9-1FE47BF35C9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BA8B4-B589-4DD5-A1F6-8B415686000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FBE6A-C9B8-4F71-B4DD-7F2C37319ED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72CC-B4FD-4F0B-9614-A938E1A26EF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672CF-83F1-430C-A80D-742442D39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6233-918C-4A4A-A220-608C88DEFC6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8F534-65E5-45CD-B5AB-4A763C6D6A0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5A9F74-60DD-40FE-A222-13E607FF2C2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8326D3-91B6-427B-BDDF-62470E83948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34EB63-FE25-4F5D-9408-75493F471FE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79AAA5-BBE9-49DE-A4DA-CF64688AAC0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4D1B9E-8762-4224-A807-48CDD62A635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931AB7-8861-4B91-AE35-328C463380C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6148B-5792-42C5-8D43-37175E33C3C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5DC129-54FA-473E-9D20-699ECE87308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E91B00-E375-40F1-B448-BDB74FEA4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D8039A-8F7C-4412-9DEE-6317CE2566B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386980-5EF3-4378-B081-D80FBA71C8B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FF913E-F7B8-4D81-9BA8-103F2A4E82D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31C5A9-1DDA-492F-AA80-3F70276D745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A10659-F0E2-436A-9FC9-CFD7EC45EEC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65058B-FC48-4824-B01F-EDDD6C5062D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076209-0995-4EDF-AEEC-E66CE9847AE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1F3E86-A8E1-4649-980E-EF6D14C51FF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D581B3-C3EC-4EBC-A800-6C6995C2860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CE3DA9-76A0-46AB-90AA-02D26CB656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2621CD-6FA7-4DE1-8DA5-9EE44123F3A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67F2C0-5176-4F5F-A86D-AA79F0FF26B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8C9461-3C7A-4F0B-886D-E0B7F55200C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CA45FC-54A2-4D80-BEF7-9872B6C9F16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1DB39C-ED43-4B5D-88FC-436B687CA5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63AD5-3149-4A39-A59C-2EF8A5A87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CF978-D20E-4FD6-9051-7113B67A61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C846B-E92F-45D2-889B-B0202A1EC5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2FE6D-6912-45E8-B786-DF7AC8ACD3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228F1-46B1-4227-9805-E7DDC43886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8B677-8B52-4AC7-B3D4-6E52C710E2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2519-F472-4EFE-AF50-7428F71545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F62C6-BB13-4B9A-A54D-5FA246A9CE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750FF-F4A0-4573-9E84-39D07F733B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A80F9-2BFD-482C-AE67-B371CEF281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8D654-F7FD-4828-A5FE-B2F174805C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E2820-3215-447D-9F9C-D633016A47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BFFF5-B1D1-4575-8D75-6861E0C3ED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5BD0F-E54E-4035-969A-A63084D1CF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8DF0-80DB-4DC2-8CF8-AC4E0575BB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76E0-8906-490B-BA7D-0F389E3CB5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0F98-A2BA-43C2-A52F-9975D0D4B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2C02-F842-452D-AA5C-7104344645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85F4-3C6F-48FA-977A-1F4FAE5609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41EE-B4F6-496E-8657-ECDE97C2C2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84FF-44E2-459A-9465-80A636F81E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1D3E-09C8-4F1B-963B-5307D973AB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876F-9C3D-4DBA-8EBC-FC3958B194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FAFC-7EFE-4E0A-97FB-ED6BEBF7A6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4E3B-5A9E-4811-8A91-5C453B800D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F3AA-4811-41D7-9BE3-6D99B0026E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2656-AFFF-4C0E-8863-E04076A59C5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A6CEA-A9F5-4B11-9554-DA1AB307F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7B03-E315-4FA4-BC6B-6035728351E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C9BD8-8BFA-48B4-BE1F-9EB1EA8F38A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78142-BFFB-460F-A13C-3524CBA51A4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B4A3B-1C03-4F48-999C-608477CA369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18B6E-F771-46D1-B32B-D8095E3E2A9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E699F-10BB-436C-8695-0F63E952C4E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ED763-04AF-4683-8806-A4B91D7B91B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15495-CB50-49B8-8BB1-E708CAA1233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95C7B-40F5-43DC-BCA6-32FC7379834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1E44B-51C2-417F-B3F1-D1447C8C163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B8BB2-E889-4F2D-9EFF-412394128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948F-0CB3-48F5-A774-78127032CA3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6D5AE-DF0C-41BF-B51E-4E3DC8BFBEC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62CC2F-75B6-4704-A605-C065C89B90D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DEBFC1-0865-4BED-A479-548B92EBA21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D0C200-279E-4FA6-B9D8-9F905A0FB22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98D9B6-BF9A-4D60-8AFB-6CBEB650F7A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8CB1A2-CE01-451F-BE8D-26F2723216C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9C4842-9596-402D-9C3E-11CAE1D6096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E349C1-0042-4F71-B0ED-53BD8BC72DE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31AA23-E062-4D64-8B73-A5C84F4F896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986205-8618-4F44-897E-9DA83D97D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35BC-C54B-46CC-A0BA-6DE292567BB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612AD-1C0B-4E88-8698-E5306D0B43F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D2D154-B346-40CC-9BEF-E2C5B082A39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ED44CD-6EA7-4678-99AD-2A99C7ED8BB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B20E2-99DE-45D5-8053-EA40571029D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8B750-7412-4C70-A7DF-8A4FDAA78E7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B9C88-C4E0-49A8-8BEC-26907B668A2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8D54B-A600-468C-BD48-9F87CD64AF0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73D2E-98C1-4151-B535-8AD58B56025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73067-1873-4B54-A56C-9BE0DE22DEE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669C7-CCBC-42CE-9850-EFE7689CB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473A-3D84-4B30-AFF2-0E86B95192B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05773-A5A3-414A-954A-5FC3A803E33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73C38-04A9-43AE-8298-2BD66CC5C96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DDA71-870B-4038-B5E4-C02082EC312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56348-D402-407C-AF95-B68FFB8AA1B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8C877-0BE8-4030-AE64-6B5455DD426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4D5EA0-1FCC-4D12-8922-1FA22A0879B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754DEC-3141-4CDE-9F46-211A3CE70D1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FEF2C-2B53-4844-9C0E-10B3490465A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4A99A-7B29-4EDB-9D2C-24A87F2AF7E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1258AD-B1E5-4AF8-B7C0-7F58601BC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6DD5-A0FD-4290-A71F-BB19D961690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F38B2-1EAB-4960-9281-59A24FCA3AB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09902-FF41-4E60-88D6-AFA52338A1A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BDAAD-4957-4B4D-AB1E-F4D8586686C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AF04B-5530-4A55-832B-BB808EFE47C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E42E3-2A36-4027-8FE1-14C78CC1DF7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C14F6-B3B8-4870-800D-CAA466B482F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728B5-A46F-426C-84A9-E9C450ED23D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5F8138-E419-4619-8D15-BE0C2798104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260CF1-41B3-4F2A-A406-C26421F10BF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19290A-D462-4A21-A673-4F39031F5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DA86-783D-4E1C-AC5D-C685BA32A9D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465B-7DB5-43F5-9DD8-A8197A0EA6E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AF6E-E100-41C1-98EC-B5D0DACE9DA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3F00-874C-476B-B772-5DBD2F9C1C9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A205-5B40-4694-BD93-63A8B5C66CF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0074-1E22-42DA-AC3F-969DE5E3CE0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399E-92A1-45B9-B674-8A829707CF4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A125-B6E2-43EB-B354-646572DD40C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CF7C-D017-4100-86EE-CA55BAC593E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8790-26C7-46BB-87EC-E43AAED6D08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9E6B-35D2-4B96-8FAF-D268D96D16E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88640" y="3171600"/>
            <a:ext cx="553716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ometric Event Find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19BF-A4D9-43C9-AF08-152CF90AC59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704880" y="1527120"/>
            <a:ext cx="7772400" cy="48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when the ExoMars-16 Trace Gas Orbiter (TGO) is visible from ESA’s New Norcia station, within the time inter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0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4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pacecraft to be considered visible, the apparent spacecraft position relative to New Norcia station must have elevation of at least 6 degrees in the station’s topocentric reference frame NEW_NORCIA_TOP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light time and stellar aberration corrections to compute the spacecraft position relative to New Norc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possible occultation of the spacecraft by M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 SPICE window representing the visibility peri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 the start and stop times of each time interval in this SPICE wind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41360" y="380520"/>
            <a:ext cx="6237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Geometric Event Finding:  Overview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7513-E188-4DC3-A310-90D4918EA79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3656160" y="3691080"/>
            <a:ext cx="98424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3457440" y="380520"/>
            <a:ext cx="3803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sibility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Oval 69"/>
          <p:cNvSpPr/>
          <p:nvPr/>
        </p:nvSpPr>
        <p:spPr>
          <a:xfrm>
            <a:off x="555480" y="3308400"/>
            <a:ext cx="3276720" cy="3133800"/>
          </a:xfrm>
          <a:prstGeom prst="ellipse">
            <a:avLst/>
          </a:prstGeom>
          <a:gradFill rotWithShape="0">
            <a:gsLst>
              <a:gs pos="0">
                <a:srgbClr val="031c6b"/>
              </a:gs>
              <a:gs pos="100000">
                <a:srgbClr val="063d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0"/>
          <p:cNvSpPr/>
          <p:nvPr/>
        </p:nvSpPr>
        <p:spPr>
          <a:xfrm>
            <a:off x="5572080" y="2808360"/>
            <a:ext cx="1501920" cy="1434960"/>
          </a:xfrm>
          <a:prstGeom prst="ellipse">
            <a:avLst/>
          </a:prstGeom>
          <a:solidFill>
            <a:srgbClr val="ce1a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72"/>
          <p:cNvSpPr/>
          <p:nvPr/>
        </p:nvSpPr>
        <p:spPr>
          <a:xfrm flipV="1">
            <a:off x="2685960" y="2628720"/>
            <a:ext cx="609840" cy="1089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3"/>
          <p:cNvSpPr/>
          <p:nvPr/>
        </p:nvSpPr>
        <p:spPr>
          <a:xfrm flipH="1">
            <a:off x="2625840" y="3719520"/>
            <a:ext cx="64800" cy="8874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74"/>
          <p:cNvSpPr/>
          <p:nvPr/>
        </p:nvSpPr>
        <p:spPr>
          <a:xfrm flipV="1">
            <a:off x="2728800" y="3338280"/>
            <a:ext cx="324828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75"/>
          <p:cNvSpPr/>
          <p:nvPr/>
        </p:nvSpPr>
        <p:spPr>
          <a:xfrm flipV="1">
            <a:off x="7053120" y="3141720"/>
            <a:ext cx="838440" cy="9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76"/>
          <p:cNvSpPr/>
          <p:nvPr/>
        </p:nvSpPr>
        <p:spPr>
          <a:xfrm flipV="1">
            <a:off x="2736720" y="2126880"/>
            <a:ext cx="4573800" cy="159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rc 78"/>
          <p:cNvSpPr/>
          <p:nvPr/>
        </p:nvSpPr>
        <p:spPr>
          <a:xfrm rot="2415600">
            <a:off x="3176280" y="3588840"/>
            <a:ext cx="549360" cy="53028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80"/>
          <p:cNvSpPr/>
          <p:nvPr/>
        </p:nvSpPr>
        <p:spPr>
          <a:xfrm>
            <a:off x="1136520" y="2141640"/>
            <a:ext cx="231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s vector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_NORCIA_TO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ocentric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81"/>
          <p:cNvSpPr/>
          <p:nvPr/>
        </p:nvSpPr>
        <p:spPr>
          <a:xfrm>
            <a:off x="6122880" y="4316400"/>
            <a:ext cx="7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82"/>
          <p:cNvSpPr/>
          <p:nvPr/>
        </p:nvSpPr>
        <p:spPr>
          <a:xfrm>
            <a:off x="3444840" y="5956200"/>
            <a:ext cx="92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3"/>
          <p:cNvSpPr/>
          <p:nvPr/>
        </p:nvSpPr>
        <p:spPr>
          <a:xfrm>
            <a:off x="7994520" y="2908440"/>
            <a:ext cx="1162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cul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86"/>
          <p:cNvSpPr/>
          <p:nvPr/>
        </p:nvSpPr>
        <p:spPr>
          <a:xfrm>
            <a:off x="7107120" y="1550880"/>
            <a:ext cx="153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1"/>
          <p:cNvSpPr/>
          <p:nvPr/>
        </p:nvSpPr>
        <p:spPr>
          <a:xfrm flipH="1" flipV="1">
            <a:off x="1412280" y="3204360"/>
            <a:ext cx="1283760" cy="501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rc 88"/>
          <p:cNvSpPr/>
          <p:nvPr/>
        </p:nvSpPr>
        <p:spPr>
          <a:xfrm rot="2545800">
            <a:off x="3041280" y="3740040"/>
            <a:ext cx="633600" cy="3175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89"/>
          <p:cNvSpPr/>
          <p:nvPr/>
        </p:nvSpPr>
        <p:spPr>
          <a:xfrm>
            <a:off x="4102200" y="4511520"/>
            <a:ext cx="984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90"/>
          <p:cNvSpPr/>
          <p:nvPr/>
        </p:nvSpPr>
        <p:spPr>
          <a:xfrm flipH="1" flipV="1">
            <a:off x="3636720" y="4276800"/>
            <a:ext cx="425160" cy="450720"/>
          </a:xfrm>
          <a:prstGeom prst="line">
            <a:avLst/>
          </a:prstGeom>
          <a:ln w="57240">
            <a:solidFill>
              <a:srgbClr val="e90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rc 79"/>
          <p:cNvSpPr/>
          <p:nvPr/>
        </p:nvSpPr>
        <p:spPr>
          <a:xfrm rot="2911800">
            <a:off x="3080160" y="3731400"/>
            <a:ext cx="344520" cy="38124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rc 87"/>
          <p:cNvSpPr/>
          <p:nvPr/>
        </p:nvSpPr>
        <p:spPr>
          <a:xfrm rot="4287000">
            <a:off x="2469960" y="3402000"/>
            <a:ext cx="1287360" cy="2491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91"/>
          <p:cNvSpPr/>
          <p:nvPr/>
        </p:nvSpPr>
        <p:spPr>
          <a:xfrm>
            <a:off x="1258920" y="3800520"/>
            <a:ext cx="1303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ew No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2"/>
          <p:cNvSpPr/>
          <p:nvPr/>
        </p:nvSpPr>
        <p:spPr>
          <a:xfrm>
            <a:off x="2706840" y="3727440"/>
            <a:ext cx="4510080" cy="16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3"/>
          <p:cNvSpPr/>
          <p:nvPr/>
        </p:nvSpPr>
        <p:spPr>
          <a:xfrm>
            <a:off x="5927760" y="5425920"/>
            <a:ext cx="2876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  not occulted, b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ow elevation lim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vi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5"/>
          <p:cNvSpPr/>
          <p:nvPr/>
        </p:nvSpPr>
        <p:spPr>
          <a:xfrm>
            <a:off x="331920" y="1373040"/>
            <a:ext cx="87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6"/>
          <p:cNvSpPr/>
          <p:nvPr/>
        </p:nvSpPr>
        <p:spPr>
          <a:xfrm>
            <a:off x="1092240" y="2949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97"/>
          <p:cNvSpPr/>
          <p:nvPr/>
        </p:nvSpPr>
        <p:spPr>
          <a:xfrm>
            <a:off x="2430000" y="46069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98"/>
          <p:cNvSpPr/>
          <p:nvPr/>
        </p:nvSpPr>
        <p:spPr>
          <a:xfrm>
            <a:off x="2976480" y="2241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U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</cp:lastModifiedBy>
  <dcterms:modified xsi:type="dcterms:W3CDTF">2016-08-26T16:37:30Z</dcterms:modified>
  <cp:revision>121</cp:revision>
  <dc:subject/>
  <dc:title>Time Conversion and Formats</dc:title>
</cp:coreProperties>
</file>