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ftr" idx="2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sldNum" idx="2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BB7B-611B-42E9-A9C7-21A724ECB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20C6-C49F-4FB9-9A17-CA4EC3599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DADB-16FD-4430-A49C-13676A93F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FB1A-28E2-4C79-8A57-FCC8A352493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5D1BD0-EA9C-47D9-81CC-C38E38A3ED0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E6C1E1-7530-45F2-A7D8-B9F112228CA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B80A93-6E89-44F3-883C-F3BCFEB1CED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306961-1160-484F-93BF-C49BFE683CC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562C45-7F47-4742-9898-8930399BBDC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C5D30A-352F-4425-BB75-C420B51E39D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38B2E3-A2AF-4A31-9999-37D8C482F8F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12EE8F-5400-4079-87E5-FE139051670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EF36AB-9C5B-424E-B848-A7982F8C040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14D69-D99D-4E80-B58D-79673A26D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4215-C2C5-4A97-AC38-A7FFBA6D636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68C35-7A1F-415C-9ED2-D7DCD28B5B7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BDA88-CA55-44CC-A394-271173AED09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77548-37C5-420E-986F-A63B068D739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8AC88-E533-44DB-BFD7-352BA7D6C69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E3B8A-6805-4DD3-BE51-C77BDE5F3D1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904DB-7104-49A0-93C4-9465F216162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8E891-D867-45BF-AA1B-D713B054CA6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F165C-B056-49CB-9C3B-88B0786E423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12D51-1EBB-49C8-8D83-D6AC474E227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A9F18-065B-49B4-A91D-C734CFF7E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DEEC4-F9CB-43A7-8D8E-1B4CE38547E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2F7C4-DCC5-47BF-B567-21DF458C99B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AA5609-C80A-4DF3-8FEE-903921AD22E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81657-B343-4811-B471-2CCE386EBD8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B6194-7CAA-4739-AE62-CB8238C1A95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2FAF5D-A114-459D-AB9A-3DE2A791691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BAEDEF-5CC2-4CF4-AE23-E889434A600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8CB07E-D292-482F-97E2-F251ACC5890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E8B669-D3E1-4B65-9368-D766F06DA00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B85FCF-EC85-4D11-B14C-E6917A429A7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865F6D-8AD1-423C-A2F4-6F5B50D0B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6BCEE3-9ABE-45DB-AF72-CD39C7503B8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A7117C-81F9-47CE-9E72-E3ACABB5489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996BA1-FA2E-4EF5-8620-1B9342FF2F5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AB85FC-0754-4BCA-AD34-B0FCEE3CB5E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517365-7778-4595-BEAA-696B4664E81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A84E41-C832-4EAE-A581-B828D13892C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CC9D9F-77A8-4374-A7B5-89025BB4396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4AF9C4-F2D7-4878-B984-21A5223DA74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8BC572-B663-412F-9F11-C4AD39D335B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3AE31C-4A7C-4126-A037-1F19331BEA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D51370-E6A1-4952-89E1-CD586B75155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240C0C-9CE9-4C28-9DBD-59DD6197D6B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14D6BF-6C1A-484B-9095-574A49DFE5B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6FF003-E3F2-4BC7-8CC6-9C75BCB9DF5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FE50D4-97B5-4780-B946-78BCFC3A76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07A82-96B4-49C9-B222-409D49163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66DB6-63BB-4693-BB53-25DD64E61E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0CE93-C020-431B-80B3-7DE066B10B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3321B-8995-46C8-BD86-17B42219EF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7976C-C5E3-45CD-B48F-86A5296A94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D32EF-676D-4E84-8ED2-59FE9B968A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A9E93-617E-44A0-BBEA-753E9C3D4E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0F83A-392F-4B06-8AC6-0D75DBEF8D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CDCE3-9DD2-48B1-A0FC-D1C83B1B4E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30E4C-D07F-448E-95C5-D8D1816CB9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37606-00A5-4765-89B9-8852CBEAB8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5824F-CDED-4BBC-A959-80BDF903D8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A3553-7520-44E0-87DD-032E92CCBA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D58EA-ABF6-4EEC-AB7A-7139EDFC0F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0DBF-F3B7-4F62-83A5-BA6C230AFA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C25F-4945-4829-BC3D-15F3C1CCAF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3100-2865-4B67-9374-99A1DF995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C165-E967-4BDB-BB3D-6A73E0807A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23CB-645A-4A67-8425-371EEE852E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E0AA-8EFA-4DFD-8ED6-20C4BD6874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86F8-4628-4CD6-B686-B15F47F8DD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14DE-E56D-4308-B869-37A66F2E70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7169-3631-491E-8B7D-672F01F1CF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A716-3D84-40F7-9B3A-03DA9827CF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CE6B-2AB4-4D69-ADAA-3781F95156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5D4E-0573-4339-BE74-AF10839B91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33F1-A825-4D30-94A8-10F8E38258E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2CBBC-E6CD-481F-8A6D-D8B0C301F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0CD5B-D954-4346-A1AB-6E453284404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936F1-48AC-40E5-BF68-2D322BDC140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D3476-CC0C-4CDD-8CF6-C6803BD4209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AE770-A33A-4CC1-A550-513DA1C3AE7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26673-4D64-40B0-B61E-C6AB2AC66C8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7226D-F56B-4D0A-8ED4-41479D55AF5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E969C-95B0-4C3F-8D2B-80154F9FFAD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F7EF2-1BB7-4616-B5E2-23CC8C4C005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F9A6E-5AFA-4E59-AC60-A4C179AA7DB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7393A-BDF6-4FC6-9E09-D2542CF8771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E81D7-6AAB-41FD-B4E5-AC3C4491B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BB51C-F7FE-40B3-8C5F-75EA3C7B0DA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1313B-B6DF-462F-B282-87DCD0C303E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554C19-01F7-4838-A89F-11B98263D6B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9328F7-1063-44A5-99E3-5008E3C3B43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9036C2-648F-4B3B-8731-7E09EC90FCC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FF9B71-04C8-40CE-A98B-AC2C727702B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83AD10-760A-4FF2-AE7D-49827A6F8A9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98394F-61F7-45C2-A4A0-B5E962A47BD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0DA675-351C-46F0-86A9-1C1168C794C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7BA015-D13F-487D-A091-B963F8A9DDF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851AE9-9DDA-4BD5-953B-3DF9E334D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E472A-C4C5-4F5E-AD4C-7BC8C4873B4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E2588B-8427-4DCA-B3FA-D9E4404E228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75C0C9-4CF9-42FA-BA87-7FAD337DAC8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CD317B-E8D2-4FEF-8A1D-DAA9AC7C9D5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FF242-4C95-4560-9FA9-14353917281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8137F-0885-4741-AE2B-2B92088CD3C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98695-C13E-42C3-92A2-7C3B46E647B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65DB4-844E-4D4E-9D62-B2B27002EE0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47E0E-CD76-4C93-8103-644078A56C6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0D342-7F9D-4CC4-AD3E-53DCC02AC32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1EC99-F96E-4D4B-8C35-DD5A72CC4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1AD05-5DCC-43E5-9370-3A41ECFD404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16DEB-E3C9-436A-809B-238D7B034A7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C4851-5D63-40F3-82CF-DB65FBE6533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02C02-F6A6-4AB6-9A6B-91BCAED6D5A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2E833-5C03-487B-B51E-A9891076854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57586-3566-4DC8-A560-53C95F4F747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AFB713-0233-44FB-9C33-81CF0D1E58D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247C6C-A3B1-4E25-A0CA-678E0395411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7AE9A-C062-47CF-8840-A193E3D40F4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062E7D-A7C2-4BB0-A7F3-26FD5C289C5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E3A00-C950-44B6-8406-FC534AACA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3A9B3-DF95-4365-9414-4B1C1E1F4EB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A4623-D516-4386-A456-FA533C2C31E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2124A-96FF-45A1-914A-C2CA9DCDCE8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8B63C-76D1-48DD-93C0-E2C19832EF6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A1BA3-E932-4E89-901C-94FBC902231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8076B-272E-44CF-B3FC-D79F445574F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7B177-D395-4D55-9539-9DABA5DEDF4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4CF285-ED2F-44CB-A088-A9E8A2D791A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4BCEA9-38BD-43FD-9A05-BA7B840FD59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A70270-80AF-4203-B18E-CB25076A2C8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AFC917-097C-4DA4-9E5F-F7ECA743D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5C13-4009-436B-8040-4861F8A6EA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D079-234E-4476-854F-2709BFF0B4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0BA5-4784-4F58-AD8A-7EB83D5AB7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4A19-FDF5-4506-BB26-81EEEC4AC8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B168-1E31-458C-89F5-3115330BA5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6F6D-8169-44EA-85AE-C91C3B5584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57F2-9CB2-4F12-A5F2-015F02B498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60CB-7E01-49B5-BDEE-2123BCBCF3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2C52-5035-4E73-969D-1FD93D6B6E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5F79-E563-408B-BDAA-6884CF74E2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D4A0-64E9-41B9-9172-23FABA71E58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98280" y="2666520"/>
            <a:ext cx="7404120" cy="1430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Applications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February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F2D9-2541-4971-9387-7E9829BC92E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25520" y="380520"/>
            <a:ext cx="6405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Program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63320" y="1371240"/>
            <a:ext cx="83818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using these application programs provided in the Toolkit by completing a series of simple assignments for each of th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C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utility program for converting and summarizing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accessing internal comments in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XF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inary SPICE kernels to transfer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B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transfer SPICE kernels to binary format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N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etween various time syste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cookbook program demonstrating use of routines computing sta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K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trajectories stored in two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M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or sampling orientations of reference fram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51:38Z</cp:lastPrinted>
  <dcterms:modified xsi:type="dcterms:W3CDTF">2010-02-12T21:22:20Z</dcterms:modified>
  <cp:revision>74</cp:revision>
  <dc:subject/>
  <dc:title>Preview of Coming Attractions</dc:title>
</cp:coreProperties>
</file>