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5B0A-465B-4B20-B110-EF861F7EC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FADC-2358-4D0F-BDE3-B15BC99FA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327D-5AF8-47D0-879D-2E62FFB1F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FA01-DA2D-4683-BB08-A9A652ADCD6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4757B5-1D4F-4212-B629-D8B3ED7410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66DBA9-ED1F-45A3-AE6D-C9B502BDD4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49FFE8-5DFA-4DAC-8475-9F74E75D5B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C7E907-C97F-407A-9C57-D6C2D66F3C0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482F4D-834C-4C44-A903-46A26B9AC6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D3F774-ECB2-4667-B4BD-6A7976F0AE3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AA11E5-FA98-408E-96E7-6A5FF58212B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F1ACFE-79FE-457D-BA2E-3F5CEE0B3F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9B8A08-746A-4E82-9E97-ABDDCED9903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05005-C366-4E4F-A545-D2339F562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4A03-3EE6-4528-9142-A33FFBAA12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1A7F7-CB34-4220-947B-51CBF9DF0B0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43B0-8DAF-4A34-9E8F-0FFDB33771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B111C-2D09-4157-9197-29491DD6075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502B-470A-429C-9D10-4CB38C08F2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F6ACE-2A0C-4810-9ECA-B03DEE144C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53E99-4F10-486D-B58A-2E878749C25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50936-91AD-46C5-BAD4-FF070676B93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6D800-4C86-41BB-8182-EFB181F8276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E151C-401C-499C-B4A6-99AB5815E2E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A07BF-7B01-455C-9A3F-FA8D1DC7F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47BA-EF79-4098-9D47-C4DA4860081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CC4DF-6018-44F3-96C9-717E3A0579A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71810-349A-454F-8E8E-4A92526BEC1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C8BC6-F610-42D4-A026-78BAE889908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B2EB0-54A1-4A9B-BA28-B7E1EB62C9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D93C9-EBED-4C41-8489-1C1A872EE21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EF8D4-5031-4443-B2DE-7361F80A7B4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00BE7-0234-4918-94FD-F64858EE80B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E55C6-0E01-4BA5-81E2-9D316E7BD36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01A2E1-1C32-45E7-B63B-5E85602AA79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232B3-1636-4875-AF4C-70C852CB9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1F49D-0979-47A0-8338-DFACE6B5EDC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BE14F-BC3B-4518-B9C6-4BBECFA55B3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C8D39-9076-45E5-AEEE-E0D96919F77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B9EDCA-7A02-46B9-B0C8-27EBA6AC587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190BDF-B748-46AF-990C-9B496D794D4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13549E-6D76-4D42-98E1-AE813067B85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F70E1E-7B49-4AF0-A1E3-2DDF59D6EA5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8EF9EA-049D-4CC0-8DD2-9DDE73F6989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F1A172-4C8A-4D2B-8C3F-97AB93DF38B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E3385E-01A4-4F64-974A-F3766C73E8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306D59-950E-4CA3-9EDA-49C05008728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3ED200-5B0A-4705-A51C-01CE3311A1C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9FA724-6D4E-448E-BBED-6502FC6FE81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151A26-DEF8-42B6-8A74-A449D68165A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8A0E67-7EAB-4EEA-A35A-70EAA8C641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444A-BF2E-4106-9C5C-735CC9776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E16D6-E1B6-46FF-8706-DBACD6E3A7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F00C3-3F3A-4BF2-AA21-889179CC67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F6FBD-1692-4199-9F75-860C732D14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C4C31-E21A-4CFB-B6D1-B7717455F7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CB89B-85C4-4972-B354-524B93C64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1F90-20DF-4860-A0D9-F508E5028D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063B2-E1C7-4F74-A4B8-A0AE9B6399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25FF1-C9A8-4278-B994-73539C8EA8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D9A33-7BB0-443F-933A-D3FBAA046B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DA510-0D29-41A4-868B-2C4410F549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01D32-C3AA-41FE-8954-C5155169F6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5C97E-9758-471B-B391-A00E9A1CB4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BF8CC-FB90-40DA-ABD8-4D9F390D32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2B33-B274-4F15-A03D-4EB2DA3BE4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57AA-0D44-4E45-A2B6-168C6EB684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D1DB-6648-458B-90CF-6C92D1B73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3941-F37A-4B98-B72A-7F814BAD8A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1165-D2CA-4340-8077-B61FB3AEFF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EFD2-1449-4FCC-B96B-A22DF99C53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0B6A-5ACC-44D2-A1FD-75D46DE173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73F1-005D-4EC4-838E-CFB301BB6B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3FA9-2BDB-45B0-9E55-E392B9B650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D521-F45B-44A1-9AF8-2021D992BC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98BD-BA05-458B-8271-3BCE11D310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375B-6BF0-47D1-BC3B-A593939778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15A5-5E6F-486D-AA7E-C5864536BB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A59BE-AB58-4EE0-90B5-B3F01EF88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C9C3-EE55-4DBE-8CB3-7857697D25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96441-24F1-497F-921D-684A234F05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F98BE-03F7-4234-9F54-91DF76C826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E2571-6C83-43BD-8090-2F201FED6B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6E54B-7FE3-437F-A930-00CF88D5F2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D8886-B65F-4475-8486-44672310BF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4E092-8D3F-48BE-A3D1-6E5151BD28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1B9FB-57FB-419B-9AD6-442E95C52C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13960-D7FE-4140-8284-D466C6493B9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B3439-93EE-431F-B994-AB521BC537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FA72A-F7A5-41C1-8DDC-4EEF967D6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FE77-F9D4-4261-B204-46C2D12402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BEF79-074E-43FE-B590-2F893586DC2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79549-5023-4037-BBFD-87A6E2FE52A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719D0-5CF8-40BD-B267-20167026829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E3B0C-90F1-4F02-8F62-3586BB8370A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14366-616E-47DF-8861-C87285480EB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6197D-29B1-4BCE-B0C2-B5F3B19EF2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E8D968-331D-4151-BD94-6D62F628603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5C420-9216-4703-9979-BF15991F18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8837A-B75B-449D-B667-C6F8B0959E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31338-CDF8-460F-98B5-8D0CBF234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2242-1128-4870-94AC-267C0C2BEA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C0249D-0F4A-4A60-A3DA-461E16CB9B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800D0-BD1B-420C-912E-FDE686AAB3E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673FC-1F2D-4337-9925-0E5F392B78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5C4B9-4D38-4EC3-882E-C3811BD785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258A-E37D-4053-AA10-7847C62783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0CE0A-4FB6-4977-A2AF-1542554B3A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B0D28-D4CE-4E59-891D-BA40D3ABE31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418B-B738-4FA7-995A-B3F8A9A741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14B2C-A8D0-4D43-88B1-BDDB4E936E2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03D4D-97D4-4454-B929-6D1228CC7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EAD5-3A81-49E6-AEA3-C4790A78C53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1C962-693D-4C71-9B4E-9BE59582AEC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0F617-6B4E-465F-9A24-A3C66B7EA75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4F122-65D3-4CF1-9C04-26ABB9D82F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AEBF-79F0-44F9-902A-7ED7A2BD51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94FDB-69B8-47BF-8F8D-75C4E51C527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0AD14-FC6F-4A49-A974-1A6399958C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AEB58-4AE2-4C40-B37F-1B711419C8B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DE271-50AB-4E89-804D-1FBB9962EF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C1385-62EB-46DF-BE80-F4E48CE27F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1463A-5C38-43E4-A09A-CE245F794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992F-6517-4E97-B494-EDAD738D226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7DA61-8A2E-4CDB-BD7B-C795346BC12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B72F2-D978-4F75-9195-8EC638DF102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5575A-5C78-4882-9134-811C9B1C1BA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472FE-506F-434D-937E-5DF3D4F4C38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49FB7-CE52-4F58-84AC-E3864E86DCF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86AB3-7024-4C63-81F7-A7B68C402BD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A8268-FC2F-4A2B-9863-D0A6F4B992F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FD9129-F103-4F05-9315-79C483F4B7E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7ECB00-2425-4DE2-88A1-A084867FF01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06C83D-CE76-4671-8AE6-2FC142856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8108-0BA4-45BF-B4CE-CA808BBEBB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72B5-A9E9-4D74-B3D1-D2AFC09DD4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9EEC-9C81-47C2-9ABD-C9A7C96430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82BA-9855-4805-B639-6A3E1612E5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03E5-9C2F-4C0A-AA5E-DB86E569BB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ACC1-9EB0-4FA4-AF7E-07A5472382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3D0F-043D-4E2B-958E-18C7BF3030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85FE-18E1-4615-8BFF-5F01E35F70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A6B2-B800-44FF-9F21-F3FD6788A8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71C7-C3FA-457C-9821-F533EE0D9D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249F-69FB-4FC7-8284-AF575470AF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FCA-C902-4C3A-B96C-1B64259337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3225600" y="3123720"/>
            <a:ext cx="1674000" cy="927720"/>
            <a:chOff x="3225600" y="3123720"/>
            <a:chExt cx="1674000" cy="927720"/>
          </a:xfrm>
        </p:grpSpPr>
        <p:sp>
          <p:nvSpPr>
            <p:cNvPr id="694" name="Parallelogram 7"/>
            <p:cNvSpPr/>
            <p:nvPr/>
          </p:nvSpPr>
          <p:spPr>
            <a:xfrm rot="9700800">
              <a:off x="4118760" y="32796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Parallelogram 8"/>
            <p:cNvSpPr/>
            <p:nvPr/>
          </p:nvSpPr>
          <p:spPr>
            <a:xfrm rot="17591400">
              <a:off x="3810240" y="34077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Parallelogram 9"/>
            <p:cNvSpPr/>
            <p:nvPr/>
          </p:nvSpPr>
          <p:spPr>
            <a:xfrm rot="2221800">
              <a:off x="4066560" y="32065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Parallelogram 10"/>
            <p:cNvSpPr/>
            <p:nvPr/>
          </p:nvSpPr>
          <p:spPr>
            <a:xfrm rot="9717600">
              <a:off x="3992040" y="33861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24"/>
            <p:cNvGrpSpPr/>
            <p:nvPr/>
          </p:nvGrpSpPr>
          <p:grpSpPr>
            <a:xfrm>
              <a:off x="3931920" y="3717720"/>
              <a:ext cx="417600" cy="333720"/>
              <a:chOff x="3931920" y="3717720"/>
              <a:chExt cx="417600" cy="333720"/>
            </a:xfrm>
          </p:grpSpPr>
          <p:sp>
            <p:nvSpPr>
              <p:cNvPr id="699" name="Isosceles Triangle 15"/>
              <p:cNvSpPr/>
              <p:nvPr/>
            </p:nvSpPr>
            <p:spPr>
              <a:xfrm rot="1825800">
                <a:off x="4006440" y="37965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6"/>
              <p:cNvSpPr/>
              <p:nvPr/>
            </p:nvSpPr>
            <p:spPr>
              <a:xfrm rot="6727800">
                <a:off x="4040640" y="37418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17"/>
              <p:cNvSpPr/>
              <p:nvPr/>
            </p:nvSpPr>
            <p:spPr>
              <a:xfrm rot="6727800">
                <a:off x="4097160" y="39207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18"/>
              <p:cNvSpPr/>
              <p:nvPr/>
            </p:nvSpPr>
            <p:spPr>
              <a:xfrm flipH="1">
                <a:off x="4115160" y="38390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19"/>
              <p:cNvSpPr/>
              <p:nvPr/>
            </p:nvSpPr>
            <p:spPr>
              <a:xfrm>
                <a:off x="3983400" y="39272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20"/>
              <p:cNvSpPr/>
              <p:nvPr/>
            </p:nvSpPr>
            <p:spPr>
              <a:xfrm flipH="1" flipV="1">
                <a:off x="4134960" y="39567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Straight Connector 12"/>
            <p:cNvSpPr/>
            <p:nvPr/>
          </p:nvSpPr>
          <p:spPr>
            <a:xfrm>
              <a:off x="4145400" y="37490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13"/>
            <p:cNvSpPr/>
            <p:nvPr/>
          </p:nvSpPr>
          <p:spPr>
            <a:xfrm flipV="1">
              <a:off x="4008600" y="35168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Parallelogram 14"/>
            <p:cNvSpPr/>
            <p:nvPr/>
          </p:nvSpPr>
          <p:spPr>
            <a:xfrm rot="9700800">
              <a:off x="3239640" y="35283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Group 21" descr=""/>
          <p:cNvPicPr/>
          <p:nvPr/>
        </p:nvPicPr>
        <p:blipFill>
          <a:blip r:embed="rId1"/>
          <a:stretch/>
        </p:blipFill>
        <p:spPr>
          <a:xfrm>
            <a:off x="1517760" y="159696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09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oup 25" descr=""/>
          <p:cNvPicPr/>
          <p:nvPr/>
        </p:nvPicPr>
        <p:blipFill>
          <a:blip r:embed="rId2"/>
          <a:stretch/>
        </p:blipFill>
        <p:spPr>
          <a:xfrm>
            <a:off x="7596360" y="332892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29"/>
          <p:cNvSpPr/>
          <p:nvPr/>
        </p:nvSpPr>
        <p:spPr>
          <a:xfrm>
            <a:off x="1073160" y="1606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0"/>
          <p:cNvSpPr/>
          <p:nvPr/>
        </p:nvSpPr>
        <p:spPr>
          <a:xfrm>
            <a:off x="3164040" y="3859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1"/>
          <p:cNvSpPr/>
          <p:nvPr/>
        </p:nvSpPr>
        <p:spPr>
          <a:xfrm>
            <a:off x="7931160" y="3130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3"/>
          <p:cNvSpPr/>
          <p:nvPr/>
        </p:nvSpPr>
        <p:spPr>
          <a:xfrm>
            <a:off x="5797440" y="5492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Obtaining Target States and Posi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Straight Arrow Connector 35"/>
          <p:cNvCxnSpPr/>
          <p:nvPr/>
        </p:nvCxnSpPr>
        <p:spPr>
          <a:xfrm flipH="1">
            <a:off x="3164040" y="3445560"/>
            <a:ext cx="1033560" cy="2656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7" name="TextBox 37"/>
          <p:cNvSpPr/>
          <p:nvPr/>
        </p:nvSpPr>
        <p:spPr>
          <a:xfrm>
            <a:off x="3544920" y="48837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arth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Straight Arrow Connector 38"/>
          <p:cNvCxnSpPr/>
          <p:nvPr/>
        </p:nvCxnSpPr>
        <p:spPr>
          <a:xfrm flipH="1" flipV="1">
            <a:off x="2215440" y="2368080"/>
            <a:ext cx="1981800" cy="1078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9" name="TextBox 41"/>
          <p:cNvSpPr/>
          <p:nvPr/>
        </p:nvSpPr>
        <p:spPr>
          <a:xfrm>
            <a:off x="2521080" y="311220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44"/>
          <p:cNvCxnSpPr/>
          <p:nvPr/>
        </p:nvCxnSpPr>
        <p:spPr>
          <a:xfrm>
            <a:off x="2215800" y="2368080"/>
            <a:ext cx="5715720" cy="12963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21" name="TextBox 48"/>
          <p:cNvSpPr/>
          <p:nvPr/>
        </p:nvSpPr>
        <p:spPr>
          <a:xfrm>
            <a:off x="5340240" y="2674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n as seen from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Group 36" descr=""/>
          <p:cNvPicPr/>
          <p:nvPr/>
        </p:nvPicPr>
        <p:blipFill>
          <a:blip r:embed="rId1"/>
          <a:stretch/>
        </p:blipFill>
        <p:spPr>
          <a:xfrm>
            <a:off x="1504800" y="189540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2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AB68-3E81-4559-864A-818527487D2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6840" y="380520"/>
            <a:ext cx="589752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682800" y="3885480"/>
            <a:ext cx="1674000" cy="928080"/>
            <a:chOff x="3682800" y="3885480"/>
            <a:chExt cx="1674000" cy="928080"/>
          </a:xfrm>
        </p:grpSpPr>
        <p:sp>
          <p:nvSpPr>
            <p:cNvPr id="726" name="Parallelogram 7"/>
            <p:cNvSpPr/>
            <p:nvPr/>
          </p:nvSpPr>
          <p:spPr>
            <a:xfrm rot="9700800">
              <a:off x="4575960" y="404136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Parallelogram 8"/>
            <p:cNvSpPr/>
            <p:nvPr/>
          </p:nvSpPr>
          <p:spPr>
            <a:xfrm rot="17591400">
              <a:off x="4267440" y="416952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Parallelogram 9"/>
            <p:cNvSpPr/>
            <p:nvPr/>
          </p:nvSpPr>
          <p:spPr>
            <a:xfrm rot="2221800">
              <a:off x="4523760" y="396828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Parallelogram 10"/>
            <p:cNvSpPr/>
            <p:nvPr/>
          </p:nvSpPr>
          <p:spPr>
            <a:xfrm rot="9717600">
              <a:off x="4449240" y="414756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24"/>
            <p:cNvGrpSpPr/>
            <p:nvPr/>
          </p:nvGrpSpPr>
          <p:grpSpPr>
            <a:xfrm>
              <a:off x="4389120" y="4479840"/>
              <a:ext cx="417600" cy="333720"/>
              <a:chOff x="4389120" y="4479840"/>
              <a:chExt cx="417600" cy="333720"/>
            </a:xfrm>
          </p:grpSpPr>
          <p:sp>
            <p:nvSpPr>
              <p:cNvPr id="731" name="Isosceles Triangle 15"/>
              <p:cNvSpPr/>
              <p:nvPr/>
            </p:nvSpPr>
            <p:spPr>
              <a:xfrm rot="1825800">
                <a:off x="4463640" y="455868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16"/>
              <p:cNvSpPr/>
              <p:nvPr/>
            </p:nvSpPr>
            <p:spPr>
              <a:xfrm rot="6727800">
                <a:off x="4497840" y="450396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17"/>
              <p:cNvSpPr/>
              <p:nvPr/>
            </p:nvSpPr>
            <p:spPr>
              <a:xfrm rot="6727800">
                <a:off x="4554360" y="468288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Straight Connector 18"/>
              <p:cNvSpPr/>
              <p:nvPr/>
            </p:nvSpPr>
            <p:spPr>
              <a:xfrm flipH="1">
                <a:off x="4572360" y="460116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Straight Connector 19"/>
              <p:cNvSpPr/>
              <p:nvPr/>
            </p:nvSpPr>
            <p:spPr>
              <a:xfrm>
                <a:off x="4440600" y="468936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Straight Connector 20"/>
              <p:cNvSpPr/>
              <p:nvPr/>
            </p:nvSpPr>
            <p:spPr>
              <a:xfrm flipH="1" flipV="1">
                <a:off x="4592160" y="471888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Straight Connector 12"/>
            <p:cNvSpPr/>
            <p:nvPr/>
          </p:nvSpPr>
          <p:spPr>
            <a:xfrm>
              <a:off x="4602600" y="451116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Straight Connector 13"/>
            <p:cNvSpPr/>
            <p:nvPr/>
          </p:nvSpPr>
          <p:spPr>
            <a:xfrm flipV="1">
              <a:off x="4465800" y="427860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Parallelogram 14"/>
            <p:cNvSpPr/>
            <p:nvPr/>
          </p:nvSpPr>
          <p:spPr>
            <a:xfrm rot="9700800">
              <a:off x="3696840" y="429012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Group 25" descr=""/>
          <p:cNvPicPr/>
          <p:nvPr/>
        </p:nvPicPr>
        <p:blipFill>
          <a:blip r:embed="rId2"/>
          <a:stretch/>
        </p:blipFill>
        <p:spPr>
          <a:xfrm>
            <a:off x="7596360" y="500544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42" name="TextBox 29"/>
          <p:cNvSpPr/>
          <p:nvPr/>
        </p:nvSpPr>
        <p:spPr>
          <a:xfrm>
            <a:off x="1073160" y="19112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0"/>
          <p:cNvSpPr/>
          <p:nvPr/>
        </p:nvSpPr>
        <p:spPr>
          <a:xfrm>
            <a:off x="3621240" y="4621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1"/>
          <p:cNvSpPr/>
          <p:nvPr/>
        </p:nvSpPr>
        <p:spPr>
          <a:xfrm>
            <a:off x="7931160" y="480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3"/>
          <p:cNvSpPr/>
          <p:nvPr/>
        </p:nvSpPr>
        <p:spPr>
          <a:xfrm>
            <a:off x="6635880" y="2063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Spacecraft Orientation and Reference Fram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Straight Arrow Connector 38"/>
          <p:cNvCxnSpPr/>
          <p:nvPr/>
        </p:nvCxnSpPr>
        <p:spPr>
          <a:xfrm flipH="1" flipV="1">
            <a:off x="2292120" y="2673000"/>
            <a:ext cx="2381760" cy="1381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48" name="TextBox 41"/>
          <p:cNvSpPr/>
          <p:nvPr/>
        </p:nvSpPr>
        <p:spPr>
          <a:xfrm>
            <a:off x="2825640" y="3588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43"/>
          <p:cNvCxnSpPr/>
          <p:nvPr/>
        </p:nvCxnSpPr>
        <p:spPr>
          <a:xfrm flipH="1" flipV="1">
            <a:off x="2063160" y="168228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0" name="Straight Arrow Connector 45"/>
          <p:cNvCxnSpPr/>
          <p:nvPr/>
        </p:nvCxnSpPr>
        <p:spPr>
          <a:xfrm>
            <a:off x="2292480" y="267336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1" name="Straight Arrow Connector 49"/>
          <p:cNvCxnSpPr/>
          <p:nvPr/>
        </p:nvCxnSpPr>
        <p:spPr>
          <a:xfrm flipH="1">
            <a:off x="1878840" y="267300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52" name="TextBox 58"/>
          <p:cNvSpPr/>
          <p:nvPr/>
        </p:nvSpPr>
        <p:spPr>
          <a:xfrm>
            <a:off x="2139840" y="1606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Straight Arrow Connector 62"/>
          <p:cNvCxnSpPr/>
          <p:nvPr/>
        </p:nvCxnSpPr>
        <p:spPr>
          <a:xfrm>
            <a:off x="4697280" y="4049640"/>
            <a:ext cx="61056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4" name="Straight Arrow Connector 64"/>
          <p:cNvCxnSpPr/>
          <p:nvPr/>
        </p:nvCxnSpPr>
        <p:spPr>
          <a:xfrm flipV="1">
            <a:off x="4700160" y="3752280"/>
            <a:ext cx="842040" cy="286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5" name="Straight Arrow Connector 71"/>
          <p:cNvCxnSpPr/>
          <p:nvPr/>
        </p:nvCxnSpPr>
        <p:spPr>
          <a:xfrm flipV="1">
            <a:off x="4697280" y="3206160"/>
            <a:ext cx="339120" cy="843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6" name="Straight Arrow Connector 74"/>
          <p:cNvCxnSpPr/>
          <p:nvPr/>
        </p:nvCxnSpPr>
        <p:spPr>
          <a:xfrm flipH="1" flipV="1">
            <a:off x="3282120" y="2977920"/>
            <a:ext cx="1415160" cy="10720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57" name="TextBox 76"/>
          <p:cNvSpPr/>
          <p:nvPr/>
        </p:nvSpPr>
        <p:spPr>
          <a:xfrm>
            <a:off x="4883040" y="35114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TGO_SPACE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7"/>
          <p:cNvSpPr/>
          <p:nvPr/>
        </p:nvSpPr>
        <p:spPr>
          <a:xfrm>
            <a:off x="3664080" y="31312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Nominal instrument view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9"/>
          <p:cNvSpPr/>
          <p:nvPr/>
        </p:nvSpPr>
        <p:spPr>
          <a:xfrm>
            <a:off x="3435480" y="3282840"/>
            <a:ext cx="228600" cy="76320"/>
          </a:xfrm>
          <a:prstGeom prst="pie">
            <a:avLst/>
          </a:pr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2"/>
          <p:cNvSpPr/>
          <p:nvPr/>
        </p:nvSpPr>
        <p:spPr>
          <a:xfrm>
            <a:off x="3206880" y="297828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3"/>
          <p:cNvSpPr/>
          <p:nvPr/>
        </p:nvSpPr>
        <p:spPr>
          <a:xfrm>
            <a:off x="615960" y="4730760"/>
            <a:ext cx="213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: </a:t>
            </a:r>
            <a:r>
              <a:rPr b="0" lang="en-US" sz="1000" spc="-1" strike="noStrike">
                <a:solidFill>
                  <a:srgbClr val="fc0128"/>
                </a:solidFill>
                <a:latin typeface="Lucida Grande"/>
              </a:rPr>
              <a:t>Angular separation between nominal instrument direction and direction to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Group 36" descr=""/>
          <p:cNvPicPr/>
          <p:nvPr/>
        </p:nvPicPr>
        <p:blipFill>
          <a:blip r:embed="rId1"/>
          <a:stretch/>
        </p:blipFill>
        <p:spPr>
          <a:xfrm>
            <a:off x="1504800" y="1974960"/>
            <a:ext cx="1549440" cy="162216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0F0E-B519-4A3B-A89E-204DB7F669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333520" y="380520"/>
            <a:ext cx="610416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65" name="Group 6"/>
          <p:cNvGrpSpPr/>
          <p:nvPr/>
        </p:nvGrpSpPr>
        <p:grpSpPr>
          <a:xfrm>
            <a:off x="3682800" y="3961800"/>
            <a:ext cx="1674000" cy="928080"/>
            <a:chOff x="3682800" y="3961800"/>
            <a:chExt cx="1674000" cy="928080"/>
          </a:xfrm>
        </p:grpSpPr>
        <p:sp>
          <p:nvSpPr>
            <p:cNvPr id="766" name="Parallelogram 7"/>
            <p:cNvSpPr/>
            <p:nvPr/>
          </p:nvSpPr>
          <p:spPr>
            <a:xfrm rot="9700800">
              <a:off x="4575960" y="411768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Parallelogram 8"/>
            <p:cNvSpPr/>
            <p:nvPr/>
          </p:nvSpPr>
          <p:spPr>
            <a:xfrm rot="17591400">
              <a:off x="4267440" y="424584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Parallelogram 9"/>
            <p:cNvSpPr/>
            <p:nvPr/>
          </p:nvSpPr>
          <p:spPr>
            <a:xfrm rot="2221800">
              <a:off x="4523760" y="404460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Parallelogram 10"/>
            <p:cNvSpPr/>
            <p:nvPr/>
          </p:nvSpPr>
          <p:spPr>
            <a:xfrm rot="9717600">
              <a:off x="4449240" y="422388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24"/>
            <p:cNvGrpSpPr/>
            <p:nvPr/>
          </p:nvGrpSpPr>
          <p:grpSpPr>
            <a:xfrm>
              <a:off x="4389120" y="4556160"/>
              <a:ext cx="417600" cy="333720"/>
              <a:chOff x="4389120" y="4556160"/>
              <a:chExt cx="417600" cy="333720"/>
            </a:xfrm>
          </p:grpSpPr>
          <p:sp>
            <p:nvSpPr>
              <p:cNvPr id="771" name="Isosceles Triangle 15"/>
              <p:cNvSpPr/>
              <p:nvPr/>
            </p:nvSpPr>
            <p:spPr>
              <a:xfrm rot="1825800">
                <a:off x="4463640" y="463500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16"/>
              <p:cNvSpPr/>
              <p:nvPr/>
            </p:nvSpPr>
            <p:spPr>
              <a:xfrm rot="6727800">
                <a:off x="4497840" y="458028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7"/>
              <p:cNvSpPr/>
              <p:nvPr/>
            </p:nvSpPr>
            <p:spPr>
              <a:xfrm rot="6727800">
                <a:off x="4554360" y="475920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Straight Connector 18"/>
              <p:cNvSpPr/>
              <p:nvPr/>
            </p:nvSpPr>
            <p:spPr>
              <a:xfrm flipH="1">
                <a:off x="4572360" y="467748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Straight Connector 19"/>
              <p:cNvSpPr/>
              <p:nvPr/>
            </p:nvSpPr>
            <p:spPr>
              <a:xfrm>
                <a:off x="4440600" y="476568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20"/>
              <p:cNvSpPr/>
              <p:nvPr/>
            </p:nvSpPr>
            <p:spPr>
              <a:xfrm flipH="1" flipV="1">
                <a:off x="4592160" y="479520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Straight Connector 12"/>
            <p:cNvSpPr/>
            <p:nvPr/>
          </p:nvSpPr>
          <p:spPr>
            <a:xfrm>
              <a:off x="4602600" y="458748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traight Connector 13"/>
            <p:cNvSpPr/>
            <p:nvPr/>
          </p:nvSpPr>
          <p:spPr>
            <a:xfrm flipV="1">
              <a:off x="4465800" y="435492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Parallelogram 14"/>
            <p:cNvSpPr/>
            <p:nvPr/>
          </p:nvSpPr>
          <p:spPr>
            <a:xfrm rot="9700800">
              <a:off x="3696840" y="436644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Group 25" descr=""/>
          <p:cNvPicPr/>
          <p:nvPr/>
        </p:nvPicPr>
        <p:blipFill>
          <a:blip r:embed="rId2"/>
          <a:stretch/>
        </p:blipFill>
        <p:spPr>
          <a:xfrm>
            <a:off x="7523280" y="2798640"/>
            <a:ext cx="663480" cy="663840"/>
          </a:xfrm>
          <a:prstGeom prst="rect">
            <a:avLst/>
          </a:prstGeom>
          <a:ln w="0">
            <a:noFill/>
          </a:ln>
        </p:spPr>
      </p:pic>
      <p:sp>
        <p:nvSpPr>
          <p:cNvPr id="782" name="TextBox 29"/>
          <p:cNvSpPr/>
          <p:nvPr/>
        </p:nvSpPr>
        <p:spPr>
          <a:xfrm>
            <a:off x="1073160" y="1987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0"/>
          <p:cNvSpPr/>
          <p:nvPr/>
        </p:nvSpPr>
        <p:spPr>
          <a:xfrm>
            <a:off x="3621240" y="4697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1"/>
          <p:cNvSpPr/>
          <p:nvPr/>
        </p:nvSpPr>
        <p:spPr>
          <a:xfrm>
            <a:off x="7854840" y="2597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Computing Sub-spacecraft and Sub-solar Poi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Straight Arrow Connector 38"/>
          <p:cNvCxnSpPr/>
          <p:nvPr/>
        </p:nvCxnSpPr>
        <p:spPr>
          <a:xfrm flipH="1" flipV="1">
            <a:off x="2596680" y="3053880"/>
            <a:ext cx="2057760" cy="123120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88" name="TextBox 41"/>
          <p:cNvSpPr/>
          <p:nvPr/>
        </p:nvSpPr>
        <p:spPr>
          <a:xfrm>
            <a:off x="1682640" y="361692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pacecraft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43"/>
          <p:cNvCxnSpPr/>
          <p:nvPr/>
        </p:nvCxnSpPr>
        <p:spPr>
          <a:xfrm flipH="1" flipV="1">
            <a:off x="2063160" y="175860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0" name="Straight Arrow Connector 45"/>
          <p:cNvCxnSpPr/>
          <p:nvPr/>
        </p:nvCxnSpPr>
        <p:spPr>
          <a:xfrm>
            <a:off x="2292480" y="274932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1" name="Straight Arrow Connector 49"/>
          <p:cNvCxnSpPr/>
          <p:nvPr/>
        </p:nvCxnSpPr>
        <p:spPr>
          <a:xfrm flipH="1">
            <a:off x="1878840" y="274932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92" name="TextBox 58"/>
          <p:cNvSpPr/>
          <p:nvPr/>
        </p:nvSpPr>
        <p:spPr>
          <a:xfrm>
            <a:off x="2139840" y="16826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48"/>
          <p:cNvCxnSpPr/>
          <p:nvPr/>
        </p:nvCxnSpPr>
        <p:spPr>
          <a:xfrm flipH="1" flipV="1">
            <a:off x="2901960" y="2901240"/>
            <a:ext cx="4953240" cy="2293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4" name="Straight Arrow Connector 52"/>
          <p:cNvCxnSpPr/>
          <p:nvPr/>
        </p:nvCxnSpPr>
        <p:spPr>
          <a:xfrm>
            <a:off x="2292480" y="2749680"/>
            <a:ext cx="305280" cy="3052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cxnSp>
        <p:nvCxnSpPr>
          <p:cNvPr id="795" name="Straight Arrow Connector 55"/>
          <p:cNvCxnSpPr/>
          <p:nvPr/>
        </p:nvCxnSpPr>
        <p:spPr>
          <a:xfrm>
            <a:off x="2292120" y="2749320"/>
            <a:ext cx="610200" cy="154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796" name="TextBox 59"/>
          <p:cNvSpPr/>
          <p:nvPr/>
        </p:nvSpPr>
        <p:spPr>
          <a:xfrm>
            <a:off x="3054240" y="25218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olar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Group 36" descr=""/>
          <p:cNvPicPr/>
          <p:nvPr/>
        </p:nvPicPr>
        <p:blipFill>
          <a:blip r:embed="rId1"/>
          <a:stretch/>
        </p:blipFill>
        <p:spPr>
          <a:xfrm>
            <a:off x="1504800" y="182232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4B21-5FEA-404D-8AC8-2C42D0C036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48000" y="380520"/>
            <a:ext cx="587520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800" name="Group 6"/>
          <p:cNvGrpSpPr/>
          <p:nvPr/>
        </p:nvGrpSpPr>
        <p:grpSpPr>
          <a:xfrm>
            <a:off x="3682800" y="3809520"/>
            <a:ext cx="1674000" cy="927720"/>
            <a:chOff x="3682800" y="3809520"/>
            <a:chExt cx="1674000" cy="927720"/>
          </a:xfrm>
        </p:grpSpPr>
        <p:sp>
          <p:nvSpPr>
            <p:cNvPr id="801" name="Parallelogram 7"/>
            <p:cNvSpPr/>
            <p:nvPr/>
          </p:nvSpPr>
          <p:spPr>
            <a:xfrm rot="9700800">
              <a:off x="4575960" y="39654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Parallelogram 8"/>
            <p:cNvSpPr/>
            <p:nvPr/>
          </p:nvSpPr>
          <p:spPr>
            <a:xfrm rot="17591400">
              <a:off x="4267440" y="40935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Parallelogram 9"/>
            <p:cNvSpPr/>
            <p:nvPr/>
          </p:nvSpPr>
          <p:spPr>
            <a:xfrm rot="2221800">
              <a:off x="4523760" y="38923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Parallelogram 10"/>
            <p:cNvSpPr/>
            <p:nvPr/>
          </p:nvSpPr>
          <p:spPr>
            <a:xfrm rot="9717600">
              <a:off x="4449240" y="40719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24"/>
            <p:cNvGrpSpPr/>
            <p:nvPr/>
          </p:nvGrpSpPr>
          <p:grpSpPr>
            <a:xfrm>
              <a:off x="4389120" y="4403520"/>
              <a:ext cx="417600" cy="333720"/>
              <a:chOff x="4389120" y="4403520"/>
              <a:chExt cx="417600" cy="333720"/>
            </a:xfrm>
          </p:grpSpPr>
          <p:sp>
            <p:nvSpPr>
              <p:cNvPr id="806" name="Isosceles Triangle 15"/>
              <p:cNvSpPr/>
              <p:nvPr/>
            </p:nvSpPr>
            <p:spPr>
              <a:xfrm rot="1825800">
                <a:off x="4463640" y="44823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16"/>
              <p:cNvSpPr/>
              <p:nvPr/>
            </p:nvSpPr>
            <p:spPr>
              <a:xfrm rot="6727800">
                <a:off x="4497840" y="44276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17"/>
              <p:cNvSpPr/>
              <p:nvPr/>
            </p:nvSpPr>
            <p:spPr>
              <a:xfrm rot="6727800">
                <a:off x="4554360" y="46065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Straight Connector 18"/>
              <p:cNvSpPr/>
              <p:nvPr/>
            </p:nvSpPr>
            <p:spPr>
              <a:xfrm flipH="1">
                <a:off x="4572360" y="45248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Straight Connector 19"/>
              <p:cNvSpPr/>
              <p:nvPr/>
            </p:nvSpPr>
            <p:spPr>
              <a:xfrm>
                <a:off x="4440600" y="46130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Straight Connector 20"/>
              <p:cNvSpPr/>
              <p:nvPr/>
            </p:nvSpPr>
            <p:spPr>
              <a:xfrm flipH="1" flipV="1">
                <a:off x="4592160" y="46425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Straight Connector 12"/>
            <p:cNvSpPr/>
            <p:nvPr/>
          </p:nvSpPr>
          <p:spPr>
            <a:xfrm>
              <a:off x="4602600" y="44348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traight Connector 13"/>
            <p:cNvSpPr/>
            <p:nvPr/>
          </p:nvSpPr>
          <p:spPr>
            <a:xfrm flipV="1">
              <a:off x="4465800" y="42026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Parallelogram 14"/>
            <p:cNvSpPr/>
            <p:nvPr/>
          </p:nvSpPr>
          <p:spPr>
            <a:xfrm rot="9700800">
              <a:off x="3696840" y="42141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oup 25" descr=""/>
          <p:cNvPicPr/>
          <p:nvPr/>
        </p:nvPicPr>
        <p:blipFill>
          <a:blip r:embed="rId2"/>
          <a:stretch/>
        </p:blipFill>
        <p:spPr>
          <a:xfrm>
            <a:off x="7523280" y="2646360"/>
            <a:ext cx="663480" cy="663480"/>
          </a:xfrm>
          <a:prstGeom prst="rect">
            <a:avLst/>
          </a:prstGeom>
          <a:ln w="0">
            <a:noFill/>
          </a:ln>
        </p:spPr>
      </p:pic>
      <p:sp>
        <p:nvSpPr>
          <p:cNvPr id="817" name="TextBox 29"/>
          <p:cNvSpPr/>
          <p:nvPr/>
        </p:nvSpPr>
        <p:spPr>
          <a:xfrm>
            <a:off x="1073160" y="1835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0"/>
          <p:cNvSpPr/>
          <p:nvPr/>
        </p:nvSpPr>
        <p:spPr>
          <a:xfrm>
            <a:off x="3621240" y="454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31"/>
          <p:cNvSpPr/>
          <p:nvPr/>
        </p:nvSpPr>
        <p:spPr>
          <a:xfrm>
            <a:off x="7854840" y="2444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Intersecting Vectors with a Triaxial Ellipsoid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38"/>
          <p:cNvCxnSpPr/>
          <p:nvPr/>
        </p:nvCxnSpPr>
        <p:spPr>
          <a:xfrm flipH="1" flipV="1">
            <a:off x="2977920" y="2596680"/>
            <a:ext cx="1620000" cy="1402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823" name="TextBox 41"/>
          <p:cNvSpPr/>
          <p:nvPr/>
        </p:nvSpPr>
        <p:spPr>
          <a:xfrm>
            <a:off x="3816360" y="229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rmal to the surface at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Straight Arrow Connector 43"/>
          <p:cNvCxnSpPr/>
          <p:nvPr/>
        </p:nvCxnSpPr>
        <p:spPr>
          <a:xfrm flipH="1" flipV="1">
            <a:off x="2063160" y="1605960"/>
            <a:ext cx="229320" cy="991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5" name="Straight Arrow Connector 45"/>
          <p:cNvCxnSpPr/>
          <p:nvPr/>
        </p:nvCxnSpPr>
        <p:spPr>
          <a:xfrm>
            <a:off x="2292480" y="259704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6" name="Straight Arrow Connector 49"/>
          <p:cNvCxnSpPr/>
          <p:nvPr/>
        </p:nvCxnSpPr>
        <p:spPr>
          <a:xfrm flipH="1">
            <a:off x="1878840" y="2597040"/>
            <a:ext cx="413640" cy="704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27" name="TextBox 58"/>
          <p:cNvSpPr/>
          <p:nvPr/>
        </p:nvSpPr>
        <p:spPr>
          <a:xfrm>
            <a:off x="2139840" y="153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Arrow Connector 48"/>
          <p:cNvCxnSpPr/>
          <p:nvPr/>
        </p:nvCxnSpPr>
        <p:spPr>
          <a:xfrm flipH="1" flipV="1">
            <a:off x="2977920" y="2596320"/>
            <a:ext cx="4877280" cy="381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29" name="Straight Arrow Connector 55"/>
          <p:cNvCxnSpPr/>
          <p:nvPr/>
        </p:nvCxnSpPr>
        <p:spPr>
          <a:xfrm>
            <a:off x="2292120" y="2596680"/>
            <a:ext cx="595800" cy="1897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30" name="TextBox 59"/>
          <p:cNvSpPr/>
          <p:nvPr/>
        </p:nvSpPr>
        <p:spPr>
          <a:xfrm>
            <a:off x="5721480" y="24454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Direction to the Sun from the surface intersect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44"/>
          <p:cNvCxnSpPr/>
          <p:nvPr/>
        </p:nvCxnSpPr>
        <p:spPr>
          <a:xfrm flipH="1" flipV="1">
            <a:off x="4196880" y="3663720"/>
            <a:ext cx="348480" cy="310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2" name="Straight Arrow Connector 46"/>
          <p:cNvCxnSpPr/>
          <p:nvPr/>
        </p:nvCxnSpPr>
        <p:spPr>
          <a:xfrm flipV="1">
            <a:off x="4548240" y="3816000"/>
            <a:ext cx="411840" cy="146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3" name="Straight Arrow Connector 47"/>
          <p:cNvCxnSpPr/>
          <p:nvPr/>
        </p:nvCxnSpPr>
        <p:spPr>
          <a:xfrm flipV="1">
            <a:off x="4545000" y="3511080"/>
            <a:ext cx="186480" cy="462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34" name="TextBox 50"/>
          <p:cNvSpPr/>
          <p:nvPr/>
        </p:nvSpPr>
        <p:spPr>
          <a:xfrm>
            <a:off x="4730760" y="35560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TGO_NOMAD_LNO_N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Straight Arrow Connector 62"/>
          <p:cNvCxnSpPr/>
          <p:nvPr/>
        </p:nvCxnSpPr>
        <p:spPr>
          <a:xfrm flipH="1" flipV="1">
            <a:off x="2672640" y="2749320"/>
            <a:ext cx="1924920" cy="12499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6" name="Straight Arrow Connector 69"/>
          <p:cNvCxnSpPr/>
          <p:nvPr/>
        </p:nvCxnSpPr>
        <p:spPr>
          <a:xfrm flipH="1" flipV="1">
            <a:off x="2862000" y="2785320"/>
            <a:ext cx="1735920" cy="1213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7" name="Straight Arrow Connector 72"/>
          <p:cNvCxnSpPr/>
          <p:nvPr/>
        </p:nvCxnSpPr>
        <p:spPr>
          <a:xfrm flipH="1" flipV="1">
            <a:off x="2748960" y="2901240"/>
            <a:ext cx="1848600" cy="10976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8" name="Straight Arrow Connector 75"/>
          <p:cNvCxnSpPr/>
          <p:nvPr/>
        </p:nvCxnSpPr>
        <p:spPr>
          <a:xfrm flipH="1" flipV="1">
            <a:off x="2977920" y="2824920"/>
            <a:ext cx="1620000" cy="1173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9" name="Straight Arrow Connector 81"/>
          <p:cNvCxnSpPr/>
          <p:nvPr/>
        </p:nvCxnSpPr>
        <p:spPr>
          <a:xfrm flipV="1">
            <a:off x="2978280" y="2520360"/>
            <a:ext cx="915120" cy="76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40" name="TextBox 88"/>
          <p:cNvSpPr/>
          <p:nvPr/>
        </p:nvSpPr>
        <p:spPr>
          <a:xfrm>
            <a:off x="3130560" y="3741120"/>
            <a:ext cx="129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MAD LNO Nadir boresight and FOV corner ve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89"/>
          <p:cNvSpPr/>
          <p:nvPr/>
        </p:nvSpPr>
        <p:spPr>
          <a:xfrm>
            <a:off x="2859120" y="183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llumination angles at the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90"/>
          <p:cNvSpPr/>
          <p:nvPr/>
        </p:nvSpPr>
        <p:spPr>
          <a:xfrm>
            <a:off x="1735200" y="3584160"/>
            <a:ext cx="1295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s surface intersects for NOMAD LNO Nadir boresight and FOV corners (five po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3"/>
          <p:cNvCxnSpPr/>
          <p:nvPr/>
        </p:nvCxnSpPr>
        <p:spPr>
          <a:xfrm flipH="1">
            <a:off x="3076200" y="2204640"/>
            <a:ext cx="240480" cy="27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Straight Arrow Connector 6"/>
          <p:cNvCxnSpPr/>
          <p:nvPr/>
        </p:nvCxnSpPr>
        <p:spPr>
          <a:xfrm flipV="1">
            <a:off x="2550600" y="3030480"/>
            <a:ext cx="167040" cy="621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09:04:14Z</dcterms:created>
  <dc:creator/>
  <dc:description/>
  <dc:language>en-US</dc:language>
  <cp:lastModifiedBy>J</cp:lastModifiedBy>
  <cp:lastPrinted>2004-04-30T20:29:12Z</cp:lastPrinted>
  <dcterms:modified xsi:type="dcterms:W3CDTF">2016-08-31T16:00:32Z</dcterms:modified>
  <cp:revision>111</cp:revision>
  <dc:subject/>
  <dc:title>Preview of Coming Attractions</dc:title>
</cp:coreProperties>
</file>