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9F4C-C953-426A-9B1F-1180E3B22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A6FF-B25C-4CBD-9CBF-8C0CE511D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1C3F-6463-489F-824A-3B241B6CF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7BFC-B0A8-47B7-B2A7-66DD53965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964B-39E3-4FB9-A5BB-C3EF2BF5D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7D7A-1F62-41B1-A8E2-DD7416280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9A48-ACF6-43A8-95A2-5AD8A30E2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9B81-7896-4BE9-A6FE-91FC108D1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3533-8F26-47F1-AA3F-6A5B70F49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88E2-30DB-4447-A31D-236F258B1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46C5-314E-49DD-B51F-43430C8BC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EC92-DCC9-4807-BA01-9C1F0F295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A835-856F-444D-A291-AAF939639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E9E9-B2B8-46AB-AB59-064EC6D5D9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112160" cy="1908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Navigating Through the SPICE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ponents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’s in the Toolki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 and ex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oolkit direct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bdirectories under the main Toolkit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.txt”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”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level SPICE HTML documentation 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SPICE API Reference Guide” HTML index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Most Used APIs” HTML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equired Reading Documents’’ HTML index and the Required Reading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User’s Guides” HTML index and the User’s Guide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What's New in SPICE” HTML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urce code of a specific Toolkit 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swer a set of simple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B4632-3F02-402B-A40B-71B4A1CCE9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14:51Z</cp:lastPrinted>
  <dcterms:modified xsi:type="dcterms:W3CDTF">2007-05-04T23:37:08Z</dcterms:modified>
  <cp:revision>68</cp:revision>
  <dc:subject/>
  <dc:title>Preview of Coming Attractions</dc:title>
</cp:coreProperties>
</file>