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9601-A487-4F4F-B3E8-C024199CC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B537-7C61-4997-8780-C5A308451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9BD3-DADC-41BE-8B84-8388BCD56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7057-C61F-4C64-BD21-1B12048F6F4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5FD45E-FD77-4F8A-BCB2-06C0E9147D2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975D7D-8241-4163-90A4-CC2EE689EAB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53CC5D-97A6-4542-B875-3B3FFF9ACF1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3DAF73-D66E-4A0C-8535-8ABAF308C52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BDCA9C-F213-47D7-BD24-FF7645916C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C58D32-1867-4523-BCBE-42A76C6DCA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D674F9-757E-4386-A6FE-B0A62405FB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E432BC-34F6-4F60-951A-DB4174660FF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BA8BDA-BA0E-4AE2-9F41-98565DE9887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D7D87-E90F-4BFF-9A98-DEF40851E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0D0C-62E9-4BBD-BBE0-4FE5106C52D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2EBA6-F657-46F0-9828-6BA645C90A9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746C1-C8B9-439C-BD78-E0206BAF2EE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A519-CB0E-4F33-ADC1-4C9DD24EE75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ED70A-3EA5-4B3A-B4F7-6430C9F840F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CCBB8-06A2-4F7D-BE57-80F089A33D7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4CD8B-6C8F-43B0-81A2-4EB717ECB97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AB2BD-E96D-48B0-9246-013EB6CA67E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41941-A239-4892-9D70-6894B4C9A2C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5391F-1141-4348-B2F3-05645F24CA3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F1358-EA41-45A8-B314-1083C84BA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1F35-B0A0-4F61-B09D-7DB36E44724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EAF3-42C2-4AA2-99C7-A826AD7F29B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BD8B6F-B9B4-41B5-885A-81D423CC326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156C1-FC45-454E-BD29-56849785533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B0280E-ECFD-44B5-AC0F-C69CE0994BA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F93BF-B38C-40BF-A024-ADB24EFF2E2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B0088-E38F-44CB-86C7-A5742C64F20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4F7712-5978-4834-8601-0F4F1949470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35E01-0855-4153-B672-A7352C55CBB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59BC7-B74C-4466-B45C-B42B47CEFD0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754E3-80AD-4A17-B0E5-FBB53DCAB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0AB91-C46F-44E1-9380-3F0E219C8F0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B3818-4B13-42EF-A2F3-D534FB42029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ADD2A-B016-44F2-BB65-9DC2D0E0571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DF3DB7-4D99-4ED9-904C-5AF84700802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BB83E6-DDA5-412B-B78A-BF72D85E5B8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0954D5-FD5C-4A3A-9452-A2087F9F3A5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B9213B-FF27-4E37-A0A4-951E696380F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A438E2-0077-449D-9857-D049286AECE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90776F-8BEF-4EAD-B175-A2DF9385CBC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B54D00-25A3-4894-888A-2BEB297297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D0FD1B-8BD0-4C0B-9AC1-335F0FF014A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059398-3153-4B74-A9DD-2F712B8F99F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6F4B34-E162-4962-AEBA-EF627CD845C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9F4E01-CEDD-46E6-939A-0C978295DFC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2379A4-61FD-423C-9FCA-61C85051CE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6EF0-48F5-435B-B22C-91DC25041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FC72E-870E-4A32-B99A-418592B728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F276C-1A49-4E40-AAF8-F94394A61A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4A882-49F6-49C8-A05D-FD16137D88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24358-05C4-44D3-88CC-37205C7E9D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B335B-636A-4EA6-B727-300017E0CD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9A0B-0B33-47EC-A9AC-003D28F5A9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06494-A482-4A3C-A492-12317C3475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FBA8B-AC87-424B-9A5A-F20655AA39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BE2F4-CCE1-47C5-8997-FA9F50C2EF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2446A-E91A-48A2-AB3D-10B3C44A0D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48597-0937-45E4-AC5D-4344FF2E57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A218C-871E-4257-88EB-7505ED5E73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4E361-88F9-4F89-A1AC-3C7955DD47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C79C-153B-46AC-9C01-03D9B740EC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7C03-AA3C-4F0F-900E-C21C53A6AC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B363-A752-4C4F-BE0D-23AFAE7E0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C397-B5BA-4ED1-938E-1ACD1256B5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EA6E-27C8-4262-A013-77D88F4FAF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9D49-BFFE-4DDF-A688-6678E96169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7EDA-F0E1-4399-A8B7-C3C998E0FB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C57F-F975-48E9-995D-150D730CB6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65CC-92B0-4636-B3B3-EA6EC54FF8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BFCF-E572-4660-86AD-0F1EC3E37F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DAE0-3435-4F8C-9EDA-437BD32DCA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EB67-E7C7-4689-AB40-A320CEF17D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D1D7-57CD-4CE2-9E39-74891E134AD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5326C-F49A-4CEA-AE5B-5CB49D732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DB04-1FF7-4A8F-B7E0-7148A8A107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58B49-80C5-4B0A-A92A-97ACE706201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28A14-5AB0-42FA-8A34-A083743919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0B2F2-A81B-47DB-A6DF-C8F6B12C62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CB173-B22D-4A5E-BD4A-5AE73B1C986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38D27-5E48-4C5C-832C-6B06152CA9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5F662-711A-436B-91CB-7934D9ED31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4F9C7-4BBF-45CA-8DAE-55348D5C7E2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83D71-9095-475F-A497-A3FAEC1AAFC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47FE9-45F6-4945-AB81-11C390C7B0C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5A8BA-C8E7-4774-87A9-F88AAAF89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4D83-E191-46A1-B0E2-289F04F60F4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4C344-589B-4701-9587-66C9D8B7CFC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1663B-FCDE-40A8-BC37-127285097D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E74981-C66D-4B6F-A818-99DF6A3B00F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056790-FF1E-4C49-B417-B2CB48C1AF5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6C28A-BB6C-4220-990A-F318A9300A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6B310C-4121-4217-9DBE-153A1F22BF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2420F1-E1D9-443E-A6B3-7570594BB99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EDD88-E8DC-4228-A4F7-5BAB448C6C6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BFE0A-7192-48B6-A24B-AB0B8D1520A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8ED67-1055-47C1-ADA8-136BBE566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B34D-920E-4CAC-8FED-4AE0B161270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8061A-A09C-440B-A2FD-BD9C6450C3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0CCDF9-EEEA-4D82-AE60-8BDC42B13C6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BCD79B-4EE7-4731-84A5-D3DC7D8B6DC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FAF8-D6F0-45F3-98A4-1D6DACE161B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7D11C-5FC0-4E14-9434-403CBC1A4C3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28841-B9F7-4A9C-BE41-06AA45E4BB0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BB9FD-75A2-4B9F-9D9B-C737CCE4A16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2C191-BC1D-49BB-BCE7-B8C46B318AD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2433A-5EE9-4DD8-902D-91B9AB2DC6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E85D-58EA-4CAB-A9AD-7206FEB48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7738-38EE-4681-BDAF-58112A03A91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487A7-6CCB-4496-B5A8-3ECE3EC1217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7DBE-B2EA-4F61-9762-BF15F8A6D84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261A7-881F-495F-833C-DF5829C6AB3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9383-81D1-47B6-8261-263B9B27021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FCFD-138F-4F45-B2E5-2A53AF58D50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66E5D-7202-4488-9357-5C3D07FFD86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298E0-A5AA-4DB6-B166-775124B2C98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535E3-6E8F-457B-9880-79BB56C404E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873B6-088D-4565-8010-344D2A89158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52609-1B7D-409A-9C2D-B924C28D4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90FE-09AC-4DAF-BA1A-932364AC3D7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4DE2B-7778-4DCD-BBD1-F3247F879A5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6D371-8798-4AE8-B47C-C3615AB97D1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012DA-C1F2-4779-8043-E287160227F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2EB3B-5AFD-4600-9156-16291207E53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DC358-1558-4888-BA68-3A801DD02F8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99C48-3755-4DC1-AFFE-9740F8F8037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6FB33-D959-4434-82C7-80C994DC0ED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348EF3-CCB8-4C3D-A049-D89E8CB12AC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75BE42-71AB-48B7-889D-43741AD8E62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93F74D-962F-4EA5-A024-88C2ABF82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FC1B-9069-48D2-A0D3-524291FD49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1F7F-B935-4153-8DAA-79C7D8EB89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F8DD-7350-4E4C-A548-8E400B69BA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38B1-60B6-4818-9CA7-B6BABE8279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4F99-AC22-4710-9019-FAC22F4C7B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5EF7-4C3D-4BE7-9AC5-A7CD0DB453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9056-A556-4C32-B1B1-6FF617B82F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432A-2127-4063-B07C-D3381EDADE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BFD2-3455-4734-8C58-C60F0756E4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BAF6-F1DB-4BD8-9C45-B205D80CDA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53F6-2878-49B3-8E9F-FC20029B8C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8280" y="2666520"/>
            <a:ext cx="7404120" cy="143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Applications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3D94-4D12-4CC0-8F6D-D09358B1BC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25520" y="380520"/>
            <a:ext cx="6405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3320" y="1371240"/>
            <a:ext cx="83818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using these application programs provided in the Toolkit by completing a series of simple assignments for each of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C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utility program for converting and summarizing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accessing internal comments in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XF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inary SPICE kernels to transfer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B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transfer SPICE kernels to binary format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etween various time syst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cookbook program demonstrating use of routines computing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trajectories stored in two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M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or sampling orientations of reference fram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51:38Z</cp:lastPrinted>
  <dcterms:modified xsi:type="dcterms:W3CDTF">2010-02-12T21:22:20Z</dcterms:modified>
  <cp:revision>74</cp:revision>
  <dc:subject/>
  <dc:title>Preview of Coming Attractions</dc:title>
</cp:coreProperties>
</file>