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2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ftr" idx="2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 type="sldNum" idx="2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9CA4-D3EE-4BC2-BC03-FFFBA8334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FA33-CD9B-455F-8FD9-70CC16E8F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E5548-1CF9-4C49-8EBE-52C880D2A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A3C13-30C8-4BD7-A900-13FBBEDC418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CA6D7F-BF39-4B12-93C4-B3BF1708E3C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6F0CAA-23C5-482A-B58C-3D84FF958BD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9E07F2-FDC3-4103-B47A-72119DBA5E7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B2BA07-A8B8-458D-870F-E5991A17393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4DC58C-9556-401A-8542-C59F2B9E705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3B35CC-4AAA-4996-8CF8-088F46B3C70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2E46C9-5045-4823-8391-2AFCA99A757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973CDA-3DE9-4D0F-8267-2C56C8458BB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C49B99-982C-44D7-932D-0C3CFB448A3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754CE-5046-4838-861C-785E1D306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B2B6D-9790-42C5-AE2D-599861AAEE1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B0280-08DF-4543-9884-2F7BB40DB22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A2435-CC25-4828-8A28-8723DCB1EE5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8167B-AC6F-490B-B79A-4542D6A7274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22175-461A-45E7-8B26-24059238E33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D1669-F75E-43DC-8B5D-9C5E9A62D92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3C97D-7295-425C-B7F3-17901482DA4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B7280-C115-4611-A2F0-9F6D1CF2E3F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4134C-29A1-4905-91E1-4B2046C5287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810CF-A30F-4BCE-9F81-9028170DDC3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01250-F679-4586-9279-4BC647FAA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C69ED-9FD5-49BF-8871-80D756BB71D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DC8B1-290F-4C02-9814-3BEF9EC57D1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B2DF0-F537-4BE0-8B35-F64ADD5DC83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4F4056-8A8E-402C-B044-3C04E508FE4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8A23FD-07F4-4E73-A0B0-3E7C32BA4BA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F50DA5-3795-4DE7-B6B5-215DD62B4DE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C16F48-2EB5-4418-BF48-4AFAB4B6191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11B0E6-4D20-4A70-8476-B1A9A15994A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D7E4AF-FC3E-4D02-8424-BB518523C62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D56D2D-0D0D-41CA-BBFC-80170522A85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688687-48A4-42A0-9589-F5A2909B9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262866-9A3D-4685-8963-9F1CEEE543A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339FB4-30A0-40B5-AA33-DE3229B0AC9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313CA1-F3A4-4637-88D6-9069F91CBEF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2DD2D9-5487-49DF-AA46-65CD37287CF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C32A51-A79B-4918-B3C3-58C71EF9B32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2962C5-6211-4F05-BAE5-A03EA6333DB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5CAB18-CB77-4E6E-9E38-21B6E8DCED3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BF0A85-F40C-41C9-8B00-005013CCF91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687E99-8183-4BF5-88DA-1EBCFBA4090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707B09-D89A-449B-ACCE-3B0455CEE2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3C4213-90D7-4F89-A6CA-7354760E727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94924A-96CF-4CBD-82BB-5A4FBB4BDE7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5B5358-951F-42EF-9B62-5F0B1BBB0D9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558B6E-E2D8-4966-AA01-CC84D5BB94B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5523F6-CD9A-42BA-9E4D-4B6DB48119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28691-5A05-4191-BAE3-4DB4F81F1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A899B-50E8-4915-8450-19570C42DA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89B5E-C0CB-4720-903E-35F47B26BE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45D4F-802D-4968-8D26-741664B6D1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C7A97-17FF-49B7-B5BD-B21FA751D0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37ED1-2184-4332-A9F2-8A03680F45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947C6-3C15-4F30-8350-1550CD9404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32BBF-BE79-4B2D-9870-2DA397FEA8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69302-1428-4390-BDE4-BD15DDC8A7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C99CC-D494-4AF4-89CE-A2A41DA426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27DD6-F27C-4115-A8B5-BF756D3BE3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FFD8E-CA7B-4B96-93E4-888AD9968A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412B9-52DE-466C-8893-93307E04F5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54F30-F23B-4B84-AC84-D6C9D02069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8A5B-7E1B-48C5-86FD-967467EE2B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9824-7F96-4FD6-B18F-56AF603A27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D8A5-AC52-4781-8781-6C9B5919D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CF72B-3729-405E-B62C-07CF0DC3E8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500B-E69F-46D2-AF61-EF59D7736D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B136-8294-4038-9587-E57D36194A9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61E2-892D-46B8-BB47-2B2E174680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22E9-607D-40E9-B5CE-7D31D33FE1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63B8-FF90-486C-9D6E-06B8CCFE74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2315-7BB9-43F6-99BF-57AD602604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2D98-B94E-4336-BB72-1B73061E3F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9B2E-3B06-4AAB-9347-E8E1D35A75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E402-5103-4771-BE00-E8B81E95E70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6CB27-CECE-4F35-8CEB-59824893E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0FCC8-57EF-4D91-ADB9-8F58CA63696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EA87A-267A-4DD8-9C3E-2230B59FCF8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A1BCC-E764-492A-A794-F0B06C39922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9AED6-BA7D-4142-84CE-BC03241FB54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92FE2-E80F-40C4-856C-68322FC3AED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69F0E-5468-42C0-988D-C4FB443A779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8664B-DCD3-4483-9EC4-648665BB3CB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17B4C-C6BC-49AB-A0C5-FCCFD618C94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5C8AC-7083-4C98-A149-B7E8C2CE190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06803-03DC-4F44-96AD-C04E9C8ACD4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199B6A-899D-4D14-BD9D-27F7D32D3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2766D-5D54-48CB-8319-B687D50D965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B9C87-F500-4BCD-8750-AB9120DED56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1175AE-153A-4B6E-BC8A-81306CA652A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EE1893-A0B2-4CAC-90CA-4906F534AD7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A983F4-06E7-45B1-B3E4-3255B7A741E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C8873F-9E69-41D9-A46C-853DE517297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F42970-2764-465F-A04C-93E20BD87B6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56045C-E9B0-47F6-AF08-42EB7EDBE1D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A2AD0D-7B31-47E2-94EC-90B0B43EBD0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00DEDD-5978-4F3D-B1AC-6931D4DDF82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ACC330-EA36-4470-83E9-E02A6E4FD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024B4-F4C1-48B6-8EFC-CAC15F3AB72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2F6811-D80F-4E81-B991-2B8873963B0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65DDA3-2011-4D4E-8AF3-6377D020674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07411F-B57F-4565-900D-D1675A7050B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6F9F2-2EFE-4323-BA5E-55D2F190879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E9442-A176-42C7-8052-5F9B398F2CA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33A01-F06A-40D3-943D-E8AF7B03013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4F38D-E17D-484B-A963-F2218EDB7F7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DDC7D-AF60-490B-A711-4A3147D4DC0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BCEAD-6AED-43EE-99EC-172717CE467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AFC24-4C18-49E4-86BB-947C3E864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BA0D1-8C33-48E9-96BE-41222CF862C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9316A-24A4-4148-A05C-F4871E9E6B5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DD7B9-A374-47D0-ADA0-63A2BD7C0C2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F9937-C685-4609-AFC6-E59A6E005CB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375BA-8191-4A02-8C5E-DB435B467FA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89846-9521-473B-91F5-402B188202E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F4DF48-5C59-48A1-A72C-00508851FE2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2F0A4D-95A7-496D-9E13-B3186CB5980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C7FE9A-C191-471E-9C1A-CF4E2514C5D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125A57-D316-4532-9710-E75EB93F931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EB4116-78CB-4B45-A272-1F1448B5F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FB681-1D6E-44EB-8EAA-5D51F1D0544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90FF4B-AD49-4E8E-9182-30172A4CAC7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5DF5C-6155-4827-AAAA-3A4A77533A2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0B09B-29F3-4182-AD55-7ED26914199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9FD171-DD78-4A95-8915-A64C3205959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728F33-ACAD-4CA4-AFCF-FF02F157C9D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61AC8B-2E94-4738-97A7-258B7FBC5F4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033769-C070-4FD1-83EC-0E780BF72EA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C0A064-16DC-462A-8540-1FC0D5863BB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886FEE-928D-4988-AF89-4A64721E829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770BDF-AF34-4198-B1E0-EF2D51A80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71D0-0B20-4E25-978B-855CF9B2465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CB7D-4E70-428D-8A8F-736210C623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88B2-B499-4F92-9BBE-4EA44E1DDC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0207-3782-4785-B595-D7A2E057865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D9CB-332E-4BE0-A527-47D6EF7219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0D11-8CA8-4421-8C0D-8054720648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DF96-127C-49BC-B84F-0554D6C1CE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847A-DF22-4533-8AC7-42E2A7B60D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5E3E-D5CC-4D1E-BF8D-FA55C9AD74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BC61-8E15-418D-87A8-4507CD0082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0B84-7B9D-4A5B-A46A-8F3B05DC0D2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98280" y="2666520"/>
            <a:ext cx="7404120" cy="1430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actice Using Toolkit Applications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”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ands-On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February 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7FEB-ED04-445B-B939-CA38C356B05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225520" y="380520"/>
            <a:ext cx="6405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actice Using Toolkit Program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63320" y="1371240"/>
            <a:ext cx="83818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 using these application programs provided in the Toolkit by completing a series of simple assignments for each of th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E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summarizing contents of SP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BRIE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summarizing contents of C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interactive utility program for converting and summarizing SPICE binary kern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accessing internal comments in SPICE binary kern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XF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binary SPICE kernels to transfer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B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transfer SPICE kernels to binary format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N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between various time syste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interactive cookbook program demonstrating use of routines computing stat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KDI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mparing trajectories stored in two SP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MDI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mparing or sampling orientations of reference fram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7-05-04T23:51:38Z</cp:lastPrinted>
  <dcterms:modified xsi:type="dcterms:W3CDTF">2010-02-12T21:22:20Z</dcterms:modified>
  <cp:revision>74</cp:revision>
  <dc:subject/>
  <dc:title>Preview of Coming Attractions</dc:title>
</cp:coreProperties>
</file>