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5E5C-EA61-4777-8BAE-AC9BCFDA9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315A-CFE0-4312-828D-28536DC28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6575-3511-47DA-A0AB-13B7F0849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9BAC-9761-48A3-AF9E-5793F7DB6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22BE-BDD2-4D84-B85E-3E7039183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88AC-2A82-4008-AEE9-E46166E62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A222-A256-44F9-927A-65223B745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856E-45B2-4734-97D3-9B4A12E69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17E1-C1BE-4F1E-AA5B-5A716B540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C022-2FC3-4CCE-90D7-C37D79FA5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ACEA-B754-463C-BF75-A2E368EFD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A663-C41E-4773-9B38-6A22B8108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7E57-F767-4433-B7E3-ECD5C43BB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F307-CAA5-45AA-AEBA-DC854F638B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112160" cy="1908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Navigating Through the SPICE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ponents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’s in the Toolki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 and ex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oolkit direct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bdirectories under the main Toolkit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.txt”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”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level SPICE HTML documentation 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SPICE API Reference Guide” HTML index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Most Used APIs” HTML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equired Reading Documents’’ HTML index and the Required Reading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User’s Guides” HTML index and the User’s Guide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What's New in SPICE” HTML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urce code of a specific Toolkit 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swer a set of simple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5722-C524-4713-81C4-B9A261A625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14:51Z</cp:lastPrinted>
  <dcterms:modified xsi:type="dcterms:W3CDTF">2007-05-04T23:37:08Z</dcterms:modified>
  <cp:revision>68</cp:revision>
  <dc:subject/>
  <dc:title>Preview of Coming Attractions</dc:title>
</cp:coreProperties>
</file>