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04F-0216-41E2-AF09-1D7CF7934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0289-8CA1-4B8E-BD7D-706ACF3AE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4743-DDCB-471C-847D-393124942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6CDD-F056-43DF-8878-E872DCC29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94C5-67A1-457A-9C35-7F3DAFF6E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E1545-37D3-40E0-A58E-BE5A7DA91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41A7-D17E-417A-AA56-CA2527391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F1A5-A321-4C66-8436-1C744A17A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AAA5-F959-44C2-8A68-01870EA7E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C2DE-DDB4-48EB-A922-560D4947F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AB2F-29E3-4C07-85C9-EC3C49F74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517E-E14D-42EE-A2B2-4B2EB34AA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6DF4-6F1F-4112-8828-0719BD4B4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88DC-B6A4-4B23-B771-A7E21388E7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7793-B719-459E-8141-E84D6913F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D1DF-DB96-448E-8394-F0C9631ABC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FFC94-D847-4F7C-836D-FE9B14617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7092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8E36-C8E5-4F79-A8B0-9EAC91478D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6T18:11:33Z</dcterms:modified>
  <cp:revision>74</cp:revision>
  <dc:subject/>
  <dc:title>Preview of Coming Attractions</dc:title>
</cp:coreProperties>
</file>