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51DDE-7494-451A-80F5-33D0951E51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98725-6A1F-44AC-AF11-37E587102B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CA09C-349A-4A5E-9713-4F8818DF32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1071E-00C6-4B7B-819A-36AED88154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B4E6A-9B18-4D18-8BAD-E5A773B8EF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3496D-A2FF-4E8A-9F4C-2913606A7E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90A1F-B287-49EF-987B-5EB5FF00D2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22C72-9E4C-4C23-BB6F-9D30A9528C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C0642-8F25-41A7-AABD-43E35C217F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C8059-1CEF-43D6-A46C-C25478168E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E4689-B353-40DC-93EB-9F93478AF7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A1774-7FF5-4849-9343-EF27BAC90F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FA4BD-A08E-4592-96CE-183AD1F5C1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30BBD-6AB3-4C80-9093-589492A1133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8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08200" y="228564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62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920" y="1608120"/>
            <a:ext cx="824220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604960" y="3171600"/>
            <a:ext cx="4305600" cy="952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Other Stuff”</a:t>
            </a:r>
            <a:br>
              <a:rPr sz="3600"/>
            </a:b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rogramming Less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4840" y="5668560"/>
            <a:ext cx="640080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March 200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90680" y="380520"/>
            <a:ext cx="615312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Other Stuff Programming Examples</a:t>
            </a:r>
            <a:endParaRPr b="1" lang="en-US" sz="28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8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eper subsystem basic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rv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rnel pool subsystem basic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or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ordinate system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 of advanced time routine cal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rsys, adder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monstration of error handling (language dependen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ndows, sets, and cells basics (language dependen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monstrate utility fun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SPICE constants fun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04B86-DC30-4BA3-BD2C-49E0935A9B7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oris Semenov</cp:lastModifiedBy>
  <cp:lastPrinted>2004-04-30T20:29:12Z</cp:lastPrinted>
  <dcterms:modified xsi:type="dcterms:W3CDTF">2006-03-14T18:57:55Z</dcterms:modified>
  <cp:revision>65</cp:revision>
  <dc:subject/>
  <dc:title>Preview of Coming Attractions</dc:title>
</cp:coreProperties>
</file>