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4E8B-EC67-4B7D-AC32-1F77D3D34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0EEF-CACA-43D8-A2F5-DEBFC6070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EF85-5242-4B16-BC5B-B5CBEE375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35AC-48A9-49A8-A117-3F6322C3E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0E3C-8D24-4615-8D15-B8AA7947D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3B3A-5247-4AD0-905C-666A56F4E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C789-C9B7-4FF2-9A90-3853FBB06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3DB9-52BF-4A97-8432-6917E89A3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D133-9A6F-4DEF-B4AD-A7E1578B0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6CB5-62B7-44BD-81A0-14F6EE66A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D1C4D-8231-4C30-8AE9-F38B5DBAF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96C5-768F-4C3F-9060-15E252B30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71B4-3549-4EF8-84FC-9672B7EA6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E755-3715-446B-BD00-FD87AC88D7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13450-8ECD-4600-91AF-9EEAF12A4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CE9F-37B1-4C82-B52C-FB4F8052E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67CF-E6B1-4192-9375-47A9F01F9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0BF8-D172-4226-8C31-C7C15213D9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6:17Z</dcterms:modified>
  <cp:revision>69</cp:revision>
  <dc:subject/>
  <dc:title>Preview of Coming Attractions</dc:title>
</cp:coreProperties>
</file>