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DAA5-7953-4031-B70D-328F67B84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F5B2-F0AB-43ED-BEBE-B6D31CB67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D2B8-36F3-491D-A9E5-33B508FD1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23D0-3ECD-4531-93B3-4B7E1FFE9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FE31-30FA-45D3-BBA5-73D9882F7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18E3-EBBD-4832-9D26-37708975D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80E3-31CF-4994-9B3A-A0A8DF93C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A7F6-7D3A-4544-AD68-C30FA997A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EB55-9BBE-4F19-AE4E-DB94321A3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C6A1-610D-4A49-A186-2398FE93B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51BE-5038-499D-8EC5-B760ED951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BCCB-F034-4100-9FAA-74C68B995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35BB-211D-4D0E-B3D1-66D7D3571B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Mars Express orbiter (MEX) is visible from the DSN station DSS-14 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 May 2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 May 6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DSS-14 must have elevation of at least 6 degrees in the DSS-14 topocentric reference frame DSS-14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DSS-1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8842-22A2-4DF5-B86F-BBBC6BCDEC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21c6a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415600">
            <a:off x="2521440" y="3348360"/>
            <a:ext cx="1098000" cy="106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S-14_T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6960" indent="-15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545800">
            <a:off x="2383920" y="3233160"/>
            <a:ext cx="1266840" cy="11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911800">
            <a:off x="2651400" y="3538080"/>
            <a:ext cx="6883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6e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287000">
            <a:off x="1503720" y="2509200"/>
            <a:ext cx="2574360" cy="89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64" y="4777"/>
                </a:moveTo>
                <a:arcTo wR="10800" hR="10800" stAng="-2033859" swAng="2033859"/>
                <a:lnTo>
                  <a:pt x="10800" y="10800"/>
                </a:lnTo>
                <a:close/>
              </a:path>
              <a:path fill="none" w="21600" h="21600">
                <a:moveTo>
                  <a:pt x="19764" y="4777"/>
                </a:moveTo>
                <a:arcTo wR="10800" hR="10800" stAng="-2033859" swAng="2033859"/>
              </a:path>
            </a:pathLst>
          </a:custGeom>
          <a:noFill/>
          <a:ln w="57240">
            <a:solidFill>
              <a:srgbClr val="e908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41600" y="3800520"/>
            <a:ext cx="920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SS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:  not occulted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6D2E-0620-4EBB-85DD-41B1FFF7A12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dcterms:modified xsi:type="dcterms:W3CDTF">2008-10-18T00:07:07Z</dcterms:modified>
  <cp:revision>113</cp:revision>
  <dc:subject/>
  <dc:title>Time Conversion and Formats</dc:title>
</cp:coreProperties>
</file>