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2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ftr" idx="2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 type="sldNum" idx="2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C05F-7F83-47A8-BBB2-D3CA740A6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BAB1-A0D7-42CF-AE04-DEB76394B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94D2B-73C1-40A0-8BD5-700EF0C35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DA00-F0AC-4FD2-89B9-4C6D21F22DF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14E9A1-D9BA-4E8C-B186-E5B84D2A751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02C4E6-27F8-460B-9966-86D879EB6BF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24ECAF-22CC-41DF-B48D-8BD88D5DA01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06DB60-C76E-46E2-910E-78D9CB7C6F8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863566-8DD3-432E-9A94-DB038AE9166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F04988-2D10-4E94-9BE0-0DAB92629BB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5920B2-2A10-4069-B783-1DADBA5A5F3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8C111D-1AD4-414D-8D39-957C52FA613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F93588-DB87-4748-9682-034F76EFA0D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32DF5-60C4-49BB-8F6F-4715F0E55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15E55-B4F4-4F53-8572-530281D7C3B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CC11E-625D-45F8-8327-F258F655C4F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45EF1-FDB6-4C7D-932B-1E26FEB6EB7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A0B82-4549-4FCB-9C55-323FB2E34F0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FBA41-C78A-44DD-8E03-F78F0037E48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A2AE3-6BFD-4421-8778-9AD6A00B891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60179-A956-47CA-922A-A819083E730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7DD5E-FBFF-4B3C-926C-9CC1569C8D9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FEE26-D4FA-41B7-8A08-6BDFCBCB8FB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505BB-D353-45F4-B4E0-8A6620008C7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30A06-F4B0-403E-86A1-F8FC0C0C6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169AB-EC5D-4040-8570-C1924D6F23D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137D5-4E1E-478B-9EDC-773453BC68B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BD89BF-64B0-4891-98B2-4C732878D8D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257362-4C5B-4C99-8E4B-1396C2A93C6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5B0250-8893-45D2-8EAE-38EB1790DDF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A517AB-FF77-48FD-8DD3-8EE9DA02943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0C45F2-81BC-42C8-A9D2-A45C69AA188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B103C8-39A2-4B07-A413-50773EB6093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1D6660-4BCF-405E-8313-37A265B8861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BBF93A-F4F4-4B8C-B623-3EFE576FDFC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A3804A-8EB4-414B-871E-5C52FADA2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5EE28C-6E96-4E94-B4FC-60018B9D25B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6E312A-79C6-49D2-AD57-993429D9638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2A3DB1-6A45-4FDA-A370-0FB967A4FC9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4DE40D-5771-442E-A123-4087FF53C3E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52E448-C200-4DEF-B8D8-9AC4A86E309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EAA432-571A-4034-9FC7-D6E559598BC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E9BC62-21CD-4BF3-8DCC-D5DD27F1028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1146D6-297C-4931-98B7-730FFA2AED7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33D3BF-93CC-4D1B-9520-AA1ECF5928C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51026A-784D-43AA-97A0-B0C4290543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222FF0-0F90-45D5-8156-6FB080207EE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C3E83B-3045-4989-B9DD-5A1A77CFC97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115F25-5349-4C49-8C3B-2EF23B540ED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8046AB-F0DC-427C-8B0F-5C3B4D14970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8659FD-02E1-41B5-BDBD-4F99CAEFA3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62D0E-1B17-4680-9F38-4B10FABF6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1FAA3-F5AB-4358-997E-E31923CBD2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2EA20-FA70-423D-9B0F-C06ADD9FB7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8C92F-FFE8-4FC9-8B0C-29F4A7CB3F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D5F39-2ED1-4766-94B1-27F1FB5340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502AE-A00A-47F9-B80F-4A902749B3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E5E68-0280-4FCB-8C2F-BFCD6631FD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2CEFA-9B23-4D72-B814-4C41017B94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53DB2-02F8-4DE1-85B6-8537AE2775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96B73-C462-496C-83B6-4B46EBC92A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18BA5-26CF-4064-AAD1-AF3204329B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BF1A9-DBB2-46C4-A4F3-95DFC050C2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D24AB-CBBB-48B0-819F-AE98CCD35A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EA410-A6A3-4050-B626-2321DC0B5F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A787-8D3E-4AB9-8AAB-FF8A2DB998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F45E-3C47-4EB6-9E2D-6DECEB3675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A80D-DAE7-4195-BA32-656CB3DBC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D594-0D02-4616-9DB7-CC50D429E6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08B7-2A44-41A5-8A9D-E1DE89981B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4DDE-A7A1-4006-BEEE-49BEAE3443B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1A1E-41D0-4DDE-B982-9203A29EA8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20C0-3DE7-4E22-9884-81B00E38AAB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9094-3F61-4B3A-B980-48FB781ECA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334F-8177-4643-95BE-94C2F5CBD8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C12C-34DC-45DA-AABC-A445F69A3A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D343-0EDD-4CDF-82B3-E4FE2669FE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9303-E61C-4ADC-8B94-BC6B160D056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176D4-F3BB-4073-9705-160EDAB31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9B8B1-3F8A-42A1-9C29-EEC6A18C0CC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B8024-1926-40B1-88D2-A5AD53761FC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DC1C0-31A7-46D0-AE0A-1BC39857CBA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C9396-37D5-4C83-8583-3E8F39E69FA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14148-A8E0-44E5-9CA1-7C87FEACB66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F4908-169B-41C9-B472-68776F0AF21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AE115-69B5-4F31-811D-42E951A5FC9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807A6-3803-4FBF-AE58-AC530F45A39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0360E-4D33-459C-911B-B712305BF67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844D4-052D-4BD4-89DE-4E7A7C0B6C7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83ACA-1C59-49CD-B904-B5E9A60E7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94ED4-FA35-4D96-94B5-3DE087BB8DF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58C29-14ED-4A1A-8111-FB7F5C536DB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903DDB-6790-4DC0-8DD1-C7DAC679D53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235A26-35F8-4C8F-8DB6-0794DE87653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DA7378-318B-4DF2-8DDA-62842A517DF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EFD48E-3EE7-4A07-8B50-BA1A5CF231A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C3EC95-9D90-485E-9FD6-65F349B8A77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BF9E8D-D3E2-4A8F-A72A-3CCD90581EE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31F672-268F-4F01-A46A-1A7B53C64DE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802DDC-9067-4550-85DD-B541B825EBF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A957A9-2B16-4B6C-8CE4-EFFE50469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C3E47-C5CE-43B1-8EC3-30A9C34814E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2CA203-5105-427E-A144-68320533C03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814096-E85D-47BD-8EF5-1FB1F1C7F5D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1E3CC5-10B0-43AE-BEF0-31B71F69521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7186F-45F1-4F43-AA9A-AE77A6F7587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A1432-BE0F-484C-AE9C-E3A4F1E0D7F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853D1-266E-401F-BD2F-F7BCE3D583B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CE989-26D7-4C8A-BA23-384DE7D444D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C1FF0-0EB0-46A2-8A39-A4DF22F2707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3DD46-3813-4FD7-9605-3C52572CA0F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8C1DC-97E1-4363-A507-16004CD23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FE73C-A76E-488B-A636-E276A3EC59F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E3802-60D3-4DF6-90F3-0DE44F9274B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B54FF-344F-4E72-A6E2-EEB9A883B62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0EAD8-7D52-483F-99EC-31F5C0C2AC8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2BE5E-C3CB-4256-BB2D-7DF438B4A87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F6275-FC19-41A1-B51F-5370265462C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819AF-0E2E-4494-AB1F-2A765A8E1EF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7F190-F04C-493D-AEDC-91755CF55A9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A7D604-BC41-411E-9111-2AF625AD8F7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3FDAC-1959-408F-8738-E947760AB31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6A3F90-AD95-46A1-95EF-EB6F03E16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DBD9E-725F-412C-919A-4C511C4D595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BE4823-3581-4CEF-A4F8-BA8E0BD84E5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ECB217-A6A3-4683-8809-9C35B9E5F62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0ACDD-4BCB-43AC-B968-581509B47E5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DD6182-1F2C-43CC-96B0-FA09625A864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B4A89-004E-4768-B310-4BA15AD4F50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90E371-4BBE-42AC-819A-6B2450B6701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057D6D-7ECF-400A-9F5F-9114F673DEA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25BFB7-CDD1-4A68-B428-D9696FBA90B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0AD689-43BD-49E0-AC37-7E3FC60713B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15E4FF-051D-40DE-BACD-364EA4924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35CF-F706-47A4-A9C0-0A73DE009E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1AF4-1D55-4202-815C-09D2DAF74E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A769-446F-4EAE-80BC-483D4E6C34C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92D6-11F3-48DD-8F23-A6875BFC33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EE7D-B527-4B17-9B78-63A9A288334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A685-E0EA-40FD-AEDB-134FFB8F43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7D92-BCF5-4AC6-836E-D6154974F1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6F2F-F532-44DD-B1E1-A214938628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890B-A35A-4094-B759-4EF10F6619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9D63-29D9-437F-9882-101F1F334E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7CEE-E6CA-4494-AFC8-E5B78F0C622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98280" y="2666520"/>
            <a:ext cx="7404120" cy="1430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actice Using Toolkit Applications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”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ands-On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February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3C28-1D16-45E8-A2BF-254715DA715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25520" y="380520"/>
            <a:ext cx="6405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actice Using Toolkit Program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63320" y="1371240"/>
            <a:ext cx="83818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 using these application programs provided in the Toolkit by completing a series of simple assignments for each of th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summarizing contents of SP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BRI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summarizing contents of C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interactive utility program for converting and summarizing SPICE binary kern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accessing internal comments in SPICE binary kern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XF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binary SPICE kernels to transfer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B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transfer SPICE kernels to binary format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N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between various time syste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interactive cookbook program demonstrating use of routines computing stat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KDI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mparing trajectories stored in two SP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MDI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mparing or sampling orientations of reference fram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7-05-04T23:51:38Z</cp:lastPrinted>
  <dcterms:modified xsi:type="dcterms:W3CDTF">2010-02-12T21:22:20Z</dcterms:modified>
  <cp:revision>74</cp:revision>
  <dc:subject/>
  <dc:title>Preview of Coming Attractions</dc:title>
</cp:coreProperties>
</file>