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E8B9-E2DB-4A2B-948A-C3D28DDEF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3861-E182-4B04-AFF3-35FDDBE36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0D155-6E00-48B7-A5D1-1E92B397E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032C2-8F33-4860-86F8-42A0618BE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2587-0E3C-4CC1-9315-5AF0B76BD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8045-D8DF-4C12-8C72-80C0F7354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992F-2413-46E0-8BF7-23CF930B5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A01E-F582-4D89-B9BA-8F8359BFB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8E34-6F20-48CB-BD45-3D9436A79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AE38-45EB-4CE5-ACE7-C6195480D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1997-8BB2-47CA-9D65-BA55873BC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6E6D-BA04-494F-AEBA-89620260A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52AC-3A52-4A74-B755-694F730B8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8F00-5ED3-46CB-A07F-1DE9A165A0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253200" cy="451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12F4-BF74-4BE6-8307-1F9DF70614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60600" y="380520"/>
            <a:ext cx="5842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07200" cy="46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411C-CE1C-4128-88CA-C5A487E435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9080" y="380520"/>
            <a:ext cx="60451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80280" cy="46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D2E4-1171-48F9-972A-1EA58768A4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3200" y="380520"/>
            <a:ext cx="5819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70920" cy="46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5CFDB-C8AF-4DEE-A7C5-FB2C8C0731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7-05-06T18:11:33Z</dcterms:modified>
  <cp:revision>74</cp:revision>
  <dc:subject/>
  <dc:title>Preview of Coming Attractions</dc:title>
</cp:coreProperties>
</file>