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F01-DCCE-4537-BEE2-C9BBFC4F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9EA0-79B2-4B9D-B317-2BE81AD0D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02D6-2EE6-4ED7-B36F-BF3CCE5ED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9ADC-4FFD-4304-9AA7-548F9D7E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5D27-75D9-484A-878A-12682778E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B5E-DED9-4977-B1C3-80C196A61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3023-D5E0-4357-BA40-3DCB61759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4380-47D0-4FCB-8799-AFB7C608A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0F4C-5F3E-4C2F-A9CB-BC05C8176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DE67-056A-4535-B126-FD25A7204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ABD6-DABF-4460-A7EB-99B2AEFFA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FA83-84E9-4766-906A-065AEF389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CF76-F2B1-4070-AA36-83CDB7E7D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1EC-B19C-48F7-A36D-713956481B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716D-4DA6-4D83-9321-72EDE6A9F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4920-FAF5-4322-941A-A291E774A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2776-6D71-487C-944E-A27EFEDECE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7092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3481-4C10-4848-A669-2DBABF9D7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6T18:11:33Z</dcterms:modified>
  <cp:revision>74</cp:revision>
  <dc:subject/>
  <dc:title>Preview of Coming Attractions</dc:title>
</cp:coreProperties>
</file>