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7A2D-30C0-4650-8B99-8DDA536D6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32B37-CA32-4411-970C-A1C756793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08EBF-4CE2-4237-B054-305CB3F77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6E40D-4BB2-4CAF-8E7E-79035ED41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B7483-FDD4-4054-9314-6C6CF9423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6406-47B6-4F11-9CE9-B46897B1F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17D28-A055-4485-A12F-8A0C1398B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F38A-F49E-4F47-B58B-F30BE26F9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490BA-DE48-43DE-80ED-E895193D8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F572F-2E18-4DE1-8F77-995BE5B2B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85C74-3AA1-49A8-842E-9F90585CF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BC8B0-86D6-4317-9E4C-0459FF911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5C70A-5657-4E4A-8FED-9BA643E3F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7D75-1C6B-493D-86C1-B3DB5F946EF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Other Stuff”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90680" y="380520"/>
            <a:ext cx="615312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Other Stuff Programming Exam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er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v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pool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rdinate system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of advanced time routine cal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sys, adder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ion of error handling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, sets, and cells basics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utility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SPICE constants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F5A84-642F-4132-A449-42AB5607C1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7:55Z</dcterms:modified>
  <cp:revision>65</cp:revision>
  <dc:subject/>
  <dc:title>Preview of Coming Attractions</dc:title>
</cp:coreProperties>
</file>