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B363-1274-4A44-BBEE-5B0C3DDE6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E5FED-D52B-4544-9CB0-A21819BE1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A397F-F1E0-4334-8ABB-F96C6FF82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E9EF3-A7F7-4DC1-95B2-5FE85AF3D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25E75-E86F-494B-9919-18259462B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26ADD-EF06-48A1-8546-5CADDB917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C7469-3063-4728-9DC4-DBA33E63B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BA264-6866-47CC-9BA6-101594E1A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B1FB-FD1F-49DA-B079-66FB74062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A6C0F-2A7C-410D-9DC0-049843F6E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C7A51-9335-42FB-8CA0-5D81C7C6A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097EB-138E-43D1-93A9-A20816657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0ED87-9033-4300-BB32-95B6737C0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A146-2B10-46D1-8BDC-F6C0DBC7BE4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6760" y="3171600"/>
            <a:ext cx="4300560" cy="1375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In-situ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08200" y="380520"/>
            <a:ext cx="3740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207120" cy="451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050FE-5D9C-4ECB-8F34-9D83D2E513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105240" cy="45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FD7D1-6857-4C22-9707-10C0530F36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5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379920" cy="46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2CBA2-369C-4F1C-AAC5-D74A5A55D7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6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306840" cy="45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689AA-1FD4-41C4-93A9-925B3D0A6C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6:17Z</dcterms:modified>
  <cp:revision>69</cp:revision>
  <dc:subject/>
  <dc:title>Preview of Coming Attractions</dc:title>
</cp:coreProperties>
</file>