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785F-44DE-4663-93F9-25004392E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81D42-BA4B-431E-ACD5-22FB64129B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5D4FB-4E13-42AA-9CD0-CD94C91FBB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C1F22-9A67-49BE-85A4-44F4FDCD67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9CF4C-FCF6-4201-A84E-24B6621949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B9F64-7144-4DD5-AB64-0985D93188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8B123-4B95-438F-8321-517D0943C8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3B795-32E5-453A-93C6-DE10B56209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1D8C9-C30E-44CA-A639-9C8B86E259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13743-BA46-425F-BFEF-522734677D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78043-5663-4AEF-9DF4-F9299FA30D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26FF3-A5FC-4052-B47F-3F5E32E988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628B4-4419-4579-8754-7C9A49DFBB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380C-D98A-45AE-B80D-26935C0DB51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06760" y="3171600"/>
            <a:ext cx="4300560" cy="1375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In-situ Sensing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rch 200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08200" y="380520"/>
            <a:ext cx="37404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Step 3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207120" cy="451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545ED-B5CC-499A-8234-284C79084E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03520" y="380520"/>
            <a:ext cx="37418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Step 4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105240" cy="451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DBA3D-C9D9-4BD2-98A0-4CAEF4FAA2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03520" y="380520"/>
            <a:ext cx="37418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Step 5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6379920" cy="466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F40F1-D466-40FB-86C7-6E39B344CE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03520" y="380520"/>
            <a:ext cx="37418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Step 6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306840" cy="451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2FA7B-E71F-4934-B2CD-3758504422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4-04-30T20:29:12Z</cp:lastPrinted>
  <dcterms:modified xsi:type="dcterms:W3CDTF">2006-03-14T18:56:17Z</dcterms:modified>
  <cp:revision>69</cp:revision>
  <dc:subject/>
  <dc:title>Preview of Coming Attractions</dc:title>
</cp:coreProperties>
</file>