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58288" cy="68722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52360" y="698400"/>
            <a:ext cx="4553280" cy="34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875040" y="-14400"/>
            <a:ext cx="29829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75040" y="8704440"/>
            <a:ext cx="29829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8704440"/>
            <a:ext cx="29811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-14400"/>
            <a:ext cx="29811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57400" y="698400"/>
            <a:ext cx="4543200" cy="340992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896760" y="4352760"/>
            <a:ext cx="5081760" cy="41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875040" y="-14400"/>
            <a:ext cx="29829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75040" y="8704440"/>
            <a:ext cx="29829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8704440"/>
            <a:ext cx="29811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-14400"/>
            <a:ext cx="29811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57400" y="698400"/>
            <a:ext cx="4543200" cy="340992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896760" y="4352760"/>
            <a:ext cx="5081760" cy="41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875040" y="-14400"/>
            <a:ext cx="29829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875040" y="8704440"/>
            <a:ext cx="29829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8704440"/>
            <a:ext cx="29811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-14400"/>
            <a:ext cx="29811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57400" y="698400"/>
            <a:ext cx="4543200" cy="340992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896760" y="4352760"/>
            <a:ext cx="5081760" cy="41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F204B2-F1F3-4762-B2A8-60E25163CA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AA16BE-C113-49D5-923E-D8EDDF2912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ECE344-0247-4F7A-9294-2B1DF80999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F8BD67-967A-4A03-96D1-9F82012847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7C276D-17B2-48E9-99FB-A3874E50C8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D28BD4-5381-433C-90C3-D38509D38C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EC7656-B5A2-48F3-8518-7CEEA2F6C0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C7F45D-586B-40C3-929D-3BE894368D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EAD470-91E7-4CCA-9F06-2BF2C27DF4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75C2B3-19EA-44B6-AA21-E83847C457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A4B8DE-1568-4063-92FF-757C7A5E83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663C5A-93FF-4440-B6E9-83087656B8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28DC5-E7A8-412B-AF35-9E00C777EE49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-228240" y="182520"/>
            <a:ext cx="2230200" cy="897120"/>
            <a:chOff x="-228240" y="182520"/>
            <a:chExt cx="2230200" cy="897120"/>
          </a:xfrm>
        </p:grpSpPr>
        <p:sp>
          <p:nvSpPr>
            <p:cNvPr id="8" name=""/>
            <p:cNvSpPr/>
            <p:nvPr/>
          </p:nvSpPr>
          <p:spPr>
            <a:xfrm flipH="1">
              <a:off x="1008000" y="326880"/>
              <a:ext cx="125280" cy="12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684" y="19702"/>
                  </a:moveTo>
                  <a:arcTo wR="10800" hR="10800" stAng="7469441" swAng="17318365"/>
                  <a:lnTo>
                    <a:pt x="10800" y="10800"/>
                  </a:lnTo>
                  <a:close/>
                </a:path>
                <a:path fill="none" w="21600" h="21600">
                  <a:moveTo>
                    <a:pt x="4684" y="19702"/>
                  </a:moveTo>
                  <a:arcTo wR="10800" hR="10800" stAng="7469441" swAng="17318365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>
              <a:off x="-227880" y="368280"/>
              <a:ext cx="2208960" cy="518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7267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726747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88840" y="371520"/>
              <a:ext cx="370080" cy="398520"/>
            </a:xfrm>
            <a:custGeom>
              <a:avLst/>
              <a:gdLst/>
              <a:ahLst/>
              <a:rect l="l" t="t" r="r" b="b"/>
              <a:pathLst>
                <a:path w="233" h="251">
                  <a:moveTo>
                    <a:pt x="134" y="0"/>
                  </a:moveTo>
                  <a:lnTo>
                    <a:pt x="95" y="0"/>
                  </a:lnTo>
                  <a:lnTo>
                    <a:pt x="0" y="246"/>
                  </a:lnTo>
                  <a:lnTo>
                    <a:pt x="114" y="35"/>
                  </a:lnTo>
                  <a:lnTo>
                    <a:pt x="233" y="251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08200" y="228564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-228240" y="182520"/>
            <a:ext cx="2230200" cy="897120"/>
            <a:chOff x="-228240" y="182520"/>
            <a:chExt cx="2230200" cy="897120"/>
          </a:xfrm>
        </p:grpSpPr>
        <p:sp>
          <p:nvSpPr>
            <p:cNvPr id="62" name=""/>
            <p:cNvSpPr/>
            <p:nvPr/>
          </p:nvSpPr>
          <p:spPr>
            <a:xfrm flipH="1">
              <a:off x="1008000" y="326880"/>
              <a:ext cx="125280" cy="12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684" y="19702"/>
                  </a:moveTo>
                  <a:arcTo wR="10800" hR="10800" stAng="7469441" swAng="17318365"/>
                  <a:lnTo>
                    <a:pt x="10800" y="10800"/>
                  </a:lnTo>
                  <a:close/>
                </a:path>
                <a:path fill="none" w="21600" h="21600">
                  <a:moveTo>
                    <a:pt x="4684" y="19702"/>
                  </a:moveTo>
                  <a:arcTo wR="10800" hR="10800" stAng="7469441" swAng="17318365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>
              <a:off x="-227880" y="368280"/>
              <a:ext cx="2208960" cy="518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7267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726747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88840" y="371520"/>
              <a:ext cx="370080" cy="398520"/>
            </a:xfrm>
            <a:custGeom>
              <a:avLst/>
              <a:gdLst/>
              <a:ahLst/>
              <a:rect l="l" t="t" r="r" b="b"/>
              <a:pathLst>
                <a:path w="233" h="251">
                  <a:moveTo>
                    <a:pt x="134" y="0"/>
                  </a:moveTo>
                  <a:lnTo>
                    <a:pt x="95" y="0"/>
                  </a:lnTo>
                  <a:lnTo>
                    <a:pt x="0" y="246"/>
                  </a:lnTo>
                  <a:lnTo>
                    <a:pt x="114" y="35"/>
                  </a:lnTo>
                  <a:lnTo>
                    <a:pt x="233" y="251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457920" y="1608120"/>
            <a:ext cx="8242200" cy="39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88640" y="3171600"/>
            <a:ext cx="5537160" cy="952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Geometric Event Finding</a:t>
            </a:r>
            <a:br>
              <a:rPr sz="3600"/>
            </a:b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Programming Lesson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374840" y="5668560"/>
            <a:ext cx="6400800" cy="50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October 2008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704880" y="1527120"/>
            <a:ext cx="7772400" cy="486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lem statement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termine when the Mars Express orbiter (MEX) is visible from the DSN station DSS-14 , within the time interv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4 May 2 TD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4 May 6 TD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the spacecraft to be considered visible, the apparent spacecraft position relative to DSS-14 must have elevation of at least 6 degrees in the DSS-14 topocentric reference frame DSS-14_TOPO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light time and stellar aberration corrections to compute the spacecraft position relative to DSS-14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ount for possible occultation of the spacecraft by Mar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ute a SPICE window representing the visibility period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play the start and stop times of each time interval in this SPICE window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2241360" y="380520"/>
            <a:ext cx="6237000" cy="4222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1d58"/>
                </a:solidFill>
                <a:latin typeface="Arial"/>
              </a:rPr>
              <a:t>Geometric Event Finding:  Overview</a:t>
            </a:r>
            <a:endParaRPr b="1" lang="en-US" sz="28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F608F3-E6A8-4AB9-A27F-148E2973FD15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3656160" y="3691080"/>
            <a:ext cx="984240" cy="38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marL="239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lev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9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gl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3457440" y="380520"/>
            <a:ext cx="380376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Visibility Geometry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55480" y="3308400"/>
            <a:ext cx="3276720" cy="3133800"/>
          </a:xfrm>
          <a:prstGeom prst="ellipse">
            <a:avLst/>
          </a:prstGeom>
          <a:gradFill rotWithShape="0">
            <a:gsLst>
              <a:gs pos="0">
                <a:srgbClr val="021c6a"/>
              </a:gs>
              <a:gs pos="100000">
                <a:srgbClr val="063de8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572080" y="2808360"/>
            <a:ext cx="1501920" cy="1434960"/>
          </a:xfrm>
          <a:prstGeom prst="ellipse">
            <a:avLst/>
          </a:prstGeom>
          <a:solidFill>
            <a:srgbClr val="ce1a0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2685960" y="2628720"/>
            <a:ext cx="609840" cy="108900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2625840" y="3719520"/>
            <a:ext cx="64800" cy="88740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2728800" y="3338280"/>
            <a:ext cx="3248280" cy="385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7053120" y="3141720"/>
            <a:ext cx="838440" cy="950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2736720" y="2126880"/>
            <a:ext cx="4573800" cy="159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rot="2415600">
            <a:off x="2521440" y="3348360"/>
            <a:ext cx="1098000" cy="1060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46ec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136520" y="2141640"/>
            <a:ext cx="2311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76000"/>
          </a:bodyPr>
          <a:p>
            <a:pPr marL="217080" indent="-217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asis vectors of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7080" indent="-217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SS-14_TOP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7080" indent="-217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pocentric fr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122880" y="4316400"/>
            <a:ext cx="7556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444840" y="5956200"/>
            <a:ext cx="92088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994520" y="2908440"/>
            <a:ext cx="116208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55000"/>
          </a:bodyPr>
          <a:p>
            <a:pPr marL="156960" indent="-156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X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6960" indent="-156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ccul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07120" y="1550880"/>
            <a:ext cx="153036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9000"/>
          </a:bodyPr>
          <a:p>
            <a:pPr marL="282960" indent="-282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X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2960" indent="-282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isi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412280" y="3204360"/>
            <a:ext cx="1283760" cy="50184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rot="2545800">
            <a:off x="2383920" y="3233160"/>
            <a:ext cx="1266840" cy="1137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764" y="4777"/>
                </a:moveTo>
                <a:arcTo wR="10800" hR="10800" stAng="-2033859" swAng="2033859"/>
                <a:lnTo>
                  <a:pt x="10800" y="10800"/>
                </a:lnTo>
                <a:close/>
              </a:path>
              <a:path fill="none" w="21600" h="21600">
                <a:moveTo>
                  <a:pt x="19764" y="4777"/>
                </a:moveTo>
                <a:arcTo wR="10800" hR="10800" stAng="-2033859" swAng="2033859"/>
              </a:path>
            </a:pathLst>
          </a:custGeom>
          <a:noFill/>
          <a:ln w="57240">
            <a:solidFill>
              <a:srgbClr val="e908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102200" y="4511520"/>
            <a:ext cx="98424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4000"/>
          </a:bodyPr>
          <a:p>
            <a:pPr marL="239760" indent="-2397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lev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39760" indent="-2397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im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3636720" y="4276800"/>
            <a:ext cx="425160" cy="450720"/>
          </a:xfrm>
          <a:prstGeom prst="line">
            <a:avLst/>
          </a:prstGeom>
          <a:ln w="57240">
            <a:solidFill>
              <a:srgbClr val="e9081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rot="2911800">
            <a:off x="2651400" y="3538080"/>
            <a:ext cx="688320" cy="76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46ec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rot="4287000">
            <a:off x="1503720" y="2509200"/>
            <a:ext cx="2574360" cy="892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764" y="4777"/>
                </a:moveTo>
                <a:arcTo wR="10800" hR="10800" stAng="-2033859" swAng="2033859"/>
                <a:lnTo>
                  <a:pt x="10800" y="10800"/>
                </a:lnTo>
                <a:close/>
              </a:path>
              <a:path fill="none" w="21600" h="21600">
                <a:moveTo>
                  <a:pt x="19764" y="4777"/>
                </a:moveTo>
                <a:arcTo wR="10800" hR="10800" stAng="-2033859" swAng="2033859"/>
              </a:path>
            </a:pathLst>
          </a:custGeom>
          <a:noFill/>
          <a:ln w="57240">
            <a:solidFill>
              <a:srgbClr val="e908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41600" y="3800520"/>
            <a:ext cx="9205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DSS-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06840" y="3727440"/>
            <a:ext cx="4510080" cy="1671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927760" y="5425920"/>
            <a:ext cx="287640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8000"/>
          </a:bodyPr>
          <a:p>
            <a:pPr marL="251280" indent="-251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X:  not occulted, bu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51280" indent="-251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low elevation limi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51280" indent="-251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t visib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1920" y="1373040"/>
            <a:ext cx="874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92240" y="29494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a109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430000" y="4606920"/>
            <a:ext cx="42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a109"/>
                </a:solidFill>
                <a:latin typeface="Arial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976480" y="2241720"/>
            <a:ext cx="79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a109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eda109"/>
                </a:solidFill>
                <a:latin typeface="Arial"/>
              </a:rPr>
              <a:t>UP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2CE22D-A2B7-4B10-90D0-93A58CF8E141}" type="slidenum">
              <a:t>3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athaniel Bachman</cp:lastModifiedBy>
  <dcterms:modified xsi:type="dcterms:W3CDTF">2008-10-18T00:07:07Z</dcterms:modified>
  <cp:revision>113</cp:revision>
  <dc:subject/>
  <dc:title>Time Conversion and Formats</dc:title>
</cp:coreProperties>
</file>