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58288" cy="68722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BCD79-0523-43DB-9AC4-4E384BCDF9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3875040" y="-14400"/>
            <a:ext cx="29829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875040" y="8704440"/>
            <a:ext cx="29829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8704440"/>
            <a:ext cx="29811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-14400"/>
            <a:ext cx="29811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57400" y="698400"/>
            <a:ext cx="4543200" cy="340992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896760" y="4352760"/>
            <a:ext cx="5081760" cy="41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F52799-CEAC-4C98-A912-98826454CD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3FAE3B-3D2C-46A3-BE9D-E6FE9565B1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10EE1A-4FBF-47C2-A148-D4B22818FF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8807BE-5704-4CC0-92A2-0D2C10E21C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65F290-751F-48E4-801D-03E8BC2A51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415F09-C671-47ED-82C8-9D1DF63B67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E0A10-1B7A-41D1-BE5D-0923D1FFD0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7BD1AD-EC4F-4F92-83AD-84E549C916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78CCFA-4833-4427-AE4C-18F78A58BE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5EC08F-3183-4350-B3D0-6497D51DE4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1728E4-0EFA-41F4-82B9-C918188B52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DCCEA0-CC08-4F1D-9E6F-D64BBF0D65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395D5-2AB8-4DD2-972C-9D0D45C7C278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-228240" y="182520"/>
            <a:ext cx="2230200" cy="897120"/>
            <a:chOff x="-228240" y="182520"/>
            <a:chExt cx="2230200" cy="897120"/>
          </a:xfrm>
        </p:grpSpPr>
        <p:sp>
          <p:nvSpPr>
            <p:cNvPr id="8" name=""/>
            <p:cNvSpPr/>
            <p:nvPr/>
          </p:nvSpPr>
          <p:spPr>
            <a:xfrm flipH="1">
              <a:off x="1008000" y="326880"/>
              <a:ext cx="125280" cy="12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684" y="19702"/>
                  </a:moveTo>
                  <a:arcTo wR="10800" hR="10800" stAng="7469441" swAng="17318365"/>
                  <a:lnTo>
                    <a:pt x="10800" y="10800"/>
                  </a:lnTo>
                  <a:close/>
                </a:path>
                <a:path fill="none" w="21600" h="21600">
                  <a:moveTo>
                    <a:pt x="4684" y="19702"/>
                  </a:moveTo>
                  <a:arcTo wR="10800" hR="10800" stAng="7469441" swAng="17318365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>
              <a:off x="-227880" y="368280"/>
              <a:ext cx="2208960" cy="518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7267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726747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88840" y="371520"/>
              <a:ext cx="370080" cy="398520"/>
            </a:xfrm>
            <a:custGeom>
              <a:avLst/>
              <a:gdLst/>
              <a:ahLst/>
              <a:rect l="l" t="t" r="r" b="b"/>
              <a:pathLst>
                <a:path w="233" h="251">
                  <a:moveTo>
                    <a:pt x="134" y="0"/>
                  </a:moveTo>
                  <a:lnTo>
                    <a:pt x="95" y="0"/>
                  </a:lnTo>
                  <a:lnTo>
                    <a:pt x="0" y="246"/>
                  </a:lnTo>
                  <a:lnTo>
                    <a:pt x="114" y="35"/>
                  </a:lnTo>
                  <a:lnTo>
                    <a:pt x="233" y="251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08200" y="228564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-228240" y="182520"/>
            <a:ext cx="2230200" cy="897120"/>
            <a:chOff x="-228240" y="182520"/>
            <a:chExt cx="2230200" cy="897120"/>
          </a:xfrm>
        </p:grpSpPr>
        <p:sp>
          <p:nvSpPr>
            <p:cNvPr id="62" name=""/>
            <p:cNvSpPr/>
            <p:nvPr/>
          </p:nvSpPr>
          <p:spPr>
            <a:xfrm flipH="1">
              <a:off x="1008000" y="326880"/>
              <a:ext cx="125280" cy="12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684" y="19702"/>
                  </a:moveTo>
                  <a:arcTo wR="10800" hR="10800" stAng="7469441" swAng="17318365"/>
                  <a:lnTo>
                    <a:pt x="10800" y="10800"/>
                  </a:lnTo>
                  <a:close/>
                </a:path>
                <a:path fill="none" w="21600" h="21600">
                  <a:moveTo>
                    <a:pt x="4684" y="19702"/>
                  </a:moveTo>
                  <a:arcTo wR="10800" hR="10800" stAng="7469441" swAng="17318365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>
              <a:off x="-227880" y="368280"/>
              <a:ext cx="2208960" cy="518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7267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726747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88840" y="371520"/>
              <a:ext cx="370080" cy="398520"/>
            </a:xfrm>
            <a:custGeom>
              <a:avLst/>
              <a:gdLst/>
              <a:ahLst/>
              <a:rect l="l" t="t" r="r" b="b"/>
              <a:pathLst>
                <a:path w="233" h="251">
                  <a:moveTo>
                    <a:pt x="134" y="0"/>
                  </a:moveTo>
                  <a:lnTo>
                    <a:pt x="95" y="0"/>
                  </a:lnTo>
                  <a:lnTo>
                    <a:pt x="0" y="246"/>
                  </a:lnTo>
                  <a:lnTo>
                    <a:pt x="114" y="35"/>
                  </a:lnTo>
                  <a:lnTo>
                    <a:pt x="233" y="251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457920" y="1608120"/>
            <a:ext cx="8242200" cy="39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604960" y="3171600"/>
            <a:ext cx="4305600" cy="952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Binary PCK</a:t>
            </a:r>
            <a:br>
              <a:rPr sz="3600"/>
            </a:b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Programming Lesson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374840" y="5668560"/>
            <a:ext cx="6400800" cy="50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May 2007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400480" y="380520"/>
            <a:ext cx="597672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Diagram for “mrotat” Exercise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888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595840" y="3220920"/>
            <a:ext cx="2887920" cy="2911680"/>
          </a:xfrm>
          <a:prstGeom prst="ellipse">
            <a:avLst/>
          </a:prstGeom>
          <a:gradFill rotWithShape="0">
            <a:gsLst>
              <a:gs pos="0">
                <a:srgbClr val="10286c"/>
              </a:gs>
              <a:gs pos="100000">
                <a:srgbClr val="2357eb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36147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47840" y="2106720"/>
            <a:ext cx="2401560" cy="2392200"/>
          </a:xfrm>
          <a:prstGeom prst="ellipse">
            <a:avLst/>
          </a:prstGeom>
          <a:gradFill rotWithShape="0">
            <a:gsLst>
              <a:gs pos="0">
                <a:srgbClr val="e9f7b1"/>
              </a:gs>
              <a:gs pos="100000">
                <a:srgbClr val="6b7151"/>
              </a:gs>
            </a:gsLst>
            <a:lin ang="10800000"/>
          </a:gradFill>
          <a:ln w="12600">
            <a:solidFill>
              <a:srgbClr val="000000"/>
            </a:solidFill>
            <a:miter/>
          </a:ln>
          <a:effectLst>
            <a:outerShdw dist="36147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16040" y="3319560"/>
            <a:ext cx="5451480" cy="1396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1635120" y="2084040"/>
            <a:ext cx="7920" cy="1227240"/>
          </a:xfrm>
          <a:prstGeom prst="line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785160" y="3318120"/>
            <a:ext cx="831960" cy="634680"/>
          </a:xfrm>
          <a:prstGeom prst="line">
            <a:avLst/>
          </a:prstGeom>
          <a:ln w="12600">
            <a:solidFill>
              <a:srgbClr val="fc0128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619640" y="3314160"/>
            <a:ext cx="1178640" cy="128160"/>
          </a:xfrm>
          <a:prstGeom prst="line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874200">
            <a:off x="2797200" y="3566520"/>
            <a:ext cx="308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on-Earth position v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65320" y="1800000"/>
            <a:ext cx="384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xes of lunar body-fixed referenc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rot="792000">
            <a:off x="2647440" y="4071240"/>
            <a:ext cx="271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-Earth point on Mo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641680" y="3549600"/>
            <a:ext cx="152280" cy="1461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634800" y="2670840"/>
            <a:ext cx="7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r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213200" y="4675680"/>
            <a:ext cx="8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FB5DE1-A538-4E84-B74E-7E82E8EDEC3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19240" y="2830680"/>
            <a:ext cx="2401920" cy="2392200"/>
          </a:xfrm>
          <a:prstGeom prst="ellipse">
            <a:avLst/>
          </a:prstGeom>
          <a:gradFill rotWithShape="0">
            <a:gsLst>
              <a:gs pos="0">
                <a:srgbClr val="546fe8"/>
              </a:gs>
              <a:gs pos="100000">
                <a:srgbClr val="26336a"/>
              </a:gs>
            </a:gsLst>
            <a:lin ang="81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11920" y="2397240"/>
            <a:ext cx="1150920" cy="1135080"/>
          </a:xfrm>
          <a:prstGeom prst="ellipse">
            <a:avLst/>
          </a:prstGeom>
          <a:gradFill rotWithShape="0">
            <a:gsLst>
              <a:gs pos="0">
                <a:srgbClr val="6b7151"/>
              </a:gs>
              <a:gs pos="100000">
                <a:srgbClr val="e9f7b1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36147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570040" y="380520"/>
            <a:ext cx="563904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Diagram for erotat” Exercise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888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094440" y="4403880"/>
            <a:ext cx="1735200" cy="1650960"/>
          </a:xfrm>
          <a:prstGeom prst="ellipse">
            <a:avLst/>
          </a:prstGeom>
          <a:solidFill>
            <a:srgbClr val="ecd81b"/>
          </a:solidFill>
          <a:ln w="12600">
            <a:solidFill>
              <a:srgbClr val="000000"/>
            </a:solidFill>
            <a:miter/>
          </a:ln>
          <a:effectLst>
            <a:outerShdw dist="36147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2268360" y="2990880"/>
            <a:ext cx="5126040" cy="1092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2263680" y="2901960"/>
            <a:ext cx="15840" cy="1168560"/>
          </a:xfrm>
          <a:prstGeom prst="line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1418760" y="4079880"/>
            <a:ext cx="849600" cy="694080"/>
          </a:xfrm>
          <a:prstGeom prst="line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3480" y="4077000"/>
            <a:ext cx="1187640" cy="162720"/>
          </a:xfrm>
          <a:prstGeom prst="line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rot="20886600">
            <a:off x="3946680" y="3410640"/>
            <a:ext cx="308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-Moon position v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09520" y="5186520"/>
            <a:ext cx="3052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xes of Earth-centered body-fixed referenc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3495240" y="4448520"/>
            <a:ext cx="3455280" cy="76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84640" y="4334040"/>
            <a:ext cx="152280" cy="145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973920" y="400752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70520" y="2923200"/>
            <a:ext cx="7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r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537720" y="4118400"/>
            <a:ext cx="210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b-solar point on Ear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034760" y="1961280"/>
            <a:ext cx="8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 flipV="1">
            <a:off x="2277000" y="2658240"/>
            <a:ext cx="531720" cy="433440"/>
          </a:xfrm>
          <a:prstGeom prst="line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2815200" y="2608200"/>
            <a:ext cx="490680" cy="479160"/>
          </a:xfrm>
          <a:prstGeom prst="line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811960" y="3090960"/>
            <a:ext cx="5400" cy="479160"/>
          </a:xfrm>
          <a:prstGeom prst="line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011400" y="1550160"/>
            <a:ext cx="2467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xes of topocentric body-fixed reference frame DSS-13_TO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2811600" y="2916000"/>
            <a:ext cx="4554360" cy="166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264760" y="229464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SS-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rot="21499200">
            <a:off x="4286520" y="2715480"/>
            <a:ext cx="217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SS-13-Moon position v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822400" y="3098880"/>
            <a:ext cx="659160" cy="372960"/>
          </a:xfrm>
          <a:prstGeom prst="line">
            <a:avLst/>
          </a:prstGeom>
          <a:ln w="12600">
            <a:solidFill>
              <a:srgbClr val="00dfc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rot="2368800">
            <a:off x="2629440" y="2738880"/>
            <a:ext cx="607680" cy="435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978" y="19173"/>
                </a:moveTo>
                <a:arcTo wR="10800" hR="10800" stAng="7750396" swAng="15129905"/>
                <a:lnTo>
                  <a:pt x="10800" y="10800"/>
                </a:lnTo>
                <a:close/>
              </a:path>
              <a:path fill="none" w="21600" h="21600">
                <a:moveTo>
                  <a:pt x="3978" y="19173"/>
                </a:moveTo>
                <a:arcTo wR="10800" hR="10800" stAng="7750396" swAng="15129905"/>
              </a:path>
            </a:pathLst>
          </a:custGeom>
          <a:noFill/>
          <a:ln w="1260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140640" y="2734200"/>
            <a:ext cx="82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zimu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rot="3773400">
            <a:off x="3035520" y="2886840"/>
            <a:ext cx="548640" cy="58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2600">
            <a:solidFill>
              <a:srgbClr val="fc012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581640" y="3207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EEA3DB-64D8-4AB9-8CE8-C2950E3088A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athaniel Bachman</cp:lastModifiedBy>
  <cp:lastPrinted>2004-04-30T20:29:12Z</cp:lastPrinted>
  <dcterms:modified xsi:type="dcterms:W3CDTF">2007-05-19T05:12:23Z</dcterms:modified>
  <cp:revision>123</cp:revision>
  <dc:subject/>
  <dc:title>Preview of Coming Attractions</dc:title>
</cp:coreProperties>
</file>