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14E7-42D9-40CA-9536-D1ACEA745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A545-1B8E-4B8C-8D8C-74601EEF3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F009-8D34-42D9-8C83-786BA43ED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4B60-8762-4F1C-9017-45450D99A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1935-0335-45BA-9425-E6B3B4A93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5D8F-B37A-4287-A3AC-2D50FDAFC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05D2-ACFD-45AC-8CBA-EEAA06FE6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9B240-6469-4697-A75B-4A20D31F6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7E83-018A-4894-B9F7-1F6B59F46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64BC-6834-4E40-A400-BACC4908F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6928-A9AA-4DDE-8C97-A1F340FE1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3007-D5DC-4260-AA76-70F44DC36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F78B-3161-442A-90A6-55F314296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FBBA-ECD7-4617-BC89-52A8A2CDC9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inary PCK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00480" y="380520"/>
            <a:ext cx="5976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m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95840" y="3220920"/>
            <a:ext cx="2887920" cy="2911680"/>
          </a:xfrm>
          <a:prstGeom prst="ellipse">
            <a:avLst/>
          </a:prstGeom>
          <a:gradFill rotWithShape="0">
            <a:gsLst>
              <a:gs pos="0">
                <a:srgbClr val="10286c"/>
              </a:gs>
              <a:gs pos="100000">
                <a:srgbClr val="2357eb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2106720"/>
            <a:ext cx="2401560" cy="2392200"/>
          </a:xfrm>
          <a:prstGeom prst="ellipse">
            <a:avLst/>
          </a:prstGeom>
          <a:gradFill rotWithShape="0">
            <a:gsLst>
              <a:gs pos="0">
                <a:srgbClr val="e9f7b1"/>
              </a:gs>
              <a:gs pos="100000">
                <a:srgbClr val="6b7151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6040" y="3319560"/>
            <a:ext cx="5451480" cy="139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635120" y="2084040"/>
            <a:ext cx="7920" cy="12272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5160" y="3318120"/>
            <a:ext cx="831960" cy="634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640" y="3314160"/>
            <a:ext cx="1178640" cy="128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874200">
            <a:off x="2797200" y="356652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-Earth position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320" y="1800000"/>
            <a:ext cx="38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lunar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792000">
            <a:off x="2647440" y="40712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Earth point on M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41680" y="3549600"/>
            <a:ext cx="152280" cy="14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0" y="26708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3200" y="46756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961F-C9F8-477B-A5B9-131A467B37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9240" y="2830680"/>
            <a:ext cx="2401920" cy="2392200"/>
          </a:xfrm>
          <a:prstGeom prst="ellipse">
            <a:avLst/>
          </a:prstGeom>
          <a:gradFill rotWithShape="0">
            <a:gsLst>
              <a:gs pos="0">
                <a:srgbClr val="546fe8"/>
              </a:gs>
              <a:gs pos="100000">
                <a:srgbClr val="26336a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11920" y="2397240"/>
            <a:ext cx="1150920" cy="1135080"/>
          </a:xfrm>
          <a:prstGeom prst="ellipse">
            <a:avLst/>
          </a:prstGeom>
          <a:gradFill rotWithShape="0">
            <a:gsLst>
              <a:gs pos="0">
                <a:srgbClr val="6b7151"/>
              </a:gs>
              <a:gs pos="100000">
                <a:srgbClr val="e9f7b1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70040" y="380520"/>
            <a:ext cx="5639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e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440" y="4403880"/>
            <a:ext cx="1735200" cy="1650960"/>
          </a:xfrm>
          <a:prstGeom prst="ellipse">
            <a:avLst/>
          </a:prstGeom>
          <a:solidFill>
            <a:srgbClr val="ecd81b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68360" y="2990880"/>
            <a:ext cx="5126040" cy="10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263680" y="2901960"/>
            <a:ext cx="15840" cy="1168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418760" y="4079880"/>
            <a:ext cx="849600" cy="694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3480" y="4077000"/>
            <a:ext cx="1187640" cy="1627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886600">
            <a:off x="3946680" y="3410640"/>
            <a:ext cx="30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9520" y="5186520"/>
            <a:ext cx="305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Earth-centered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495240" y="4448520"/>
            <a:ext cx="345528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84640" y="4334040"/>
            <a:ext cx="152280" cy="14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3920" y="40075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0520" y="29232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37720" y="4118400"/>
            <a:ext cx="21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solar point on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4760" y="1961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77000" y="2658240"/>
            <a:ext cx="531720" cy="4334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815200" y="2608200"/>
            <a:ext cx="49068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1960" y="3090960"/>
            <a:ext cx="540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1400" y="1550160"/>
            <a:ext cx="24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topocentric body-fixed reference frame DSS-13_TO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11600" y="2916000"/>
            <a:ext cx="4554360" cy="1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64760" y="2294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S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1499200">
            <a:off x="4286520" y="271548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S-13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22400" y="3098880"/>
            <a:ext cx="659160" cy="372960"/>
          </a:xfrm>
          <a:prstGeom prst="line">
            <a:avLst/>
          </a:prstGeom>
          <a:ln w="12600">
            <a:solidFill>
              <a:srgbClr val="00df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368800">
            <a:off x="2629440" y="2738880"/>
            <a:ext cx="60768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78" y="19173"/>
                </a:moveTo>
                <a:arcTo wR="10800" hR="10800" stAng="7750396" swAng="15129905"/>
                <a:lnTo>
                  <a:pt x="10800" y="10800"/>
                </a:lnTo>
                <a:close/>
              </a:path>
              <a:path fill="none" w="21600" h="21600">
                <a:moveTo>
                  <a:pt x="3978" y="19173"/>
                </a:moveTo>
                <a:arcTo wR="10800" hR="10800" stAng="7750396" swAng="15129905"/>
              </a:path>
            </a:pathLst>
          </a:custGeom>
          <a:noFill/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40640" y="27342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im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3773400">
            <a:off x="3035520" y="2886840"/>
            <a:ext cx="548640" cy="58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640" y="3207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8BC8-2603-42E6-B742-5BBA4B4A10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niel Bachman</cp:lastModifiedBy>
  <cp:lastPrinted>2004-04-30T20:29:12Z</cp:lastPrinted>
  <dcterms:modified xsi:type="dcterms:W3CDTF">2007-05-19T05:12:23Z</dcterms:modified>
  <cp:revision>123</cp:revision>
  <dc:subject/>
  <dc:title>Preview of Coming Attractions</dc:title>
</cp:coreProperties>
</file>