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8C4AAF-34F2-4F43-AF0F-7AB555F9A8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153B76-142D-4F62-94D0-0F70E972BF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8241F-11B9-4167-8387-B24A494B6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4789A5-782F-4610-9385-8F11C3F11B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EB937-E2BB-4374-BA30-B49757DB1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8714A-BFFA-427B-894F-2800217EE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81EF0-91CA-4A85-BF82-188940651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27169E-93F3-4102-AC2A-243400233B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D7520-D813-46C0-B0BD-67AFBFD14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9C2A3-36A5-47DC-88AE-E87EA24AE6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AEA9A-5AAC-417E-B47E-262D163FB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AC104-BF1A-4429-A800-A63241C317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A313-1742-4C2F-87D2-5B2D653532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680" y="2271240"/>
            <a:ext cx="6121440" cy="1005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ynamic Reference Frame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28280" y="1279080"/>
            <a:ext cx="8064360" cy="5340600"/>
          </a:xfrm>
          <a:prstGeom prst="rect">
            <a:avLst/>
          </a:prstGeom>
          <a:noFill/>
          <a:ln w="0">
            <a:noFill/>
          </a:ln>
        </p:spPr>
        <p:txBody>
          <a:bodyPr lIns="90360" rIns="90360" tIns="44280" bIns="44280" anchor="t">
            <a:normAutofit/>
          </a:bodyPr>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e say that a vector is "aligned" with another vector, we mean that the angular separation between the two vectors is zero.</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use the terms "defining a frame" and "specifying a frame" interchangeably.  Both refer to creating a frame definition in a frame kernel.</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definitions:</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m "API" stands for "Application Programming Interface."  This term refers to the set of SPICE routines that are intended to be called directly by SPICE-based program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ation </a:t>
            </a: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cates a frame rotation of theta radians about axis n, where n is one of {1, 2, 3}.  This transformation rotates vectors by –theta radians about axis n.</a:t>
            </a:r>
            <a:endParaRPr b="1" lang="en-US" sz="2000" spc="-1" strike="noStrike">
              <a:solidFill>
                <a:srgbClr val="000000"/>
              </a:solidFill>
              <a:latin typeface="Arial"/>
            </a:endParaRPr>
          </a:p>
        </p:txBody>
      </p:sp>
      <p:sp>
        <p:nvSpPr>
          <p:cNvPr id="133" name="PlaceHolder 2"/>
          <p:cNvSpPr>
            <a:spLocks noGrp="1"/>
          </p:cNvSpPr>
          <p:nvPr>
            <p:ph type="title"/>
          </p:nvPr>
        </p:nvSpPr>
        <p:spPr>
          <a:xfrm>
            <a:off x="3785760" y="380520"/>
            <a:ext cx="3148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3</a:t>
            </a:r>
            <a:endParaRPr b="1" lang="en-US" sz="3200" spc="-1" strike="noStrike">
              <a:solidFill>
                <a:srgbClr val="081d58"/>
              </a:solidFill>
              <a:latin typeface="Arial"/>
            </a:endParaRPr>
          </a:p>
        </p:txBody>
      </p:sp>
      <p:sp>
        <p:nvSpPr>
          <p:cNvPr id="134" name=""/>
          <p:cNvSpPr/>
          <p:nvPr/>
        </p:nvSpPr>
        <p:spPr>
          <a:xfrm>
            <a:off x="1622520" y="4849920"/>
            <a:ext cx="2651040" cy="57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heta]</a:t>
            </a:r>
            <a:r>
              <a:rPr b="1" lang="en-US" sz="2800" spc="-1" strike="noStrike" baseline="-40000">
                <a:solidFill>
                  <a:srgbClr val="000000"/>
                </a:solidFill>
                <a:latin typeface="Courier New"/>
              </a:rPr>
              <a:t>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BE82E40-F143-46C2-ABEE-3E78960378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41440" y="1179000"/>
            <a:ext cx="8339040" cy="560556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ized dynamic frames</a:t>
            </a:r>
            <a:endParaRPr b="1" lang="en-US" sz="28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only frame definition style currently supported by the dynamic frames subsystem.</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versions of SPICE might support additional styles.</a:t>
            </a:r>
            <a:endParaRPr b="1" lang="en-US" sz="20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s are defined via parameterized formula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implementing the formulas is built into SPICE.</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rameters are specified in a frame kernel.</a:t>
            </a:r>
            <a:endParaRPr b="1" lang="en-US" sz="20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ized dynamic frames</a:t>
            </a:r>
            <a:r>
              <a:rPr b="1" lang="en-US" sz="1800" spc="-1" strike="noStrike">
                <a:solidFill>
                  <a:srgbClr val="000000"/>
                </a:solidFill>
                <a:latin typeface="Arial"/>
              </a:rPr>
              <a:t> </a:t>
            </a:r>
            <a:r>
              <a:rPr b="1" lang="en-US" sz="2000" spc="-1" strike="noStrike">
                <a:solidFill>
                  <a:srgbClr val="000000"/>
                </a:solidFill>
                <a:latin typeface="Arial"/>
              </a:rPr>
              <a:t>are grouped into frame "families".  Each family corresponds to a distinct, parameterized geometric formula providing a frame definition. The families are:</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Vector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Equator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ler Frames</a:t>
            </a:r>
            <a:endParaRPr b="1" lang="en-US" sz="2000" spc="-1" strike="noStrike">
              <a:solidFill>
                <a:srgbClr val="000000"/>
              </a:solidFill>
              <a:latin typeface="Arial"/>
            </a:endParaRPr>
          </a:p>
        </p:txBody>
      </p:sp>
      <p:sp>
        <p:nvSpPr>
          <p:cNvPr id="136" name="PlaceHolder 2"/>
          <p:cNvSpPr>
            <a:spLocks noGrp="1"/>
          </p:cNvSpPr>
          <p:nvPr>
            <p:ph type="title"/>
          </p:nvPr>
        </p:nvSpPr>
        <p:spPr>
          <a:xfrm>
            <a:off x="1941480" y="380520"/>
            <a:ext cx="6851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04173FA8-466E-4860-85B4-735F4D20C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99840" y="1327320"/>
            <a:ext cx="8064360" cy="5543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Parameterized Dynamic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ized Dynamic frames are defined using "keyword=value" assignments in a frame kernel.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items must be specified in the frame definition:</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nam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ID code </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ange 1400000-2000000 is reserved for people outside of the NAIF group</a:t>
            </a:r>
            <a:endParaRPr b="1" lang="en-US" sz="16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5 for dynamic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D code (=frame ID code for dynamic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center (=NAIF ID code for central bod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definition style (='PARAMETERIZ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frame</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definition specifies mapping from dynamic frame to the base fram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famil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specific assignments</a:t>
            </a:r>
            <a:endParaRPr b="1" lang="en-US" sz="1800" spc="-1" strike="noStrike">
              <a:solidFill>
                <a:srgbClr val="000000"/>
              </a:solidFill>
              <a:latin typeface="Arial"/>
            </a:endParaRPr>
          </a:p>
        </p:txBody>
      </p:sp>
      <p:sp>
        <p:nvSpPr>
          <p:cNvPr id="138" name="PlaceHolder 2"/>
          <p:cNvSpPr>
            <a:spLocks noGrp="1"/>
          </p:cNvSpPr>
          <p:nvPr>
            <p:ph type="title"/>
          </p:nvPr>
        </p:nvSpPr>
        <p:spPr>
          <a:xfrm>
            <a:off x="1929960" y="380520"/>
            <a:ext cx="6851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0DD99BF-366D-4067-A92A-C432ECEB4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4880" y="1241280"/>
            <a:ext cx="8862840" cy="54864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ion state </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sible states are 'ROTATING' and 'INERTIA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is treated as rotating or inertial for the purpose of velocity transformations.</a:t>
            </a:r>
            <a:endParaRPr b="1" lang="en-US" sz="20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dynamic frame rotation state is 'ROTATING'.</a:t>
            </a:r>
            <a:r>
              <a:rPr b="1" lang="en-US" sz="2400" spc="-1" strike="noStrike">
                <a:solidFill>
                  <a:srgbClr val="000000"/>
                </a:solidFill>
                <a:latin typeface="Arial"/>
              </a:rPr>
              <a:t>  </a:t>
            </a:r>
            <a:endParaRPr b="1" lang="en-US" sz="24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otating two-vector and Euler frames, the rotation state assignment can be omitted from the frame definition.</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of-date" frames, the frame definition must either specify the rotation state or designate the frame as "frozen" at a specified epoch.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ze epoc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ce of this optional assignment in a frame kernel indicates that the frame orientation, relative to the base frame, is held constant ("frozen") at the specified epoc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ynamic frames are not frozen.</a:t>
            </a:r>
            <a:endParaRPr b="1" lang="en-US" sz="2000" spc="-1" strike="noStrike">
              <a:solidFill>
                <a:srgbClr val="000000"/>
              </a:solidFill>
              <a:latin typeface="Arial"/>
            </a:endParaRPr>
          </a:p>
        </p:txBody>
      </p:sp>
      <p:sp>
        <p:nvSpPr>
          <p:cNvPr id="140" name="PlaceHolder 2"/>
          <p:cNvSpPr>
            <a:spLocks noGrp="1"/>
          </p:cNvSpPr>
          <p:nvPr>
            <p:ph type="title"/>
          </p:nvPr>
        </p:nvSpPr>
        <p:spPr>
          <a:xfrm>
            <a:off x="1929960" y="380520"/>
            <a:ext cx="6851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43933064-583F-4155-B8C3-3861C81D2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4720" y="1362240"/>
            <a:ext cx="8453520" cy="5479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vector frames are defined using two time-dependent vectors:   the "primary" and "secondary" vector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of the primary and secondary vectors may be defined by a variety of geometric means.  Each vector may be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near point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locity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r associates specified positive or negative axes of the two-vector frame with the primary and secondary vector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s are always right-handed and have orthogonal axes, so two non-parallel vectors and associations of axes with these vectors suffice to define the orientation of a frame.</a:t>
            </a:r>
            <a:endParaRPr b="1" lang="en-US" sz="1800" spc="-1" strike="noStrike">
              <a:solidFill>
                <a:srgbClr val="000000"/>
              </a:solidFill>
              <a:latin typeface="Arial"/>
            </a:endParaRPr>
          </a:p>
        </p:txBody>
      </p:sp>
      <p:sp>
        <p:nvSpPr>
          <p:cNvPr id="142"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9341E73-84A0-488E-B8A7-276895D1F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50520" y="1349280"/>
            <a:ext cx="8077320" cy="3276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Vec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ed positive or negative</a:t>
            </a:r>
            <a:r>
              <a:rPr b="1" lang="en-US" sz="1600" spc="-1" strike="noStrike">
                <a:solidFill>
                  <a:srgbClr val="000000"/>
                </a:solidFill>
                <a:latin typeface="Arial"/>
              </a:rPr>
              <a:t> </a:t>
            </a:r>
            <a:r>
              <a:rPr b="1" lang="en-US" sz="1800" spc="-1" strike="noStrike">
                <a:solidFill>
                  <a:srgbClr val="000000"/>
                </a:solidFill>
                <a:latin typeface="Arial"/>
              </a:rPr>
              <a:t>axis of the two-vector frame is aligned with this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kernel creator assigns to this vector one of the axis designations     { +X, -X, +Y, -Y, +Z, -Z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egrees of freedom of the frame orientation are removed by association of an axis with the primary vector.  The third degree of freedom is the frame's rotation about the primary vect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 frame's -X axis is aligned with the primary vecto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2</a:t>
            </a:r>
            <a:endParaRPr b="1" lang="en-US" sz="3200" spc="-1" strike="noStrike">
              <a:solidFill>
                <a:srgbClr val="081d58"/>
              </a:solidFill>
              <a:latin typeface="Arial"/>
            </a:endParaRPr>
          </a:p>
        </p:txBody>
      </p:sp>
      <p:grpSp>
        <p:nvGrpSpPr>
          <p:cNvPr id="145" name=""/>
          <p:cNvGrpSpPr/>
          <p:nvPr/>
        </p:nvGrpSpPr>
        <p:grpSpPr>
          <a:xfrm>
            <a:off x="1749600" y="4240080"/>
            <a:ext cx="4839840" cy="2301480"/>
            <a:chOff x="1749600" y="4240080"/>
            <a:chExt cx="4839840" cy="2301480"/>
          </a:xfrm>
        </p:grpSpPr>
        <p:sp>
          <p:nvSpPr>
            <p:cNvPr id="146" name=""/>
            <p:cNvSpPr/>
            <p:nvPr/>
          </p:nvSpPr>
          <p:spPr>
            <a:xfrm flipH="1" flipV="1">
              <a:off x="4073400" y="4809600"/>
              <a:ext cx="2017440" cy="17319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900680" y="5524560"/>
              <a:ext cx="712440" cy="615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4927680" y="4643280"/>
              <a:ext cx="299520" cy="88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3975120" y="5389200"/>
              <a:ext cx="941040" cy="150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9600600">
              <a:off x="5112360" y="5671800"/>
              <a:ext cx="765720" cy="653760"/>
            </a:xfrm>
            <a:custGeom>
              <a:avLst/>
              <a:gdLst/>
              <a:ahLst/>
              <a:rect l="l" t="t" r="r" b="b"/>
              <a:pathLst>
                <a:path stroke="0" w="21600" h="21600">
                  <a:moveTo>
                    <a:pt x="16985" y="1946"/>
                  </a:moveTo>
                  <a:arcTo wR="10800" hR="10800" stAng="-3303754" swAng="14583337"/>
                  <a:lnTo>
                    <a:pt x="10800" y="10800"/>
                  </a:lnTo>
                  <a:close/>
                </a:path>
                <a:path fill="none" w="21600" h="21600">
                  <a:moveTo>
                    <a:pt x="16985" y="1946"/>
                  </a:moveTo>
                  <a:arcTo wR="10800" hR="10800" stAng="-3303754" swAng="14583337"/>
                </a:path>
              </a:pathLst>
            </a:custGeom>
            <a:noFill/>
            <a:ln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925960" y="581040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5122800" y="424008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Times New Roman"/>
              </a:endParaRPr>
            </a:p>
          </p:txBody>
        </p:sp>
        <p:sp>
          <p:nvSpPr>
            <p:cNvPr id="153" name=""/>
            <p:cNvSpPr/>
            <p:nvPr/>
          </p:nvSpPr>
          <p:spPr>
            <a:xfrm>
              <a:off x="3537000" y="517536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Times New Roman"/>
              </a:endParaRPr>
            </a:p>
          </p:txBody>
        </p:sp>
        <p:sp>
          <p:nvSpPr>
            <p:cNvPr id="154" name=""/>
            <p:cNvSpPr/>
            <p:nvPr/>
          </p:nvSpPr>
          <p:spPr>
            <a:xfrm>
              <a:off x="1749600" y="4595760"/>
              <a:ext cx="275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mary Vector</a:t>
              </a:r>
              <a:endParaRPr b="0" lang="en-US" sz="2400" spc="-1" strike="noStrike">
                <a:solidFill>
                  <a:srgbClr val="000000"/>
                </a:solidFill>
                <a:latin typeface="Times New Roman"/>
              </a:endParaRPr>
            </a:p>
          </p:txBody>
        </p:sp>
        <p:sp>
          <p:nvSpPr>
            <p:cNvPr id="155" name=""/>
            <p:cNvSpPr/>
            <p:nvPr/>
          </p:nvSpPr>
          <p:spPr>
            <a:xfrm>
              <a:off x="4222800" y="444024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1818F15-CD1F-45B9-AC0B-4D942AEABF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7360" y="1240920"/>
            <a:ext cx="8540640" cy="3327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Vec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2000" spc="-1" strike="noStrike">
                <a:solidFill>
                  <a:srgbClr val="000000"/>
                </a:solidFill>
                <a:latin typeface="Arial"/>
              </a:rPr>
              <a:t> </a:t>
            </a:r>
            <a:r>
              <a:rPr b="1" lang="en-US" sz="1800" spc="-1" strike="noStrike">
                <a:solidFill>
                  <a:srgbClr val="000000"/>
                </a:solidFill>
                <a:latin typeface="Arial"/>
              </a:rPr>
              <a:t>specified positive or negative axis of the two-vector frame is aligned with the component of the secondary vector orthogonal to the primary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kernel creator associates with this vector one of the axis designations { +X, -X, +Y, -Y, +Z, -Z }, where the axis is orthogonal to that associated with the primary vect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continued:  the frame's +Y axis is associated with the secondary vector.  The component of the secondary vector orthogonal to the primary vector is aligned with the frame's +Y axis.  The secondary vector thus lies in the frame's X-Y plane.</a:t>
            </a:r>
            <a:endParaRPr b="1" lang="en-US" sz="1800" spc="-1" strike="noStrike">
              <a:solidFill>
                <a:srgbClr val="000000"/>
              </a:solidFill>
              <a:latin typeface="Arial"/>
            </a:endParaRPr>
          </a:p>
        </p:txBody>
      </p:sp>
      <p:sp>
        <p:nvSpPr>
          <p:cNvPr id="157" name="PlaceHolder 2"/>
          <p:cNvSpPr>
            <a:spLocks noGrp="1"/>
          </p:cNvSpPr>
          <p:nvPr>
            <p:ph type="title"/>
          </p:nvPr>
        </p:nvSpPr>
        <p:spPr>
          <a:xfrm>
            <a:off x="2250720" y="317520"/>
            <a:ext cx="622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3</a:t>
            </a:r>
            <a:endParaRPr b="1" lang="en-US" sz="3200" spc="-1" strike="noStrike">
              <a:solidFill>
                <a:srgbClr val="081d58"/>
              </a:solidFill>
              <a:latin typeface="Arial"/>
            </a:endParaRPr>
          </a:p>
        </p:txBody>
      </p:sp>
      <p:sp>
        <p:nvSpPr>
          <p:cNvPr id="158" name=""/>
          <p:cNvSpPr/>
          <p:nvPr/>
        </p:nvSpPr>
        <p:spPr>
          <a:xfrm flipH="1" flipV="1">
            <a:off x="2638080" y="4943160"/>
            <a:ext cx="2017800" cy="17319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65360" y="5657760"/>
            <a:ext cx="712800" cy="615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492360" y="4776480"/>
            <a:ext cx="300240" cy="88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2539800" y="5522400"/>
            <a:ext cx="941400" cy="150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86080" y="5842080"/>
            <a:ext cx="663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3" name=""/>
          <p:cNvSpPr/>
          <p:nvPr/>
        </p:nvSpPr>
        <p:spPr>
          <a:xfrm>
            <a:off x="3716280" y="457344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Times New Roman"/>
            </a:endParaRPr>
          </a:p>
        </p:txBody>
      </p:sp>
      <p:sp>
        <p:nvSpPr>
          <p:cNvPr id="164" name=""/>
          <p:cNvSpPr/>
          <p:nvPr/>
        </p:nvSpPr>
        <p:spPr>
          <a:xfrm>
            <a:off x="2101680" y="5308560"/>
            <a:ext cx="663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Times New Roman"/>
            </a:endParaRPr>
          </a:p>
        </p:txBody>
      </p:sp>
      <p:sp>
        <p:nvSpPr>
          <p:cNvPr id="165" name=""/>
          <p:cNvSpPr/>
          <p:nvPr/>
        </p:nvSpPr>
        <p:spPr>
          <a:xfrm>
            <a:off x="314280" y="4729320"/>
            <a:ext cx="275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mary Vector</a:t>
            </a:r>
            <a:endParaRPr b="0" lang="en-US" sz="2400" spc="-1" strike="noStrike">
              <a:solidFill>
                <a:srgbClr val="000000"/>
              </a:solidFill>
              <a:latin typeface="Times New Roman"/>
            </a:endParaRPr>
          </a:p>
        </p:txBody>
      </p:sp>
      <p:sp>
        <p:nvSpPr>
          <p:cNvPr id="166" name=""/>
          <p:cNvSpPr/>
          <p:nvPr/>
        </p:nvSpPr>
        <p:spPr>
          <a:xfrm flipV="1">
            <a:off x="3497400" y="5573520"/>
            <a:ext cx="1552320" cy="106200"/>
          </a:xfrm>
          <a:prstGeom prst="line">
            <a:avLst/>
          </a:prstGeom>
          <a:ln w="57240">
            <a:solidFill>
              <a:srgbClr val="5054f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84560" y="4970520"/>
            <a:ext cx="3016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econdary Vector</a:t>
            </a:r>
            <a:endParaRPr b="0" lang="en-US" sz="2400" spc="-1" strike="noStrike">
              <a:solidFill>
                <a:srgbClr val="000000"/>
              </a:solidFill>
              <a:latin typeface="Times New Roman"/>
            </a:endParaRPr>
          </a:p>
        </p:txBody>
      </p:sp>
      <p:sp>
        <p:nvSpPr>
          <p:cNvPr id="168" name=""/>
          <p:cNvSpPr/>
          <p:nvPr/>
        </p:nvSpPr>
        <p:spPr>
          <a:xfrm flipV="1">
            <a:off x="4651200" y="5584680"/>
            <a:ext cx="390600" cy="1106640"/>
          </a:xfrm>
          <a:prstGeom prst="line">
            <a:avLst/>
          </a:prstGeom>
          <a:ln w="57240">
            <a:solidFill>
              <a:srgbClr val="5054fa"/>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4482000">
            <a:off x="4345200" y="6274440"/>
            <a:ext cx="501840" cy="322200"/>
          </a:xfrm>
          <a:prstGeom prst="diamond">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2801880" y="468792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5105520" y="5562720"/>
            <a:ext cx="3773520" cy="1057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omponent of secondary vector orthogonal to primary vecto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6967CA83-CE67-44E5-B8E9-5B01C1B83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06080" y="1355400"/>
            <a:ext cx="8464680" cy="523404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Vector, continued</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the secondary vector itself is not orthogonal to the primary vector.</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condary vector must be linearly independent of the primary vecto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degenerate geometry can lead to extreme loss of precis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oblem can be difficult to diagnos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 enforces independence using a default angular separation tolerance of 1 milliradian. The angular separation of the primary and secondary vectors may not differ from 0 or Pi radians by less than this toleranc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rame kernel creator can specify a different tolerance value.  The frame kernel assignment for this is:</a:t>
            </a:r>
            <a:endParaRPr b="1" lang="en-US" sz="1800" spc="-1" strike="noStrike">
              <a:solidFill>
                <a:srgbClr val="000000"/>
              </a:solidFill>
              <a:latin typeface="Arial"/>
            </a:endParaRPr>
          </a:p>
          <a:p>
            <a:pPr lvl="3" marL="154296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lt;frame_ID&gt;_ANGLE_SEP_TOL = &lt;tolerance&gt; </a:t>
            </a:r>
            <a:endParaRPr b="1" lang="en-US" sz="14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the tolerance is given in radians.</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ers of two-vector frames should ensure that the primary and secondary vectors can't become nearly parallel for any realistic evaluation epoch.</a:t>
            </a:r>
            <a:endParaRPr b="1" lang="en-US" sz="2000" spc="-1" strike="noStrike">
              <a:solidFill>
                <a:srgbClr val="000000"/>
              </a:solidFill>
              <a:latin typeface="Arial"/>
            </a:endParaRPr>
          </a:p>
        </p:txBody>
      </p:sp>
      <p:sp>
        <p:nvSpPr>
          <p:cNvPr id="173"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4</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21B36E8-1CF5-4054-B9DA-5384393A6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91920" y="1204920"/>
            <a:ext cx="7918200" cy="55166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 Vector</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by the position of one ephemeris object relative to another.  The frame kernel creator specifi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2000" spc="-1" strike="noStrike">
                <a:solidFill>
                  <a:srgbClr val="000000"/>
                </a:solidFill>
                <a:latin typeface="Arial"/>
              </a:rPr>
              <a:t>	</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ctor may optionally be corrected for light time and stellar aberration.</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at which the position vector is computed is supplied via a call to a SPICE API routin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input to an SPK routine, e.g. SPKEZR, SPKPO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input to a frame system routine, e.g. SXFORM, PXFOR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erence frame relative to which the vector is expressed is not specified by the frame kernel creato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utomatically selects this frame.</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5</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666C62E-0270-4BAE-8813-5BAC2EF01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99520" y="1213920"/>
            <a:ext cx="8597880" cy="572796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 Near Point Vector</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as the vector from an observer to the nearest point on a specified extended target body to that observer. The frame kernel creator specifi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1800" spc="-1" strike="noStrike">
                <a:solidFill>
                  <a:srgbClr val="000000"/>
                </a:solidFill>
                <a:latin typeface="Arial"/>
              </a:rPr>
              <a:t>	</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ctor may optionally be corrected for light time and stellar aberrat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light time correction is used, both the position and orientation of the</a:t>
            </a:r>
            <a:r>
              <a:rPr b="1" lang="en-US" sz="1600" spc="-1" strike="noStrike">
                <a:solidFill>
                  <a:srgbClr val="000000"/>
                </a:solidFill>
                <a:latin typeface="Arial"/>
              </a:rPr>
              <a:t> </a:t>
            </a:r>
            <a:r>
              <a:rPr b="1" lang="en-US" sz="1800" spc="-1" strike="noStrike">
                <a:solidFill>
                  <a:srgbClr val="000000"/>
                </a:solidFill>
                <a:latin typeface="Arial"/>
              </a:rPr>
              <a:t>target body are corrected for light time.</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xtended target body is modeled as a triaxial ellipsoid.</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and shape data are given by a PCK.</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erence frame relative to which the vector is expressed is not specified by the frame kernel creato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 automatically selects this frame.</a:t>
            </a:r>
            <a:endParaRPr b="1" lang="en-US" sz="1800" spc="-1" strike="noStrike">
              <a:solidFill>
                <a:srgbClr val="000000"/>
              </a:solidFill>
              <a:latin typeface="Arial"/>
            </a:endParaRPr>
          </a:p>
        </p:txBody>
      </p:sp>
      <p:sp>
        <p:nvSpPr>
          <p:cNvPr id="177"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6</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BF4C472-605F-49D0-9A23-03374D1BF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92280" y="1361880"/>
            <a:ext cx="7772400" cy="4808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to Dynamic Reference Fram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olog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ized Dynamic Reference Fram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Dynamic Reference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 Concep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 Examp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Date"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ler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zen Dynamic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Dynamic Fra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ic Dynamic Reference Frame Kerne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a:t>
            </a:r>
            <a:endParaRPr b="1" lang="en-US" sz="2400" spc="-1" strike="noStrike">
              <a:solidFill>
                <a:srgbClr val="000000"/>
              </a:solidFill>
              <a:latin typeface="Arial"/>
            </a:endParaRPr>
          </a:p>
        </p:txBody>
      </p:sp>
      <p:sp>
        <p:nvSpPr>
          <p:cNvPr id="115" name="PlaceHolder 2"/>
          <p:cNvSpPr>
            <a:spLocks noGrp="1"/>
          </p:cNvSpPr>
          <p:nvPr>
            <p:ph type="title"/>
          </p:nvPr>
        </p:nvSpPr>
        <p:spPr>
          <a:xfrm>
            <a:off x="4635000" y="380520"/>
            <a:ext cx="1436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FE224BC-4299-4797-9714-B09A60FF0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20840" y="1160280"/>
            <a:ext cx="8478720" cy="56386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locity Vector</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by the velocity of a target ephemeris object relative to an observing ephemeris object. The frame kernel creator specifi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locity reference frame</a:t>
            </a:r>
            <a:endParaRPr b="1" lang="en-US" sz="20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rame may be distinct from the base frame.</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velocity frame choices can lead to radically different two-vector frame definition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1800" spc="-1" strike="noStrike">
                <a:solidFill>
                  <a:srgbClr val="000000"/>
                </a:solidFill>
                <a:latin typeface="Arial"/>
              </a:rPr>
              <a:t>	</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locity vector may optionally be corrected for light time and stellar aberrat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light time correction also implies evaluation of the velocity vector's frame at a light-time corrected epoch:  the epoch is corrected for light time between the velocity frame's center and the observer, if the velocity frame is non-inertial.</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p:txBody>
      </p:sp>
      <p:sp>
        <p:nvSpPr>
          <p:cNvPr id="179"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7</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EB86A00-8C27-48D6-9B8E-3DF7896AA5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87440" y="1184040"/>
            <a:ext cx="8369280" cy="54990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ant Vector</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ctor is constant in a frame specified by the kernel creato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stant vector's frame may be time-dependent.</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frame may be distinct from the base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ctor may be specified in a variety of coordinate system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tesia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tudinal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ascension/declination (RA/DE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bserver may optionally be associated with a constant vector for the purpose of defining aberration correc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rientation of the constant vector's frame may optionally be corrected for light time between the frame's center and the observer: if the frame is non-inertial, it is evaluated at a light-time corrected epoch.</a:t>
            </a:r>
            <a:endParaRPr b="1" lang="en-US" sz="2000" spc="-1" strike="noStrike">
              <a:solidFill>
                <a:srgbClr val="000000"/>
              </a:solidFill>
              <a:latin typeface="Arial"/>
            </a:endParaRPr>
          </a:p>
        </p:txBody>
      </p:sp>
      <p:sp>
        <p:nvSpPr>
          <p:cNvPr id="181"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8</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CD4D64D6-36D5-4284-9E68-786898CC9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49080" y="1541520"/>
            <a:ext cx="7918200" cy="50832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stant vector may optionally be corrected for stellar aberration due to motion of observer relative to solar system barycenter.</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llar aberration can be specified without light time correction; the string indicating stellar aberration correction alone is</a:t>
            </a:r>
            <a:endParaRPr b="1" lang="en-US" sz="1800" spc="-1" strike="noStrike">
              <a:solidFill>
                <a:srgbClr val="000000"/>
              </a:solidFill>
              <a:latin typeface="Arial"/>
            </a:endParaRPr>
          </a:p>
          <a:p>
            <a:pPr lvl="4" marL="2000160" indent="0">
              <a:lnSpc>
                <a:spcPct val="90000"/>
              </a:lnSpc>
              <a:spcBef>
                <a:spcPts val="675"/>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rrection specification is not supported elsewhere in the SPICE Toolkit API.</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constant vector's frame is time-dependent, that frame is evaluated at this epoch, optionally adjusted for light time.</a:t>
            </a:r>
            <a:endParaRPr b="1" lang="en-US" sz="2000" spc="-1" strike="noStrike">
              <a:solidFill>
                <a:srgbClr val="000000"/>
              </a:solidFill>
              <a:latin typeface="Arial"/>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9</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5FDC0591-C077-4E70-BF0A-09B4F89C36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4560" y="36684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1</a:t>
            </a:r>
            <a:endParaRPr b="1" lang="en-US" sz="3200" spc="-1" strike="noStrike">
              <a:solidFill>
                <a:srgbClr val="081d58"/>
              </a:solidFill>
              <a:latin typeface="Arial"/>
            </a:endParaRPr>
          </a:p>
        </p:txBody>
      </p:sp>
      <p:sp>
        <p:nvSpPr>
          <p:cNvPr id="185" name=""/>
          <p:cNvSpPr/>
          <p:nvPr/>
        </p:nvSpPr>
        <p:spPr>
          <a:xfrm rot="20882400">
            <a:off x="1907640" y="3185640"/>
            <a:ext cx="4759560" cy="8175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5194440" y="3062160"/>
            <a:ext cx="707760" cy="473040"/>
          </a:xfrm>
          <a:prstGeom prst="ellipse">
            <a:avLst/>
          </a:prstGeom>
          <a:gradFill rotWithShape="0">
            <a:gsLst>
              <a:gs pos="0">
                <a:srgbClr val="744114"/>
              </a:gs>
              <a:gs pos="100000">
                <a:srgbClr val="fc8f2c"/>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flipV="1">
            <a:off x="2432160" y="3317400"/>
            <a:ext cx="3062160" cy="916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99000" y="2103480"/>
            <a:ext cx="5032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200" spc="-1" strike="noStrike">
                <a:solidFill>
                  <a:srgbClr val="fc0128"/>
                </a:solidFill>
                <a:latin typeface="Arial"/>
              </a:rPr>
              <a:t>   </a:t>
            </a:r>
            <a:r>
              <a:rPr b="1" lang="en-US" sz="1600" spc="-1" strike="noStrike">
                <a:solidFill>
                  <a:srgbClr val="000000"/>
                </a:solidFill>
                <a:latin typeface="Arial"/>
              </a:rPr>
              <a:t> spacecraft nadir direction vector.  Associated with nadir frame's -Z axis in frame kernel.   </a:t>
            </a:r>
            <a:endParaRPr b="0" lang="en-US" sz="1600" spc="-1" strike="noStrike">
              <a:solidFill>
                <a:srgbClr val="000000"/>
              </a:solidFill>
              <a:latin typeface="Times New Roman"/>
            </a:endParaRPr>
          </a:p>
        </p:txBody>
      </p:sp>
      <p:sp>
        <p:nvSpPr>
          <p:cNvPr id="189" name=""/>
          <p:cNvSpPr/>
          <p:nvPr/>
        </p:nvSpPr>
        <p:spPr>
          <a:xfrm>
            <a:off x="4813200" y="4332240"/>
            <a:ext cx="39178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fc0128"/>
                </a:solidFill>
                <a:latin typeface="Arial"/>
              </a:rPr>
              <a:t> </a:t>
            </a:r>
            <a:r>
              <a:rPr b="1" lang="en-US" sz="1600" spc="-1" strike="noStrike">
                <a:solidFill>
                  <a:srgbClr val="000000"/>
                </a:solidFill>
                <a:latin typeface="Arial"/>
              </a:rPr>
              <a:t>spacecraft  velocity relative to center of motion in J2000 frame.  Associated with nadir frame's  +X axis in frame kernel.</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0" name=""/>
          <p:cNvSpPr/>
          <p:nvPr/>
        </p:nvSpPr>
        <p:spPr>
          <a:xfrm>
            <a:off x="1712880" y="5405400"/>
            <a:ext cx="410040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ized component of seconda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ctor orthogonal to prim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ector is aligned with the nadir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s +X axis.</a:t>
            </a:r>
            <a:endParaRPr b="0" lang="en-US" sz="1600" spc="-1" strike="noStrike">
              <a:solidFill>
                <a:srgbClr val="000000"/>
              </a:solidFill>
              <a:latin typeface="Times New Roman"/>
            </a:endParaRPr>
          </a:p>
        </p:txBody>
      </p:sp>
      <p:sp>
        <p:nvSpPr>
          <p:cNvPr id="191" name=""/>
          <p:cNvSpPr/>
          <p:nvPr/>
        </p:nvSpPr>
        <p:spPr>
          <a:xfrm>
            <a:off x="2768760" y="483084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92" name=""/>
          <p:cNvSpPr/>
          <p:nvPr/>
        </p:nvSpPr>
        <p:spPr>
          <a:xfrm>
            <a:off x="376920" y="2381400"/>
            <a:ext cx="2922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  comple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193" name=""/>
          <p:cNvSpPr/>
          <p:nvPr/>
        </p:nvSpPr>
        <p:spPr>
          <a:xfrm flipH="1">
            <a:off x="1563840" y="4235400"/>
            <a:ext cx="838080" cy="26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19240" y="447840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a:t>
            </a:r>
            <a:endParaRPr b="0" lang="en-US" sz="1800" spc="-1" strike="noStrike">
              <a:solidFill>
                <a:srgbClr val="000000"/>
              </a:solidFill>
              <a:latin typeface="Times New Roman"/>
            </a:endParaRPr>
          </a:p>
        </p:txBody>
      </p:sp>
      <p:sp>
        <p:nvSpPr>
          <p:cNvPr id="195" name=""/>
          <p:cNvSpPr/>
          <p:nvPr/>
        </p:nvSpPr>
        <p:spPr>
          <a:xfrm>
            <a:off x="1984320" y="290196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 name=""/>
          <p:cNvSpPr/>
          <p:nvPr/>
        </p:nvSpPr>
        <p:spPr>
          <a:xfrm>
            <a:off x="842760" y="1447920"/>
            <a:ext cx="7413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dir-Oriented Spacecraft-Centered Frame</a:t>
            </a:r>
            <a:endParaRPr b="0" lang="en-US" sz="2800" spc="-1" strike="noStrike">
              <a:solidFill>
                <a:srgbClr val="000000"/>
              </a:solidFill>
              <a:latin typeface="Times New Roman"/>
            </a:endParaRPr>
          </a:p>
        </p:txBody>
      </p:sp>
      <p:sp>
        <p:nvSpPr>
          <p:cNvPr id="197" name=""/>
          <p:cNvSpPr/>
          <p:nvPr/>
        </p:nvSpPr>
        <p:spPr>
          <a:xfrm>
            <a:off x="6767640" y="2784600"/>
            <a:ext cx="2246040" cy="1443960"/>
          </a:xfrm>
          <a:prstGeom prst="rect">
            <a:avLst/>
          </a:prstGeom>
          <a:solidFill>
            <a:srgbClr val="24cac6"/>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dir vector can be defined to point to either:</a:t>
            </a:r>
            <a:endParaRPr b="0" lang="en-US" sz="16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osest point to spacecraft on ellipsoi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enter of mass of orbited body</a:t>
            </a:r>
            <a:endParaRPr b="0" lang="en-US" sz="1200" spc="-1" strike="noStrike">
              <a:solidFill>
                <a:srgbClr val="000000"/>
              </a:solidFill>
              <a:latin typeface="Times New Roman"/>
            </a:endParaRPr>
          </a:p>
        </p:txBody>
      </p:sp>
      <p:sp>
        <p:nvSpPr>
          <p:cNvPr id="198" name=""/>
          <p:cNvSpPr/>
          <p:nvPr/>
        </p:nvSpPr>
        <p:spPr>
          <a:xfrm flipH="1" flipV="1">
            <a:off x="2206800" y="3343320"/>
            <a:ext cx="193680" cy="87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20280" y="4246200"/>
            <a:ext cx="2184120" cy="11304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08400" y="4222800"/>
            <a:ext cx="361800" cy="515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58BED8AA-C138-4B59-B5FD-1C69F76E5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30200" y="1422360"/>
            <a:ext cx="7120080" cy="5182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dir-Oriented Spacecraft-Centered Frame:  Frame kernel specific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Z axis points from the spacecraft toward the closest point on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component of inertially referenced spacecraft 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Z is aligned with th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Y axis is the cross product of the +Z axis and the +X axi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RAME_&lt;frame_name&gt;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orbiter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TARGET_NEAR_POIN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lt;orbiter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X'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lt;orbiter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2"/>
          <p:cNvSpPr>
            <a:spLocks noGrp="1"/>
          </p:cNvSpPr>
          <p:nvPr>
            <p:ph type="title"/>
          </p:nvPr>
        </p:nvSpPr>
        <p:spPr>
          <a:xfrm>
            <a:off x="223632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2</a:t>
            </a:r>
            <a:endParaRPr b="1" lang="en-US" sz="3200" spc="-1" strike="noStrike">
              <a:solidFill>
                <a:srgbClr val="081d58"/>
              </a:solidFill>
              <a:latin typeface="Arial"/>
            </a:endParaRPr>
          </a:p>
        </p:txBody>
      </p:sp>
      <p:sp>
        <p:nvSpPr>
          <p:cNvPr id="204" name=""/>
          <p:cNvSpPr/>
          <p:nvPr/>
        </p:nvSpPr>
        <p:spPr>
          <a:xfrm>
            <a:off x="5923800" y="2967120"/>
            <a:ext cx="306720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name&gt; = NAIF ID code 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70DA47E-0E60-457C-B793-F83464B25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35584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3</a:t>
            </a:r>
            <a:endParaRPr b="1" lang="en-US" sz="3200" spc="-1" strike="noStrike">
              <a:solidFill>
                <a:srgbClr val="081d58"/>
              </a:solidFill>
              <a:latin typeface="Arial"/>
            </a:endParaRPr>
          </a:p>
        </p:txBody>
      </p:sp>
      <p:sp>
        <p:nvSpPr>
          <p:cNvPr id="206" name=""/>
          <p:cNvSpPr/>
          <p:nvPr/>
        </p:nvSpPr>
        <p:spPr>
          <a:xfrm rot="20882400">
            <a:off x="3336480" y="3185640"/>
            <a:ext cx="4759560" cy="8175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6622920" y="3062160"/>
            <a:ext cx="708120" cy="473040"/>
          </a:xfrm>
          <a:prstGeom prst="ellipse">
            <a:avLst/>
          </a:prstGeom>
          <a:gradFill rotWithShape="0">
            <a:gsLst>
              <a:gs pos="0">
                <a:srgbClr val="744114"/>
              </a:gs>
              <a:gs pos="100000">
                <a:srgbClr val="fc8f2c"/>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50560" y="4246920"/>
            <a:ext cx="2141640" cy="87840"/>
          </a:xfrm>
          <a:prstGeom prst="line">
            <a:avLst/>
          </a:prstGeom>
          <a:ln w="57240">
            <a:solidFill>
              <a:srgbClr val="fc0128"/>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flipV="1">
            <a:off x="3846600" y="3303720"/>
            <a:ext cx="3062160" cy="915840"/>
          </a:xfrm>
          <a:prstGeom prst="line">
            <a:avLst/>
          </a:prstGeom>
          <a:ln w="57240">
            <a:solidFill>
              <a:srgbClr val="063de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699000" y="2103480"/>
            <a:ext cx="50320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position relative to center of motion. Associated with view frame's +Y axis in frame kernel.   </a:t>
            </a:r>
            <a:endParaRPr b="0" lang="en-US" sz="1600" spc="-1" strike="noStrike">
              <a:solidFill>
                <a:srgbClr val="000000"/>
              </a:solidFill>
              <a:latin typeface="Times New Roman"/>
            </a:endParaRPr>
          </a:p>
        </p:txBody>
      </p:sp>
      <p:sp>
        <p:nvSpPr>
          <p:cNvPr id="211" name=""/>
          <p:cNvSpPr/>
          <p:nvPr/>
        </p:nvSpPr>
        <p:spPr>
          <a:xfrm>
            <a:off x="5581800" y="4522680"/>
            <a:ext cx="323676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  </a:t>
            </a:r>
            <a:r>
              <a:rPr b="1" lang="en-US" sz="1600" spc="-1" strike="noStrike">
                <a:solidFill>
                  <a:srgbClr val="000000"/>
                </a:solidFill>
                <a:latin typeface="Arial"/>
              </a:rPr>
              <a:t>spacecraft  velocity relative to center of motion in J2000 frame. Associated with view frame's +Z axis in frame kernel.</a:t>
            </a:r>
            <a:r>
              <a:rPr b="1" lang="en-US" sz="1200" spc="-1" strike="noStrike">
                <a:solidFill>
                  <a:srgbClr val="000000"/>
                </a:solidFill>
                <a:latin typeface="Arial"/>
              </a:rPr>
              <a:t> </a:t>
            </a:r>
            <a:r>
              <a:rPr b="1" lang="en-US" sz="1600" spc="-1" strike="noStrike">
                <a:solidFill>
                  <a:srgbClr val="000000"/>
                </a:solidFill>
                <a:latin typeface="Arial"/>
              </a:rPr>
              <a:t> ("Down track" direction)</a:t>
            </a:r>
            <a:endParaRPr b="0" lang="en-US" sz="1600" spc="-1" strike="noStrike">
              <a:solidFill>
                <a:srgbClr val="000000"/>
              </a:solidFill>
              <a:latin typeface="Times New Roman"/>
            </a:endParaRPr>
          </a:p>
        </p:txBody>
      </p:sp>
      <p:sp>
        <p:nvSpPr>
          <p:cNvPr id="212" name=""/>
          <p:cNvSpPr/>
          <p:nvPr/>
        </p:nvSpPr>
        <p:spPr>
          <a:xfrm>
            <a:off x="2135880" y="1393920"/>
            <a:ext cx="4410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ecraft "View Frame"</a:t>
            </a:r>
            <a:endParaRPr b="0" lang="en-US" sz="2800" spc="-1" strike="noStrike">
              <a:solidFill>
                <a:srgbClr val="000000"/>
              </a:solidFill>
              <a:latin typeface="Times New Roman"/>
            </a:endParaRPr>
          </a:p>
        </p:txBody>
      </p:sp>
      <p:sp>
        <p:nvSpPr>
          <p:cNvPr id="213" name=""/>
          <p:cNvSpPr/>
          <p:nvPr/>
        </p:nvSpPr>
        <p:spPr>
          <a:xfrm>
            <a:off x="839880" y="5072040"/>
            <a:ext cx="385272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ized component of seconda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ctor orthogonal to prim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ector is aligned with the view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s +Y axis. ("In plane" direction)                        </a:t>
            </a:r>
            <a:endParaRPr b="0" lang="en-US" sz="1600" spc="-1" strike="noStrike">
              <a:solidFill>
                <a:srgbClr val="000000"/>
              </a:solidFill>
              <a:latin typeface="Times New Roman"/>
            </a:endParaRPr>
          </a:p>
        </p:txBody>
      </p:sp>
      <p:sp>
        <p:nvSpPr>
          <p:cNvPr id="214" name=""/>
          <p:cNvSpPr/>
          <p:nvPr/>
        </p:nvSpPr>
        <p:spPr>
          <a:xfrm>
            <a:off x="4416480" y="439272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a:t>
            </a:r>
            <a:endParaRPr b="0" lang="en-US" sz="1800" spc="-1" strike="noStrike">
              <a:solidFill>
                <a:srgbClr val="000000"/>
              </a:solidFill>
              <a:latin typeface="Times New Roman"/>
            </a:endParaRPr>
          </a:p>
        </p:txBody>
      </p:sp>
      <p:sp>
        <p:nvSpPr>
          <p:cNvPr id="215" name=""/>
          <p:cNvSpPr/>
          <p:nvPr/>
        </p:nvSpPr>
        <p:spPr>
          <a:xfrm>
            <a:off x="407160" y="2860560"/>
            <a:ext cx="292248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  Y  x  Z,  comple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 of plane"  direction)</a:t>
            </a:r>
            <a:endParaRPr b="0" lang="en-US" sz="1600" spc="-1" strike="noStrike">
              <a:solidFill>
                <a:srgbClr val="000000"/>
              </a:solidFill>
              <a:latin typeface="Times New Roman"/>
            </a:endParaRPr>
          </a:p>
        </p:txBody>
      </p:sp>
      <p:sp>
        <p:nvSpPr>
          <p:cNvPr id="216" name=""/>
          <p:cNvSpPr/>
          <p:nvPr/>
        </p:nvSpPr>
        <p:spPr>
          <a:xfrm flipH="1">
            <a:off x="3328560" y="4248000"/>
            <a:ext cx="515880" cy="455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27520" y="4248000"/>
            <a:ext cx="873000" cy="51120"/>
          </a:xfrm>
          <a:prstGeom prst="line">
            <a:avLst/>
          </a:prstGeom>
          <a:ln w="572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 name=""/>
          <p:cNvSpPr/>
          <p:nvPr/>
        </p:nvSpPr>
        <p:spPr>
          <a:xfrm flipH="1" flipV="1">
            <a:off x="3664080" y="3414240"/>
            <a:ext cx="179280" cy="833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9960" y="469440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0" name=""/>
          <p:cNvSpPr/>
          <p:nvPr/>
        </p:nvSpPr>
        <p:spPr>
          <a:xfrm>
            <a:off x="3467160" y="308916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427AADD5-E373-4A0A-A485-599A26BD1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30200" y="1422360"/>
            <a:ext cx="7120080" cy="534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pacecraft "View Frame":  Frame kernel specific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Z axis is aligned with the J2000-referenced velocity of th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pacecraft relative to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component of the spacecraft position orthogonal to +Z is align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ith the +Y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X axis is the cross product of the +Y axis and the +X axi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RAME_&lt;frame_name&gt;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orbiter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a:t>
            </a:r>
            <a:r>
              <a:rPr b="1" lang="en-US" sz="1200" spc="-1" strike="noStrike">
                <a:solidFill>
                  <a:srgbClr val="000000"/>
                </a:solidFill>
                <a:latin typeface="Arial"/>
              </a:rPr>
              <a:t>&lt;</a:t>
            </a:r>
            <a:r>
              <a:rPr b="1" lang="en-US" sz="1200" spc="-1" strike="noStrike">
                <a:solidFill>
                  <a:srgbClr val="000000"/>
                </a:solidFill>
                <a:latin typeface="Courier New"/>
              </a:rPr>
              <a:t>orbiter_ID/name</a:t>
            </a:r>
            <a:r>
              <a:rPr b="1" lang="en-US" sz="1200" spc="-1" strike="noStrike">
                <a:solidFill>
                  <a:srgbClr val="000000"/>
                </a:solidFill>
                <a:latin typeface="Arial"/>
              </a:rPr>
              <a:t>&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FRAM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POSITIO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lt;orbiter_ID/name</a:t>
            </a:r>
            <a:r>
              <a:rPr b="1" lang="en-US" sz="1200" spc="-1" strike="noStrike">
                <a:solidFill>
                  <a:srgbClr val="000000"/>
                </a:solidFill>
                <a:latin typeface="Arial"/>
              </a:rPr>
              <a:t>&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type="title"/>
          </p:nvPr>
        </p:nvSpPr>
        <p:spPr>
          <a:xfrm>
            <a:off x="223632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4</a:t>
            </a:r>
            <a:endParaRPr b="1" lang="en-US" sz="3200" spc="-1" strike="noStrike">
              <a:solidFill>
                <a:srgbClr val="081d58"/>
              </a:solidFill>
              <a:latin typeface="Arial"/>
            </a:endParaRPr>
          </a:p>
        </p:txBody>
      </p:sp>
      <p:sp>
        <p:nvSpPr>
          <p:cNvPr id="224" name=""/>
          <p:cNvSpPr/>
          <p:nvPr/>
        </p:nvSpPr>
        <p:spPr>
          <a:xfrm>
            <a:off x="5923800" y="3081240"/>
            <a:ext cx="306720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name&gt; = NAIF ID code 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2392674-3C48-4028-929B-BDAA357CC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3308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5</a:t>
            </a:r>
            <a:endParaRPr b="1" lang="en-US" sz="3200" spc="-1" strike="noStrike">
              <a:solidFill>
                <a:srgbClr val="081d58"/>
              </a:solidFill>
              <a:latin typeface="Arial"/>
            </a:endParaRPr>
          </a:p>
        </p:txBody>
      </p:sp>
      <p:sp>
        <p:nvSpPr>
          <p:cNvPr id="226" name=""/>
          <p:cNvSpPr/>
          <p:nvPr/>
        </p:nvSpPr>
        <p:spPr>
          <a:xfrm rot="268800">
            <a:off x="258840" y="3031920"/>
            <a:ext cx="6413400" cy="2162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flipH="1">
            <a:off x="6070680" y="4373640"/>
            <a:ext cx="620640" cy="143496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63720" y="5524560"/>
            <a:ext cx="43210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200" spc="-1" strike="noStrike">
                <a:solidFill>
                  <a:srgbClr val="000000"/>
                </a:solidFill>
                <a:latin typeface="Arial"/>
              </a:rPr>
              <a:t>  </a:t>
            </a:r>
            <a:r>
              <a:rPr b="1" lang="en-US" sz="1600" spc="-1" strike="noStrike">
                <a:solidFill>
                  <a:srgbClr val="000000"/>
                </a:solidFill>
                <a:latin typeface="Arial"/>
              </a:rPr>
              <a:t>velocity of sun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to earth in J2000 fram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E frame's +Y axis in frame kernel.</a:t>
            </a:r>
            <a:endParaRPr b="0" lang="en-US" sz="1600" spc="-1" strike="noStrike">
              <a:solidFill>
                <a:srgbClr val="000000"/>
              </a:solidFill>
              <a:latin typeface="Times New Roman"/>
            </a:endParaRPr>
          </a:p>
        </p:txBody>
      </p:sp>
      <p:sp>
        <p:nvSpPr>
          <p:cNvPr id="229" name=""/>
          <p:cNvSpPr/>
          <p:nvPr/>
        </p:nvSpPr>
        <p:spPr>
          <a:xfrm flipH="1">
            <a:off x="6496200" y="4411800"/>
            <a:ext cx="195120" cy="71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691320" y="3298680"/>
            <a:ext cx="0" cy="10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27520" y="3529080"/>
            <a:ext cx="1190520" cy="1074600"/>
          </a:xfrm>
          <a:prstGeom prst="ellipse">
            <a:avLst/>
          </a:prstGeom>
          <a:solidFill>
            <a:srgbClr val="eed65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flipH="1" flipV="1">
            <a:off x="3541320" y="4065480"/>
            <a:ext cx="3073320" cy="347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75400" y="4297320"/>
            <a:ext cx="230040" cy="2304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1196640" y="1476360"/>
            <a:ext cx="6640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centric Solar Ecliptic Frame (GSE)</a:t>
            </a:r>
            <a:endParaRPr b="0" lang="en-US" sz="2800" spc="-1" strike="noStrike">
              <a:solidFill>
                <a:srgbClr val="000000"/>
              </a:solidFill>
              <a:latin typeface="Times New Roman"/>
            </a:endParaRPr>
          </a:p>
        </p:txBody>
      </p:sp>
      <p:sp>
        <p:nvSpPr>
          <p:cNvPr id="235" name=""/>
          <p:cNvSpPr/>
          <p:nvPr/>
        </p:nvSpPr>
        <p:spPr>
          <a:xfrm flipH="1" flipV="1">
            <a:off x="5467320" y="4284720"/>
            <a:ext cx="1114560" cy="115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11880" y="3855960"/>
            <a:ext cx="322200" cy="55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7" name=""/>
          <p:cNvSpPr/>
          <p:nvPr/>
        </p:nvSpPr>
        <p:spPr>
          <a:xfrm>
            <a:off x="6882120" y="3106800"/>
            <a:ext cx="2024640" cy="778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600" spc="-1" strike="noStrike">
                <a:solidFill>
                  <a:srgbClr val="000000"/>
                </a:solidFill>
                <a:latin typeface="Arial"/>
              </a:rPr>
              <a:t>  =  </a:t>
            </a:r>
            <a:r>
              <a:rPr b="1" lang="en-US" sz="1800" spc="-1" strike="noStrike">
                <a:solidFill>
                  <a:srgbClr val="000000"/>
                </a:solidFill>
                <a:latin typeface="Arial"/>
              </a:rPr>
              <a:t>X   x   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238" name=""/>
          <p:cNvSpPr/>
          <p:nvPr/>
        </p:nvSpPr>
        <p:spPr>
          <a:xfrm>
            <a:off x="6254640" y="5267160"/>
            <a:ext cx="290196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normalized component of secondary vector orthogonal to primary vector</a:t>
            </a:r>
            <a:endParaRPr b="0" lang="en-US" sz="1600" spc="-1" strike="noStrike">
              <a:solidFill>
                <a:srgbClr val="000000"/>
              </a:solidFill>
              <a:latin typeface="Times New Roman"/>
            </a:endParaRPr>
          </a:p>
        </p:txBody>
      </p:sp>
      <p:sp>
        <p:nvSpPr>
          <p:cNvPr id="239" name=""/>
          <p:cNvSpPr/>
          <p:nvPr/>
        </p:nvSpPr>
        <p:spPr>
          <a:xfrm>
            <a:off x="1438200" y="2320920"/>
            <a:ext cx="5292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600" spc="-1" strike="noStrike">
                <a:solidFill>
                  <a:srgbClr val="000000"/>
                </a:solidFill>
                <a:latin typeface="Arial"/>
              </a:rPr>
              <a:t> position of sun relative to earth</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E frame's +X axis in frame kernel.</a:t>
            </a:r>
            <a:endParaRPr b="0" lang="en-US" sz="1600" spc="-1" strike="noStrike">
              <a:solidFill>
                <a:srgbClr val="000000"/>
              </a:solidFill>
              <a:latin typeface="Times New Roman"/>
            </a:endParaRPr>
          </a:p>
        </p:txBody>
      </p:sp>
      <p:sp>
        <p:nvSpPr>
          <p:cNvPr id="240" name=""/>
          <p:cNvSpPr/>
          <p:nvPr/>
        </p:nvSpPr>
        <p:spPr>
          <a:xfrm>
            <a:off x="6694560" y="4881600"/>
            <a:ext cx="480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76DC7904-6416-43A6-8830-227709FF7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type="title"/>
          </p:nvPr>
        </p:nvSpPr>
        <p:spPr>
          <a:xfrm>
            <a:off x="224316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6</a:t>
            </a:r>
            <a:endParaRPr b="1" lang="en-US" sz="3200" spc="-1" strike="noStrike">
              <a:solidFill>
                <a:srgbClr val="081d58"/>
              </a:solidFill>
              <a:latin typeface="Arial"/>
            </a:endParaRPr>
          </a:p>
        </p:txBody>
      </p:sp>
      <p:sp>
        <p:nvSpPr>
          <p:cNvPr id="243" name=""/>
          <p:cNvSpPr/>
          <p:nvPr/>
        </p:nvSpPr>
        <p:spPr>
          <a:xfrm>
            <a:off x="469800" y="1130400"/>
            <a:ext cx="7488360" cy="5365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ocentric Solar Ecliptic (GS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is the normalized component of the geometric earth-sun 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the GS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arallel to the cross product of the GS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d the GSE +Y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GSE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GS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VELOCIT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a:t>
            </a:r>
            <a:endParaRPr b="0" lang="en-US" sz="1200" spc="-1" strike="noStrike">
              <a:solidFill>
                <a:srgbClr val="000000"/>
              </a:solidFill>
              <a:latin typeface="Times New Roman"/>
            </a:endParaRPr>
          </a:p>
        </p:txBody>
      </p:sp>
      <p:sp>
        <p:nvSpPr>
          <p:cNvPr id="244" name=""/>
          <p:cNvSpPr/>
          <p:nvPr/>
        </p:nvSpPr>
        <p:spPr>
          <a:xfrm>
            <a:off x="6335280" y="3489480"/>
            <a:ext cx="2323440" cy="58644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 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864D117-A26F-42D3-BAE6-27C68F29D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3200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7</a:t>
            </a:r>
            <a:endParaRPr b="1" lang="en-US" sz="3200" spc="-1" strike="noStrike">
              <a:solidFill>
                <a:srgbClr val="081d58"/>
              </a:solidFill>
              <a:latin typeface="Arial"/>
            </a:endParaRPr>
          </a:p>
        </p:txBody>
      </p:sp>
      <p:sp>
        <p:nvSpPr>
          <p:cNvPr id="246" name=""/>
          <p:cNvSpPr/>
          <p:nvPr/>
        </p:nvSpPr>
        <p:spPr>
          <a:xfrm>
            <a:off x="201600" y="2511360"/>
            <a:ext cx="6413400" cy="31496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flipH="1" flipV="1">
            <a:off x="6038640" y="3395520"/>
            <a:ext cx="500040" cy="92088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22200" y="1852560"/>
            <a:ext cx="480636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000000"/>
                </a:solidFill>
                <a:latin typeface="Arial"/>
              </a:rPr>
              <a:t>  North geomagnetic center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ole in IAU_EARTH frame. Associated wi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SM frame's +Z axis in frame kernel.</a:t>
            </a:r>
            <a:endParaRPr b="0" lang="en-US" sz="1600" spc="-1" strike="noStrike">
              <a:solidFill>
                <a:srgbClr val="000000"/>
              </a:solidFill>
              <a:latin typeface="Times New Roman"/>
            </a:endParaRPr>
          </a:p>
        </p:txBody>
      </p:sp>
      <p:sp>
        <p:nvSpPr>
          <p:cNvPr id="249" name=""/>
          <p:cNvSpPr/>
          <p:nvPr/>
        </p:nvSpPr>
        <p:spPr>
          <a:xfrm>
            <a:off x="6573960" y="4370400"/>
            <a:ext cx="201600" cy="592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03160" y="3214800"/>
            <a:ext cx="18586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  = normaliz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of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gonal to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vector</a:t>
            </a:r>
            <a:endParaRPr b="0" lang="en-US" sz="1600" spc="-1" strike="noStrike">
              <a:solidFill>
                <a:srgbClr val="000000"/>
              </a:solidFill>
              <a:latin typeface="Times New Roman"/>
            </a:endParaRPr>
          </a:p>
        </p:txBody>
      </p:sp>
      <p:sp>
        <p:nvSpPr>
          <p:cNvPr id="251" name=""/>
          <p:cNvSpPr/>
          <p:nvPr/>
        </p:nvSpPr>
        <p:spPr>
          <a:xfrm flipV="1">
            <a:off x="6576840" y="3584160"/>
            <a:ext cx="444600" cy="731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13040" y="3471840"/>
            <a:ext cx="1190520" cy="1074600"/>
          </a:xfrm>
          <a:prstGeom prst="ellipse">
            <a:avLst/>
          </a:prstGeom>
          <a:solidFill>
            <a:srgbClr val="eed65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flipH="1" flipV="1">
            <a:off x="3427200" y="4010040"/>
            <a:ext cx="3073320" cy="347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461280" y="4240080"/>
            <a:ext cx="230040" cy="2304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511560" y="1338120"/>
            <a:ext cx="8160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centric Solar Magnetospheric Frame (GSM)</a:t>
            </a:r>
            <a:endParaRPr b="0" lang="en-US" sz="2800" spc="-1" strike="noStrike">
              <a:solidFill>
                <a:srgbClr val="000000"/>
              </a:solidFill>
              <a:latin typeface="Times New Roman"/>
            </a:endParaRPr>
          </a:p>
        </p:txBody>
      </p:sp>
      <p:sp>
        <p:nvSpPr>
          <p:cNvPr id="256" name=""/>
          <p:cNvSpPr/>
          <p:nvPr/>
        </p:nvSpPr>
        <p:spPr>
          <a:xfrm>
            <a:off x="1092960" y="4551480"/>
            <a:ext cx="53258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600" spc="-1" strike="noStrike">
                <a:solidFill>
                  <a:srgbClr val="000000"/>
                </a:solidFill>
                <a:latin typeface="Arial"/>
              </a:rPr>
              <a:t> position of sun relative to earth</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M frame's +X axis in frame kernel.</a:t>
            </a:r>
            <a:endParaRPr b="0" lang="en-US" sz="1600" spc="-1" strike="noStrike">
              <a:solidFill>
                <a:srgbClr val="000000"/>
              </a:solidFill>
              <a:latin typeface="Times New Roman"/>
            </a:endParaRPr>
          </a:p>
        </p:txBody>
      </p:sp>
      <p:sp>
        <p:nvSpPr>
          <p:cNvPr id="257" name=""/>
          <p:cNvSpPr/>
          <p:nvPr/>
        </p:nvSpPr>
        <p:spPr>
          <a:xfrm>
            <a:off x="6607440" y="5289480"/>
            <a:ext cx="20246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258" name=""/>
          <p:cNvSpPr/>
          <p:nvPr/>
        </p:nvSpPr>
        <p:spPr>
          <a:xfrm flipH="1" flipV="1">
            <a:off x="5194080" y="4208040"/>
            <a:ext cx="1268280" cy="1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0BBA58CC-C01B-4644-84BB-AE0590CC0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28280" y="1279080"/>
            <a:ext cx="8064360" cy="52815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ynamic Reference Frames subsystem is an extension to the SPICE Frames system.</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ntroduced in the N0058 SPICE Toolkit, released in January 2005.</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dynamic reference frames"?</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reference frames ("dynamic frames" for short) have time-dependent orienta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ames are specified via a frame kernel (FK).  </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 and PCK frames are not considered to be dynamic frames (although they are time-varying).</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ynamic Frames capability enables the SPICE system to conveniently use a wide variety of frames that are not "built in" to SPICE.  Examples include:</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ir-oriented frame for planetary orbiter</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Ecliptic (GS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Magnetic (SM)</a:t>
            </a:r>
            <a:endParaRPr b="1" lang="en-US" sz="2000" spc="-1" strike="noStrike">
              <a:solidFill>
                <a:srgbClr val="000000"/>
              </a:solidFill>
              <a:latin typeface="Arial"/>
            </a:endParaRPr>
          </a:p>
        </p:txBody>
      </p:sp>
      <p:sp>
        <p:nvSpPr>
          <p:cNvPr id="117"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1 </a:t>
            </a:r>
            <a:endParaRPr b="1" lang="en-US" sz="3200" spc="-1" strike="noStrike">
              <a:solidFill>
                <a:srgbClr val="081d58"/>
              </a:solidFill>
              <a:latin typeface="Arial"/>
            </a:endParaRPr>
          </a:p>
        </p:txBody>
      </p:sp>
      <p:sp>
        <p:nvSpPr>
          <p:cNvPr id="118" name=""/>
          <p:cNvSpPr/>
          <p:nvPr/>
        </p:nvSpPr>
        <p:spPr>
          <a:xfrm>
            <a:off x="2491200" y="6477120"/>
            <a:ext cx="1994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ed on next pag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6EB8CB00-38C0-4343-9414-97AA5B76B9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PlaceHolder 2"/>
          <p:cNvSpPr>
            <a:spLocks noGrp="1"/>
          </p:cNvSpPr>
          <p:nvPr>
            <p:ph type="title"/>
          </p:nvPr>
        </p:nvSpPr>
        <p:spPr>
          <a:xfrm>
            <a:off x="224316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8</a:t>
            </a:r>
            <a:endParaRPr b="1" lang="en-US" sz="3200" spc="-1" strike="noStrike">
              <a:solidFill>
                <a:srgbClr val="081d58"/>
              </a:solidFill>
              <a:latin typeface="Arial"/>
            </a:endParaRPr>
          </a:p>
        </p:txBody>
      </p:sp>
      <p:sp>
        <p:nvSpPr>
          <p:cNvPr id="261" name=""/>
          <p:cNvSpPr/>
          <p:nvPr/>
        </p:nvSpPr>
        <p:spPr>
          <a:xfrm>
            <a:off x="469800" y="1130400"/>
            <a:ext cx="7488360" cy="5529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ocentric Solar Magnetospheric (GSM)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normalized component of north centered geomagnetic dipo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GSM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completes the right-handed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GSM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GS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Z'</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CONST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IAU_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SPEC       = 'LATITUDIN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UNITS      = 'DEGRE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LONGITUDE  =  288.4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LATITUDE   =   79.54</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6335280" y="3489480"/>
            <a:ext cx="2323440" cy="58644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 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D882C5E2-6F37-446D-B21E-CFB91E5E8B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3200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9</a:t>
            </a:r>
            <a:endParaRPr b="1" lang="en-US" sz="3200" spc="-1" strike="noStrike">
              <a:solidFill>
                <a:srgbClr val="081d58"/>
              </a:solidFill>
              <a:latin typeface="Arial"/>
            </a:endParaRPr>
          </a:p>
        </p:txBody>
      </p:sp>
      <p:sp>
        <p:nvSpPr>
          <p:cNvPr id="264" name=""/>
          <p:cNvSpPr/>
          <p:nvPr/>
        </p:nvSpPr>
        <p:spPr>
          <a:xfrm flipH="1" flipV="1">
            <a:off x="5000400" y="3543120"/>
            <a:ext cx="1344600" cy="184284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35160" y="2247840"/>
            <a:ext cx="6572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000000"/>
                </a:solidFill>
                <a:latin typeface="Arial"/>
              </a:rPr>
              <a:t> Lock star direction in J2000 frame, corrected for stellar aberration due to spacecraft motion. Associated with Roll-Celestial frame's +X axis in frame kernel.</a:t>
            </a:r>
            <a:endParaRPr b="0" lang="en-US" sz="1600" spc="-1" strike="noStrike">
              <a:solidFill>
                <a:srgbClr val="000000"/>
              </a:solidFill>
              <a:latin typeface="Times New Roman"/>
            </a:endParaRPr>
          </a:p>
        </p:txBody>
      </p:sp>
      <p:sp>
        <p:nvSpPr>
          <p:cNvPr id="266" name=""/>
          <p:cNvSpPr/>
          <p:nvPr/>
        </p:nvSpPr>
        <p:spPr>
          <a:xfrm flipV="1">
            <a:off x="6345360" y="4694400"/>
            <a:ext cx="390240" cy="69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45360" y="5386320"/>
            <a:ext cx="0" cy="1082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14320" y="3619440"/>
            <a:ext cx="1190520" cy="1074960"/>
          </a:xfrm>
          <a:prstGeom prst="ellipse">
            <a:avLst/>
          </a:prstGeom>
          <a:gradFill rotWithShape="0">
            <a:gsLst>
              <a:gs pos="0">
                <a:srgbClr val="242673"/>
              </a:gs>
              <a:gs pos="100000">
                <a:srgbClr val="5054fa"/>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flipH="1" flipV="1">
            <a:off x="1390320" y="4195800"/>
            <a:ext cx="4954680" cy="11923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88280" y="1438200"/>
            <a:ext cx="7178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ecraft-Centered Roll-Celestial Frame</a:t>
            </a:r>
            <a:endParaRPr b="0" lang="en-US" sz="2800" spc="-1" strike="noStrike">
              <a:solidFill>
                <a:srgbClr val="000000"/>
              </a:solidFill>
              <a:latin typeface="Times New Roman"/>
            </a:endParaRPr>
          </a:p>
        </p:txBody>
      </p:sp>
      <p:sp>
        <p:nvSpPr>
          <p:cNvPr id="271" name=""/>
          <p:cNvSpPr/>
          <p:nvPr/>
        </p:nvSpPr>
        <p:spPr>
          <a:xfrm>
            <a:off x="4692600" y="3159000"/>
            <a:ext cx="422280" cy="576360"/>
          </a:xfrm>
          <a:custGeom>
            <a:avLst/>
            <a:gdLst>
              <a:gd name="textAreaLeft" fmla="*/ 173880 w 422280"/>
              <a:gd name="textAreaRight" fmla="*/ 248400 w 422280"/>
              <a:gd name="textAreaTop" fmla="*/ 237600 h 576360"/>
              <a:gd name="textAreaBottom" fmla="*/ 338760 h 576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flipH="1" flipV="1">
            <a:off x="5100480" y="5103720"/>
            <a:ext cx="1252800" cy="29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2680" y="5413320"/>
            <a:ext cx="556200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   </a:t>
            </a:r>
            <a:r>
              <a:rPr b="1" lang="en-US" sz="1600" spc="-1" strike="noStrike">
                <a:solidFill>
                  <a:srgbClr val="000000"/>
                </a:solidFill>
                <a:latin typeface="Arial"/>
              </a:rPr>
              <a:t>position of earth relative to spacecraf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Roll-Celestial frame's +Z axi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frame kernel.</a:t>
            </a:r>
            <a:endParaRPr b="0" lang="en-US" sz="1600" spc="-1" strike="noStrike">
              <a:solidFill>
                <a:srgbClr val="000000"/>
              </a:solidFill>
              <a:latin typeface="Times New Roman"/>
            </a:endParaRPr>
          </a:p>
        </p:txBody>
      </p:sp>
      <p:sp>
        <p:nvSpPr>
          <p:cNvPr id="274" name=""/>
          <p:cNvSpPr/>
          <p:nvPr/>
        </p:nvSpPr>
        <p:spPr>
          <a:xfrm>
            <a:off x="6768360" y="3984480"/>
            <a:ext cx="18586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 normaliz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of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gonal to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vector</a:t>
            </a:r>
            <a:endParaRPr b="0" lang="en-US" sz="1600" spc="-1" strike="noStrike">
              <a:solidFill>
                <a:srgbClr val="000000"/>
              </a:solidFill>
              <a:latin typeface="Times New Roman"/>
            </a:endParaRPr>
          </a:p>
        </p:txBody>
      </p:sp>
      <p:sp>
        <p:nvSpPr>
          <p:cNvPr id="275" name=""/>
          <p:cNvSpPr/>
          <p:nvPr/>
        </p:nvSpPr>
        <p:spPr>
          <a:xfrm>
            <a:off x="6405840" y="5783400"/>
            <a:ext cx="20246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81B35F60-0941-4875-9E8D-14288430F0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2"/>
          <p:cNvSpPr>
            <a:spLocks noGrp="1"/>
          </p:cNvSpPr>
          <p:nvPr>
            <p:ph type="title"/>
          </p:nvPr>
        </p:nvSpPr>
        <p:spPr>
          <a:xfrm>
            <a:off x="2130480" y="380520"/>
            <a:ext cx="6487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10</a:t>
            </a:r>
            <a:endParaRPr b="1" lang="en-US" sz="3200" spc="-1" strike="noStrike">
              <a:solidFill>
                <a:srgbClr val="081d58"/>
              </a:solidFill>
              <a:latin typeface="Arial"/>
            </a:endParaRPr>
          </a:p>
        </p:txBody>
      </p:sp>
      <p:sp>
        <p:nvSpPr>
          <p:cNvPr id="278" name=""/>
          <p:cNvSpPr/>
          <p:nvPr/>
        </p:nvSpPr>
        <p:spPr>
          <a:xfrm>
            <a:off x="469800" y="1116000"/>
            <a:ext cx="8185320" cy="569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pacecraft-centered roll-celestial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normalized component of star direction orthogonal to Z axis. The sta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irection is corrected for stellar aberration due to motion of the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completes the right-handed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spacecraft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lt;spacecraft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CONST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SPEC       = 'RA/DEC'</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UNITS      = 'DEGRE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RA         = &lt;star right ascension in degrees&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DEC        = &lt;star declination in degrees&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lt;spacecraft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5719680" y="2587680"/>
            <a:ext cx="332316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spacecraft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spacecraft_ID/name&gt; = NAIF ID code 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47B223B-BCA8-4AD5-9E9D-E67E330B55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66560" y="1499760"/>
            <a:ext cx="7934400" cy="458460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date frames are associated with user-specified bodies and are based on user-selected dynamical models. </a:t>
            </a:r>
            <a:endParaRPr b="1" lang="en-US" sz="2800" spc="-1" strike="noStrike">
              <a:solidFill>
                <a:srgbClr val="000000"/>
              </a:solidFill>
              <a:latin typeface="Arial"/>
            </a:endParaRPr>
          </a:p>
          <a:p>
            <a:pPr lvl="1" marL="678600" indent="-226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s of models are built into SPICE.</a:t>
            </a:r>
            <a:endParaRPr b="1" lang="en-US" sz="2400" spc="-1" strike="noStrike">
              <a:solidFill>
                <a:srgbClr val="000000"/>
              </a:solidFill>
              <a:latin typeface="Arial"/>
            </a:endParaRPr>
          </a:p>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ly supported "of-date" frame families are</a:t>
            </a:r>
            <a:endParaRPr b="1" lang="en-US" sz="28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 and Equinox of Dat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Equator and Equinox of Dat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 and Equinox of Date</a:t>
            </a:r>
            <a:endParaRPr b="1" lang="en-US" sz="2000" spc="-1" strike="noStrike">
              <a:solidFill>
                <a:srgbClr val="000000"/>
              </a:solidFill>
              <a:latin typeface="Arial"/>
            </a:endParaRPr>
          </a:p>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arth is the only currently supported body.</a:t>
            </a:r>
            <a:endParaRPr b="1" lang="en-US" sz="2800" spc="-1" strike="noStrike">
              <a:solidFill>
                <a:srgbClr val="000000"/>
              </a:solidFill>
              <a:latin typeface="Arial"/>
            </a:endParaRPr>
          </a:p>
          <a:p>
            <a:pPr marL="2829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AB7213E-FFB8-432A-9844-458B5FFC30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00200" y="1321920"/>
            <a:ext cx="7989840" cy="510876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ly supported types of models are</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ess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a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obliquity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f-date frame implementation is intended to be flexible:</a:t>
            </a:r>
            <a:endParaRPr b="1" lang="en-US" sz="28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bodies can grow over time.</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models can grow over time.</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is not forever locked into using a single hard-coded implementation, such as the 1976 IAU precession model</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frame families can grow, if necessary.</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1722E84-C8BB-4530-801D-7BB1094AAB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Equator and Equinox of Date Family</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a precession model from those built into the SPICE software.</a:t>
            </a:r>
            <a:endParaRPr b="1" lang="en-US" sz="24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supported only for the eart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6 IAU precession model (aka Lieske model)</a:t>
            </a:r>
            <a:endParaRPr b="1" lang="en-US" sz="20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a:p>
            <a:pPr lvl="3" marL="15429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43E29E3-34D5-4EE8-8D8A-98348BAFF7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2"/>
          <p:cNvSpPr>
            <a:spLocks noGrp="1"/>
          </p:cNvSpPr>
          <p:nvPr>
            <p:ph type="title"/>
          </p:nvPr>
        </p:nvSpPr>
        <p:spPr>
          <a:xfrm>
            <a:off x="3300120" y="380520"/>
            <a:ext cx="411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4</a:t>
            </a:r>
            <a:endParaRPr b="1" lang="en-US" sz="3200" spc="-1" strike="noStrike">
              <a:solidFill>
                <a:srgbClr val="081d58"/>
              </a:solidFill>
              <a:latin typeface="Arial"/>
            </a:endParaRPr>
          </a:p>
        </p:txBody>
      </p:sp>
      <p:sp>
        <p:nvSpPr>
          <p:cNvPr id="288" name=""/>
          <p:cNvSpPr/>
          <p:nvPr/>
        </p:nvSpPr>
        <p:spPr>
          <a:xfrm>
            <a:off x="430200" y="1773360"/>
            <a:ext cx="7758000" cy="370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mean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quator of date and points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the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the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321DBFE-239A-470E-AF4B-AC23EBC33F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Equator and Equinox of Date Family</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 and a nutation mod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models from those built into the SPICE software.</a:t>
            </a:r>
            <a:endParaRPr b="1" lang="en-US" sz="24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supported only for the earth</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6 IAU precession model (aka Lieske model)</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 IAU nutation model</a:t>
            </a:r>
            <a:endParaRPr b="1" lang="en-US" sz="18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p:txBody>
      </p:sp>
      <p:sp>
        <p:nvSpPr>
          <p:cNvPr id="291"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5</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141D290-69E6-4A18-8CB9-4CC6FBF3EC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2"/>
          <p:cNvSpPr>
            <a:spLocks noGrp="1"/>
          </p:cNvSpPr>
          <p:nvPr>
            <p:ph type="title"/>
          </p:nvPr>
        </p:nvSpPr>
        <p:spPr>
          <a:xfrm>
            <a:off x="3312720" y="38052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t>
            </a:r>
            <a:r>
              <a:rPr b="1" lang="en-US" sz="3200" spc="-1" strike="noStrike">
                <a:solidFill>
                  <a:srgbClr val="081d58"/>
                </a:solidFill>
                <a:latin typeface="Arial"/>
              </a:rPr>
              <a:t>Of-Date" Frames - 6</a:t>
            </a:r>
            <a:endParaRPr b="1" lang="en-US" sz="3200" spc="-1" strike="noStrike">
              <a:solidFill>
                <a:srgbClr val="081d58"/>
              </a:solidFill>
              <a:latin typeface="Arial"/>
            </a:endParaRPr>
          </a:p>
        </p:txBody>
      </p:sp>
      <p:sp>
        <p:nvSpPr>
          <p:cNvPr id="294" name=""/>
          <p:cNvSpPr/>
          <p:nvPr/>
        </p:nvSpPr>
        <p:spPr>
          <a:xfrm>
            <a:off x="430200" y="1773360"/>
            <a:ext cx="7758000" cy="3869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true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true equator of date and points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the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RUE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UT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F292A96-9D3E-4C28-8F51-3BCCA8132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Ecliptic and Equinox of Date Family</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r>
              <a:rPr b="1" lang="en-US" sz="2000" spc="-1" strike="noStrike">
                <a:solidFill>
                  <a:srgbClr val="000000"/>
                </a:solidFill>
                <a:latin typeface="Arial"/>
              </a:rPr>
              <a:t> </a:t>
            </a:r>
            <a:endParaRPr b="1" lang="en-US" sz="20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 and an obliquity model.</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models from those built into the SPICE software.</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supported only for the earth</a:t>
            </a:r>
            <a:endParaRPr b="1" lang="en-US" sz="24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6 IAU precession model (aka Lieske model)</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 IAU mean obliquity model</a:t>
            </a:r>
            <a:endParaRPr b="1" lang="en-US" sz="18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a:p>
            <a:pPr lvl="3" marL="154296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7</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263BC9C-397B-4697-ACAD-BD047A2BC7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28280" y="1279440"/>
            <a:ext cx="8064360" cy="526752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craft-centered roll-celestial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Magnetospheric (GS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magnetic (MAG)</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constant north centered geomagnetic dipo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pole direction defined by time-dependent Euler angle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Equatorial (GSEQ)</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Equatorial frame for any ephemeris ob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frame for any ephemeris ob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quator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true equator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cliptic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TN ("radial, tangential, normal") fram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many more…</a:t>
            </a:r>
            <a:endParaRPr b="1" lang="en-US" sz="2000" spc="-1" strike="noStrike">
              <a:solidFill>
                <a:srgbClr val="000000"/>
              </a:solidFill>
              <a:latin typeface="Arial"/>
            </a:endParaRPr>
          </a:p>
        </p:txBody>
      </p:sp>
      <p:sp>
        <p:nvSpPr>
          <p:cNvPr id="120"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2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CC064DE5-CC5A-4809-8CEB-0A5240559B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2"/>
          <p:cNvSpPr>
            <a:spLocks noGrp="1"/>
          </p:cNvSpPr>
          <p:nvPr>
            <p:ph type="title"/>
          </p:nvPr>
        </p:nvSpPr>
        <p:spPr>
          <a:xfrm>
            <a:off x="3312720" y="38052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t>
            </a:r>
            <a:r>
              <a:rPr b="1" lang="en-US" sz="3200" spc="-1" strike="noStrike">
                <a:solidFill>
                  <a:srgbClr val="081d58"/>
                </a:solidFill>
                <a:latin typeface="Arial"/>
              </a:rPr>
              <a:t>Of-Date" Frames - 8</a:t>
            </a:r>
            <a:endParaRPr b="1" lang="en-US" sz="3200" spc="-1" strike="noStrike">
              <a:solidFill>
                <a:srgbClr val="081d58"/>
              </a:solidFill>
              <a:latin typeface="Arial"/>
            </a:endParaRPr>
          </a:p>
        </p:txBody>
      </p:sp>
      <p:sp>
        <p:nvSpPr>
          <p:cNvPr id="300" name=""/>
          <p:cNvSpPr/>
          <p:nvPr/>
        </p:nvSpPr>
        <p:spPr>
          <a:xfrm>
            <a:off x="430200" y="1773360"/>
            <a:ext cx="7758000" cy="403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mean ecliptic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cliptic of date and points towar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cliptic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CLIPTIC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OBLIQ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DB670E3B-D1AE-4368-BFC9-8B483DA1DF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555120" y="1214280"/>
            <a:ext cx="8178840" cy="56260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ler frames are defined by a time-dependent rotation relative to a base frame.</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from an Euler frame to its base frame is given by three Euler angle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ngle is given by a separate polynomial.</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lynomials may have different degre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dependent variable is a time offset, in TDB seconds, from an epoch specified by the frame kernel creator.</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its associated with the angles are specified by the frame kernel creator.  Angles are converted to radians internally by SPICE.</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quence of rotation axes is specified by the frame kernel creator.</a:t>
            </a:r>
            <a:endParaRPr b="1" lang="en-US" sz="20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ral axis must differ from the other two.</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tation from the Euler frame to the base frame is</a:t>
            </a:r>
            <a:endParaRPr b="1" lang="en-US" sz="1800" spc="-1" strike="noStrike">
              <a:solidFill>
                <a:srgbClr val="000000"/>
              </a:solidFill>
              <a:latin typeface="Arial"/>
            </a:endParaRPr>
          </a:p>
          <a:p>
            <a:pPr lvl="3" marL="1542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le_1]</a:t>
            </a:r>
            <a:r>
              <a:rPr b="1" lang="en-US" sz="1800" spc="-1" strike="noStrike" baseline="-25000">
                <a:solidFill>
                  <a:srgbClr val="000000"/>
                </a:solidFill>
                <a:latin typeface="Arial"/>
              </a:rPr>
              <a:t>axis_1</a:t>
            </a:r>
            <a:r>
              <a:rPr b="1" lang="en-US" sz="1800" spc="-1" strike="noStrike">
                <a:solidFill>
                  <a:srgbClr val="000000"/>
                </a:solidFill>
                <a:latin typeface="Arial"/>
              </a:rPr>
              <a:t> [angle_2]</a:t>
            </a:r>
            <a:r>
              <a:rPr b="1" lang="en-US" sz="1800" spc="-1" strike="noStrike" baseline="-25000">
                <a:solidFill>
                  <a:srgbClr val="000000"/>
                </a:solidFill>
                <a:latin typeface="Arial"/>
              </a:rPr>
              <a:t>axis_2</a:t>
            </a:r>
            <a:r>
              <a:rPr b="1" lang="en-US" sz="1800" spc="-1" strike="noStrike">
                <a:solidFill>
                  <a:srgbClr val="000000"/>
                </a:solidFill>
                <a:latin typeface="Arial"/>
              </a:rPr>
              <a:t> [angle_3]</a:t>
            </a:r>
            <a:r>
              <a:rPr b="1" lang="en-US" sz="1800" spc="-1" strike="noStrike" baseline="-25000">
                <a:solidFill>
                  <a:srgbClr val="000000"/>
                </a:solidFill>
                <a:latin typeface="Arial"/>
              </a:rPr>
              <a:t>axis_3</a:t>
            </a:r>
            <a:r>
              <a:rPr b="1" lang="en-US" sz="1800" spc="-1" strike="noStrike">
                <a:solidFill>
                  <a:srgbClr val="000000"/>
                </a:solidFill>
                <a:latin typeface="Arial"/>
              </a:rPr>
              <a:t>   (</a:t>
            </a:r>
            <a:r>
              <a:rPr b="1" lang="en-US" sz="1600" spc="-1" strike="noStrike">
                <a:solidFill>
                  <a:srgbClr val="000000"/>
                </a:solidFill>
                <a:latin typeface="Arial"/>
              </a:rPr>
              <a:t>units are radians)</a:t>
            </a:r>
            <a:endParaRPr b="1" lang="en-US" sz="16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15B2FAE-CA7D-4F12-9A59-23E8083EC9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07600" y="1322280"/>
            <a:ext cx="8294760" cy="53006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application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ersion of earth magnetospheric frame (MAG)</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tude and longitude of the north centered geomagnetic dipole are given by polynomial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ning spacecraft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e frame could be a:</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t-in inertial frame</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ernel frame</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celestial frame (using lock star)</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ir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centric frames for tracking stations for which plate motion is modeled</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ame rotation keeps the frame orientation consistent with the changing station location.</a:t>
            </a:r>
            <a:endParaRPr b="1" lang="en-US" sz="2000" spc="-1" strike="noStrike">
              <a:solidFill>
                <a:srgbClr val="000000"/>
              </a:solidFill>
              <a:latin typeface="Arial"/>
            </a:endParaRPr>
          </a:p>
        </p:txBody>
      </p:sp>
      <p:sp>
        <p:nvSpPr>
          <p:cNvPr id="305"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B33284A-9788-445E-A917-82590FAA42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00200" y="1321920"/>
            <a:ext cx="7772400" cy="504036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or true body equator and earth equinox of date frame, where the body is a planet or satellite other than the earth</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e frame is an IAU_&lt;body&gt;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ler frame "removes" the body's rotation about the spin axi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 on supported "of dat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isting supported "of date" frame is used as the bas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turbations to the "of date" frame are expressed using Euler angle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7"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830C456-3F40-471C-B5D0-713D38A581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2"/>
          <p:cNvSpPr>
            <a:spLocks noGrp="1"/>
          </p:cNvSpPr>
          <p:nvPr>
            <p:ph type="title"/>
          </p:nvPr>
        </p:nvSpPr>
        <p:spPr>
          <a:xfrm>
            <a:off x="3738600" y="380520"/>
            <a:ext cx="3286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4</a:t>
            </a:r>
            <a:endParaRPr b="1" lang="en-US" sz="3200" spc="-1" strike="noStrike">
              <a:solidFill>
                <a:srgbClr val="081d58"/>
              </a:solidFill>
              <a:latin typeface="Arial"/>
            </a:endParaRPr>
          </a:p>
        </p:txBody>
      </p:sp>
      <p:sp>
        <p:nvSpPr>
          <p:cNvPr id="310" name=""/>
          <p:cNvSpPr/>
          <p:nvPr/>
        </p:nvSpPr>
        <p:spPr>
          <a:xfrm>
            <a:off x="430200" y="1293840"/>
            <a:ext cx="7758000" cy="5182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s an example, we construct an Euler frame called IAU_MARS_EUL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AU_MARS_EULER is mathematically identical to the PCK frame named IAU_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PCK data defining the underlying IAU_MARS frame ar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OLE_RA  = ( 317.68143  -0.1061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OLE_DEC = (  52.88650  -0.0609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M       = ( 176.630   350.89198226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lative to the angles used to define the IAU_MARS frame, the angles for ou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uler frame definition are reversed and the signs negated. Angular units ar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egrees. Rate units are degrees/second, unlike the PCK units of degrees/da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gle_3 is  90 + RA                      angle_1 is -90 - R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CK:  angle_2 is  90 - Dec       Euler Frame:  angle_2 is -90 + Dec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gle_1 is       PM                      angle_3 is     - P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IAU_MARS_EULER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IAU_MARS_EULE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499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EULE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EPOCH          = @2000-JAN-1/12:0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XES           = ( 3 1 3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UNITS          = 'DEGRE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1_COEFFS = ( -47.68143 0.33621061170684714E-1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2_COEFFS = ( -37.1135 -0.19298045478743630E-1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3_COEFFS = ( -176.630 -0.40612497946759260E-02 ) </a:t>
            </a:r>
            <a:endParaRPr b="0" lang="en-US" sz="1200" spc="-1" strike="noStrike">
              <a:solidFill>
                <a:srgbClr val="000000"/>
              </a:solidFill>
              <a:latin typeface="Times New Roman"/>
            </a:endParaRPr>
          </a:p>
        </p:txBody>
      </p:sp>
      <p:sp>
        <p:nvSpPr>
          <p:cNvPr id="311" name=""/>
          <p:cNvSpPr/>
          <p:nvPr/>
        </p:nvSpPr>
        <p:spPr>
          <a:xfrm>
            <a:off x="5999040" y="4435560"/>
            <a:ext cx="2902680" cy="42228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ED028F37-C542-46A4-9A4F-38B002F9A6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69880" y="1368000"/>
            <a:ext cx="8059680" cy="51404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rozen dynamic frame is a "Snapshot" of a dynamic frame at a specified epoch.</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ame is frozen relative to the base frame specified by the frame kernel creator in the frame kernel definition.</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from the frozen frame to the base frame is constan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is not frozen with respect to inertial frames unless the base frame is inerti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frame is designated frozen by the presence of a "freeze epoch" specification in the frame definition, for example:</a:t>
            </a:r>
            <a:endParaRPr b="1" lang="en-US" sz="2000" spc="-1" strike="noStrike">
              <a:solidFill>
                <a:srgbClr val="000000"/>
              </a:solidFill>
              <a:latin typeface="Arial"/>
            </a:endParaRPr>
          </a:p>
          <a:p>
            <a:pPr lvl="1" marL="68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lt;FRAME_ID&gt;_FREEZE_EPOCH = @1949-DEC-31/22:09:46.861901</a:t>
            </a:r>
            <a:endParaRPr b="1" lang="en-US" sz="1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eeze epoch is given in SPICE text kernel format, as is used in a leapseconds kernel.</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2"/>
          <p:cNvSpPr>
            <a:spLocks noGrp="1"/>
          </p:cNvSpPr>
          <p:nvPr>
            <p:ph type="title"/>
          </p:nvPr>
        </p:nvSpPr>
        <p:spPr>
          <a:xfrm>
            <a:off x="26636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ozen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21D65F4-A8B2-46BA-AB6F-F31780A9B9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PlaceHolder 2"/>
          <p:cNvSpPr>
            <a:spLocks noGrp="1"/>
          </p:cNvSpPr>
          <p:nvPr>
            <p:ph type="title"/>
          </p:nvPr>
        </p:nvSpPr>
        <p:spPr>
          <a:xfrm>
            <a:off x="26762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ozen Dynamic Frames - 2</a:t>
            </a:r>
            <a:endParaRPr b="1" lang="en-US" sz="3200" spc="-1" strike="noStrike">
              <a:solidFill>
                <a:srgbClr val="081d58"/>
              </a:solidFill>
              <a:latin typeface="Arial"/>
            </a:endParaRPr>
          </a:p>
        </p:txBody>
      </p:sp>
      <p:sp>
        <p:nvSpPr>
          <p:cNvPr id="316" name=""/>
          <p:cNvSpPr/>
          <p:nvPr/>
        </p:nvSpPr>
        <p:spPr>
          <a:xfrm>
            <a:off x="430200" y="1773360"/>
            <a:ext cx="7758000" cy="370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ozen version of Earth mean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quator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REEZE_EPOCH      = @1949-DEC-31/22:09:46.861901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3CF7616-498A-4577-9489-639D3556F3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92280" y="1247400"/>
            <a:ext cx="7772400" cy="51642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ertial dynamic frames are specified by setting the rotation state to 'INERTIAL' in the rotation state assignment:</a:t>
            </a:r>
            <a:endParaRPr b="1" lang="en-US" sz="2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AME_&lt;FRAME_ID&gt;_ROTATION_STATE = 'INERTIAL'</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ERTIAL' state implies the frame is treated as inertial for the purpose of velocity transform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te transformation between any inertial frame and "inertial dynamic frame" has zero derivative block:  the state transformation matrix has the form</a:t>
            </a:r>
            <a:endParaRPr b="1" lang="en-US" sz="20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ourier New"/>
              </a:rPr>
              <a:t>R(t)  |   0    </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0    |  R(t) </a:t>
            </a:r>
            <a:endParaRPr b="1" lang="en-US" sz="24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re R(t) is a time-dependent rotation.</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2"/>
          <p:cNvSpPr>
            <a:spLocks noGrp="1"/>
          </p:cNvSpPr>
          <p:nvPr>
            <p:ph type="title"/>
          </p:nvPr>
        </p:nvSpPr>
        <p:spPr>
          <a:xfrm>
            <a:off x="26618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DD8F6AE-F900-4D0D-90CC-3A0710300A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92280" y="1370160"/>
            <a:ext cx="7772400" cy="504648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trast, for any rotating frame R(t), the state transformation between any inertial frame and R(t) has a corresponding matrix of the form</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ourier New"/>
              </a:rPr>
              <a:t>R(t)   |   0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R(t)/dt|  R(t)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ertial rotation stat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s velocity transformations:  velocities are transformed by a rotat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be useful for maintaining consistency with other dynamic frame implement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makes sense if the "inertial" dynamic frame actually rotates very slowly!</a:t>
            </a:r>
            <a:endParaRPr b="1" lang="en-US" sz="20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type="title"/>
          </p:nvPr>
        </p:nvSpPr>
        <p:spPr>
          <a:xfrm>
            <a:off x="26618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3AD6DFB-91A0-4C01-ACAA-0D985645F9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PlaceHolder 2"/>
          <p:cNvSpPr>
            <a:spLocks noGrp="1"/>
          </p:cNvSpPr>
          <p:nvPr>
            <p:ph type="title"/>
          </p:nvPr>
        </p:nvSpPr>
        <p:spPr>
          <a:xfrm>
            <a:off x="26762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3</a:t>
            </a:r>
            <a:endParaRPr b="1" lang="en-US" sz="3200" spc="-1" strike="noStrike">
              <a:solidFill>
                <a:srgbClr val="081d58"/>
              </a:solidFill>
              <a:latin typeface="Arial"/>
            </a:endParaRPr>
          </a:p>
        </p:txBody>
      </p:sp>
      <p:sp>
        <p:nvSpPr>
          <p:cNvPr id="324" name=""/>
          <p:cNvSpPr/>
          <p:nvPr/>
        </p:nvSpPr>
        <p:spPr>
          <a:xfrm>
            <a:off x="430200" y="1773360"/>
            <a:ext cx="7758000" cy="3869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nertial version of Earth true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true equator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RUE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UT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INERTI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03688DE-1F3B-41CF-8A2C-73DE097A42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28280" y="1337760"/>
            <a:ext cx="8064360" cy="5208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ing</a:t>
            </a:r>
            <a:r>
              <a:rPr b="1" lang="en-US" sz="2400" spc="-1" strike="noStrike">
                <a:solidFill>
                  <a:srgbClr val="000000"/>
                </a:solidFill>
                <a:latin typeface="Arial"/>
              </a:rPr>
              <a:t> already defined dynamic frames in a SPICE-based program is straightforwar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ogram initializat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one or more dynamic frame kernels to make frame definitions known to SPIC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any kernels on which the dynamic frames depend.</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ynamic frames are defined using data from SPK, FK, PCK, CK or other SPICE kernel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refer to the dynamic frame or frames by name in calls to SPICE routin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as you would do with built-in frames such as "J2000."</a:t>
            </a:r>
            <a:endParaRPr b="1" lang="en-US" sz="2000" spc="-1" strike="noStrike">
              <a:solidFill>
                <a:srgbClr val="000000"/>
              </a:solidFill>
              <a:latin typeface="Arial"/>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1" lang="en-US" sz="2400" spc="-1" strike="noStrike">
              <a:solidFill>
                <a:srgbClr val="000000"/>
              </a:solidFill>
              <a:latin typeface="Arial"/>
            </a:endParaRPr>
          </a:p>
        </p:txBody>
      </p:sp>
      <p:sp>
        <p:nvSpPr>
          <p:cNvPr id="122"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3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458F580-BBCB-4FB9-87FB-5CD29FEB07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IF is developing a "generic" dynamic frames kernel.</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contain widely applicable dynamic frame defini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ogous to generic PCK fil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included fram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E, GSM, MAG</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quator and equinox of date, 1976 vers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true equator and equinox of date, 1980 version</a:t>
            </a:r>
            <a:endParaRPr b="1" lang="en-US" sz="2000" spc="-1" strike="noStrike">
              <a:solidFill>
                <a:srgbClr val="000000"/>
              </a:solidFill>
              <a:latin typeface="Arial"/>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2"/>
          <p:cNvSpPr>
            <a:spLocks noGrp="1"/>
          </p:cNvSpPr>
          <p:nvPr>
            <p:ph type="title"/>
          </p:nvPr>
        </p:nvSpPr>
        <p:spPr>
          <a:xfrm>
            <a:off x="2176560" y="380520"/>
            <a:ext cx="6377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neric Dynamic Frames Kernel</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430AA50F-2BD6-4874-A416-83F3F82459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54360" y="380520"/>
            <a:ext cx="1595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32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n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erical Issu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tion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8805FB5-E12B-43CD-86BC-83B2BF28B5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provide dynamic fram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ould build C-kernel for *any*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could provide a limited number of "built-in" dynamic frames which wouldn't require a frame kerne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can (and do) create their own routines to implement dynamic frames.</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nience:  using a formula rather than a C-kernel avoids C-kernel creation, dissemination, storage, and consistency issu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ility:  the dynamic frame mechanism enables creation of a vast variety of reference fram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nce defined, and once supporting kernels are loaded, dynamic frames may be referenced in SPICE API calls.</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2"/>
          <p:cNvSpPr>
            <a:spLocks noGrp="1"/>
          </p:cNvSpPr>
          <p:nvPr>
            <p:ph type="title"/>
          </p:nvPr>
        </p:nvSpPr>
        <p:spPr>
          <a:xfrm>
            <a:off x="4376880" y="380520"/>
            <a:ext cx="1955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ationa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6C3BFB73-4BC1-4DD0-B578-A4EBC866EF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vector frame derivatives may be inaccurate.  Let R(t) represent a time-dependent rot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CK data, dR(t)/dt may be inaccurate because CK rates frequently have low accura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velocity vectors, then dR(t)/dt depends on acceleration determined via numerical differentiation.  Typically such derivatives suffer loss of accurac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velocities are "well-behaved," numerically derived acceleration can be quite good.  Example:  GSE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position vectors, the velocities associated with those vectors by the SPK system may not be mathematically consistent with the positions.  This can happen for SPK types with separate polynomials for position and velocity, such as types 3, 8, 9, and 14.</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aberration-corrected vectors, the associated velocities may be inaccurate due to accuracy limitations of the aberration corrections applied to velocities by the SPK system.</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PlaceHolder 2"/>
          <p:cNvSpPr>
            <a:spLocks noGrp="1"/>
          </p:cNvSpPr>
          <p:nvPr>
            <p:ph type="title"/>
          </p:nvPr>
        </p:nvSpPr>
        <p:spPr>
          <a:xfrm>
            <a:off x="3333600" y="380520"/>
            <a:ext cx="4051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umerical Issu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09026AB-5227-4F7B-9D39-B977187B8C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using aberration corrections in two-vector frame definitions, if accurate velocity transformations are requir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ware of  the accuracy of the data on which two-vector frames are based. </a:t>
            </a:r>
            <a:endParaRPr b="1" lang="en-US" sz="1800" spc="-1" strike="noStrike">
              <a:solidFill>
                <a:srgbClr val="000000"/>
              </a:solidFill>
              <a:latin typeface="Arial"/>
            </a:endParaRPr>
          </a:p>
        </p:txBody>
      </p:sp>
      <p:sp>
        <p:nvSpPr>
          <p:cNvPr id="335" name="PlaceHolder 2"/>
          <p:cNvSpPr>
            <a:spLocks noGrp="1"/>
          </p:cNvSpPr>
          <p:nvPr>
            <p:ph type="title"/>
          </p:nvPr>
        </p:nvSpPr>
        <p:spPr>
          <a:xfrm>
            <a:off x="3333600" y="380520"/>
            <a:ext cx="4051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umerical Issu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8F14B2C-A5C3-4347-AB28-64ADC11006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ed recurs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I Fortran 77 doesn't support recursion, so the SPICE dynamic frame system implements limited, simulated recursion.</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two levels of recursion are supported for selected SPK and Frame System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must avoid requesting "deeper" recursion than the SPICE dynamic frame system can suppor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efining dynamic frames:</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J2000 as the base frame for two-vector frames.</a:t>
            </a:r>
            <a:endParaRPr b="1" lang="en-US" sz="16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 for Euler frames, avoid using dynamic frames as base frames.</a:t>
            </a:r>
            <a:endParaRPr b="1" lang="en-US" sz="16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to avoid choosing a dynamic frame as the frame associated with a velocity or constant vector.</a:t>
            </a:r>
            <a:endParaRPr b="1" lang="en-US" sz="16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PK, CK, or PCK kernels, don't use two-vector frames as the base frame relative to which ephemeris or attitude data are specified.</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ate" or Euler frames are OK for this purpose.</a:t>
            </a:r>
            <a:endParaRPr b="1" lang="en-US" sz="1600" spc="-1" strike="noStrike">
              <a:solidFill>
                <a:srgbClr val="000000"/>
              </a:solidFill>
              <a:latin typeface="Arial"/>
            </a:endParaRPr>
          </a:p>
        </p:txBody>
      </p:sp>
      <p:sp>
        <p:nvSpPr>
          <p:cNvPr id="337" name="PlaceHolder 2"/>
          <p:cNvSpPr>
            <a:spLocks noGrp="1"/>
          </p:cNvSpPr>
          <p:nvPr>
            <p:ph type="title"/>
          </p:nvPr>
        </p:nvSpPr>
        <p:spPr>
          <a:xfrm>
            <a:off x="3927600" y="380520"/>
            <a:ext cx="2876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ation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69A3AF7-B34D-44E1-92CA-660FD539DE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time effici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frame evaluation typically requires more computation than is needed for CK or PCK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evaluation of a two-vector frame may involve several SPK cal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ler frames are an exception:  these are fairly efficient as long as they don't have a base frame that requires a lot of computation to evalua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inimize the performance penalt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J2000 as the base frame for two-vector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simplest frames possible for association with velocity or constant vectors in two-vector frame definitions.</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 non-dynamic frames to dynamic frames and inertial frames to non-inertial frames where there is a choice.</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9" name="PlaceHolder 2"/>
          <p:cNvSpPr>
            <a:spLocks noGrp="1"/>
          </p:cNvSpPr>
          <p:nvPr>
            <p:ph type="title"/>
          </p:nvPr>
        </p:nvSpPr>
        <p:spPr>
          <a:xfrm>
            <a:off x="3927600" y="380520"/>
            <a:ext cx="2876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ation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6FBD88B5-4D69-4D3A-A4C0-42474B9ED21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6200" y="1352520"/>
            <a:ext cx="8326440" cy="53244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find the 6x6 matrix to transform states from the J2000 frame to the Geocentric Solar Ecliptic (GSE) frame at the TDB epoch given by ET.</a:t>
            </a:r>
            <a:endParaRPr b="1" lang="en-US" sz="2000" spc="-1" strike="noStrike">
              <a:solidFill>
                <a:srgbClr val="000000"/>
              </a:solidFill>
              <a:latin typeface="Arial"/>
            </a:endParaRPr>
          </a:p>
          <a:p>
            <a:pPr lvl="3" marL="15429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XFORM( 'J2000', 'GSE', ET, XFORM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look up the state of Jupiter relative to the earth in the GSE frame:</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LL SPKEZR( 'JUPITER', ET,      'GSE',  </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ONE',    'EARTH', STATE, L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fer to dynamic frames in SPK or CK files, for exampl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create an SPK file, you can have an SPK segment reference its ephemeris data to the true earth equator and equinox of date referenc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some restrictions apply to use of dynamic frames in SPICE kernels (see Backup slides).</a:t>
            </a:r>
            <a:endParaRPr b="1" lang="en-US" sz="2000" spc="-1" strike="noStrike">
              <a:solidFill>
                <a:srgbClr val="000000"/>
              </a:solidFill>
              <a:latin typeface="Arial"/>
            </a:endParaRPr>
          </a:p>
        </p:txBody>
      </p:sp>
      <p:sp>
        <p:nvSpPr>
          <p:cNvPr id="124"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4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05AD60C-A108-4FCF-B2AB-C4465853D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28280" y="1279440"/>
            <a:ext cx="8064360" cy="52675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fine dynamic frames via a frame kernel, a fairly detailed understanding of the SPICE dynamic frame capability is requir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understanding of the basic SPICE system (in particular, the SPK and Frame systems) is also a prerequisite for defining dynamic fram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the Frames Required Reading for the most detailed documentation availab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t of this tutorial is concerned with: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ining the SPICE dynamic frames capabil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ing how to create dynamic frame kerne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present many frame definition examples.</a:t>
            </a:r>
            <a:endParaRPr b="1" lang="en-US" sz="1800" spc="-1" strike="noStrike">
              <a:solidFill>
                <a:srgbClr val="000000"/>
              </a:solidFill>
              <a:latin typeface="Arial"/>
            </a:endParaRPr>
          </a:p>
        </p:txBody>
      </p:sp>
      <p:sp>
        <p:nvSpPr>
          <p:cNvPr id="126"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5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E99A97CD-F49B-4848-ADA0-0EC14D583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7480" y="1496520"/>
            <a:ext cx="8064720" cy="524196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nvolving reference frames and vector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is short for "reference fram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 can be thought of as a set of three mutually orthogonal, unit-length vectors.  </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vectors are called "basis vectors."  The lines containing the basis vectors are the "axes" of the frame.  </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is vectors indicate the "positive" axis directions; we label these vectors +X, +Y, and +Z.  The negatives of these vectors are labeled -X, -Y, and -Z.</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umber the axes as follows:</a:t>
            </a:r>
            <a:endParaRPr b="1" lang="en-US" sz="2000" spc="-1" strike="noStrike">
              <a:solidFill>
                <a:srgbClr val="000000"/>
              </a:solidFill>
              <a:latin typeface="Arial"/>
            </a:endParaRPr>
          </a:p>
          <a:p>
            <a:pPr lvl="3" marL="1527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axis 1;   Y = axis 2;   Z = axis 3</a:t>
            </a:r>
            <a:endParaRPr b="1" lang="en-US" sz="18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 frames we'll deal with are "right-handed": this means +Z is the cross product +X  x  +Y.</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ference frame's orientation is always defined relative to another specified frame:  the "base frame."</a:t>
            </a:r>
            <a:endParaRPr b="1" lang="en-US" sz="2000" spc="-1" strike="noStrike">
              <a:solidFill>
                <a:srgbClr val="000000"/>
              </a:solidFill>
              <a:latin typeface="Arial"/>
            </a:endParaRPr>
          </a:p>
        </p:txBody>
      </p:sp>
      <p:sp>
        <p:nvSpPr>
          <p:cNvPr id="128" name="PlaceHolder 2"/>
          <p:cNvSpPr>
            <a:spLocks noGrp="1"/>
          </p:cNvSpPr>
          <p:nvPr>
            <p:ph type="title"/>
          </p:nvPr>
        </p:nvSpPr>
        <p:spPr>
          <a:xfrm>
            <a:off x="3778200" y="380520"/>
            <a:ext cx="31528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1</a:t>
            </a:r>
            <a:endParaRPr b="1" lang="en-US" sz="3200" spc="-1" strike="noStrike">
              <a:solidFill>
                <a:srgbClr val="081d58"/>
              </a:solidFill>
              <a:latin typeface="Arial"/>
            </a:endParaRPr>
          </a:p>
        </p:txBody>
      </p:sp>
      <p:sp>
        <p:nvSpPr>
          <p:cNvPr id="129" name=""/>
          <p:cNvSpPr/>
          <p:nvPr/>
        </p:nvSpPr>
        <p:spPr>
          <a:xfrm>
            <a:off x="8137440" y="414360"/>
            <a:ext cx="184320" cy="25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936A98F-1378-484D-B3E0-2E4A6864A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28280" y="1269720"/>
            <a:ext cx="8064360" cy="5267160"/>
          </a:xfrm>
          <a:prstGeom prst="rect">
            <a:avLst/>
          </a:prstGeom>
          <a:noFill/>
          <a:ln w="0">
            <a:noFill/>
          </a:ln>
        </p:spPr>
        <p:txBody>
          <a:bodyPr lIns="90360" rIns="90360" tIns="44280" bIns="44280" anchor="t">
            <a:normAutofit/>
          </a:bodyPr>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we say that a frame is "time-dependent" or "time-varying," we mea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rientation of the frame is time-dependen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valently, the rotation between the frame and its base frame is time-depend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valuating" a frame or "evaluating the orientation of a frame," we mean computing the rotation between the frame and its base frame.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poch is required in order to evaluate a dynamic fram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PICE system, frames are considered to have "centers."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er of a frame is always an ephemeris object, something whose location can be specified with an SPK file.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centers come into play when light time corrections are used:  the apparent orientation of a time-dependent frame as seen by an observer is affected by the one-way light time between the frame's center and the observer.</a:t>
            </a:r>
            <a:endParaRPr b="1" lang="en-US" sz="1800" spc="-1" strike="noStrike">
              <a:solidFill>
                <a:srgbClr val="000000"/>
              </a:solidFill>
              <a:latin typeface="Arial"/>
            </a:endParaRPr>
          </a:p>
        </p:txBody>
      </p:sp>
      <p:sp>
        <p:nvSpPr>
          <p:cNvPr id="131" name="PlaceHolder 2"/>
          <p:cNvSpPr>
            <a:spLocks noGrp="1"/>
          </p:cNvSpPr>
          <p:nvPr>
            <p:ph type="title"/>
          </p:nvPr>
        </p:nvSpPr>
        <p:spPr>
          <a:xfrm>
            <a:off x="3785760" y="380520"/>
            <a:ext cx="3148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13A065F-A5FD-4567-B3D0-058796DD94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1999-09-20T21:11:41Z</cp:lastPrinted>
  <dcterms:modified xsi:type="dcterms:W3CDTF">2007-10-12T23:52:46Z</dcterms:modified>
  <cp:revision>815</cp:revision>
  <dc:subject/>
  <dc:title>No Slide Title</dc:title>
</cp:coreProperties>
</file>