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688E-1EBA-46E1-AACA-13B52D657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10BDD-2C3F-4AE7-BAE6-366C0F100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028B5-F8DD-4D02-8843-7225B77FB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C1BC7-7701-4942-8A36-74980766E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F420-8883-4DBF-8DEE-B7D51DDAE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F6D58-6C12-4C32-A2D6-3ED2C4A3F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2BD3-2F92-47C6-B616-097FB290A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3EAA1-90F8-4D01-9D38-05F243A77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DCB13-32C2-4E7F-A013-90077F63D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532D-3502-42F9-8BFA-A5E5ACBE6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F17A1-0B35-42AB-9A69-092495498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63E3-0AF8-4D81-BEE7-2239BEB49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992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16800"/>
            <a:ext cx="289080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41760" y="6616800"/>
            <a:ext cx="19018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8751A0-8A23-4C5F-B00B-03512213586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8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3520" y="22813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62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132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144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296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1680" y="2263320"/>
            <a:ext cx="7799400" cy="52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Writing an Icy (IDL) Based Program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391440" cy="17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318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76320" y="380520"/>
            <a:ext cx="71596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Compute Lat/Lon and Illumination Ang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1120" y="1353960"/>
            <a:ext cx="776268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planetocentric lat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long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as well as the planetodetic lat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long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 the intersection point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 found ) then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spice_reclat, point, r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clon, pc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03200" y="3160800"/>
            <a:ext cx="77630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;; Let re, rp, and f be the satellite's longer equa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;; radius, polar radius, and flattening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  =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radii[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p  =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radii[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   =  ( re – rp ) / 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spice_recgeo, point, re, f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9440" y="5235480"/>
            <a:ext cx="776268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llumination angles we want are the outputs of cspice_illum.  Units are rad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illum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‘CN+S’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emis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165D-2FEB-4A32-B033-4EB7AEB2B659}" type="slidenum">
              <a:t>10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5410080"/>
            <a:ext cx="805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illum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‘CN+S’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oint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emis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if else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6280" y="1336680"/>
            <a:ext cx="786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Compute the boresight ray intersection with the surface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target body. `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 and cspice_vnorm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yield desired ran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3720" y="1874880"/>
            <a:ext cx="77835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srfxpt, ‘Ellipsoid’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‘CN+S’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, dist, trgepc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bspos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,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4120" y="2411280"/>
            <a:ext cx="814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If an intercept is found, compute planetocentric and planetodetic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latitude and longitude of the poi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928960"/>
            <a:ext cx="830592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found ) then begin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reclat, point, r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on, pc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Let re, rp, and f be the satellite's longer equa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radius, polar radius, and flattening fac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  =  radii[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 =  radii[2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   =  ( re – rp ) /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recgeo, point, re, f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a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920" y="5029200"/>
            <a:ext cx="636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Compute illumination angles at the surface poi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16000" y="380520"/>
            <a:ext cx="66549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ometry Calculations: 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05CF-8780-4401-8A84-F4EF0EEBB4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90480" y="1596600"/>
            <a:ext cx="7996320" cy="465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de above used quite a few inputs that we don't have ye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DB epoch of interest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 and s/c names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 sc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 ellipsoid radii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fixed frame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boresight vector in the instrument fr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these values are user inputs; others can be obtained via CSPICE call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the required kernels have been load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's prompt for the satellite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spacecraft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instrum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time of interest 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, PROMPT='Enter satellite name  &gt; 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, PROMPT='Enter spacecraft name &gt; 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 PROMPT='Enter instrument name &gt; 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, PROMPT='Enter time            &gt; 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981240" y="380520"/>
            <a:ext cx="2724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input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595FA-5DC8-493C-90ED-C90C917A2FE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81240" y="380520"/>
            <a:ext cx="2724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Input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3720" y="2890800"/>
            <a:ext cx="802656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1346040"/>
            <a:ext cx="810252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 we can get the rest of the inputs from Icy cal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TDB epoch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from the user-supplied time string (which m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 to the UTC, TDB or TT time system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str2et, tim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720" y="2660760"/>
            <a:ext cx="783432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satellite’s ellipsoid radii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bodvrd, satnm, "RADII", 3, rad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720" y="3313080"/>
            <a:ext cx="783432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instrument boresight direction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the name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fr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n which it is defin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bodn2c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instid,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NOT found ) then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"Unable to determine ID for instrument: ", instnm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getfov, instid, ROOM, shap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bund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F3A01-59EA-4302-8193-6F0E0E40946C}" type="slidenum">
              <a:t>13</a:t>
            </a:fld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50497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ting inputs:  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0160" y="5029200"/>
            <a:ext cx="758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bodn2c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instid,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getfov, instid, ROOM, shap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bund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08000" y="1371600"/>
            <a:ext cx="70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Prompt for the user-supplied inputs for our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10520" y="1600200"/>
            <a:ext cx="551484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MPT='Enter setup file name &gt; 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furnsh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, PROMPT='Enter satellite name 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, PROMPT='Enter spacecraft name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MPT='Enter instrument name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, PROMPT='Enter time           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27672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Get the epoch corresponding to the input ti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8120" y="373392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str2et, tim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8840" y="403848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Get the radii of the satelli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4343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bodvr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"RADII", 3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9200" y="4724280"/>
            <a:ext cx="55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Get the instrument boresight and frame n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16D8C-C95E-4633-B8A8-B3343413DD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38320" y="380520"/>
            <a:ext cx="30178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splay resul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1295280"/>
            <a:ext cx="78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Display results. Convert angles from radians to degrees for outp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522440"/>
            <a:ext cx="73850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lanetocentric longitude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dpr()*pc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lanetocentric latitude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dpr()*pcl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lanetodetic longitude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dpr()*pd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lanetodetic latitude 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dpr()*pd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Range from spacecraft to intercept point (km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Range from spacecraft to target center   (km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vnorm(obsp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hase angle           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dpr()*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solar incidence angle 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dpr()*so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emission angle        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dpr()*emis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638680"/>
            <a:ext cx="7545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if else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No intercept point found at ' +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DAF98-182C-42F2-B18D-FB6DC6BFDC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finish up the program we need to declare the variables we've 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'll highlight techniques used by NAIF programmer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remaining IDL code required to make a syntactically valid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116160" y="380520"/>
            <a:ext cx="44625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3962520"/>
            <a:ext cx="3504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BCORR = ’CN+S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OM   = 10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upf = '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nm  = '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nm   = '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nm = '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me   = '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2D    = cspice_dp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4280" y="35812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 PROG_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EDD6-56A2-47A1-A217-FC947F3C43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67040" y="380520"/>
            <a:ext cx="49593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4648320"/>
            <a:ext cx="70866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bodn2c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instid,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NOT found ) then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"Unable to determine ID for instrument: ", instnm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getfov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id, ROOM, shape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, 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nd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371600"/>
            <a:ext cx="732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Prompt for the user-supplied inputs for our 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600200"/>
            <a:ext cx="7467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MPT='Enter setup file name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furnsh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, PROMPT='Enter satellite name 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, PROMPT='Enter spacecraft name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MPT='Enter instrument name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, PROMPT='Enter time           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04812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Get the epoch corresponding to the input ti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3276720"/>
            <a:ext cx="333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str2et, tim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6576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Get the radii of the satelli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38862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bodvr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'RADII', 3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4267080"/>
            <a:ext cx="58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Get the instrument boresight and frame n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75D7C-6DDF-4E31-B23D-3DF0160E96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4876920"/>
            <a:ext cx="80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illum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BCORR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oint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emis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6280" y="1235160"/>
            <a:ext cx="786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Compute the boresight ray intersection with the surface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target body. `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 and cspice_vnorm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yield desired ran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676520"/>
            <a:ext cx="759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srfxpt, 'Ellipsoid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BCORR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scnm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d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gepc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obsp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4120" y="2238480"/>
            <a:ext cx="795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If an intercept is found, compute planetocentric and planetodetic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latitude and longitude of the poi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2666880"/>
            <a:ext cx="784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found ) then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reclat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int, r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pc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pc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Let re, rp, and f be the satellite's longer equator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radius, polar radius, and flattening fact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 = radii[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= radii[2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  = ( re - rp ) /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recgeo, point, re, f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pd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7960" y="4648320"/>
            <a:ext cx="636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Compute illumination angles at the surface poi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63800" y="380520"/>
            <a:ext cx="49593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5638680"/>
            <a:ext cx="752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lanetocentric longitude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2D*pc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5181480"/>
            <a:ext cx="752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Display results.  Convert angles from radians to degre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for outp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04F3-9FB0-4D82-956A-1B50CF7DE2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73520" y="380520"/>
            <a:ext cx="49514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1600200"/>
            <a:ext cx="7758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lanetocentric latitude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2D*pcl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lanetodetic longitude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2D*pd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lanetodetic latitude 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2D*pd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Range from spacecraft to intercept point (km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Range from spacecraft to target center   (km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vnorm(obsp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hase angle           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2D*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solar incidence angle 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2D*so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emission angle        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2D*emis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5029200"/>
            <a:ext cx="7772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if else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No intercept point found at ' +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Unload the kernels and clear the kernel p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kcl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8F82F-A0C5-4278-9F4C-B745F5DF97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05120" y="2666520"/>
            <a:ext cx="58672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is coding example is an “animated” presentation that is best viewed using PowerPoint set to “Slide Show” mo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ndefined variables are displayed in red; results are displayed in b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236760" y="380520"/>
            <a:ext cx="42134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ewing This Tutorial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4BC38-4185-4071-91A2-BBFC3F36E8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63040" cy="32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ough IDL functions in a manner similar to interpreted languages, it does compile source files to a binary for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e that both the Icy Toolkit, and an IDL installation are properly installed. IDL must load the Icy DLM, icy.dlm/icy.so(dll) to compile those scripts containing Icy calls. IDL loads DLMs from default locations and from the current directory when the user ran IDL. The user may also explicitly load a DLM with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lm_regis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w compile the cod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3233520" y="380520"/>
            <a:ext cx="42145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ile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52F53-8A96-4A9F-A7AB-FB85188C2ED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380880" y="1447920"/>
            <a:ext cx="8501040" cy="4782960"/>
            <a:chOff x="380880" y="1447920"/>
            <a:chExt cx="8501040" cy="4782960"/>
          </a:xfrm>
        </p:grpSpPr>
        <p:grpSp>
          <p:nvGrpSpPr>
            <p:cNvPr id="228" name=""/>
            <p:cNvGrpSpPr/>
            <p:nvPr/>
          </p:nvGrpSpPr>
          <p:grpSpPr>
            <a:xfrm>
              <a:off x="380880" y="1447920"/>
              <a:ext cx="8501040" cy="4782960"/>
              <a:chOff x="380880" y="1447920"/>
              <a:chExt cx="8501040" cy="478296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80880" y="1447920"/>
                <a:ext cx="8501040" cy="4782960"/>
                <a:chOff x="380880" y="1447920"/>
                <a:chExt cx="8501040" cy="4782960"/>
              </a:xfrm>
            </p:grpSpPr>
            <p:grpSp>
              <p:nvGrpSpPr>
                <p:cNvPr id="230" name=""/>
                <p:cNvGrpSpPr/>
                <p:nvPr/>
              </p:nvGrpSpPr>
              <p:grpSpPr>
                <a:xfrm>
                  <a:off x="380880" y="1447920"/>
                  <a:ext cx="8501040" cy="4782960"/>
                  <a:chOff x="380880" y="1447920"/>
                  <a:chExt cx="8501040" cy="47829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380880" y="173844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66440" y="163368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80880" y="144792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80880" y="614844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66440" y="614700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10760" y="147816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>
                  <a:off x="3790080" y="147816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04640" y="3164040"/>
                <a:ext cx="299880" cy="2143080"/>
                <a:chOff x="404640" y="3164040"/>
                <a:chExt cx="299880" cy="214308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404640" y="3164040"/>
                  <a:ext cx="299880" cy="2143080"/>
                  <a:chOff x="404640" y="3164040"/>
                  <a:chExt cx="299880" cy="21430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417240" y="317196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404640" y="3164040"/>
                    <a:ext cx="299880" cy="2143080"/>
                    <a:chOff x="404640" y="3164040"/>
                    <a:chExt cx="299880" cy="214308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404640" y="316404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406080" y="530712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547560" y="4213440"/>
                  <a:ext cx="46080" cy="42840"/>
                  <a:chOff x="547560" y="4213440"/>
                  <a:chExt cx="46080" cy="4284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547560" y="421344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549000" y="421488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7" name=""/>
              <p:cNvGrpSpPr/>
              <p:nvPr/>
            </p:nvGrpSpPr>
            <p:grpSpPr>
              <a:xfrm>
                <a:off x="404640" y="5504040"/>
                <a:ext cx="301680" cy="601560"/>
                <a:chOff x="404640" y="5504040"/>
                <a:chExt cx="301680" cy="60156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404640" y="5826240"/>
                  <a:ext cx="301680" cy="279360"/>
                  <a:chOff x="404640" y="5826240"/>
                  <a:chExt cx="301680" cy="2793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417240" y="58294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404640" y="5826240"/>
                    <a:ext cx="301680" cy="279360"/>
                    <a:chOff x="404640" y="5826240"/>
                    <a:chExt cx="301680" cy="27936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04640" y="58262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07880" y="61056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404640" y="5504040"/>
                  <a:ext cx="301680" cy="280800"/>
                  <a:chOff x="404640" y="5504040"/>
                  <a:chExt cx="301680" cy="2808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417240" y="550872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404640" y="5504040"/>
                    <a:ext cx="301680" cy="280800"/>
                    <a:chOff x="404640" y="5504040"/>
                    <a:chExt cx="301680" cy="28080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404640" y="55040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407880" y="578484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8" name=""/>
                <p:cNvSpPr/>
                <p:nvPr/>
              </p:nvSpPr>
              <p:spPr>
                <a:xfrm>
                  <a:off x="514080" y="58993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12640" y="557856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434880" y="1494000"/>
              <a:ext cx="191880" cy="179280"/>
              <a:chOff x="434880" y="1494000"/>
              <a:chExt cx="191880" cy="179280"/>
            </a:xfrm>
          </p:grpSpPr>
          <p:sp>
            <p:nvSpPr>
              <p:cNvPr id="261" name=""/>
              <p:cNvSpPr/>
              <p:nvPr/>
            </p:nvSpPr>
            <p:spPr>
              <a:xfrm>
                <a:off x="441000" y="149400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434880" y="1498680"/>
                <a:ext cx="187200" cy="174600"/>
                <a:chOff x="434880" y="1498680"/>
                <a:chExt cx="187200" cy="1746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34880" y="149868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39560" y="167328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482400" y="1533600"/>
                <a:ext cx="102960" cy="98280"/>
                <a:chOff x="482400" y="1533600"/>
                <a:chExt cx="102960" cy="982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482400" y="153360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82400" y="153360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" name=""/>
            <p:cNvGrpSpPr/>
            <p:nvPr/>
          </p:nvGrpSpPr>
          <p:grpSpPr>
            <a:xfrm>
              <a:off x="8613360" y="1503360"/>
              <a:ext cx="193680" cy="177840"/>
              <a:chOff x="8613360" y="1503360"/>
              <a:chExt cx="193680" cy="17784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8613360" y="1503360"/>
                <a:ext cx="193680" cy="177840"/>
                <a:chOff x="8613360" y="1503360"/>
                <a:chExt cx="193680" cy="1778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8619840" y="150336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8613360" y="1505160"/>
                  <a:ext cx="193680" cy="176040"/>
                  <a:chOff x="8613360" y="1505160"/>
                  <a:chExt cx="193680" cy="17604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8613360" y="150516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8621280" y="168120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8643600" y="1511280"/>
                <a:ext cx="138240" cy="152640"/>
                <a:chOff x="8643600" y="1511280"/>
                <a:chExt cx="138240" cy="1526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645400" y="152568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V="1">
                  <a:off x="8643600" y="151128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7" name=""/>
          <p:cNvSpPr/>
          <p:nvPr/>
        </p:nvSpPr>
        <p:spPr>
          <a:xfrm>
            <a:off x="1030320" y="1905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2286000"/>
            <a:ext cx="49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 Compiled module: PROG_GEOME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4280" y="190512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compile prog_geometry.p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20400" y="380520"/>
            <a:ext cx="6450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ile and link the program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8D36-4199-46EC-B344-E28A9CEB5D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75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90480" y="159876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looks like we have everything taken care of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have all necessary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made a setup file (metakernel) pointing to th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wrote the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mpiled the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's run i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3214440" y="380520"/>
            <a:ext cx="42591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unning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EF3C0-7FED-4BC7-B001-3F5807278A2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14440" y="380520"/>
            <a:ext cx="42591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unning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80880" y="1447920"/>
            <a:ext cx="8501040" cy="4782960"/>
            <a:chOff x="380880" y="1447920"/>
            <a:chExt cx="8501040" cy="4782960"/>
          </a:xfrm>
        </p:grpSpPr>
        <p:grpSp>
          <p:nvGrpSpPr>
            <p:cNvPr id="285" name=""/>
            <p:cNvGrpSpPr/>
            <p:nvPr/>
          </p:nvGrpSpPr>
          <p:grpSpPr>
            <a:xfrm>
              <a:off x="380880" y="1447920"/>
              <a:ext cx="8501040" cy="4782960"/>
              <a:chOff x="380880" y="1447920"/>
              <a:chExt cx="8501040" cy="478296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80880" y="1447920"/>
                <a:ext cx="8501040" cy="4782960"/>
                <a:chOff x="380880" y="1447920"/>
                <a:chExt cx="8501040" cy="478296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380880" y="1447920"/>
                  <a:ext cx="8501040" cy="4782960"/>
                  <a:chOff x="380880" y="1447920"/>
                  <a:chExt cx="8501040" cy="478296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380880" y="173844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66440" y="163368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80880" y="144792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80880" y="614844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766440" y="614700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10760" y="147816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3790080" y="147816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04640" y="3164040"/>
                <a:ext cx="299880" cy="2143080"/>
                <a:chOff x="404640" y="3164040"/>
                <a:chExt cx="299880" cy="214308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404640" y="3164040"/>
                  <a:ext cx="299880" cy="2143080"/>
                  <a:chOff x="404640" y="3164040"/>
                  <a:chExt cx="299880" cy="214308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417240" y="317196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404640" y="3164040"/>
                    <a:ext cx="299880" cy="2143080"/>
                    <a:chOff x="404640" y="3164040"/>
                    <a:chExt cx="299880" cy="214308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404640" y="316404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406080" y="530712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547560" y="4213440"/>
                  <a:ext cx="46080" cy="42840"/>
                  <a:chOff x="547560" y="4213440"/>
                  <a:chExt cx="46080" cy="4284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547560" y="421344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549000" y="421488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4" name=""/>
              <p:cNvGrpSpPr/>
              <p:nvPr/>
            </p:nvGrpSpPr>
            <p:grpSpPr>
              <a:xfrm>
                <a:off x="404640" y="5504040"/>
                <a:ext cx="301680" cy="601560"/>
                <a:chOff x="404640" y="5504040"/>
                <a:chExt cx="301680" cy="60156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404640" y="5826240"/>
                  <a:ext cx="301680" cy="279360"/>
                  <a:chOff x="404640" y="5826240"/>
                  <a:chExt cx="301680" cy="2793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417240" y="58294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04640" y="5826240"/>
                    <a:ext cx="301680" cy="279360"/>
                    <a:chOff x="404640" y="5826240"/>
                    <a:chExt cx="301680" cy="27936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404640" y="58262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407880" y="61056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404640" y="5504040"/>
                  <a:ext cx="301680" cy="280800"/>
                  <a:chOff x="404640" y="5504040"/>
                  <a:chExt cx="301680" cy="28080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417240" y="550872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04640" y="5504040"/>
                    <a:ext cx="301680" cy="280800"/>
                    <a:chOff x="404640" y="5504040"/>
                    <a:chExt cx="301680" cy="28080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404640" y="55040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407880" y="578484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15" name=""/>
                <p:cNvSpPr/>
                <p:nvPr/>
              </p:nvSpPr>
              <p:spPr>
                <a:xfrm>
                  <a:off x="514080" y="58993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12640" y="557856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7" name=""/>
            <p:cNvGrpSpPr/>
            <p:nvPr/>
          </p:nvGrpSpPr>
          <p:grpSpPr>
            <a:xfrm>
              <a:off x="434880" y="1494000"/>
              <a:ext cx="191880" cy="179280"/>
              <a:chOff x="434880" y="1494000"/>
              <a:chExt cx="191880" cy="179280"/>
            </a:xfrm>
          </p:grpSpPr>
          <p:sp>
            <p:nvSpPr>
              <p:cNvPr id="318" name=""/>
              <p:cNvSpPr/>
              <p:nvPr/>
            </p:nvSpPr>
            <p:spPr>
              <a:xfrm>
                <a:off x="441000" y="149400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434880" y="1498680"/>
                <a:ext cx="187200" cy="174600"/>
                <a:chOff x="434880" y="1498680"/>
                <a:chExt cx="187200" cy="1746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34880" y="149868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39560" y="167328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482400" y="1533600"/>
                <a:ext cx="102960" cy="98280"/>
                <a:chOff x="482400" y="1533600"/>
                <a:chExt cx="102960" cy="982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82400" y="153360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82400" y="153360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8613360" y="1503360"/>
              <a:ext cx="193680" cy="177840"/>
              <a:chOff x="8613360" y="1503360"/>
              <a:chExt cx="193680" cy="1778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8613360" y="1503360"/>
                <a:ext cx="193680" cy="177840"/>
                <a:chOff x="8613360" y="1503360"/>
                <a:chExt cx="193680" cy="1778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619840" y="150336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8" name=""/>
                <p:cNvGrpSpPr/>
                <p:nvPr/>
              </p:nvGrpSpPr>
              <p:grpSpPr>
                <a:xfrm>
                  <a:off x="8613360" y="1505160"/>
                  <a:ext cx="193680" cy="176040"/>
                  <a:chOff x="8613360" y="1505160"/>
                  <a:chExt cx="193680" cy="17604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8613360" y="150516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8621280" y="168120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1" name=""/>
              <p:cNvGrpSpPr/>
              <p:nvPr/>
            </p:nvGrpSpPr>
            <p:grpSpPr>
              <a:xfrm>
                <a:off x="8643600" y="1511280"/>
                <a:ext cx="138240" cy="152640"/>
                <a:chOff x="8643600" y="1511280"/>
                <a:chExt cx="138240" cy="1526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645400" y="152568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8643600" y="151128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4" name=""/>
          <p:cNvSpPr/>
          <p:nvPr/>
        </p:nvSpPr>
        <p:spPr>
          <a:xfrm>
            <a:off x="992160" y="1828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2095560"/>
            <a:ext cx="7772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etup file name &gt; setup.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atellite name  &gt; ti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pacecraft name &gt; cass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instrument name &gt; cassini_iss_n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time            &gt; 2005 feb 15 8:15 U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centric longitude      (deg):    -156.44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centric latitude       (deg):     18.7885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detic longitude        (deg):    -156.44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detic latitude         (deg):     18.7885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ge from spacecraft to intercept point (km):     4810.9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ge from spacecraft to target center   (km):     7384.32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hase angle                   (deg):     43.2745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solar incidence angle         (deg):     41.0384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emission angle                (deg):     2.51461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30960" y="1828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g_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530A-B8CD-46A4-BAF6-CF9FC16E48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3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3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690120" y="1355760"/>
            <a:ext cx="8170920" cy="49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itude defin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ocentric latitude of a point P:  angle between segment from origin to point and x-y plane (red arc in diagra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odetic latitude of a point P: angle between x-y plane and extension of ellipsoid normal vector N that connects x-y plane and P (blue arc in diagra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545000" y="380520"/>
            <a:ext cx="15955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Backup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12880" y="3621240"/>
            <a:ext cx="0" cy="24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-842760" y="4429080"/>
            <a:ext cx="6911280" cy="32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651040" y="3544920"/>
            <a:ext cx="2881440" cy="245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303800" y="3544920"/>
            <a:ext cx="1228680" cy="249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17000" y="3181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16440" y="600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08240" y="496404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 ellips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7748000">
            <a:off x="4957560" y="4616280"/>
            <a:ext cx="28080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08200" y="5278320"/>
            <a:ext cx="184140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5" y="412"/>
                </a:moveTo>
                <a:arcTo wR="10800" hR="10800" stAng="-4447321" swAng="4394163"/>
                <a:lnTo>
                  <a:pt x="10800" y="10800"/>
                </a:lnTo>
                <a:close/>
              </a:path>
              <a:path fill="none" w="21600" h="21600">
                <a:moveTo>
                  <a:pt x="13755" y="412"/>
                </a:moveTo>
                <a:arcTo wR="10800" hR="10800" stAng="-4447321" swAng="4394163"/>
              </a:path>
            </a:pathLst>
          </a:custGeom>
          <a:solidFill>
            <a:srgbClr val="ffffff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12880" y="6041880"/>
            <a:ext cx="4916520" cy="3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48160" y="6146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y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66000" y="4527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23240" y="397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56200" y="5227560"/>
            <a:ext cx="184068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5" y="412"/>
                </a:moveTo>
                <a:arcTo wR="10800" hR="10800" stAng="-4447321" swAng="4394163"/>
                <a:lnTo>
                  <a:pt x="10800" y="10800"/>
                </a:lnTo>
                <a:close/>
              </a:path>
              <a:path fill="none" w="21600" h="21600">
                <a:moveTo>
                  <a:pt x="13755" y="412"/>
                </a:moveTo>
                <a:arcTo wR="10800" hR="10800" stAng="-4447321" swAng="4394163"/>
              </a:path>
            </a:pathLst>
          </a:cu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11320" y="5554080"/>
            <a:ext cx="144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etocentric latit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76640" y="5626800"/>
            <a:ext cx="134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etodetic latit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3344-BC7A-4FEA-9380-E93A0C9C5524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90120" y="1355760"/>
            <a:ext cx="8170920" cy="49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let's go over the important steps in the process of writing a Icy-based program and putting it to work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 the geometry probl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the set of SPICE kernels that contain the data needed to perform the comput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ulate an algorithm to compute the quantities of interest using SP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and compile the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actual kernel files and verify that they contain the data needed to support the computation for the time(s) of inter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the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llustrate these steps, let's write a program that computes the apparent intersection of the boresight ray of a given CASSINI science instrument with the  surface of a given Saturnian satellite.   The program will comput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tocentric and planetodetic (geodetic) latitudes and longitudes of the intercept point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ge from spacecraft to intercept point and from spacecraft to target cen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lumination angles (phase, solar incidence, and emission) at the intercept poi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095360" y="380520"/>
            <a:ext cx="24973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EDD0-1A88-4C1C-94D0-D324C274FEAC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11520" y="1393920"/>
            <a:ext cx="4730760" cy="5110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3520" y="534528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what mode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0760" y="1239840"/>
            <a:ext cx="397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ant the bore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on the surface,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/c to intercept and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, and illumination angles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cept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3880" y="29718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9480" y="354816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hat objec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6600" y="41101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ich instru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8680" y="472428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spacecraf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3200" y="30160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TIME (UTC, TDB or 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72640" y="35863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AT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82920" y="41101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INST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04080" y="47242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C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81240" y="53355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ETUP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380520"/>
            <a:ext cx="444024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bservation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99640" y="4311720"/>
            <a:ext cx="80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3de8"/>
                </a:solidFill>
                <a:latin typeface="Arial"/>
              </a:rPr>
              <a:t>phas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3535400">
            <a:off x="6702840" y="4039920"/>
            <a:ext cx="1126440" cy="10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4229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42293"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6080" y="5656320"/>
            <a:ext cx="601560" cy="587160"/>
          </a:xfrm>
          <a:custGeom>
            <a:avLst/>
            <a:gdLst>
              <a:gd name="textAreaLeft" fmla="*/ 137160 w 601560"/>
              <a:gd name="textAreaRight" fmla="*/ 464400 w 601560"/>
              <a:gd name="textAreaTop" fmla="*/ 133920 h 587160"/>
              <a:gd name="textAreaBottom" fmla="*/ 45324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aec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32440" y="4657680"/>
            <a:ext cx="2458800" cy="13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35520" y="3890880"/>
            <a:ext cx="126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cc33"/>
                </a:solidFill>
                <a:latin typeface="Arial"/>
              </a:rPr>
              <a:t>solar incidenc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491240" y="3312720"/>
            <a:ext cx="844560" cy="13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51320" y="300672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n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29680" y="35082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emission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618600">
            <a:off x="6406560" y="3690360"/>
            <a:ext cx="19047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43" y="14"/>
                </a:moveTo>
                <a:arcTo wR="10800" hR="10800" stAng="-5577502" swAng="5577502"/>
                <a:lnTo>
                  <a:pt x="10800" y="10800"/>
                </a:lnTo>
                <a:close/>
              </a:path>
              <a:path fill="none" w="21600" h="21600">
                <a:moveTo>
                  <a:pt x="10243" y="14"/>
                </a:moveTo>
                <a:arcTo wR="10800" hR="10800" stAng="-5577502" swAng="5577502"/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7091000">
            <a:off x="6918480" y="4196880"/>
            <a:ext cx="1380960" cy="127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981" y="698"/>
                </a:moveTo>
                <a:arcTo wR="10800" hR="10800" stAng="-6642670" swAng="6642670"/>
                <a:lnTo>
                  <a:pt x="10800" y="10800"/>
                </a:lnTo>
                <a:close/>
              </a:path>
              <a:path fill="none" w="21600" h="21600">
                <a:moveTo>
                  <a:pt x="6981" y="698"/>
                </a:moveTo>
                <a:arcTo wR="10800" hR="10800" stAng="-6642670" swAng="6642670"/>
              </a:path>
            </a:pathLst>
          </a:cu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911480" y="2888280"/>
            <a:ext cx="2032560" cy="2208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1080" y="62456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69FC-14C9-44C3-9F09-54A3E1A24A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52880" y="380520"/>
            <a:ext cx="2589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Needed Data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41760" y="1528920"/>
            <a:ext cx="3708360" cy="4281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6280" y="2322360"/>
            <a:ext cx="455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ransformation ker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s of satellites,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hemerides for spacecraf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n barycenter and satelli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40200" y="5079960"/>
            <a:ext cx="601920" cy="587520"/>
          </a:xfrm>
          <a:custGeom>
            <a:avLst/>
            <a:gdLst>
              <a:gd name="textAreaLeft" fmla="*/ 137160 w 601920"/>
              <a:gd name="textAreaRight" fmla="*/ 464760 w 601920"/>
              <a:gd name="textAreaTop" fmla="*/ 133920 h 587520"/>
              <a:gd name="textAreaBottom" fmla="*/ 45360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aec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10400" y="339048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97240" y="316080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n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148360" y="4235400"/>
            <a:ext cx="2457360" cy="115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35520" y="3505320"/>
            <a:ext cx="126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cc33"/>
                </a:solidFill>
                <a:latin typeface="Arial"/>
              </a:rPr>
              <a:t>solar incidenc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618600">
            <a:off x="6549120" y="331668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23160" y="31608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emission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3535400">
            <a:off x="6779880" y="3642480"/>
            <a:ext cx="1123560" cy="108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74" y="6"/>
                </a:moveTo>
                <a:arcTo wR="10800" hR="10800" stAng="-5280924" swAng="5280924"/>
                <a:lnTo>
                  <a:pt x="10800" y="10800"/>
                </a:lnTo>
                <a:close/>
              </a:path>
              <a:path fill="none" w="21600" h="21600">
                <a:moveTo>
                  <a:pt x="11174" y="6"/>
                </a:moveTo>
                <a:arcTo wR="10800" hR="10800" stAng="-5280924" swAng="5280924"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75960" y="4043520"/>
            <a:ext cx="80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3de8"/>
                </a:solidFill>
                <a:latin typeface="Arial"/>
              </a:rPr>
              <a:t>phas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674000">
            <a:off x="7396200" y="3688200"/>
            <a:ext cx="8744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93" y="487"/>
                </a:moveTo>
                <a:arcTo wR="10800" hR="10800" stAng="-6436356" swAng="5907042"/>
                <a:lnTo>
                  <a:pt x="10800" y="10800"/>
                </a:lnTo>
                <a:close/>
              </a:path>
              <a:path fill="none" w="21600" h="21600">
                <a:moveTo>
                  <a:pt x="7593" y="487"/>
                </a:moveTo>
                <a:arcTo wR="10800" hR="10800" stAng="-6436356" swAng="5907042"/>
              </a:path>
            </a:pathLst>
          </a:cu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554800" y="2754720"/>
            <a:ext cx="1581120" cy="186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57720" y="56970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1B51F-67F4-41B7-8736-AEB5D1115B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355760"/>
            <a:ext cx="8534160" cy="47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quired to compute vectors, rotations and other parameters shown in the picture are stored in the SPICE kernels listed below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 these kernels have been selected to support this presentation; they should not be assumed to be appropriate for user application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rameter                   Kernel Type      File n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-----------------     --------------   -----------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me conversions            generic LS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naif0008.t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SINI SCLK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sini.ts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orientation       generic PC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pck00008.tp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shape             generic PC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pck00008.tp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position          planet/s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hemeris SP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020514_SE_SAT105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anet barycenter position  planet SPK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981005_PLTEPH-DE405S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acecraft position         spacecraft SPK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tour9201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acecraft orientation      spacecraft C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050215.b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rument alignment        CASSINI FK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v37.t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rument boresight        Instrument I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iss_v09.t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647720" y="380520"/>
            <a:ext cx="739944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ich kinds of kernels are needed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282C0-B335-41F0-BF54-98D1B332DEF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340760" y="6562800"/>
            <a:ext cx="180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682640"/>
            <a:ext cx="845820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asiest and most flexible way to make these kernels available to the program is via cspice_furnsh. For this example we make a setup file (also called a “metakernel” or “furnsh kernel”) containing a list of kernels to be load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RNELS_TO_LOAD = (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naif0008.tls',             'cassini.tsc'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pck00008.tpc',             '020514_SE_SAT105.bsp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981005_PLTEPH-DE405S.bsp', 'tour9201.bsp'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cas_050215.bc',            'cas_v37.tf'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cas_iss_v09.ti'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e make the program prompt for the name of this setup fil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MPT='Enter setup file name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furnsh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26240" y="378000"/>
            <a:ext cx="2633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oad ker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4520" y="2629080"/>
            <a:ext cx="7624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e:  these kernels have been selected to support this presentation; they should not be assumed to be appropriate for user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422C-5DE0-44BB-891B-F457196C64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90600" y="380520"/>
            <a:ext cx="45068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Solu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3720" y="1355760"/>
            <a:ext cx="776304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pt for setup file (“metakernel”) name; load kernels specified via setup file. (Done on previous char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pt for user inputs required to completely specify problem.  Obtain further inputs required by geometry routines via Icy ca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intersection of the boresight direction ray with the surface of the satellite, presented as a triaxial ellipsoi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re is an intersec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t Cartesian coordinates of the intersection point to planetocentric latitudinal and planetodetic coord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spacecraft-to-intercept point range and spacecraft-to-target cente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d the illumination angles (phase, solar incidence, and emission) at the intercept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 the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discuss the geometric portion of the problem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7680-E9ED-45DE-A766-66901F519C63}" type="slidenum">
              <a:t>8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432080"/>
            <a:ext cx="807696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intercept point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the instrument boresight vector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the satellite’s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surface at the TDB time of interest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  This cal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so returns the distance between the spacecraft and intercept point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ight-time corrected epoch at the intercept point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gep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the targe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-to-spacecraft vector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and a boolean flag indicating whethe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tercept was found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fou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te: undefined variables are in red; results are in blu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srfxpt, ‘Ellipsoid’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‘CN+S’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$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, dist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gepc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obspos, fou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706480" y="380520"/>
            <a:ext cx="5275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ute surface intercep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0040" y="4311720"/>
            <a:ext cx="7750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nges we want are obtained from the outputs of cspice_srfxpt.  These outputs are defined only if a surface  intercept is found.  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fo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r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craft-to-surface intercept range is the output argu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craft-to-target center range is the norm of the output argument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s are km.  We use the Icy function cspice_vnorm to obtain the n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cspice_vnorm( obspos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'll write out the range data along with the other program resul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31B83-A09D-4B70-8CF2-5C87F7E69959}" type="slidenum">
              <a:t>9</a:t>
            </a:fld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4-04-30T00:36:05Z</cp:lastPrinted>
  <dcterms:modified xsi:type="dcterms:W3CDTF">2007-10-12T23:45:10Z</dcterms:modified>
  <cp:revision>467</cp:revision>
  <dc:subject/>
  <dc:title>Writing a FORTRAN SPICE Based Program </dc:title>
</cp:coreProperties>
</file>