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6240" y="691920"/>
            <a:ext cx="4565520" cy="34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DA29-1034-4B0D-AD82-FC6EE6F1A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B13E-6906-427D-A578-0CB9C7E32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60A0-24B6-4F65-8D21-3709FA975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CA8F-460C-407E-8756-A0B1F6FF7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8912-2200-4DF2-B444-30A350DF3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4B78-D4FA-4C35-A6F4-B8D5878F0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95EE-8B1C-4F35-B8AF-D5E844BA5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8217-BFF9-4FBF-BEE4-CC7F7FA0D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CA73-9744-41E1-8995-FB60464CD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7F34-9A73-4479-AC1F-AF9A48B67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513D-2548-4063-8F36-059B7B4BE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3062-286F-4FF7-B7AC-075D7D9A2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AEA-E708-45F3-B17E-9FC43C62F4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46200" y="2285640"/>
            <a:ext cx="4259520" cy="2127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elcome</a:t>
            </a:r>
            <a:br>
              <a:rPr sz="32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to the</a:t>
            </a:r>
            <a:br>
              <a:rPr sz="24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raining Class</a:t>
            </a:r>
            <a:br>
              <a:rPr sz="3200"/>
            </a:b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64080" y="380520"/>
            <a:ext cx="33796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ass Objectiv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n overview of the entire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sense of the purpose and uses of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n introduction to the use of primary SPICE compon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examples of how to use SPICE software and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ome insight into conventions and comm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variety of “hands-on” programming exerci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peek at new capabilities being worked on or consid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ze you with available SPICE resour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NA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feedback on today’s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ecially what’s hard to understand, hard to use, mis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suggestions for further development of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suggestions for improvements to NAIF support of the space science commun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5909-EC0F-4075-8703-269EF83DC7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s at a high level, but quickly drills down to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es on many SPICE-related topics that could be of interest to science and engineering t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of discussion varies somewhat amongst 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nformation for FORTRAN, C, IDL and Matlab program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opics are addressed very little or not at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duction methods, tools and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uff under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ing SPIC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672000" y="380520"/>
            <a:ext cx="254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ass Scop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1C8C-3E5E-4810-AA7A-EDD4241771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3920" y="380520"/>
            <a:ext cx="3598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peated Mate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opics will be repeated in two or more tuto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re not trying to bore you, but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on’t wish to assume people will read all of the tutorials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hink some items are sufficiently important to mention them more than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82CE-22C5-4216-AB86-8FEB6E0409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35640" cy="470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78200" y="567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000"/>
                </a:solidFill>
                <a:latin typeface="Arial"/>
              </a:rPr>
              <a:t>•••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8880" y="1981080"/>
            <a:ext cx="37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does tak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t amount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earn enough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to begin to use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with good suc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elps to have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skills, some innate 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atial orientation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amiliarity with y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nd its ope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, a code editor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or Integ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Environment (I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7800" y="355680"/>
            <a:ext cx="6676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Your SPICE Odyssey Begins He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6680" y="11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BA32-E881-409A-A596-E3D73961C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7680" y="380520"/>
            <a:ext cx="5000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is a Large Produc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ic SPICE Toolkit contai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over 1000 individual public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t most customers use only a handful of the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13 utility and application executables (with User Guid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23  subsystem reference doc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“cookbook” tutorial programs (with User Guid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assorted other documents, scripts and libra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’ll not fully grasp all the details during this class, but you can get a good start on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3400" y="594360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873c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a873c"/>
                </a:solidFill>
                <a:latin typeface="Arial"/>
              </a:rPr>
              <a:t>Just do i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146C-2BD0-4BAF-B71F-BCB928AAF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47480" y="380520"/>
            <a:ext cx="4418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NAIF Team at JP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2600" y="34750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 Bach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12640" y="6257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W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24640" y="63151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is Seme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1600" y="34639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uck Ac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1943280" cy="223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2193840" cy="222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828800" y="1219320"/>
            <a:ext cx="19033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9065-EE88-4CE3-A1CB-DAD2E4BB28A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2:08:29Z</cp:lastPrinted>
  <dcterms:modified xsi:type="dcterms:W3CDTF">2007-10-13T00:11:06Z</dcterms:modified>
  <cp:revision>63</cp:revision>
  <dc:subject/>
  <dc:title>A Collection of SPICE Tutorials</dc:title>
</cp:coreProperties>
</file>