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58288" cy="6872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52360" y="698400"/>
            <a:ext cx="4553280" cy="34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C22F8-30EB-41FA-BA30-EA8729E005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4759A-F46B-4937-A18B-0F5CF06CDB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B3871-E162-44D3-BB17-3C7A1B8390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41AC4-0A87-4A26-938C-46AD6F6226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17841-3CA0-4282-A65A-D3B35C97F7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21397-CBB4-4874-B8FA-A67AD3B7E5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3FC8B-150C-4FB9-9DE8-6BD1C4B0B4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776BF-9179-4C2D-AE64-D0903E0A83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6C8BB-B7B5-4891-A560-8E2FEEEB6D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358B9-2272-4FF1-A753-0B8DCA219C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FBE4B-F55B-470D-B50C-94E2AA6176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7019E-BD07-4224-B363-7A116005FB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F3130-4037-428D-A96A-24621C3E227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8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08200" y="228564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62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920" y="1608120"/>
            <a:ext cx="8242200" cy="39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76280" y="2733480"/>
            <a:ext cx="4902120" cy="1006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Time Conversion and 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Time Formats</a:t>
            </a: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4840" y="5668560"/>
            <a:ext cx="640080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October 200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"/>
          <p:cNvGrpSpPr/>
          <p:nvPr/>
        </p:nvGrpSpPr>
        <p:grpSpPr>
          <a:xfrm>
            <a:off x="3683160" y="3475080"/>
            <a:ext cx="1442880" cy="828360"/>
            <a:chOff x="3683160" y="3475080"/>
            <a:chExt cx="1442880" cy="828360"/>
          </a:xfrm>
        </p:grpSpPr>
        <p:sp>
          <p:nvSpPr>
            <p:cNvPr id="150" name=""/>
            <p:cNvSpPr/>
            <p:nvPr/>
          </p:nvSpPr>
          <p:spPr>
            <a:xfrm>
              <a:off x="3711600" y="3475080"/>
              <a:ext cx="1393920" cy="77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683160" y="3576600"/>
              <a:ext cx="144288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9840" rIns="69840" tIns="34920" bIns="349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en-US" sz="1200" spc="-1" strike="noStrike">
                  <a:solidFill>
                    <a:srgbClr val="081d58"/>
                  </a:solidFill>
                  <a:latin typeface="Arial"/>
                </a:rPr>
                <a:t>Barycentri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en-US" sz="1200" spc="-1" strike="noStrike">
                  <a:solidFill>
                    <a:srgbClr val="081d58"/>
                  </a:solidFill>
                  <a:latin typeface="Arial"/>
                </a:rPr>
                <a:t>Dynamical Ti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en-US" sz="1200" spc="-1" strike="noStrike">
                  <a:solidFill>
                    <a:srgbClr val="081d58"/>
                  </a:solidFill>
                  <a:latin typeface="Arial"/>
                </a:rPr>
                <a:t>(TDB or E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683160" y="5448240"/>
            <a:ext cx="1442880" cy="828360"/>
            <a:chOff x="3683160" y="5448240"/>
            <a:chExt cx="1442880" cy="828360"/>
          </a:xfrm>
        </p:grpSpPr>
        <p:sp>
          <p:nvSpPr>
            <p:cNvPr id="153" name=""/>
            <p:cNvSpPr/>
            <p:nvPr/>
          </p:nvSpPr>
          <p:spPr>
            <a:xfrm>
              <a:off x="3711600" y="5448240"/>
              <a:ext cx="1393920" cy="773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683160" y="5549760"/>
              <a:ext cx="144288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9840" rIns="69840" tIns="34920" bIns="349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en-US" sz="1200" spc="-1" strike="noStrike">
                  <a:solidFill>
                    <a:srgbClr val="081d58"/>
                  </a:solidFill>
                  <a:latin typeface="Arial"/>
                </a:rPr>
                <a:t>Encod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en-US" sz="1200" spc="-1" strike="noStrike">
                  <a:solidFill>
                    <a:srgbClr val="081d58"/>
                  </a:solidFill>
                  <a:latin typeface="Arial"/>
                </a:rPr>
                <a:t>Spacecraft Clo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en-US" sz="1200" spc="-1" strike="noStrike">
                  <a:solidFill>
                    <a:srgbClr val="081d58"/>
                  </a:solidFill>
                  <a:latin typeface="Arial"/>
                </a:rPr>
                <a:t>(Tick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274680" y="3160800"/>
            <a:ext cx="1442880" cy="828360"/>
            <a:chOff x="274680" y="3160800"/>
            <a:chExt cx="1442880" cy="828360"/>
          </a:xfrm>
        </p:grpSpPr>
        <p:sp>
          <p:nvSpPr>
            <p:cNvPr id="156" name=""/>
            <p:cNvSpPr/>
            <p:nvPr/>
          </p:nvSpPr>
          <p:spPr>
            <a:xfrm>
              <a:off x="303120" y="3160800"/>
              <a:ext cx="1393920" cy="77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74680" y="3262320"/>
              <a:ext cx="144288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9840" rIns="69840" tIns="34920" bIns="349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en-US" sz="1200" spc="-1" strike="noStrike">
                  <a:solidFill>
                    <a:srgbClr val="081d58"/>
                  </a:solidFill>
                  <a:latin typeface="Arial"/>
                </a:rPr>
                <a:t>Coordinat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en-US" sz="1200" spc="-1" strike="noStrike">
                  <a:solidFill>
                    <a:srgbClr val="081d58"/>
                  </a:solidFill>
                  <a:latin typeface="Arial"/>
                </a:rPr>
                <a:t>Universal Ti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en-US" sz="1200" spc="-1" strike="noStrike">
                  <a:solidFill>
                    <a:srgbClr val="081d58"/>
                  </a:solidFill>
                  <a:latin typeface="Arial"/>
                </a:rPr>
                <a:t>(UTC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1116000" y="4505400"/>
            <a:ext cx="907920" cy="479520"/>
          </a:xfrm>
          <a:prstGeom prst="rect">
            <a:avLst/>
          </a:prstGeom>
          <a:solidFill>
            <a:srgbClr val="eaec5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142640" y="4572000"/>
            <a:ext cx="77436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TIM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ET2U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93880" y="4029120"/>
            <a:ext cx="0" cy="1422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324080" y="4006440"/>
            <a:ext cx="0" cy="469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095560" y="3863520"/>
            <a:ext cx="1515960" cy="817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1668600" y="4026960"/>
            <a:ext cx="2055600" cy="1731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7391520" y="5369040"/>
            <a:ext cx="1442880" cy="828360"/>
            <a:chOff x="7391520" y="5369040"/>
            <a:chExt cx="1442880" cy="828360"/>
          </a:xfrm>
        </p:grpSpPr>
        <p:sp>
          <p:nvSpPr>
            <p:cNvPr id="165" name=""/>
            <p:cNvSpPr/>
            <p:nvPr/>
          </p:nvSpPr>
          <p:spPr>
            <a:xfrm>
              <a:off x="7419960" y="5369040"/>
              <a:ext cx="1393920" cy="77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391520" y="5470560"/>
              <a:ext cx="144288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9840" rIns="69840" tIns="34920" bIns="349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en-US" sz="1200" spc="-1" strike="noStrike">
                  <a:solidFill>
                    <a:srgbClr val="081d58"/>
                  </a:solidFill>
                  <a:latin typeface="Arial"/>
                </a:rPr>
                <a:t>Spacecraf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en-US" sz="1200" spc="-1" strike="noStrike">
                  <a:solidFill>
                    <a:srgbClr val="081d58"/>
                  </a:solidFill>
                  <a:latin typeface="Arial"/>
                </a:rPr>
                <a:t>Clo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en-US" sz="1200" spc="-1" strike="noStrike">
                  <a:solidFill>
                    <a:srgbClr val="081d58"/>
                  </a:solidFill>
                  <a:latin typeface="Arial"/>
                </a:rPr>
                <a:t>(SCLK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373880" y="3524400"/>
            <a:ext cx="909720" cy="431640"/>
            <a:chOff x="7373880" y="3524400"/>
            <a:chExt cx="909720" cy="431640"/>
          </a:xfrm>
        </p:grpSpPr>
        <p:sp>
          <p:nvSpPr>
            <p:cNvPr id="168" name=""/>
            <p:cNvSpPr/>
            <p:nvPr/>
          </p:nvSpPr>
          <p:spPr>
            <a:xfrm>
              <a:off x="7373880" y="3524400"/>
              <a:ext cx="909720" cy="431640"/>
            </a:xfrm>
            <a:prstGeom prst="octagon">
              <a:avLst>
                <a:gd name="adj" fmla="val 29273"/>
              </a:avLst>
            </a:prstGeom>
            <a:solidFill>
              <a:srgbClr val="99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487280" y="3613320"/>
              <a:ext cx="68292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81d58"/>
                  </a:solidFill>
                  <a:latin typeface="Arial"/>
                </a:rPr>
                <a:t>SCE2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6804000" y="4022640"/>
            <a:ext cx="909720" cy="432000"/>
            <a:chOff x="6804000" y="4022640"/>
            <a:chExt cx="909720" cy="432000"/>
          </a:xfrm>
        </p:grpSpPr>
        <p:sp>
          <p:nvSpPr>
            <p:cNvPr id="171" name=""/>
            <p:cNvSpPr/>
            <p:nvPr/>
          </p:nvSpPr>
          <p:spPr>
            <a:xfrm>
              <a:off x="6804000" y="4022640"/>
              <a:ext cx="909720" cy="432000"/>
            </a:xfrm>
            <a:prstGeom prst="octagon">
              <a:avLst>
                <a:gd name="adj" fmla="val 29273"/>
              </a:avLst>
            </a:prstGeom>
            <a:solidFill>
              <a:srgbClr val="99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917400" y="4111560"/>
              <a:ext cx="68292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81d58"/>
                  </a:solidFill>
                  <a:latin typeface="Arial"/>
                </a:rPr>
                <a:t>SCS2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5243400" y="3800520"/>
            <a:ext cx="1989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120160" y="4037040"/>
            <a:ext cx="0" cy="1258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5116320" y="3973320"/>
            <a:ext cx="1617480" cy="236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7475040" y="4522320"/>
            <a:ext cx="320760" cy="830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5653080" y="5865840"/>
            <a:ext cx="1289160" cy="749160"/>
            <a:chOff x="5653080" y="5865840"/>
            <a:chExt cx="1289160" cy="749160"/>
          </a:xfrm>
        </p:grpSpPr>
        <p:sp>
          <p:nvSpPr>
            <p:cNvPr id="178" name=""/>
            <p:cNvSpPr/>
            <p:nvPr/>
          </p:nvSpPr>
          <p:spPr>
            <a:xfrm>
              <a:off x="5653080" y="5865840"/>
              <a:ext cx="1289160" cy="749160"/>
            </a:xfrm>
            <a:prstGeom prst="diamond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886360" y="6113520"/>
              <a:ext cx="82440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81d58"/>
                  </a:solidFill>
                  <a:latin typeface="Arial"/>
                </a:rPr>
                <a:t>SCENC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5653080" y="4997520"/>
            <a:ext cx="1289160" cy="749160"/>
            <a:chOff x="5653080" y="4997520"/>
            <a:chExt cx="1289160" cy="749160"/>
          </a:xfrm>
        </p:grpSpPr>
        <p:sp>
          <p:nvSpPr>
            <p:cNvPr id="181" name=""/>
            <p:cNvSpPr/>
            <p:nvPr/>
          </p:nvSpPr>
          <p:spPr>
            <a:xfrm>
              <a:off x="5653080" y="4997520"/>
              <a:ext cx="1289160" cy="749160"/>
            </a:xfrm>
            <a:prstGeom prst="diamond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886360" y="5245200"/>
              <a:ext cx="82440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81d58"/>
                  </a:solidFill>
                  <a:latin typeface="Arial"/>
                </a:rPr>
                <a:t>SCDEC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5126040" y="6014880"/>
            <a:ext cx="439560" cy="217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6993000" y="5951160"/>
            <a:ext cx="439560" cy="2682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5125680" y="5421240"/>
            <a:ext cx="490680" cy="217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 flipV="1">
            <a:off x="6992640" y="5357520"/>
            <a:ext cx="398520" cy="204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334640" y="1346040"/>
            <a:ext cx="8276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1d58"/>
                </a:solidFill>
                <a:latin typeface="Arial"/>
              </a:rPr>
              <a:t>needs l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334640" y="1725480"/>
            <a:ext cx="9039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1d58"/>
                </a:solidFill>
                <a:latin typeface="Arial"/>
              </a:rPr>
              <a:t>needs scl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92920" y="2125800"/>
            <a:ext cx="419040" cy="241200"/>
          </a:xfrm>
          <a:prstGeom prst="octagon">
            <a:avLst>
              <a:gd name="adj" fmla="val 29273"/>
            </a:avLst>
          </a:prstGeom>
          <a:solidFill>
            <a:srgbClr val="99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333200" y="2119320"/>
            <a:ext cx="143100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1d58"/>
                </a:solidFill>
                <a:latin typeface="Arial"/>
              </a:rPr>
              <a:t>needs lsk and scl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92920" y="1360440"/>
            <a:ext cx="336600" cy="225360"/>
          </a:xfrm>
          <a:prstGeom prst="rect">
            <a:avLst/>
          </a:prstGeom>
          <a:solidFill>
            <a:srgbClr val="eaec5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92920" y="1724040"/>
            <a:ext cx="384120" cy="257040"/>
          </a:xfrm>
          <a:prstGeom prst="diamond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930480" y="5106960"/>
            <a:ext cx="946440" cy="357120"/>
            <a:chOff x="3930480" y="5106960"/>
            <a:chExt cx="946440" cy="357120"/>
          </a:xfrm>
        </p:grpSpPr>
        <p:sp>
          <p:nvSpPr>
            <p:cNvPr id="194" name=""/>
            <p:cNvSpPr/>
            <p:nvPr/>
          </p:nvSpPr>
          <p:spPr>
            <a:xfrm flipV="1">
              <a:off x="4876920" y="5106960"/>
              <a:ext cx="0" cy="357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30480" y="5132520"/>
              <a:ext cx="0" cy="306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930480" y="4227480"/>
            <a:ext cx="946440" cy="357120"/>
            <a:chOff x="3930480" y="4227480"/>
            <a:chExt cx="946440" cy="357120"/>
          </a:xfrm>
        </p:grpSpPr>
        <p:sp>
          <p:nvSpPr>
            <p:cNvPr id="197" name=""/>
            <p:cNvSpPr/>
            <p:nvPr/>
          </p:nvSpPr>
          <p:spPr>
            <a:xfrm flipV="1">
              <a:off x="4876920" y="4227480"/>
              <a:ext cx="0" cy="357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30480" y="4253040"/>
              <a:ext cx="0" cy="306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703240" y="380520"/>
            <a:ext cx="529884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Layout of the Time System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3652920" y="1285920"/>
            <a:ext cx="1442880" cy="828720"/>
            <a:chOff x="3652920" y="1285920"/>
            <a:chExt cx="1442880" cy="828720"/>
          </a:xfrm>
        </p:grpSpPr>
        <p:sp>
          <p:nvSpPr>
            <p:cNvPr id="201" name=""/>
            <p:cNvSpPr/>
            <p:nvPr/>
          </p:nvSpPr>
          <p:spPr>
            <a:xfrm>
              <a:off x="3681360" y="1285920"/>
              <a:ext cx="1393920" cy="773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652920" y="1387800"/>
              <a:ext cx="144288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9840" rIns="69840" tIns="34920" bIns="349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en-US" sz="1200" spc="-1" strike="noStrike">
                  <a:solidFill>
                    <a:srgbClr val="081d58"/>
                  </a:solidFill>
                  <a:latin typeface="Arial"/>
                </a:rPr>
                <a:t>Loc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en-US" sz="1200" spc="-1" strike="noStrike">
                  <a:solidFill>
                    <a:srgbClr val="081d58"/>
                  </a:solidFill>
                  <a:latin typeface="Arial"/>
                </a:rPr>
                <a:t>Sol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en-US" sz="1200" spc="-1" strike="noStrike">
                  <a:solidFill>
                    <a:srgbClr val="081d58"/>
                  </a:solidFill>
                  <a:latin typeface="Arial"/>
                </a:rPr>
                <a:t>Ti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 flipV="1">
            <a:off x="4381560" y="2057040"/>
            <a:ext cx="0" cy="306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4384800" y="2876400"/>
            <a:ext cx="0" cy="55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75120" y="2386080"/>
            <a:ext cx="888840" cy="457200"/>
          </a:xfrm>
          <a:prstGeom prst="roundRect">
            <a:avLst>
              <a:gd name="adj" fmla="val 25000"/>
            </a:avLst>
          </a:prstGeom>
          <a:solidFill>
            <a:srgbClr val="e991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907320" y="2573280"/>
            <a:ext cx="415800" cy="214200"/>
          </a:xfrm>
          <a:prstGeom prst="roundRect">
            <a:avLst>
              <a:gd name="adj" fmla="val 25000"/>
            </a:avLst>
          </a:prstGeom>
          <a:solidFill>
            <a:srgbClr val="e991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371000" y="2563920"/>
            <a:ext cx="145872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1d58"/>
                </a:solidFill>
                <a:latin typeface="Arial"/>
              </a:rPr>
              <a:t>needs pck and sp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036320" y="2470320"/>
            <a:ext cx="74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T2L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576360" y="2119320"/>
            <a:ext cx="1452600" cy="941760"/>
            <a:chOff x="576360" y="2119320"/>
            <a:chExt cx="1452600" cy="941760"/>
          </a:xfrm>
        </p:grpSpPr>
        <p:sp>
          <p:nvSpPr>
            <p:cNvPr id="210" name=""/>
            <p:cNvSpPr/>
            <p:nvPr/>
          </p:nvSpPr>
          <p:spPr>
            <a:xfrm>
              <a:off x="576360" y="2119320"/>
              <a:ext cx="1393920" cy="77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86080" y="2170080"/>
              <a:ext cx="1442880" cy="89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9840" rIns="69840" tIns="34920" bIns="349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en-US" sz="1200" spc="-1" strike="noStrike">
                  <a:solidFill>
                    <a:srgbClr val="081d58"/>
                  </a:solidFill>
                  <a:latin typeface="Arial"/>
                </a:rPr>
                <a:t>Uniform time systems (TDT,TAI, JED, JDTD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1919160" y="2782800"/>
            <a:ext cx="416160" cy="2523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384720" y="3397320"/>
            <a:ext cx="390240" cy="2062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5292720" y="2736720"/>
            <a:ext cx="907920" cy="479160"/>
            <a:chOff x="5292720" y="2736720"/>
            <a:chExt cx="907920" cy="479160"/>
          </a:xfrm>
        </p:grpSpPr>
        <p:sp>
          <p:nvSpPr>
            <p:cNvPr id="215" name=""/>
            <p:cNvSpPr/>
            <p:nvPr/>
          </p:nvSpPr>
          <p:spPr>
            <a:xfrm>
              <a:off x="5292720" y="2736720"/>
              <a:ext cx="907920" cy="479160"/>
            </a:xfrm>
            <a:prstGeom prst="rect">
              <a:avLst/>
            </a:prstGeom>
            <a:solidFill>
              <a:srgbClr val="eaec5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363640" y="2849400"/>
              <a:ext cx="77436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81d58"/>
                  </a:solidFill>
                  <a:latin typeface="Arial"/>
                </a:rPr>
                <a:t>DELT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2421000" y="3049560"/>
            <a:ext cx="907920" cy="479160"/>
            <a:chOff x="2421000" y="3049560"/>
            <a:chExt cx="907920" cy="479160"/>
          </a:xfrm>
        </p:grpSpPr>
        <p:sp>
          <p:nvSpPr>
            <p:cNvPr id="218" name=""/>
            <p:cNvSpPr/>
            <p:nvPr/>
          </p:nvSpPr>
          <p:spPr>
            <a:xfrm>
              <a:off x="2421000" y="3049560"/>
              <a:ext cx="907920" cy="479160"/>
            </a:xfrm>
            <a:prstGeom prst="rect">
              <a:avLst/>
            </a:prstGeom>
            <a:solidFill>
              <a:srgbClr val="eaec5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492640" y="3162240"/>
              <a:ext cx="70560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81d58"/>
                  </a:solidFill>
                  <a:latin typeface="Arial"/>
                </a:rPr>
                <a:t>UNITI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689040" y="5543640"/>
            <a:ext cx="907920" cy="479160"/>
            <a:chOff x="689040" y="5543640"/>
            <a:chExt cx="907920" cy="479160"/>
          </a:xfrm>
        </p:grpSpPr>
        <p:sp>
          <p:nvSpPr>
            <p:cNvPr id="221" name=""/>
            <p:cNvSpPr/>
            <p:nvPr/>
          </p:nvSpPr>
          <p:spPr>
            <a:xfrm>
              <a:off x="689040" y="5543640"/>
              <a:ext cx="907920" cy="479160"/>
            </a:xfrm>
            <a:prstGeom prst="rect">
              <a:avLst/>
            </a:prstGeom>
            <a:solidFill>
              <a:srgbClr val="eaec5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59600" y="5656320"/>
              <a:ext cx="76680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81d58"/>
                  </a:solidFill>
                  <a:latin typeface="Arial"/>
                </a:rPr>
                <a:t>STR2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5357880" y="1465200"/>
            <a:ext cx="1442880" cy="773280"/>
            <a:chOff x="5357880" y="1465200"/>
            <a:chExt cx="1442880" cy="773280"/>
          </a:xfrm>
        </p:grpSpPr>
        <p:sp>
          <p:nvSpPr>
            <p:cNvPr id="224" name=""/>
            <p:cNvSpPr/>
            <p:nvPr/>
          </p:nvSpPr>
          <p:spPr>
            <a:xfrm>
              <a:off x="5373360" y="1465200"/>
              <a:ext cx="1393560" cy="773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357880" y="1655640"/>
              <a:ext cx="1442880" cy="56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9840" rIns="69840" tIns="34920" bIns="349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en-US" sz="1200" spc="-1" strike="noStrike">
                  <a:solidFill>
                    <a:srgbClr val="081d58"/>
                  </a:solidFill>
                  <a:latin typeface="Arial"/>
                </a:rPr>
                <a:t>UTC seconds past J2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5791320" y="2292480"/>
            <a:ext cx="108000" cy="3492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5054760" y="3308040"/>
            <a:ext cx="398160" cy="2984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1865160" y="1395360"/>
            <a:ext cx="1442880" cy="773280"/>
            <a:chOff x="1865160" y="1395360"/>
            <a:chExt cx="1442880" cy="773280"/>
          </a:xfrm>
        </p:grpSpPr>
        <p:sp>
          <p:nvSpPr>
            <p:cNvPr id="229" name=""/>
            <p:cNvSpPr/>
            <p:nvPr/>
          </p:nvSpPr>
          <p:spPr>
            <a:xfrm>
              <a:off x="1893600" y="1395360"/>
              <a:ext cx="1393920" cy="773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865160" y="1497240"/>
              <a:ext cx="1442880" cy="6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9840" rIns="69840" tIns="34920" bIns="349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en-US" sz="1200" spc="-1" strike="noStrike">
                  <a:solidFill>
                    <a:srgbClr val="081d58"/>
                  </a:solidFill>
                  <a:latin typeface="Arial"/>
                </a:rPr>
                <a:t>“</a:t>
              </a:r>
              <a:r>
                <a:rPr b="1" lang="en-US" sz="1200" spc="-1" strike="noStrike">
                  <a:solidFill>
                    <a:srgbClr val="081d58"/>
                  </a:solidFill>
                  <a:latin typeface="Arial"/>
                </a:rPr>
                <a:t>L-sub-S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en-US" sz="900" spc="-1" strike="noStrike">
                  <a:solidFill>
                    <a:srgbClr val="081d58"/>
                  </a:solidFill>
                  <a:latin typeface="Arial"/>
                </a:rPr>
                <a:t>(planetocentric longitude of the sun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2957400" y="2376360"/>
            <a:ext cx="888840" cy="457200"/>
            <a:chOff x="2957400" y="2376360"/>
            <a:chExt cx="888840" cy="457200"/>
          </a:xfrm>
        </p:grpSpPr>
        <p:sp>
          <p:nvSpPr>
            <p:cNvPr id="232" name=""/>
            <p:cNvSpPr/>
            <p:nvPr/>
          </p:nvSpPr>
          <p:spPr>
            <a:xfrm>
              <a:off x="2957400" y="2376360"/>
              <a:ext cx="888840" cy="457200"/>
            </a:xfrm>
            <a:prstGeom prst="roundRect">
              <a:avLst>
                <a:gd name="adj" fmla="val 25000"/>
              </a:avLst>
            </a:prstGeom>
            <a:solidFill>
              <a:srgbClr val="e99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042720" y="2493720"/>
              <a:ext cx="697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SPC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 flipH="1" flipV="1">
            <a:off x="3597120" y="2846160"/>
            <a:ext cx="425520" cy="633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 flipV="1">
            <a:off x="3057480" y="2103120"/>
            <a:ext cx="185760" cy="244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3398760" y="4632480"/>
            <a:ext cx="2062080" cy="452880"/>
            <a:chOff x="3398760" y="4632480"/>
            <a:chExt cx="2062080" cy="452880"/>
          </a:xfrm>
        </p:grpSpPr>
        <p:sp>
          <p:nvSpPr>
            <p:cNvPr id="237" name=""/>
            <p:cNvSpPr/>
            <p:nvPr/>
          </p:nvSpPr>
          <p:spPr>
            <a:xfrm>
              <a:off x="3398760" y="4632480"/>
              <a:ext cx="909360" cy="431640"/>
            </a:xfrm>
            <a:prstGeom prst="octagon">
              <a:avLst>
                <a:gd name="adj" fmla="val 29273"/>
              </a:avLst>
            </a:prstGeom>
            <a:solidFill>
              <a:srgbClr val="99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8" name=""/>
            <p:cNvGrpSpPr/>
            <p:nvPr/>
          </p:nvGrpSpPr>
          <p:grpSpPr>
            <a:xfrm>
              <a:off x="3508200" y="4632480"/>
              <a:ext cx="1952640" cy="452880"/>
              <a:chOff x="3508200" y="4632480"/>
              <a:chExt cx="1952640" cy="452880"/>
            </a:xfrm>
          </p:grpSpPr>
          <p:grpSp>
            <p:nvGrpSpPr>
              <p:cNvPr id="239" name=""/>
              <p:cNvGrpSpPr/>
              <p:nvPr/>
            </p:nvGrpSpPr>
            <p:grpSpPr>
              <a:xfrm>
                <a:off x="4551120" y="4632480"/>
                <a:ext cx="909720" cy="431640"/>
                <a:chOff x="4551120" y="4632480"/>
                <a:chExt cx="909720" cy="43164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4551120" y="4632480"/>
                  <a:ext cx="909720" cy="431640"/>
                </a:xfrm>
                <a:prstGeom prst="octagon">
                  <a:avLst>
                    <a:gd name="adj" fmla="val 29273"/>
                  </a:avLst>
                </a:prstGeom>
                <a:solidFill>
                  <a:srgbClr val="99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4669200" y="4721400"/>
                  <a:ext cx="673560" cy="25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81d58"/>
                      </a:solidFill>
                      <a:latin typeface="Arial"/>
                    </a:rPr>
                    <a:t>SCT2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2" name=""/>
              <p:cNvSpPr/>
              <p:nvPr/>
            </p:nvSpPr>
            <p:spPr>
              <a:xfrm>
                <a:off x="3508200" y="4649760"/>
                <a:ext cx="18144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3" name=""/>
          <p:cNvSpPr/>
          <p:nvPr/>
        </p:nvSpPr>
        <p:spPr>
          <a:xfrm>
            <a:off x="3520440" y="4705200"/>
            <a:ext cx="68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SCE2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ime Conversion and Forma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AD29E-B40F-402A-8CE1-DCCB0DF0CCD8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23360" y="1299960"/>
            <a:ext cx="4118040" cy="471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 Systems and Kern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ting Tim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tr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endar, DOY* and Julian Date Strings to Ephemeris Tim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acecraft Clock String to Ephemeris Tim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acecraft Clock String to Encoded Spacecraft Clock (aka “Ticks”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ting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umeri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imes -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phemeris Time to Calendar, DOY and Julian Date String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ting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umeri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imes -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mple Calendar, DOY and Julian Date Strings and the Corresponding Format Pi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4384440" y="380520"/>
            <a:ext cx="193500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16280" y="1308240"/>
            <a:ext cx="4137120" cy="43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ting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umeri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imes -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phemeris Time to Spacecraft Clock St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coded Spacecraft Clock to Spacecraft Clock St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phemeris Time to Local Solar Time St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stomizing the Time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fa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just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ictorial layout of the Time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79400" y="6012000"/>
            <a:ext cx="15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OY = Day Of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ime Conversion and Forma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985B0-853C-4530-9D86-6859A5B811E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58440" y="1379520"/>
            <a:ext cx="8094600" cy="508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ee time systems are commonly used in SPICE for inputs and outputs in SPICE application program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ordinated Universal Time (UTC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acecraft Clock (SCLK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phemeris Time (ET, also referred to as Barycentric Dynamical Time, TDB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wo time systems are commonly used in SPICE for kernel data look-ups or for comput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phemeris Time (ET, TDB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d in SPK, frames, PC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d in high-level geometry interfac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coded Spacecraft Clock (Tick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d in the intermediate level CK interfac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PICE Leapseconds Kernel and Spacecraft Clock Kernel capture the relationships betwee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TC and ET (Leapseconds Kerne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TC or ET and SCLK (SCLK Kerne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long-term relationships between these systems cannot be accurately predict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2711160" y="380520"/>
            <a:ext cx="529884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Time Systems and Kernel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ime Conversion and Forma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CB2B9-30F9-45A3-821C-D7AC929610F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29920" y="1510920"/>
            <a:ext cx="8217000" cy="459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280080" indent="-280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TC, TDB, or TDT (TT) String to Ephemeris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2ET (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str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E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ts any string in a format recognized by SPICE, excepting SCL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ires Leapseconds Kernel (LSK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acecraft Clock String to Ephemeris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S2E (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sci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str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E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ires Spacecraft Clock Kernel (SCLK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rmally requires Leapseconds Kernel (LSK) as wel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12000" indent="-16776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 handle a very small (~2 msec.) difference between TDB and T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acecraft Clock String to Encoded Spacecraft Clock (used in the mid-level interfaces of the C-kernel syste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ENCD (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scid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str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SCLKD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ires Spacecraft Clock Kernel (SCLK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3142800" y="380520"/>
            <a:ext cx="484668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onverting Time String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291440" y="1244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ime Conversion and Forma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3D5F2-4A78-42C3-A7E2-857FB546CA2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87360" y="1260000"/>
            <a:ext cx="8259840" cy="521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hemeris Time to Calendar, DOY or Julian Date Str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IMOUT ( </a:t>
            </a:r>
            <a:r>
              <a:rPr b="1" i="1" lang="en-US" sz="1600" spc="-1" strike="noStrike">
                <a:solidFill>
                  <a:srgbClr val="fc0128"/>
                </a:solidFill>
                <a:latin typeface="Arial"/>
              </a:rPr>
              <a:t>et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600" spc="-1" strike="noStrike">
                <a:solidFill>
                  <a:srgbClr val="fc0128"/>
                </a:solidFill>
                <a:latin typeface="Arial"/>
              </a:rPr>
              <a:t>fmtpic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63de8"/>
                </a:solidFill>
                <a:latin typeface="Arial"/>
              </a:rPr>
              <a:t>STRING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input </a:t>
            </a:r>
            <a:r>
              <a:rPr b="1" i="1" lang="en-US" sz="1600" spc="-1" strike="noStrike">
                <a:solidFill>
                  <a:srgbClr val="fc0128"/>
                </a:solidFill>
                <a:latin typeface="Arial"/>
              </a:rPr>
              <a:t>fmtpic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a specification giving the user great flexibility in setting the appearance of the output time string, and the time system used (UTC, TDB, TDT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YYY Mon DD, HR:MN:SC.### ::UTC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99 Jan 12,  23:28:28.28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YYY Mon DD, AP:MN:SC.### ampm ::UTC-8 (PST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99 Jan 12,  03:28:28.289 p.m. (PST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e the header for the TIMOUT modu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module TPICTR may be useful in constructing a format picture specification from a sample str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quires Leapseconds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T2UTC ( </a:t>
            </a:r>
            <a:r>
              <a:rPr b="1" i="1" lang="en-US" sz="1600" spc="-1" strike="noStrike">
                <a:solidFill>
                  <a:srgbClr val="fc0128"/>
                </a:solidFill>
                <a:latin typeface="Arial"/>
              </a:rPr>
              <a:t>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600" spc="-1" strike="noStrike">
                <a:solidFill>
                  <a:srgbClr val="fc0128"/>
                </a:solidFill>
                <a:latin typeface="Arial"/>
              </a:rPr>
              <a:t>forma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600" spc="-1" strike="noStrike">
                <a:solidFill>
                  <a:srgbClr val="fc0128"/>
                </a:solidFill>
                <a:latin typeface="Arial"/>
              </a:rPr>
              <a:t>prec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600" spc="-1" strike="noStrike">
                <a:solidFill>
                  <a:srgbClr val="063de8"/>
                </a:solidFill>
                <a:latin typeface="Arial"/>
              </a:rPr>
              <a:t>UTCST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600" spc="-1" strike="noStrike">
                <a:solidFill>
                  <a:srgbClr val="fc0128"/>
                </a:solidFill>
                <a:latin typeface="Arial"/>
              </a:rPr>
              <a:t>forma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nput specifies calendar, DOY, or Julian Date format for </a:t>
            </a:r>
            <a:r>
              <a:rPr b="1" lang="en-US" sz="1600" spc="-1" strike="noStrike">
                <a:solidFill>
                  <a:srgbClr val="063de8"/>
                </a:solidFill>
                <a:latin typeface="Arial"/>
              </a:rPr>
              <a:t>UTCST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quires Leapseconds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TCAL ( </a:t>
            </a:r>
            <a:r>
              <a:rPr b="1" i="1" lang="en-US" sz="1600" spc="-1" strike="noStrike">
                <a:solidFill>
                  <a:srgbClr val="fc0128"/>
                </a:solidFill>
                <a:latin typeface="Arial"/>
              </a:rPr>
              <a:t>et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63de8"/>
                </a:solidFill>
                <a:latin typeface="Arial"/>
              </a:rPr>
              <a:t>STRING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601"/>
              </a:spcBef>
              <a:buClr>
                <a:srgbClr val="063de8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3de8"/>
                </a:solidFill>
                <a:latin typeface="Arial"/>
              </a:rPr>
              <a:t>STRING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fixed format ephemeris calendar time str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 Leapseconds Kernel is required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2619000" y="380520"/>
            <a:ext cx="588636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onverting Numeric Times - 1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91440" y="1244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ime Conversion and Forma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41737-532E-4FC5-B622-A6822C9D3E8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82600" y="4832280"/>
            <a:ext cx="8624880" cy="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82600" y="4505400"/>
            <a:ext cx="8624880" cy="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2600" y="4156200"/>
            <a:ext cx="8624880" cy="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2600" y="3790800"/>
            <a:ext cx="8624880" cy="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82600" y="3483000"/>
            <a:ext cx="8624880" cy="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82600" y="3117960"/>
            <a:ext cx="8624880" cy="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2600" y="2778120"/>
            <a:ext cx="8624880" cy="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2600" y="2416320"/>
            <a:ext cx="8624880" cy="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49360" y="1987560"/>
            <a:ext cx="4235400" cy="36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13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 St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999-283T12:28:29 (UT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999-283T12:29:33 (TD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ed Nov 03, 19:29:05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465 B.C. Jan 12 03:15:23 p.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987-11-03T04:29:5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4:28:55 A.M. June 12, 1982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hursday November 04,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C 31, 15:59:60.12 1998 (PS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2450297.1994 JDUT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37080" y="2025720"/>
            <a:ext cx="4465800" cy="32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2000"/>
          </a:bodyPr>
          <a:p>
            <a:pPr marL="262800" indent="-262800">
              <a:lnSpc>
                <a:spcPct val="13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mat Picture Used (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fmtp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2800" indent="-262800">
              <a:lnSpc>
                <a:spcPct val="13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YYYY-DOYTHR:MN:SC (UT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2800" indent="-262800">
              <a:lnSpc>
                <a:spcPct val="13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YYYY-DOYTHR:MN:SC (TDB) ::TD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2800" indent="-262800">
              <a:lnSpc>
                <a:spcPct val="13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kd Mon DD, HR:MN:SC YYY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2800" indent="-262800">
              <a:lnSpc>
                <a:spcPct val="13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YYYY ERA Mon DD AP:MN:SC amp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2800" indent="-262800">
              <a:lnSpc>
                <a:spcPct val="13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YYYY-MM-DDTHR:MN: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2800" indent="-262800">
              <a:lnSpc>
                <a:spcPct val="13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P:MN:SC AMPM Month DD, YYY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2800" indent="-262800">
              <a:lnSpc>
                <a:spcPct val="13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eekday Month DD, YYY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2800" indent="-262800">
              <a:lnSpc>
                <a:spcPct val="13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N DD, HR:MN:SC YYYY (PST)::UTC-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2800" indent="-262800">
              <a:lnSpc>
                <a:spcPct val="13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JULIAND.#### JDUT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33240" y="1476360"/>
            <a:ext cx="786312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Time Strings and the Corresponding Format Pi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619000" y="380520"/>
            <a:ext cx="588492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onverting Numeric Times - 2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76120" y="5168880"/>
            <a:ext cx="8624880" cy="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ime Conversion and Forma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87BC9-C350-432F-9730-1E267872410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692280" y="1272960"/>
            <a:ext cx="7772400" cy="466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phemeris Time to Spacecraft Clock Str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E2S (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sci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e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SCLK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ires both LSK and SCL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coded Spacecraft Clock to Spacecraft Clock Str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DECD (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sci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sclkd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SCLK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ires SCL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LK string examples*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/1487147147.203  (Cassini, MG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/05812:00:001    (Voyager 1 and 2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phemeris Time to Local Solar Time Str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T2LST(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e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bod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lo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typ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H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 M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 S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 TI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 AMP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ires SPK, P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2619000" y="380520"/>
            <a:ext cx="588492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onverting Numeric Times - 3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982520" y="5835600"/>
            <a:ext cx="674784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hen literal clock strings are used as arguments in modules they must be contained in quot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ingle quotes for Fortr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ouble quotes for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ingle quotes for IDL to be sa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ingle or double quotes for MATL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ime Conversion and Forma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FB4EF-4EC7-40C5-9889-E0FFC84FB61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98720" y="124920"/>
            <a:ext cx="5611680" cy="7938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Arial"/>
              </a:rPr>
              <a:t>Conversion Between Uniform Time Systems</a:t>
            </a:r>
            <a:endParaRPr b="1" lang="en-US" sz="28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88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version between numeric representations of TAI, TDB(ET), TDT, JDTDB(JED), JDTD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63de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Return valu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UNITIM (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epo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insy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outsy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ime Conversion and Forma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9EBEC-2728-468F-A1CB-6DE8CAE8732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692280" y="1384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aul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wo digit year (a bad idea but supported):1969-206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 System: U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endar: Gregor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just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one hundred year interval to which two digit years belong may be set.  For example 1980-207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 Systems: UTC, TDB, TT (Terrestrial Tim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endar: Gregorian, Julian, or Mixe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TIMDEF or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ime Required Read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time.req) for detai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2398320" y="380520"/>
            <a:ext cx="590868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ustomizing the Time System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ime Conversion and Forma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A8D0A-5B24-404B-9AF2-B81669214F8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arles Acton</cp:lastModifiedBy>
  <cp:lastPrinted>2006-03-07T18:52:32Z</cp:lastPrinted>
  <dcterms:modified xsi:type="dcterms:W3CDTF">2007-10-12T23:30:40Z</dcterms:modified>
  <cp:revision>125</cp:revision>
  <dc:subject/>
  <dc:title>Time Conversion and Formats</dc:title>
</cp:coreProperties>
</file>