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58288" cy="6872288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328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3280" y="4331160"/>
            <a:ext cx="5465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65320" y="587520"/>
            <a:ext cx="4511520" cy="33861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OS X m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65320" y="587520"/>
            <a:ext cx="4511520" cy="3386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test information. Edited furnsh warning. CSPICE no longer throws an error for multiply loaded binary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E5A0-F598-48D7-8690-D35D39BA0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84D6D-EFDE-4589-8B3E-94B81594A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6369-79FD-4FBD-9F1C-9ECCE5305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3158-7312-4597-95E3-2EE772B66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8857-820A-42DB-A188-645B8246C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DB1C-324E-400A-8388-7C058D9F8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FA63-7F95-4E19-A386-28A698511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15BB-E942-40DF-B06C-1E6E02702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3484-663B-48CA-B94C-F086ECDF5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DFAE-CFE8-4674-AEE5-67D9F056D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28F7-7640-4220-8B06-625A556B1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E869-DE22-4660-B65D-A4545935C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6DD6-4E63-4139-96F7-DF5357CF4A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7040" y="2271600"/>
            <a:ext cx="5772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TLAB Interface to CSPICE</a:t>
            </a:r>
            <a:br>
              <a:rPr sz="32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“Mice”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3526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How to Access the CSPICE library U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TLAB</a:t>
            </a:r>
            <a:r>
              <a:rPr b="1" lang="en-US" sz="2400" spc="-1" strike="noStrike" baseline="30000">
                <a:solidFill>
                  <a:srgbClr val="081d58"/>
                </a:solidFill>
                <a:latin typeface="Arial"/>
              </a:rPr>
              <a:t>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9600" y="6400800"/>
            <a:ext cx="1969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81d58"/>
                </a:solidFill>
                <a:latin typeface="Arial"/>
              </a:rPr>
              <a:t>© </a:t>
            </a:r>
            <a:r>
              <a:rPr b="1" lang="en-US" sz="1400" spc="-1" strike="noStrike">
                <a:solidFill>
                  <a:srgbClr val="081d58"/>
                </a:solidFill>
                <a:latin typeface="Arial"/>
              </a:rPr>
              <a:t>The MathWork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2952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te 6-vector (6x1 array) corresponding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phemeris time with the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_i = state(:,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 the ephemeris time vect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previous example to UTC calendar strings with three decimal places of precision in the seconds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= 'C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c   = 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cstr = cspice_et2utc( et, format, prec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ll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tcs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array of 1000 strings (dimensioned 1000x24), where ea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ing is the calendar date corresponding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(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Acces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ing of utcstr corresponding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phemeris time with the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cstr_i = utcstr(i,: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00480" y="380880"/>
            <a:ext cx="4304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Vectorizatio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F230-43AE-46C7-A2C1-AAAFA2EC90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29528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 the position components (the first three components in a state vector) of the N state vectors returned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latitudinal coordin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radius, latitude, longitude] = cspice_reclat( state(1:3,: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ll returns three double precision 1x1000 arrays (vectorized scalars)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00480" y="380880"/>
            <a:ext cx="4304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Vectorizatio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613D-67A5-48AB-8FE5-8BB3AE7BAE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58200" y="380880"/>
            <a:ext cx="6470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imple Use of Mice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37160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n example of Mice use, calculate and plot the trajectory in the J2000 inertial frame of the Cassini spacecraft from June 20, 2004 to December 1, 20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286000"/>
            <a:ext cx="8076960" cy="39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Define the number of divisions of the time interval and the time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EP =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100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tc  = strvcat(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Jun 20, 2004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Dec 1, 2005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Load the needed kernels. Use a meta kernel "standard.ker" to load the ker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"naif0008.tls," "de405_2000-2050.bsp," "pck00008.tpc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standard.ker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/kernels/cassini/spk/T18-5TDJ5.bsp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t          = cspice_str2et( utc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       = 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STEP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 * ( et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 - et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 )/STEP + et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pos,ltime ]=cspice_spkpos(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Cassini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times,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J2000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NONE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SATURN BARYCENTER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Plot the resulting traje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pos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: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 = pos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: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 = pos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: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lot3(x,y,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k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C8A5-D168-4D41-8C54-8BB4BDDA56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30280" y="380880"/>
            <a:ext cx="6136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raphic Output using 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8000" y="6195960"/>
            <a:ext cx="66308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jectory of the Cassini vehicle in the J2000 frame, for June 20, 2005 to Dec 1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38200" y="1289160"/>
            <a:ext cx="6280200" cy="473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41AF-9415-49EB-BC0C-26E2FA8478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5840" y="380520"/>
            <a:ext cx="1436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e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Use of Mice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0E1F-ED12-4159-AEA1-EE574C6D52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e operates as an extension to the MATLAB language reg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ice calls are functions regardless of the call format of the underlying CSPICE routine, returning MATLAB native data typ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e has some capability not available in CSPICE such as vector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PICE error messages return to MATLAB in the form usable by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y...ca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96800" y="380520"/>
            <a:ext cx="27464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Benefi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4CFE-D66D-4F7A-8BBE-F7255A7B14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TLAB environment includes an intrinsic capability to use external rout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functions as a MATLAB Executable, MEX, consisting of the Mice MEX shared object library and a set of .m wrapper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ce library contains the MATLAB callable C interface routines that wrap a subset of CSPICE wrapper cal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rapper files, named cspice_*.m and mice_*.m, provide the MATLAB calls to the interface func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unction prefixed with ‘cspice_’ retains essentially the same argument list as the CSPICE counterpar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terface prefixed with ‘mice_’ returns a structure, with the fields of the structure corresponding to the output arguments of the CSPICE counterpar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rappers include a header section describing the function call, displayable by the MATLAB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4440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E99D-E882-40A8-BAD1-EE986F637F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1447920"/>
            <a:ext cx="800100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user invokes a call to a Mice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ATLAB cal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he function's wrapper, which cal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he Mice MEX shared object library,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s its function then returns the resul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to the wrapper, which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returns the result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t from the user’s persp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4440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40AC-335C-4728-BDD1-70F6E92592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51200" y="380880"/>
            <a:ext cx="3423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distributes Mice as a complete, standalone pack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ckage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SPICE source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ce interface source 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specific build scripts for Mice and CSP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versions of the SPICE cookbook program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tict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HTML based help system for both Mice and CSPICE, with the Mice help cross-linked to CSP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ce MEX shared library and the M wrapper files. The system is ready for use after installation of the the library and wrapper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BBF3-5E38-49EA-A673-D36B97C99D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39960" y="380880"/>
            <a:ext cx="36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Operatio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447920"/>
            <a:ext cx="8382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A possible irritant exists in loading kernels using the </a:t>
            </a:r>
            <a:r>
              <a:rPr b="1" lang="en-US" sz="24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Kernels load into your MATLAB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session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, not into your MATLAB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scripts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. This me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aded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binary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s remain accessible (“active”) throughout your MATLAB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ata from loaded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text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s remain in the kernel pool (in the memory space used by CSPICE) throughout your MATLAB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sequence: some kernel data may be available to one of your scripts even though not intended to be 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You could ge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ncorrect results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(If you run only one script during your MATLAB session, there’s no problem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41760" y="5991120"/>
            <a:ext cx="1893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d on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A393-0968-41BA-BBE3-E114F225FD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739960" y="380880"/>
            <a:ext cx="36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Operatio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7360" y="14479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itigation: two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ad all needed SPICE kernels for your MATLAB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session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at the beginning of the session, paying careful attention to the files loaded and the loading order (loading order affects preced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vince yourself that this approach will provide ALL of the scripts you will run during this MATLAB session with the appropriate SPI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At or near the end of every MATLAB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script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include a call to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unload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for each kernel loaded using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or include a call to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kclear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to remove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ALL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 data from the kernel pool loaded using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8583-81CB-4829-A1CC-35767ECAFC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ice functions include use of vectorized arguments, a capability not available in C or FORTRAN toolk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use Mice to retrieve state vectors and light-time values for 1000 ephemeris ti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he array of 1000 ephemeris times in steps of 10 hours, keyed on July 1, 200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rt = cspice_str2et('July 1 2005'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t    = (0:999)*36000 + star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the state vectors and corresponding light times from Mars to earth at 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J2000 frame with LT+S aberration corre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state, ltime] = cspice_spkezr( 'Earth', et, 'J2000', 'LT+S', 'MARS'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5160" y="380880"/>
            <a:ext cx="4304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Vectorizatio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41760" y="5991120"/>
            <a:ext cx="1893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d on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1372-AB0F-4C65-9B1B-1BCABA4B5A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0T14:50:09Z</dcterms:created>
  <dc:creator>Chuck Acton</dc:creator>
  <dc:description/>
  <cp:keywords/>
  <dc:language>en-US</dc:language>
  <cp:lastModifiedBy>Charles Acton</cp:lastModifiedBy>
  <cp:lastPrinted>2007-04-23T16:06:28Z</cp:lastPrinted>
  <dcterms:modified xsi:type="dcterms:W3CDTF">2007-10-12T23:53:00Z</dcterms:modified>
  <cp:revision>714</cp:revision>
  <dc:subject/>
  <dc:title>No Slide Title</dc:title>
</cp:coreProperties>
</file>