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58288" cy="68722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9780BC-5972-4553-86EA-FAA5C4D9A3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9408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0ADF9C-805B-418A-B799-B76EB6C0BE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9408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13CDD1-460D-4D1B-A66E-90AF6C4241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408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7073E5-C327-4107-933C-39014EFA39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49408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9408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49408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49408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249408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49408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9408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477FEA-0DBC-4A9A-957C-52B6E23AE9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408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9408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9408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408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9408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49408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531083-54EB-47D7-9D5D-ECD81ABA82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9408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7BF6F7-75FF-470E-9CF0-73BE9F7F67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49408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32562-8C66-484C-B61D-5AC92A5CFF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249408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04C435-59DD-45FF-96E4-9D60C4B3E1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49408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4E3C11-F88B-4085-840D-1E1A11E8BE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408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90C50D-E1F3-4F79-8842-7D00E96A09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49408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1CC571-BAF2-4A38-B52B-7F03E575F9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408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2063880" y="920880"/>
            <a:ext cx="658476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BB30D-11EE-40DA-8EF5-886305320447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-228240" y="182520"/>
            <a:ext cx="2230200" cy="897120"/>
            <a:chOff x="-228240" y="182520"/>
            <a:chExt cx="2230200" cy="897120"/>
          </a:xfrm>
        </p:grpSpPr>
        <p:sp>
          <p:nvSpPr>
            <p:cNvPr id="8" name=""/>
            <p:cNvSpPr/>
            <p:nvPr/>
          </p:nvSpPr>
          <p:spPr>
            <a:xfrm flipH="1">
              <a:off x="1008000" y="326880"/>
              <a:ext cx="125280" cy="12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684" y="19702"/>
                  </a:moveTo>
                  <a:arcTo wR="10800" hR="10800" stAng="7469441" swAng="17318365"/>
                  <a:lnTo>
                    <a:pt x="10800" y="10800"/>
                  </a:lnTo>
                  <a:close/>
                </a:path>
                <a:path fill="none" w="21600" h="21600">
                  <a:moveTo>
                    <a:pt x="4684" y="19702"/>
                  </a:moveTo>
                  <a:arcTo wR="10800" hR="10800" stAng="7469441" swAng="17318365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>
              <a:off x="-227880" y="368280"/>
              <a:ext cx="2208960" cy="518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7267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726747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88840" y="371520"/>
              <a:ext cx="370080" cy="398520"/>
            </a:xfrm>
            <a:custGeom>
              <a:avLst/>
              <a:gdLst/>
              <a:ahLst/>
              <a:rect l="l" t="t" r="r" b="b"/>
              <a:pathLst>
                <a:path w="233" h="251">
                  <a:moveTo>
                    <a:pt x="134" y="0"/>
                  </a:moveTo>
                  <a:lnTo>
                    <a:pt x="95" y="0"/>
                  </a:lnTo>
                  <a:lnTo>
                    <a:pt x="0" y="246"/>
                  </a:lnTo>
                  <a:lnTo>
                    <a:pt x="114" y="35"/>
                  </a:lnTo>
                  <a:lnTo>
                    <a:pt x="233" y="251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08200" y="228564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-228240" y="182520"/>
            <a:ext cx="2230200" cy="897120"/>
            <a:chOff x="-228240" y="182520"/>
            <a:chExt cx="2230200" cy="897120"/>
          </a:xfrm>
        </p:grpSpPr>
        <p:sp>
          <p:nvSpPr>
            <p:cNvPr id="62" name=""/>
            <p:cNvSpPr/>
            <p:nvPr/>
          </p:nvSpPr>
          <p:spPr>
            <a:xfrm flipH="1">
              <a:off x="1008000" y="326880"/>
              <a:ext cx="125280" cy="12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684" y="19702"/>
                  </a:moveTo>
                  <a:arcTo wR="10800" hR="10800" stAng="7469441" swAng="17318365"/>
                  <a:lnTo>
                    <a:pt x="10800" y="10800"/>
                  </a:lnTo>
                  <a:close/>
                </a:path>
                <a:path fill="none" w="21600" h="21600">
                  <a:moveTo>
                    <a:pt x="4684" y="19702"/>
                  </a:moveTo>
                  <a:arcTo wR="10800" hR="10800" stAng="7469441" swAng="17318365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>
              <a:off x="-227880" y="368280"/>
              <a:ext cx="2208960" cy="518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7267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726747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88840" y="371520"/>
              <a:ext cx="370080" cy="398520"/>
            </a:xfrm>
            <a:custGeom>
              <a:avLst/>
              <a:gdLst/>
              <a:ahLst/>
              <a:rect l="l" t="t" r="r" b="b"/>
              <a:pathLst>
                <a:path w="233" h="251">
                  <a:moveTo>
                    <a:pt x="134" y="0"/>
                  </a:moveTo>
                  <a:lnTo>
                    <a:pt x="95" y="0"/>
                  </a:lnTo>
                  <a:lnTo>
                    <a:pt x="0" y="246"/>
                  </a:lnTo>
                  <a:lnTo>
                    <a:pt x="114" y="35"/>
                  </a:lnTo>
                  <a:lnTo>
                    <a:pt x="233" y="251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457920" y="1608120"/>
            <a:ext cx="8242200" cy="39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430000" y="2271600"/>
            <a:ext cx="4318200" cy="10065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SPICE Toolkit</a:t>
            </a:r>
            <a:br>
              <a:rPr sz="3600"/>
            </a:b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Common Problems</a:t>
            </a:r>
            <a:endParaRPr b="1" lang="en-US" sz="36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October 2007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2514600" y="2209320"/>
            <a:ext cx="4260960" cy="259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ven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lp from NAIF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4640400" y="380520"/>
            <a:ext cx="143640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Topics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PICE Toolkit: Common Proble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BD0ED3-2CB3-4AA2-8A92-4795FF6D8863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16765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minimize problems using SPICE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e a Toolkit obtained directly from NAIF and intended for your specific environment (platform/OS/compiler/compiler option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d the pertinent document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ule headers, Required Reading, comments in kern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et the right (usually latest) kernel fi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erify that coverage and  intended use are suita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erify that correct time systems are us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., TDB, UTC, or SCLK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erify that correct reference frames are used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., MOON_PA versus MOON_ME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. which version of the IAU_Mars body-fixed frame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tinued on next pag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3954600" y="380520"/>
            <a:ext cx="281448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Prevention - 1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PICE Toolkit: Common Proble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952801-9FB8-4E01-B546-F7C5A6BBA8B3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955680" y="380520"/>
            <a:ext cx="28098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Prevention - 2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eck definitions of geometric quantiti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odetic vs latitudinal coordinat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late vs spherical body shap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eck aberration corr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ged Newtonian light time + stellar aberration, light time+stellar aberration, light time only, or none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rget orientation corrected for light time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n’t confuse an instrument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reference fram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D with the ID of the instrument itself (the object ID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PICE Toolkit: Common Proble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234950-59F3-4CA1-9104-9938D9B60A6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IF has compiled a list of common problems, probable causes, and solu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fer to PROBLEMS.REQ, provided in each Toolkit packag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may be useful to read this document BEFORE embarking on extensive SPICE-based programming projects, since some problems are best solved early in the software development cycl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3816360" y="380520"/>
            <a:ext cx="308448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Documentation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PICE Toolkit: Common Proble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1378BD-02A4-4AEE-9786-98201AA53035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691920" y="1987560"/>
            <a:ext cx="7918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you need troubleshooting help from NAIF, you can help to speed the process along by providing important informatio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pture SPICE or operating system diagnostic messages written to the screen or to log file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fy kernel files used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 may be asked to provide the actual files to NAIF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termine inputs to SPICE modules in which the error occurred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t/paste into email your code fragment where the error seems to occu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fy the Toolkit version you are using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the name and version of the operating system you’re using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the name and version of the compiler or programming environment (IDL, Matlab) you’re using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nd all of the above to someone on the NAIF team at JPL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3816360" y="380520"/>
            <a:ext cx="308448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Help from NAIF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PICE Toolkit: Common Proble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17B238-223B-47CD-A43A-FC3019872B6A}" type="slidenum">
              <a:t>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harles Acton</cp:lastModifiedBy>
  <dcterms:modified xsi:type="dcterms:W3CDTF">2007-10-12T23:36:36Z</dcterms:modified>
  <cp:revision>19</cp:revision>
  <dc:subject/>
  <dc:title>SPICE Toolkit:  Common Problems</dc:title>
</cp:coreProperties>
</file>