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D2B1-8109-402F-8F73-0B5C9A8F9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7CA1-B4C3-441D-9D08-E3D27CFBC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8E9D-29CB-4475-9B47-859DD8CA9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CECE-7B80-4B38-BA00-08579F343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30832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703F-EDB9-4419-A226-8B9CC7B19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A92D-F10C-4694-BA55-37431FB74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B75D-A6F4-4F10-B242-1F27561FC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A962-9100-4D0A-A1B4-D208E37C2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30832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8749-0818-4D18-9780-E51EF4ACF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22B8-F1DD-4379-9CED-C5631FE59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CBB6-12E5-4D41-90E4-F2269B6A5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A315-4339-4F90-819D-F1416FE1B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68E1-995F-49C7-A52D-BDB43DDA137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7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3360" y="2514600"/>
            <a:ext cx="5056200" cy="528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Using Module Header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895120" y="3733560"/>
            <a:ext cx="3124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85680" y="380520"/>
            <a:ext cx="4778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odule Header Purpo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6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“headers” are provided for all Toolkit modules, whether FORTRAN, C, IDL, or MATLAB Toolki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language, these “headers” may be found within the source code, under the  …/doc directory, or both.  (All headers are available from the Toolkit API Reference Guide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fundamental source for detailed user information and examples on how to use the modu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ome families of modules (e.g. SPK), additional information about the whole family is provided in a “required reading” document (e.g.  …/doc/spk.req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sing Module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2E00-427A-4DDF-96DE-D3B9739452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1360" y="380520"/>
            <a:ext cx="71722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RTRAN Module Header Loc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ORTRAN toolkits, the headers are provided within the source code modu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SPICELIB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toolkit/src/spicelib/&lt;name.f or &lt;name&gt;.f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 versions of the headers are also availa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SPICELIB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toolkit/doc/html/spicelib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ost cases there is a single “header” at the top of the source co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few cases, where a FORTRAN module has multiple entry points, there are additional “headers” at each entry point. For 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er.f” has entries for FURNSH, KTOTAL, KINFO, KDATA, KCLEAR, and UN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sing Module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E2FD-3890-47B0-A646-B8D7E58B5D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43320" y="380520"/>
            <a:ext cx="5478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 Module Header Loc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1080"/>
            <a:ext cx="8153280" cy="419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 toolkits the headers are provided in two formats, at two lo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in text, in the source code head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CSPICE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cspice/src/cspice/&lt;name&gt;_c.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M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CSPICE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cspice/doc/html/cspice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sing Module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41F2-859B-4E3E-AE1F-CC1AFD81EF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49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Module Header Loc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108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DL (“Icy”) toolkits, two kinds of headers are provi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y wrappers in HTML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icy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icy/doc/html/icy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 restricted set of information, and refers the user to the corresponding cspice header for detai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pice headers, in text and HTML forma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icy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icy/src/cspice/&lt;name&gt;_c.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icy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icy/doc/html/cspice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formation provided in an “Icy” wrapper is minimal; the corresponding CSPICE wrapper provides more detai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sing Module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ED74-F990-4681-A65D-73E1A85B1F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41280" y="380520"/>
            <a:ext cx="60879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Module Header Loc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ATLAB (“Mice”) toolkits, two kinds of headers are provi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e wrappers in HTML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Mice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mice/doc/html/mice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 restricted set of information, and refers the user to the corresponding cspice header for detai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user can also access the information presented in the HTML document via the MATLAB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pice headers, in text and HTML forma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Mice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mice/src/cspice/&lt;name&gt;_c.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Mice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mice/doc/html/cspice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formation provided in a “Mice” wrapper is minimal; the corresponding CSPICE wrapper provides more detai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sing Module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0257-1A02-442A-9C22-267F6A3507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27360" y="380520"/>
            <a:ext cx="49147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ook at a Typical Header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108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ne out… whether FORTRAN, C, Icy or M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ion, look for one of these head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KEZR, spkezr_c, cspice_spkezr, cspice_spkez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2ET, str2et_c, cspice_str2et, cspice_str2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sing Module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0176-2A2B-48C4-9E27-7C721883B5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7-05-01T19:56:40Z</cp:lastPrinted>
  <dcterms:modified xsi:type="dcterms:W3CDTF">2007-09-22T20:58:30Z</dcterms:modified>
  <cp:revision>69</cp:revision>
  <dc:subject/>
  <dc:title>No Slide Title</dc:title>
</cp:coreProperties>
</file>