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8315-E45E-4685-91E9-7A7FB53E1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F6F6-19DC-44F1-AD19-297CBCC18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B42D-B4C3-4A0A-AAF7-310FAB770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5C04-719A-4D27-AEB4-9CD02966E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ECF6-8523-4D0A-BD3F-D3BA79F9F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06D8-383D-47D8-8BAA-B59B6CC12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3CB7-1067-455F-8F10-80A83ED62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FBB0-38BE-459B-BDC2-9C2180A6F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D56E-D1D0-4E2C-81B2-D964167A0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CCD9-35D5-40FD-BE1E-3BEC78E9A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6DAA-B2F8-488B-9B5C-068EDBC8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A13F-2A1D-4706-9E94-D5A6E34A6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61F011-CD3E-43AC-BA60-993E9872AA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2480" y="2263320"/>
            <a:ext cx="741672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 CSPICE 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6240" y="4687560"/>
            <a:ext cx="639108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0760" y="1353960"/>
            <a:ext cx="7762680" cy="20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 &amp;r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76400" y="380520"/>
            <a:ext cx="7166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4888080"/>
            <a:ext cx="77626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illum_c.  Units are radian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call, normal light time and stellar aberration corrections su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 "LT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3200" y="3160800"/>
            <a:ext cx="7763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0E3C-7C52-41F4-9F9F-1A08995005BB}" type="slidenum">
              <a:t>10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4120" y="5157720"/>
            <a:ext cx="844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LT+S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120" y="1278000"/>
            <a:ext cx="814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vnorm_c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874880"/>
            <a:ext cx="77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&amp;trgepc, obspos,  &amp;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4120" y="2411280"/>
            <a:ext cx="81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atitude and longitude of the point.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6000" y="2917800"/>
            <a:ext cx="822024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&amp;r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 =   ( re – rp ) /  r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" y="4965840"/>
            <a:ext cx="79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illumination angles at the surface point.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737C-14C7-4A1D-8F9A-ED5C5B593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90120" y="1596960"/>
            <a:ext cx="80298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23D6-CA98-457A-A33E-A57117602EA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CSPICE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&amp;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satnm, "RADII", 3, &amp;i, radii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720" y="3313080"/>
            <a:ext cx="78343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AB8F-483B-4E78-AF89-D01CFBB3E6DB}" type="slidenum">
              <a:t>13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6840" y="380520"/>
            <a:ext cx="50943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4465800"/>
            <a:ext cx="6672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ompt for the user-supplied inputs for our program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09800" y="1600200"/>
            <a:ext cx="64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1880" y="2968560"/>
            <a:ext cx="58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epoch corresponding to the input time: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32004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&amp;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02240" y="350532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radii of the satellit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10040" y="3774960"/>
            <a:ext cx="46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&amp;i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64440" y="41194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instrument boresight and frame nam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AA7E-8F50-41DA-898B-6D189A83DC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70280" y="380520"/>
            <a:ext cx="31543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720" y="11635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Display results.  Convert angles from radians to degrees for output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720" y="1368360"/>
            <a:ext cx="7758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ongitude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atitude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ongitude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atitud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intercept point  (km):   %11.6f\n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target center    (km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hase angle          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solar incidence angl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emission angle                 (deg):   %11.6f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_c( obspos 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ha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sola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emissn                                            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5537160"/>
            <a:ext cx="7850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No intercept point found at %s\n", time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DDF6-9C2C-4B2B-BF29-023288E028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C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106800" y="380520"/>
            <a:ext cx="4481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AA7B-200A-4685-B06C-DD21CDB86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93640" y="1787400"/>
            <a:ext cx="348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SpiceUsr.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5760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08440" y="1233360"/>
            <a:ext cx="4049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a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bundry[ROOM]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d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emiss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insite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obspos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cl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c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dl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d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h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oint 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adii 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sol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trgep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600" y="4459320"/>
            <a:ext cx="3701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iframe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instnm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atnm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cnm 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etupf[FILE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hape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time 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83364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Boolean   fou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8080" y="2908440"/>
            <a:ext cx="34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FILESZ          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WORDSZ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ROOM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1640" y="22096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 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5614920"/>
            <a:ext cx="395784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inst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0EE1-080B-4B74-A498-71F12B718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52200" y="380520"/>
            <a:ext cx="518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0080" y="4465800"/>
            <a:ext cx="6672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ompt for the user-supplied inputs for our program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9800" y="1600200"/>
            <a:ext cx="64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01880" y="2968560"/>
            <a:ext cx="58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epoch corresponding to the input time: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01880" y="32004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&amp;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2240" y="350532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radii of the satellit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0040" y="3774960"/>
            <a:ext cx="46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&amp;i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4440" y="41194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instrument boresight and frame nam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A5B5-86AF-4C39-9727-B8BFA39044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5960" y="4927680"/>
            <a:ext cx="805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LT+S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4120" y="1201680"/>
            <a:ext cx="821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vnorm_c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3720" y="1720800"/>
            <a:ext cx="77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amp;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obspos,  &amp;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2200320"/>
            <a:ext cx="825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atitude and longitude of the point.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" y="2651040"/>
            <a:ext cx="829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&amp;r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           */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 =   ( re – rp ) /  r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4695840"/>
            <a:ext cx="806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illumination angles at the surface point.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54360" y="380520"/>
            <a:ext cx="51847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8280" y="5772240"/>
            <a:ext cx="752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ongitude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atitude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70080" y="5349960"/>
            <a:ext cx="752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output.                      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6658-5373-45B2-B2BD-C4BF53811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046240"/>
            <a:ext cx="5867280" cy="28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C9A0-6931-43A7-8DF6-8EFB6F425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6228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4160" y="1432080"/>
            <a:ext cx="775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ongitude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atitud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intercept point  (km):   %11.6f\n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target center    (km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hase angle          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solar incidence angl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emission angle                 (deg):   %11.6f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_c( obspos 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ha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sola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emissn                                            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640" y="4849920"/>
            <a:ext cx="762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No intercept point found at %s\n", time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4CE0-4D19-40E3-A509-478F2BA7AE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7800" y="1353960"/>
            <a:ext cx="7988400" cy="53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be sure that both the CSPICE Toolkit and a C compiler are properly install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"hello world" C program must be able to compile, link, and run successfully in your environme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of the mkprodct.* scripts in the cspice/src/* paths of the CSPICE installation should execute proper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ys to compile and link the progra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're familiar with the "make" utility, create a makefile.  Use compiler and linker options from the mkprodct.* script found in the cspice/src/cook_c path of your CSPICE install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, modify the cookbook mkprodct.* build script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program name must be *.pgm, for example demo.pgm, to be recognized by the scrip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library references in the script to use absolute pathnames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path for the executable to the current working directo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compiler supports it, add a –I option to reference the cspice/include path to make CSPICE *.h files available.  Otherwise, copy those files from the include path to your current working directo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ome platforms, you must modify the script to refer to your program by na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9D6B-9534-4FDA-AF9C-A10EF93481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77800" y="1430280"/>
            <a:ext cx="7988400" cy="52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compile the program on the command line. The program must be linked against the CSPICE object library cspice.a (cspice.lib under MS Visual C++/C) and the C math library.  On a PC running Linux and gcc, 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cc compiler is in your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dicated by the response to the command "which gcc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olkit is installed in the path (for the purpose of this example) /myhome/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ve named the program demo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you can compile and link your program using the comm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–I/myhome/cspice/include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 demo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mo.c  /myhome/cspice/lib/cspice.a –l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 the preprocessor 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NON_UNIX_ST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d in the mkprodct.csh script is needed for code generated by f2c, but is usually unnecessary for compiling user cod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73B3-5874-4319-99EE-B14572664C7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80880" y="1449360"/>
            <a:ext cx="8501040" cy="4782960"/>
            <a:chOff x="380880" y="1449360"/>
            <a:chExt cx="8501040" cy="4782960"/>
          </a:xfrm>
        </p:grpSpPr>
        <p:grpSp>
          <p:nvGrpSpPr>
            <p:cNvPr id="237" name=""/>
            <p:cNvGrpSpPr/>
            <p:nvPr/>
          </p:nvGrpSpPr>
          <p:grpSpPr>
            <a:xfrm>
              <a:off x="380880" y="1449360"/>
              <a:ext cx="8501040" cy="4782960"/>
              <a:chOff x="380880" y="1449360"/>
              <a:chExt cx="8501040" cy="4782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80880" y="1449360"/>
                <a:ext cx="8501040" cy="4782960"/>
                <a:chOff x="380880" y="1449360"/>
                <a:chExt cx="8501040" cy="47829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80880" y="1449360"/>
                  <a:ext cx="8501040" cy="4782960"/>
                  <a:chOff x="380880" y="1449360"/>
                  <a:chExt cx="8501040" cy="478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80880" y="173988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66440" y="163512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80880" y="144936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0880" y="614988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66440" y="614844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10760" y="147960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3790080" y="147960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04640" y="3165480"/>
                <a:ext cx="299880" cy="2143080"/>
                <a:chOff x="404640" y="3165480"/>
                <a:chExt cx="299880" cy="21430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404640" y="3165480"/>
                  <a:ext cx="299880" cy="2143080"/>
                  <a:chOff x="404640" y="3165480"/>
                  <a:chExt cx="299880" cy="21430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417240" y="317340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404640" y="3165480"/>
                    <a:ext cx="299880" cy="2143080"/>
                    <a:chOff x="404640" y="3165480"/>
                    <a:chExt cx="299880" cy="214308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4640" y="316548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6080" y="5308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47560" y="4214880"/>
                  <a:ext cx="46080" cy="42840"/>
                  <a:chOff x="547560" y="4214880"/>
                  <a:chExt cx="46080" cy="428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47560" y="421488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49000" y="421632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404640" y="5505480"/>
                <a:ext cx="301680" cy="601560"/>
                <a:chOff x="404640" y="5505480"/>
                <a:chExt cx="301680" cy="6015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404640" y="5827680"/>
                  <a:ext cx="301680" cy="279360"/>
                  <a:chOff x="404640" y="5827680"/>
                  <a:chExt cx="301680" cy="2793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417240" y="58309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404640" y="5827680"/>
                    <a:ext cx="301680" cy="279360"/>
                    <a:chOff x="404640" y="5827680"/>
                    <a:chExt cx="301680" cy="2793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04640" y="582768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07880" y="61070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404640" y="5505480"/>
                  <a:ext cx="301680" cy="280800"/>
                  <a:chOff x="404640" y="5505480"/>
                  <a:chExt cx="301680" cy="2808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17240" y="551016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404640" y="5505480"/>
                    <a:ext cx="301680" cy="280800"/>
                    <a:chOff x="404640" y="5505480"/>
                    <a:chExt cx="301680" cy="280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04640" y="550548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07880" y="57862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514080" y="59007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2640" y="558000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434880" y="1495440"/>
              <a:ext cx="191880" cy="179280"/>
              <a:chOff x="434880" y="1495440"/>
              <a:chExt cx="191880" cy="179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41000" y="149544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434880" y="1500120"/>
                <a:ext cx="187200" cy="174600"/>
                <a:chOff x="434880" y="1500120"/>
                <a:chExt cx="187200" cy="1746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34880" y="150012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39560" y="167472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82400" y="1535040"/>
                <a:ext cx="102960" cy="98280"/>
                <a:chOff x="482400" y="1535040"/>
                <a:chExt cx="102960" cy="982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82400" y="153504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82400" y="153504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8613360" y="1504800"/>
              <a:ext cx="193680" cy="177840"/>
              <a:chOff x="8613360" y="1504800"/>
              <a:chExt cx="193680" cy="1778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8613360" y="1504800"/>
                <a:ext cx="193680" cy="177840"/>
                <a:chOff x="8613360" y="1504800"/>
                <a:chExt cx="193680" cy="177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619840" y="150480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613360" y="1506600"/>
                  <a:ext cx="193680" cy="176040"/>
                  <a:chOff x="8613360" y="1506600"/>
                  <a:chExt cx="193680" cy="1760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613360" y="150660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621280" y="168264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" name=""/>
              <p:cNvGrpSpPr/>
              <p:nvPr/>
            </p:nvGrpSpPr>
            <p:grpSpPr>
              <a:xfrm>
                <a:off x="8643600" y="1512720"/>
                <a:ext cx="138240" cy="152640"/>
                <a:chOff x="8643600" y="1512720"/>
                <a:chExt cx="138240" cy="1526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645400" y="152712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8643600" y="151272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" name=""/>
          <p:cNvSpPr/>
          <p:nvPr/>
        </p:nvSpPr>
        <p:spPr>
          <a:xfrm>
            <a:off x="1030680" y="19051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2286000"/>
            <a:ext cx="4953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ompi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 -ansi -O2 -DNON_UNIX_ST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link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7280" y="19051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kprodct.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867D-C6FD-403B-90B2-C8C515244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and linked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686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7E6C-B566-4A6F-9DB1-3A1A3500B93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752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2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85920" y="1469880"/>
            <a:ext cx="8501040" cy="4782960"/>
            <a:chOff x="385920" y="1469880"/>
            <a:chExt cx="8501040" cy="4782960"/>
          </a:xfrm>
        </p:grpSpPr>
        <p:grpSp>
          <p:nvGrpSpPr>
            <p:cNvPr id="294" name=""/>
            <p:cNvGrpSpPr/>
            <p:nvPr/>
          </p:nvGrpSpPr>
          <p:grpSpPr>
            <a:xfrm>
              <a:off x="385920" y="1469880"/>
              <a:ext cx="8501040" cy="4782960"/>
              <a:chOff x="385920" y="1469880"/>
              <a:chExt cx="8501040" cy="4782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85920" y="1469880"/>
                <a:ext cx="8501040" cy="4782960"/>
                <a:chOff x="385920" y="1469880"/>
                <a:chExt cx="8501040" cy="478296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85920" y="1469880"/>
                  <a:ext cx="8501040" cy="4782960"/>
                  <a:chOff x="385920" y="1469880"/>
                  <a:chExt cx="8501040" cy="47829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85920" y="17604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71480" y="16556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85920" y="14698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85920" y="61704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71480" y="61689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15800" y="15001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3795120" y="15001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09680" y="3186000"/>
                <a:ext cx="299880" cy="2143080"/>
                <a:chOff x="409680" y="3186000"/>
                <a:chExt cx="299880" cy="2143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9680" y="3186000"/>
                  <a:ext cx="299880" cy="2143080"/>
                  <a:chOff x="409680" y="3186000"/>
                  <a:chExt cx="299880" cy="2143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22280" y="31939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9680" y="3186000"/>
                    <a:ext cx="299880" cy="2143080"/>
                    <a:chOff x="409680" y="3186000"/>
                    <a:chExt cx="299880" cy="214308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9680" y="31860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11120" y="53290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52600" y="4235400"/>
                  <a:ext cx="46080" cy="42840"/>
                  <a:chOff x="552600" y="4235400"/>
                  <a:chExt cx="46080" cy="428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52600" y="42354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54040" y="42368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409680" y="5526000"/>
                <a:ext cx="301680" cy="601560"/>
                <a:chOff x="409680" y="5526000"/>
                <a:chExt cx="301680" cy="601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9680" y="5848200"/>
                  <a:ext cx="301680" cy="279360"/>
                  <a:chOff x="409680" y="5848200"/>
                  <a:chExt cx="301680" cy="2793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22280" y="58514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9680" y="5848200"/>
                    <a:ext cx="301680" cy="279360"/>
                    <a:chOff x="409680" y="5848200"/>
                    <a:chExt cx="301680" cy="27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9680" y="584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6127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09680" y="5526000"/>
                  <a:ext cx="301680" cy="280800"/>
                  <a:chOff x="409680" y="5526000"/>
                  <a:chExt cx="301680" cy="28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22280" y="55306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9680" y="5526000"/>
                    <a:ext cx="301680" cy="280800"/>
                    <a:chOff x="409680" y="5526000"/>
                    <a:chExt cx="301680" cy="2808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09680" y="55260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12920" y="58068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519120" y="59212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7680" y="56005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39920" y="1515960"/>
              <a:ext cx="191880" cy="179280"/>
              <a:chOff x="439920" y="1515960"/>
              <a:chExt cx="191880" cy="17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040" y="15159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39920" y="1520640"/>
                <a:ext cx="187200" cy="174600"/>
                <a:chOff x="439920" y="1520640"/>
                <a:chExt cx="187200" cy="17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39920" y="15206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4600" y="16952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87440" y="1555560"/>
                <a:ext cx="102960" cy="98280"/>
                <a:chOff x="487440" y="1555560"/>
                <a:chExt cx="102960" cy="98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440" y="15555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440" y="15555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8618400" y="1525320"/>
              <a:ext cx="193680" cy="177840"/>
              <a:chOff x="8618400" y="1525320"/>
              <a:chExt cx="193680" cy="1778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8618400" y="1525320"/>
                <a:ext cx="193680" cy="177840"/>
                <a:chOff x="8618400" y="1525320"/>
                <a:chExt cx="193680" cy="177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624880" y="15253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8618400" y="1527120"/>
                  <a:ext cx="193680" cy="176040"/>
                  <a:chOff x="8618400" y="1527120"/>
                  <a:chExt cx="193680" cy="17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8618400" y="15271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626320" y="17031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8648640" y="1533240"/>
                <a:ext cx="138240" cy="152640"/>
                <a:chOff x="8648640" y="1533240"/>
                <a:chExt cx="138240" cy="152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650440" y="15476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8648640" y="15332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99252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 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 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 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 (km): 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 (km): 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 (deg): 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30240" y="182880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D6E5-EAEC-4FAD-B3D9-F91D93878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2C49-FA43-4E15-8C86-57F5B76838A1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CSPICE-ba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ection of the boresight ray of a given CASSINI science instrument with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 of a given Saturnian satellite.   The program will compu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E974-71CF-4AD4-AA6D-E41BFCABB3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3800" y="29685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8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38840" y="4042440"/>
            <a:ext cx="112716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8000" y="369108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5" y="4"/>
                </a:moveTo>
                <a:arcTo wR="10800" hR="10800" stAng="-5490773" swAng="5490773"/>
                <a:lnTo>
                  <a:pt x="10800" y="10800"/>
                </a:lnTo>
                <a:close/>
              </a:path>
              <a:path fill="none" w="21600" h="21600">
                <a:moveTo>
                  <a:pt x="10515" y="4"/>
                </a:moveTo>
                <a:arcTo wR="10800" hR="10800" stAng="-5490773" swAng="5490773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08040" y="4208760"/>
            <a:ext cx="138168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66" y="742"/>
                </a:moveTo>
                <a:arcTo wR="10800" hR="10800" stAng="-6681746" swAng="6749917"/>
                <a:lnTo>
                  <a:pt x="10800" y="10800"/>
                </a:lnTo>
                <a:close/>
              </a:path>
              <a:path fill="none" w="21600" h="21600">
                <a:moveTo>
                  <a:pt x="6866" y="742"/>
                </a:moveTo>
                <a:arcTo wR="10800" hR="10800" stAng="-6681746" swAng="6749917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48480" y="62920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C39B-92FA-4B8F-A0FC-676B30392E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5960" y="40435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7920" y="5769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6CF0-8F13-4DAE-84FE-889D23FDF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3360" y="1355760"/>
            <a:ext cx="848844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63480" y="380520"/>
            <a:ext cx="7567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7C17-8FFF-4177-8FE5-82E3527A78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2200" y="656604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69640" y="1650960"/>
            <a:ext cx="82962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required kernels available to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is vi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rnsh_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For this example we make a setup file (also called 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kernel” or “furnsh kernel”) containing a list of kernels to be load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992400" y="380520"/>
            <a:ext cx="27021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360" y="2506680"/>
            <a:ext cx="7624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CF2E-D7A2-412D-97AE-3A8B735A1B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CSPICE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cept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D0E5-50C5-411D-A336-19B209601850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50840" y="380520"/>
            <a:ext cx="6786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Surface Intercept and Rang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7800" y="431172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srfxpt_c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CSPICE function vnorm_c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_c 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000" y="3467160"/>
            <a:ext cx="76820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5960" y="1585800"/>
            <a:ext cx="82962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trgepc), the targ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We use "converged Newtonian" light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stellar aberration corrections to produce the most accurate su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ept solution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amp;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obspos,  &amp;fou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7B28-C6F9-475C-9274-F45F32A7E711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0-05-11T10:42:30Z</cp:lastPrinted>
  <dcterms:modified xsi:type="dcterms:W3CDTF">2007-10-12T23:53:44Z</dcterms:modified>
  <cp:revision>432</cp:revision>
  <dc:subject/>
  <dc:title>Writing a FORTRAN SPICE Based Program </dc:title>
</cp:coreProperties>
</file>