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1014A-F3FB-4A11-98D4-7ECFABC8C3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B4AA1-99ED-4E42-B328-4F30D9D9D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DFEBF-00AC-4C42-AE62-CBD370C8D4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697A7-0EDD-4D70-A556-26860413C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616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FE77D-FFA5-43E0-9C2D-3B688C494B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2BC0A-CB9B-47D2-8F4A-D09A5FE972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72D85-F0A9-4659-B5D2-7C5FE1D83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BD5C0-785D-4A4E-821A-0C7DAF496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616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E25F3-1CC3-41DE-9543-271CA94F1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AED6D-28B8-48DF-9251-AD9A8E4AD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E5E91-FC2F-4005-880E-44061A6E6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C434B-E59A-4D48-9BD0-8404888E8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3B48-DFA8-435F-9759-7C22B233229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7240" y="2271240"/>
            <a:ext cx="7290000" cy="52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Introduction to the SPICE Toolkit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1364760"/>
            <a:ext cx="7848720" cy="518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rting, finding order vector, reorde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rching:  linear, bina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ertion and dele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/code conver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/O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ical unit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n, read, write text fi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pool AP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 exception handling behavior:  mode, message set, output de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ruct error mess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2563560" y="380520"/>
            <a:ext cx="55911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olkit Library Functionalit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DE672-FDF2-477D-A060-2E09DED507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50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ced data typ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s, Set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(sometimes called schedul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bol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es, Ellip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565000" y="380520"/>
            <a:ext cx="55911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olkit Library Functionalit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7F9A2-0985-4D78-BBAA-C6BDFD2E9E2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rtran SPICE Toolki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veloped first: in use since February 199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ains code written in ANSI Standard Fortran 7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few widely supported non-ANSI extensions are used, for example DO WHILE, DO…END 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iles under a wide variety of Fortran compil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3209400" y="380520"/>
            <a:ext cx="43275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Fortran SPICE Toolki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5952E-69B5-45BC-881C-681CEFDAC65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21040" y="380520"/>
            <a:ext cx="30844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SPICE Toolki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SPICE is designed to duplicate the functionality of the Fortran Toolk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CSPICE source code is in ANSI 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Fortran SPICE Toolkit code is converted to ANSI C using the automatic translation program f2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-level functions have been hand-coded in C and documented in C style in order to provide a natural C-style API.  These functions are called “wrappers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wrappers encapsulate calls to C functions generated by f2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impler wrappers do their work in-line to boost perform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2c’d functions may be called directly, but this is strongly discouraged since f2c’d functions emulate Fortran functionality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l by re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tran-style array index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tran-style string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2B3DE-CA3A-4AE9-AE6E-34A03FFC93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SPICE runs under a wide variety of ANSI C compil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SPICE functions may be called from within C++ source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SPICE prototypes are protected from name mang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CSPICE Limi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all “Required Reading” reference documents have been converted to C style, with C examp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entually all will be convert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SPICE wrappers exist for only a subset of the functionality provided by SPICELI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des all the most commonly used modu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re will be added as time permi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some very limited cases, code generated by f2c fails to emulate Fortran accurately. Should not be a probl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-directed I/O has some problems (not consequential for CSPIC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tment of white space in text output is slightly different in CSPI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gical unit-to-file name translation does not handle file name "synonyms" properly under Linux:  once opened with a specified name, a file must be referred to using the same name throughout a program ru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3819600" y="380520"/>
            <a:ext cx="30844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SPICE Toolki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2ACE1-1BBA-44DE-B399-5A86084885B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92280" y="380520"/>
            <a:ext cx="21366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cy Toolki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y is a SPICE Toolkit for IDL us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 delivered as part of the N0057 Toolkit in March, 2004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y provides an IDL-callable “wrapper” interface for many CSPICE wrapper rout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SPICE: spkezr_c ( targ, et, ref, abcorr, obs, state, &amp;ltime 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y: cspice_spkezr,  targ, et, ref, abcorr, obs, state, l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 IDL-callable wrappers added as time perm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necessity the Icy Toolkit includes the complete CSPICE Toolki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Icy software components ar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L interface wrappers (implemented in ANSI 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y cookbook programs (implemented in ID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98A09-BDC7-4CAE-9C79-5B39892F60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92280" y="380520"/>
            <a:ext cx="21366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cy Toolki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y Docu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y Reference Gu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cipal documentation showing how to call Icy wrapp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Icy wrapper has an HTML page containing usage examples serving as the SPICE “module header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y Required Rea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s background information essential for programming with I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55A9D-0554-48BC-A745-51EA0D3051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38200" y="380520"/>
            <a:ext cx="24750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ice Toolki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996320" cy="491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e is a SPICE Toolkit for MATLAB us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ly under limited distribution as a Beta-test produ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cted official distribution late in CY2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e provides a MATLAB-callable “wrapper” interface for many CSPICE wrapper rout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PICE: spkezr_c ( targ, et, ref, abcorr, obs, state, &amp;ltime 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e: [state, ltime] = cspice_spkezr( targ, et, ref, abcorr, ob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 MATLAB-callable wrappers added as time perm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necessity all Mice Toolkit packages include the complete CSPICE Toolki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Mice software components ar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LAB interface wrappers (implemented in MATLAB wrapper scripts calling the ANSI C based interface librar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e cookbook programs (implemented in MATLAB scrip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F88F8-483A-43D1-AB83-10985C008F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7040" y="380520"/>
            <a:ext cx="24750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ice Toolki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e Docu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e Reference Gu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ncipal documentation showing how to call Mice wrapp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ch Mice wrapper script has a documentation header containing usage examples, serving as SPICE “module header”, available from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l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command. This documentation also exists as a HTML pag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e Required Rea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s background information essential for programming with M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FF486-6A07-487F-9A78-AF0DAB7FF9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ory structures for the Toolkits are almost identical. However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like for SPICE, the CSPICE, Icy and Mice packages have a directory for include fi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names for application source code directories in CSPICE, Icy and Mice differ, slightly, from those in SP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y and Mice include additional directories f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cy/Mice source co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cy/Mice cookbook progra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op level directory name for each Toolkit i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kit” for Fortran Toolk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spice” for C Toolk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y” for IDL Toolk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e” for MATLAB Toolk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2557440" y="380520"/>
            <a:ext cx="55929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nstalled Directory Structur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14B7F-00E2-4992-BD23-E2D307E77CE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65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CE Toolk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ICELI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SP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lled Directory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kit Docu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kit Utility Progr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kit Application Progr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ed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632480" y="380520"/>
            <a:ext cx="1436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pic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53B1E-1A5F-47F4-9327-F58256DB656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ext level is comprised of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okbook example kernels (use ONLY for training with cookbook program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 documents — *.req, *.ug, spicelib.idx/cspice.idx, whats.new, dscriptn.txt, version.txt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directory containing HTML documentation, called “html”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“html” subdirectory contains a single file — the top level HTML documentation index called “index.html” — and a number of subdirectories, one for each of the various groups of documents in HTML format (API Reference Guide pages, User’s Guide pages, etc.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generic Toolkits this directory is empt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ecutables for  brief, chronos, ckbrief, commnt, inspekt, mkspk, msopck, spacit, spkdiff, spkmerge, tobin, toxfr, version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ecutables for the several cookbook example program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557440" y="380520"/>
            <a:ext cx="55929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nstalled Directory Structur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3EFC6-6377-45AC-A54E-1A9136F5633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lude  (applies to CSPICE, Icy, and Mic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I header files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e to include in callers of CSPICE is SpiceUsr.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kit librarie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Fortran SPICE Toolki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icelib.a (public modules; use these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port.a (private modules; don’t use these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CSPICE Toolki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pice.a (public modules; use these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upport.a (private modules; don’t use these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Icy Toolkit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cy.so (shared object library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cy.dlm (dynamically loadable module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pice.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upport.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Mice Toolkit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ce.mex* (shared object library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pice.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upport.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 code directories for executables and librar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es have type *.f, *.for, *.inc, *.pgm, *.c, *.h, *.x, *.pro, *.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.h files appearing here are not part of the user AP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557440" y="380520"/>
            <a:ext cx="55929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nstalled Directory Structur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A0A43-CECD-4E9E-A29C-77DF9FF46FE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oolkits include documentation in plain text and HTML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in text documents are located under the “doc” direct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 documents are located under the “doc/html” directory with the “doc/html/index.html” file as the top level inde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oolkits include the following kinds of docu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e head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 as primary functional specification:  I/O, exceptions, particulars defining behavior of modu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ain code examp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tandard format is used for each routine or entry po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in text Module Header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tran:      the top comment block in the source code files under “src/spicelib”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the top comment block in the source code files under “src/cspice”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L:             Icy Module Headers are not available in plain text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TLAB     accessible via “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elp </a:t>
            </a:r>
            <a:r>
              <a:rPr b="0" i="1" lang="en-US" sz="1200" spc="-1" strike="noStrike">
                <a:solidFill>
                  <a:srgbClr val="000000"/>
                </a:solidFill>
                <a:latin typeface="Courier New"/>
              </a:rPr>
              <a:t>function_nam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and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 Module Headers are accessible using the “API Reference Guide” link from the top level index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087360" y="380520"/>
            <a:ext cx="45291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olkit Documenta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14285-4873-4996-BF5B-E3865654643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5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nds of documents in the Toolkit (continu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d Rea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ences for principal sub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many low-level detai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code examp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in text versions are located under “doc” and have extension “.req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 versions are are accessible using the “Required Reading Documents” link from the top level index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all of Required Readings were adapted for all langu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me of the Required Reading documents provided with CSPICE still cover Fortran SPI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Required Readings were adapted for Icy or Mice (Icy and Mice toolkits contain CSPICE Required Reading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’s Gu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specifications for the Toolkit utility programs and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in text versions are located under “doc” and have extension “.ug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 versions are are accessible using the “User’s Guide Documents” link from the top level index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3087360" y="380520"/>
            <a:ext cx="45291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olkit Documenta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2B6DC-B673-4F8A-9091-D52BC2D0B63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87360" y="380520"/>
            <a:ext cx="45291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olkit Documenta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922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docu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muted Inde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s phrases describing functionality to corresponding module names and file nam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ws names of all entry points in Fortran toolkit AP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in text version is located under “doc” and has extension “.idx”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tran:             spicelib.idx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:                       cspice.id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L, MATLAB:   not avail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 version is</a:t>
            </a:r>
            <a:r>
              <a:rPr b="1" lang="en-US" sz="16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ible using the “Permuted Index” link from the top level index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kit Descri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bes the directory structure and contents of an installed Toolk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ized based on set of delivered products and plat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in text version is “doc/dscriptn.txt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 version is</a:t>
            </a:r>
            <a:r>
              <a:rPr b="1" lang="en-US" sz="16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ible using the “Toolkit Contents” link from the top level index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79607-AB12-4C20-B71A-3309082FFA0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87360" y="380520"/>
            <a:ext cx="45291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olkit Documenta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22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documents (continu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tion to SP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ef introduction to the Toolkit and SPICE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available in plain 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 version is</a:t>
            </a:r>
            <a:r>
              <a:rPr b="1" lang="en-US" sz="16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ible using the “Introduction to the SPICE System” link from the top level index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’s New in SP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bes new features and bug fix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in text version is “doc/whats.new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 version is</a:t>
            </a:r>
            <a:r>
              <a:rPr b="1" lang="en-US" sz="16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ible using the “What’s New in SPICE” link from the top level index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kit Version Descri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cates Toolkit 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in text version is “doc/version.txt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available in HTM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EE8CD-1153-4A5D-B398-9A9180D4388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922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CE Toolkit utility programs are available t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 binary SPICE kernels between incompatible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bin, toxfr, spac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comments to binary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 comments from binary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nt, spac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pekt  (only for EK/ESQ fil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marize coverage of binary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ief, ckbrief, spac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rge or subset SPK fi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kmer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cate current Toolkit 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3003120" y="380520"/>
            <a:ext cx="47055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olkit Utility Program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7A886-8181-4B5B-8135-2B4663DAEFA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CE Toolkit application programs perform various task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a new SPK file from a text file of state vec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ksp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(diff) two SP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kdiff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a new CK from a text file of attitude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sop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 out a wide assortment  of time conver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ron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ry Event Kernels (EK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pek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2455560" y="380520"/>
            <a:ext cx="57942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olkit Application Program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FFFAD-BC76-443A-A811-1B0FA1E068A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IF ports the SPICE Toolkit to several popular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platform is characterized b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dware typ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ed compilation op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IF provides SPICE Toolkit packages for each supported platfo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you cannot find a package built for the platform of interest to you, contact NAI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c0128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Don’t try to port a Toolkit built for another platfor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281400" y="380520"/>
            <a:ext cx="41464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upported Platform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D03CF-0F51-4B61-994B-C6BD70CDEA1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86080" y="380520"/>
            <a:ext cx="59292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upported Platforms - Fortra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9480" y="1449360"/>
          <a:ext cx="8001000" cy="4950000"/>
        </p:xfrm>
        <a:graphic>
          <a:graphicData uri="http://schemas.openxmlformats.org/drawingml/2006/table">
            <a:tbl>
              <a:tblPr/>
              <a:tblGrid>
                <a:gridCol w="2532240"/>
                <a:gridCol w="2771640"/>
                <a:gridCol w="269712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i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/PowerPC, OS-X, Absoft FORTR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X 10.3.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ft Pro Fortran 9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/Intel, OS-X, Intel FORTR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X 10.4.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 Fortran 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/PowerPC, OS-X, g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X 10.3.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7, GNU Fortran 3.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, CYGWIN, g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/Cygw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7, GNU Fortran 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, Linux, g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 Hat Linux (RHE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7, GNU Fortran 3.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, Windows, Compaq Visual (Digital) FORTR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 NT/2K/X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q Digital Fortran 6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, Windows, Intel FORTR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 X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 Visual Fortran 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, Windows, Lahey FORTRAN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 NT/2K/X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hey FORTRAN 95 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, Solaris, SUN FORTR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aris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 WorkShop 6 update 2 FORTRAN 77 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832B6-A539-4FA6-BE55-804753D8796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PICE Toolkit is available in Fortran, C, IDL (Interactive Data Language), and MATLA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kits contai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routine libraries, with source c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12000" indent="-167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ICELIB (Fortra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12000" indent="-167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PICE (C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12000" indent="-167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cy  (C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12000" indent="-167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e (C and MATLAB scrip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able progra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12000" indent="-167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and utility progra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12000" indent="-167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okbook exam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allation/build scrip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ailable in ASCII and HTM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mple kernel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12000" indent="-167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lied </a:t>
            </a: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ONL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for use with cookbook programs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 valid for general u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3956040" y="380520"/>
            <a:ext cx="27907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Toolki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E3185-FDCA-495A-878E-21D590CF4E7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949120" y="380520"/>
            <a:ext cx="4800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upported Platforms - C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09480" y="1454040"/>
          <a:ext cx="8001000" cy="4337280"/>
        </p:xfrm>
        <a:graphic>
          <a:graphicData uri="http://schemas.openxmlformats.org/drawingml/2006/table">
            <a:tbl>
              <a:tblPr/>
              <a:tblGrid>
                <a:gridCol w="2532240"/>
                <a:gridCol w="2771640"/>
                <a:gridCol w="2697120"/>
              </a:tblGrid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i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/PowerPC, OS-X, Apple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X 10.3.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c, GNU C 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/Intel, OS-X, Apple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X 10.4.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c, GNU C 4.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, CYGWIN, g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/Cygw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c, GNU C 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, Linux, g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 Hat Linux (RHE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c, GNU C 3.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, Linux, gCC/64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 Hat Linux (RHE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c, GNU C 3.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, Windows, Microsoft Visual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 NT/2K/X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Visual Studio .NET 7.0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, Solaris, SUN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aris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 WorkShop 6 update 2 C 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, Solaris, g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aris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c, GNU C 3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, Solaris, gCC/64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aris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c, GNU C 3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2820960" y="2462040"/>
            <a:ext cx="2523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68480" y="3841920"/>
            <a:ext cx="2523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2FE46-8862-4813-A366-453BA52E32E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77760" y="380520"/>
            <a:ext cx="51562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upported Platforms - IDL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09480" y="1444680"/>
          <a:ext cx="8001000" cy="3346560"/>
        </p:xfrm>
        <a:graphic>
          <a:graphicData uri="http://schemas.openxmlformats.org/drawingml/2006/table">
            <a:tbl>
              <a:tblPr/>
              <a:tblGrid>
                <a:gridCol w="2514600"/>
                <a:gridCol w="2819520"/>
                <a:gridCol w="266688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i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/PowerPC, OS-X, Apple C/IDL 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X 10.3.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c, GNU C 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/Intel, OS-X, Apple C/IDL 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X 10.4.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c, GNU C 4.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, Linux, gcc/IDL 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 Hat Linux (RHE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c, GNU C 3.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, Windows, Microsoft Visual C/IDL 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 X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Visual Studio .NET 7.0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, Solaris, SUN C/IDL 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aris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 WorkShop 6 update 2 C 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, Solaris, gcc/IDL 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aris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c, GNU C 3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1746000" y="6095880"/>
            <a:ext cx="566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y was built and tested using IDL version 6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F64FD-833C-482C-9A36-F5F9FEA131B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51080" y="380520"/>
            <a:ext cx="62229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upported Platforms - MATLAB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09480" y="1447920"/>
          <a:ext cx="8001000" cy="2232000"/>
        </p:xfrm>
        <a:graphic>
          <a:graphicData uri="http://schemas.openxmlformats.org/drawingml/2006/table">
            <a:tbl>
              <a:tblPr/>
              <a:tblGrid>
                <a:gridCol w="2514600"/>
                <a:gridCol w="2819520"/>
                <a:gridCol w="266688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i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/PowerPC, OS-X, Apple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X 10.3.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c, GNU C 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, Linux, g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 Hat Linux (RHE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c, GNU C 3.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, Windows, Microsoft Visual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 X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Visual Studio .NET 7.0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/Intel, OS-X, Apple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X 10.4.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c, GNU C 4.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820440" y="6095880"/>
            <a:ext cx="7491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e was built and tested using MATLAB version 7.2 (2006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8AB55-5D05-47E6-A454-3EAA78E1014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62120" y="2133720"/>
            <a:ext cx="81468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mponents listed on the previous page comprise the generic Toolk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kits delivered to missions or other special customers may be augmented with mission- or customer-specific 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rtran, C, IDL, and MATLAB Toolkits are delivered as standalone produ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DL and MATLAB products include the CSPICE Toolk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rtran, CSPICE, IDL, and MATLAB Toolkits use identical kernel files on all platfor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3956040" y="380520"/>
            <a:ext cx="27907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Toolki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8BE4B-02EF-4FE8-B762-CB7FA1F44F0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olkit Ve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ic SPICE Toolkits have an associated Version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 “N0061” (also written as “N61”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version number applies to the Fortran, C, IDL and MATLAB implementations for all supported platform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does NAIF release new SPICE Toolkit vers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ccording to a fixed schedu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ily driven by addition of significant, new capabilities to Toolk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y, for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casionally Toolkit updates are released to fix bugs, improve documentation, or satisfy an urgent request from a flight 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Toolki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0BA60-174D-4BB8-BCC6-C41A10431D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72920" y="380520"/>
            <a:ext cx="55911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olkit Library Functionalit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3850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oolkit libraries contain a fairly broad set of capabilities related to the computations needed for “space geometry” and time convers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 categories are enumerated on the next several p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Cau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not all functionality is yet present in all four language versions of the Toolkit librar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ortran (SPICE) and C (CSPICE) Toolkits provide virtually identical functionalit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DL (Icy) toolkit duplicates most functionality from the C Toolkit wrapper routin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TLAB (Mice) Toolkit provides interfaces only to those routines NAIF considers the most often needed by us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F6BD4-8296-40E2-92F9-AF394E8950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nel read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ad”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state or position vectors (SPK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orientation of planets, natural satellites, etc. (PCK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body shape parameters or physical constants (PCK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orientation of spacecraft or spacecraft instruments or structures (CK, FK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instrument parameters (e.g., FOV) (IK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ry binary EK files (EK-ESQ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nel wri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K writ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K writ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K writers (sequence component, ESQ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K writers (only for binary PCK fil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566800" y="380520"/>
            <a:ext cx="55911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olkit Library Functionalit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29200" y="5872320"/>
            <a:ext cx="18108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21EF7-DAB3-49DE-A20B-1BCF9831207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ional ephemeris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ical osculating el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-body Keplerian propa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AD two line elements sets (TLE) propa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ght time and Stellar aberration compu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trans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tain 3x3 matrices for frame transformations of posi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tain 6x6 matrices for frame transformations of sta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con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rsion between standard systems:  TDB, TT (TDT), UT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rsion between SCLK and other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sing and format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566800" y="380520"/>
            <a:ext cx="55911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olkit Library Functionalit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47CBA-BC2E-4E3A-80A8-C46F8787396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ctor/Matrix ope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tations, Euler angles, quatern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ordinate conversion (systems:  latitudinal, cylindrical, rectangular, RA and DEC, spherical, geodetic, planetographi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metry:  ellipsoids, ellipses, pl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-level functions:  illumination angles, sub-observer point, sub-solar point, surface intercept poin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ian date of epoch J2000, SPD(seconds per day), PI, et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sing:  find tokens, wor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eric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ttern match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lace marker, subst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ffix, prefi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e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d first/last non-blank character, first/last printing charac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2565000" y="380520"/>
            <a:ext cx="55911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olkit Library Functionalit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1343A-9E70-438D-8466-362BA767A19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7-05-07T22:54:33Z</cp:lastPrinted>
  <dcterms:modified xsi:type="dcterms:W3CDTF">2007-09-22T22:23:50Z</dcterms:modified>
  <cp:revision>341</cp:revision>
  <dc:subject/>
  <dc:title>Introduction to the SPICE Toolkit</dc:title>
</cp:coreProperties>
</file>