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9480" y="695160"/>
            <a:ext cx="4559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5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6880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 04-OCT-2001 (J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210C-A6A7-4DFA-BDC8-EB9FD3251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FB08-BA3D-49E9-8D35-6C72F5F04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4779-7950-4AF9-86DF-66E4426C4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F29C-F077-4AD9-BA17-9A2237DC2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5C0F-5054-40C8-A08D-8CBF38C08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60A1-0AFC-423B-BBC7-491C1EA98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5349-AD05-4FF1-88BE-ACC4B3E1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6A5D-5A0D-4512-8180-1FD9A1044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5E18-F255-4ADD-8B02-64FFEECC4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3F66-425E-4800-8534-1CAD8D059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1CC8-DD0C-41A8-9F51-2137A697A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5A3E-6F36-456F-8715-A56B83E42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C6C-0AB8-4C83-BE8F-40FFBC61CB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8680" y="2428920"/>
            <a:ext cx="6095880" cy="1482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lanetary Constants Kernel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C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895120" y="4876560"/>
            <a:ext cx="35816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120" y="1282320"/>
            <a:ext cx="8153640" cy="54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system stores high-accuracy orientation models in binary PC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PCKs are implemented using the DAF file architecture (as are SPK fi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PCKs are not human-read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API routines enable applications to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nary PCKs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 utilities enable reading and writing comments, summarizing, and porting binary PC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SPK files, binary PCKs support multiple data representations (“data types”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2: Chebyshev polynomials for Euler angles,  angular velocity obtained by differentiation, constant interval leng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3: Separate Chebyshev polynomials for Euler angles and their derivatives, variable interval leng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PCKs are limited to storing orientation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 that require shape data must also load a text P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PCKs are available for the Earth and Mo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rientation data provided by these kernels are much more accurate than those provided by generic text PCKs based on the IAU/IAG repor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kernels are the topic of the tutorial on high-accuracy orientation data and associated frames for the Earth and M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672000" y="380520"/>
            <a:ext cx="3402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inary PCK Fi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35DC-D69E-4E91-89BC-CB7CE75837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URNSH to load PC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UNLOAD or KCLEAR to unload th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SXFORM to return a state trans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6x6 matrix (attitude and angular veloc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PXFORM to return a position trans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3x3 matrix (attitude on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lder routines TISBOD, TIPBOD, and BODMAT are still supported, but NAIF recommends users not call them directl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43040" y="2546280"/>
            <a:ext cx="61819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XFORM ( FROM, TO, ET, XFORM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form_c    ( from, to, et, xform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sxform, from, to, et, x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form = cspice_sxform ( from, to, et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9040" y="4532400"/>
            <a:ext cx="52563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PXFORM ( FROM, TO, ET, RMA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xform_c    ( from, to, et, rma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pxform, from, to, et, 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mat = cspice_pxform ( from, to, e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231720" y="380520"/>
            <a:ext cx="4259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erface Routin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8C19-97E4-426E-B067-1E32A8044C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BODVRD or BODVCD to retrieve constants associated with a body. For exampl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e calls retrieve values associated with the variable BODY699_RADI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riable name is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ase-sensi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o the string “RADII” above must be in upper cas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also use general kernel pool fetch routines to fetch data assigned to non-standard nam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POOL, GDPOOL, GIPO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2000" y="2133720"/>
            <a:ext cx="7472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BODVRD ( 'SATURN',  'RADII', 3     N,  RADII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BODVCD ( 699,       'RADII', 3     N,  RADII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vrd_c    ( "SATURN",  "RADII", 3     &amp;n, radii 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vcd_c    ( 699,       "RADII", 3     &amp;n, radii 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bodvrd, ‘SATURN’, item, 3, ra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bodvcd, 699,      item, 3, ra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dii = cspice_bodvrd ( ‘SATURN’, item, 3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dii = cspice_bodvcd ( 699,      item, 3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28840" y="380520"/>
            <a:ext cx="4259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erface Routin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6CD5-76D2-463B-9E52-34506AE97E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CK reference frame specifications are built-in to SP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add orientation data” (load PCK files) to use these frames. Exampl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U frames: IAU_SATURN, IAU_TITAN, IAU_EARTH, IAU_MOON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RS frames: ITRF9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CK frames are not built in and must be specified at run time by loading frame kernels, for 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 fixed frames for asteroids or “newer” natural satell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the Frames Required Reading for information on creating frame kernels that specify PCK reference fra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nar body-fixed frames: MOON_ME, MOON_P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the tutorial on “high-accuracy orientation data and associated frames for the Earth and Moon”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makes default associations between bodies and built-in PCK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the default PCK frames for the planets are IAU_MERCURY, IAU_VENUS, IAU_EARTH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836440" y="380520"/>
            <a:ext cx="5095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CK Reference Frame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F737-4166-4701-A080-CB0BE082FB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can look up the default PCK frame associated with a body by calling CNMFRM or CIDFR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Icy, only CNMFRM is currently avail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ther is yet available in beta version of M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SPICE routines use the default PCK fram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PT, SUBSOL, ILLUM, SRFXPT, ET2L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itly used in some dynamic fra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change the default PCK frame associated with a body by loading a frame kernel that assigns a new default frame to that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Earth or Moon, you can load a “frame association kernel” provided by NAI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any body, you can load a frame kernel containing the assign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JECT_&lt;body name&gt;_FRAME = ‘&lt;new default frame name&gt;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JECT_MOON_FRAME = ‘MOON_ME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igh-accuracy work involving the Earth or Moon and any SPICE routines that use the default PCK frames, you normally would override the SPICE default frames by loading frame association kernels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 the tutorial on “high-accuracy orientation data and associated frames for the Earth and Moon” for detai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782440" y="380520"/>
            <a:ext cx="520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CK Reference Fram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F63F-E70E-4D32-BA34-7A877E9B6407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52480" y="2133720"/>
            <a:ext cx="5708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U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K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4040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129D-FC72-4395-BED1-F7B3A57A38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_constants kernel (PCK or PcK) is logically a part of the “planet kernel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PCK data consist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 (also known as “rotation”) models for extended, natural solar system bodies:  sun, planets, natural satellites, a few asteroi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of the pole and prime meri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xis directions of a body-fixed, body-centered reference fr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n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nd cartographic const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s of radii for triaxial shape mod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tems could be included, such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e meridian offset from the principal ax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etic dipole lo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vity parameters:  GM, J2, higher order gravity field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ng model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K data files are called “PCK kernels,” “PCKs” or “PCK fil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CK subsystem supports text and binary PCK file forma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PCKs may contain orientation, shape, and other cartographic or physical dat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ary PCKs are used for high-accuracy orientation dat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ary PCKs are available only for the earth and the mo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39416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755D-1405-47F7-89F7-808C2556C4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PCKs using FURN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 data from a binary PCK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ersedes orientation data (for the same object) obtained from a text PCK, no matter the order in which the kernels are loa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K orientation data are usually accessed via Frame system or SPK c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the IAU_SATURN body-fixed reference frame to J2000 position or state transformation matrix at E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PXFORM ( ‘IAU_SATURN’, ‘J2000’, ET, RMAT 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XFORM ( ‘IAU_SATURN’, ‘J2000’, ET, XFORM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state of Saturn relative to Cassini in the IAU_Saturn body-fixed reference fram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SPKEZR ( ‘SATURN’, ET, ‘IAU_SATURN’, ‘LT+S’, CASSINI, STATE, LT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state of Cassini relative to the DSN station DSS-13 in the J2000 inertial reference fram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SPKEZR ( ‘CASSINI, ET, ‘J2000’, ‘LT+S’, ‘DSS-13’, STATE, LT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Earth PCK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mu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e loaded in order for this call to work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 though the specified reference frame is iner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call, in the course of its work, converts the position of the DSN station relative to the Earth’s center from an Earth-fixed, earth-centered frame to the J20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to PCK shape and other data is discussed in the section titled “Interface Routin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142880" y="380520"/>
            <a:ext cx="2452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PC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5FE3-B2FD-4912-82D4-F7FB15A906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PCK files may contain orientation, shape and other data associated with natural solar system bod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creates and distributes “generic” text PCK files based on IAU/IAG reports, published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AR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PCKs contain orientation and shape data provided by the repor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PCK software is designed to use these data to compute orientation of body-fixed fra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rovides a “masses” PCK containing GM values for the Sun and planetary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from this file may be used with SPICE osculating element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PCKs are sometimes produced by NASA flight projects and others; not only by NAI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3559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PCK Fil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2D28-0F65-4911-BB51-405A48442E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ernel mechanism is used to implement generic PCK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may easily visually inspect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may (carefully!) modify text PCKs with a text edi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or comments may be added, deleted, or chang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should be added to explain chang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variables contain the mathematical terms  appearing in rotation or shape mod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Y699_RADII   = ( 60268   60268  54364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Y699_POLE_RA = ( 40.58  -0.036     0.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user may include additional kernel variables to change the base frame or reference epo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variable names ar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se-sensi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IF uses only upper case for variable names; we suggest you do the s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3559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PCK Fil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1946-0A5D-459D-9F1A-C73A49CFFF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shape models use data from the IAU/IAG (formerly IAU/IAG/COSPAR) Working Group Report, as published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AR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full report used by NAIF was issued in 200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rotation models are provi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sun and plane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U models use low-degree (typically linear) polynomials to represent RA and DEC of the pole  (body-fixed +Z-axis) as a function of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ime meridian is also represented by a low-degree polynom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gonometric polynomial terms are supported by SPIC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are rarely used in IAU models for planet orient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natural satellit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trigonometric polynomial terms are used to more accurately represent precession and n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ew satellites exhibit chaotic rotation and so are not mode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ome major asteroids (e.g. Ida, Eros, Gaspra, Ves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17880" y="380520"/>
            <a:ext cx="4687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Rotation Model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8836-C66D-4F76-8F24-9A05AC0372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body-fixed frames are planetocentr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-axis is aligned with +/- spin axis.  The positive Z-axis points toward the north side of the invariable plane of the solar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variable plane is normal to the solar system’s angular momentum vector. It 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ximately the same as Jupiter’s orbital pla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ghly parallel to the ecliptic pla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axis defines the prime meridian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axis completes the right-handed fra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AU base frame is the IERS-defined International Celestial Reference Frame (ICRF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reats the ICRF as equivalent to J2000 (EME2000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AU reference epoch is J2000 (2000 Jan 1 12:00:00 TDB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17880" y="380520"/>
            <a:ext cx="4687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Rotation Model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B04E-4621-4CA9-8847-6CECB31B36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shape models are nominally triaxial ellipso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xial ellipsoid shape models have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any bodies, two of the axes (equatorial axes) have the same value (spheroid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ome bodies, one or more radii have not been determin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any bodies are in fact modeled by spheroids or oblate spheroids, SPICE deals with the general, triaxial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eption:  SPICE supports geodetic coordinate transformations only for bodies modeled as spheroids or oblate spheroid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GEO and GEOREC are the modules performing these transformation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eption: SPICE supports planetographic coordinate transformations only for bodies modeled as spheroids or oblate spheroid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RREC, RECPGR, DPGRDR and DRDPGR are the modules supporting these transformation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2480" y="2362320"/>
            <a:ext cx="3480120" cy="916920"/>
            <a:chOff x="1752480" y="2362320"/>
            <a:chExt cx="3480120" cy="916920"/>
          </a:xfrm>
        </p:grpSpPr>
        <p:grpSp>
          <p:nvGrpSpPr>
            <p:cNvPr id="133" name=""/>
            <p:cNvGrpSpPr/>
            <p:nvPr/>
          </p:nvGrpSpPr>
          <p:grpSpPr>
            <a:xfrm>
              <a:off x="1752480" y="2362320"/>
              <a:ext cx="511200" cy="916920"/>
              <a:chOff x="1752480" y="2362320"/>
              <a:chExt cx="511200" cy="91692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248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5248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884760" y="2362320"/>
              <a:ext cx="511200" cy="916920"/>
              <a:chOff x="3884760" y="2362320"/>
              <a:chExt cx="511200" cy="916920"/>
            </a:xfrm>
          </p:grpSpPr>
          <p:sp>
            <p:nvSpPr>
              <p:cNvPr id="138" name=""/>
              <p:cNvSpPr/>
              <p:nvPr/>
            </p:nvSpPr>
            <p:spPr>
              <a:xfrm>
                <a:off x="388476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8476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8476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817720" y="2362320"/>
              <a:ext cx="511200" cy="916920"/>
              <a:chOff x="2817720" y="2362320"/>
              <a:chExt cx="511200" cy="916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81772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772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1772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36340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300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7120" y="259092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525840" y="380520"/>
            <a:ext cx="3672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Shape Mod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D5C5-BFC5-47B8-8385-61656B58F2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10-04T20:50:11Z</cp:lastPrinted>
  <dcterms:modified xsi:type="dcterms:W3CDTF">2007-09-22T22:34:31Z</dcterms:modified>
  <cp:revision>243</cp:revision>
  <dc:subject/>
  <dc:title>Planetary Constants Kernel PcK</dc:title>
</cp:coreProperties>
</file>