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AB83-3FA7-4CDE-9F59-89E340F7B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8E85-ECC4-4D20-B437-EE741A46C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F8DD-B49D-43A2-8876-7DD1B16EA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58CB-5B73-449D-B2A7-669E46F74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10D1-0301-4A46-9731-3775C1BB4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104E-F301-42FC-9CA1-3ECD80D94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BD8E-F22C-4FA7-B5DE-DC6E74FF2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4C1F-9D9B-4933-A4E5-B00C293D0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416F-1785-409D-9955-7CA2C36DA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5D9C-56F3-417F-AE68-02CC58196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8C88-D12E-4585-AF3A-72BD7CACF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C0DA-E792-4A48-9C31-CB7E2716F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8A3F28-4D08-414F-ABEB-26DDC591A2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69920" y="2263680"/>
            <a:ext cx="518184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 SPICE-based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Fortran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06240" y="4687560"/>
            <a:ext cx="639108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0760" y="1315800"/>
            <a:ext cx="7762680" cy="14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THE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LAT (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76400" y="380520"/>
            <a:ext cx="71661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440" y="4657680"/>
            <a:ext cx="77626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Units are rad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is call, normal light time and stellar aberration corrections su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ILLUM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 'LT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1840" y="2852640"/>
            <a:ext cx="8834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radius, polar radius, and flattening factor.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GEO (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BFF5-20D9-480E-B8E3-44D45EBEB510}" type="slidenum">
              <a:t>10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4120" y="5268960"/>
            <a:ext cx="844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ILLUM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LT+S'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3720" y="1278000"/>
            <a:ext cx="86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satellite.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(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" y="187488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RFXPT (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CN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DIST,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 OBSPOS, 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9600" y="2411280"/>
            <a:ext cx="84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If an intercept is found, compute planetocentric and planetodeti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latitude and longitude of the point.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4120" y="2917800"/>
            <a:ext cx="868032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LAT (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radius, polar radius, and flattening factor.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GEO (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960" y="4965840"/>
            <a:ext cx="859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Compute illumination angles at the surface poin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FCB1-75E4-4B7F-81DE-42838ACBB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90120" y="1596960"/>
            <a:ext cx="802980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 others can be obtained via SPICELIB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atellite name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pacecraf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instrumen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time          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5DA1-3D72-483D-BDC2-2B7140CF7B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2890800"/>
            <a:ext cx="80265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1346040"/>
            <a:ext cx="81025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SPICELIB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TR2ET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720" y="2660760"/>
            <a:ext cx="78343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VRD ( SATNM, 'RADII', 3, I, RADI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720" y="3313080"/>
            <a:ext cx="78343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.NOT.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ETMSG ( 'Instrument name # could not be ' 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   'translated to an ID code.'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ERRCH  ( '#',  INSTNM  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IGERR ( 'NAMENOTFOUND'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GETFOV ( INSTID, ROOM, 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N,    BUNDRY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21AF-D756-4B61-93A9-FC33DA66E4C5}" type="slidenum">
              <a:t>13</a:t>
            </a:fld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96840" y="380520"/>
            <a:ext cx="50943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60" y="1278000"/>
            <a:ext cx="8029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Prompt for the user-supplied inputs for our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etup file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FURNSH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satellite name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spacecraf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instrumen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time          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960" y="2930400"/>
            <a:ext cx="8029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epoch corresponding to the input tim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TR2ET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960" y="3544920"/>
            <a:ext cx="802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radii of the satelli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VRD ( SATNM, 'RADII', 3, I, RADI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4081320"/>
            <a:ext cx="802980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N2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.NOT.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ETMSG ( 'Instrument name # could not be ' 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   'translated to an ID code.'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ERRCH  ( '#',  INSTNM  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IGERR ( 'NAMENOTFOUND'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GETFOV ( INSTID, ROOM, 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N,    BUNDRY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8207-E603-4EEA-BAF8-78E97F811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70280" y="380520"/>
            <a:ext cx="31543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3720" y="12985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for outp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720" y="1738440"/>
            <a:ext cx="81025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ongitude      (deg):  ',  DPR()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atitude       (deg):  ',  DPR()*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ongitude        (deg):  ',  DPR()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atitude         (deg):  ',  DPR()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intercept point (km):  ',  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target center   (km):  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hase angle                   (deg):  ',  DPR()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solar incidence angle         (deg):  ',  DPR()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emission angle                (deg):  '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DPR()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0200" y="6002280"/>
            <a:ext cx="785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*,*) 'No intercept point found at '//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DB7B-C65B-45CE-AFB1-5B876D8B1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Fortran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106800" y="380520"/>
            <a:ext cx="4481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453E-8EB4-498B-A543-BF7EEBA94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5760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08440" y="1355760"/>
            <a:ext cx="4435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INSITE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OBSPOS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OINT 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ADII 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TRGE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7560" y="5907240"/>
            <a:ext cx="29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GICAL            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1840" y="2403360"/>
            <a:ext cx="5607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FILES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( FILESZ =    25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WORDS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( WORDSZ =     4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( ROOM   =    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1440" y="126036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GRAM PROG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PLICIT 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6080" y="5348160"/>
            <a:ext cx="380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INST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1840" y="4267080"/>
            <a:ext cx="45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I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INST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SAT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SCN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FILESZ)  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720" y="5907240"/>
            <a:ext cx="443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BUNDRY(3, RO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7800" y="1816200"/>
            <a:ext cx="443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D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VN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EF95-ED20-4485-A965-11BF475252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52200" y="380520"/>
            <a:ext cx="518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7760" y="1317600"/>
            <a:ext cx="8029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Prompt for the user-supplied inputs for our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etup file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FURNSH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atellite name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pacecraf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instrumen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time          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7760" y="2968560"/>
            <a:ext cx="8029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epoch corresponding to the input tim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TR2ET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7760" y="3506760"/>
            <a:ext cx="802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radii of the satelli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VRD ( SATNM, 'RADII', 3, I, RADI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7760" y="4005360"/>
            <a:ext cx="80294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N2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.NOT.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ETMSG ( 'Instrument name # could not be ' 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   'translated to an ID code.'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ERRCH  ( '#',  INSTNM  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IGERR ( 'NAMENOTFOUND'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GETFOV ( INSTID, ROOM, 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N,    BUNDRY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AFFE-D1FB-442B-BF0C-E1C6E1C814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54360" y="380520"/>
            <a:ext cx="51847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1374840"/>
            <a:ext cx="86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satellite.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(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0" y="185436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RFXPT (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CN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DIST,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 OBSPOS, 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112680" y="2335320"/>
            <a:ext cx="84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If an intercept is found, compute planetocentric and planetodeti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latitude and longitude of the point.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" y="2787480"/>
            <a:ext cx="868032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LAT (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radius, polar radius, and flattening factor.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GEO (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3040" y="4583160"/>
            <a:ext cx="859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Compute illumination angles at the surface poin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680" y="4870440"/>
            <a:ext cx="84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ILLUM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LT+S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3680" y="5307120"/>
            <a:ext cx="821844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for outp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 *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ongitude      (deg):  ',  DPR()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D895-6863-4DD7-BF0F-5F699040A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199960"/>
            <a:ext cx="5867280" cy="29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F2BE-FA61-4845-ABB1-7C8F597863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6228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3680" y="1738440"/>
            <a:ext cx="81025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atitude       (deg):  ',  DPR()*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ongitude        (deg):  ',  DPR()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atitude         (deg):  ',  DPR()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intercept point (km):  ',  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target center   (km):  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hase angle                   (deg):  ',  DPR()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solar incidence angle         (deg):  ',  DPR()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emission angle                (deg):  '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DPR()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8200" y="5618160"/>
            <a:ext cx="785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*,*) 'No intercept point found at '//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87B9-BEE0-4247-A1FE-A337B0D3D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77800" y="1353960"/>
            <a:ext cx="7988400" cy="53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be sure that both the SPICE Toolkit and a Fortran compiler are properly install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"hello world" Fortran program must be able to compile, link, and run successfully in your environme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of the mkprodct.* scripts in the toolkit/src/* paths of the SPICE Toolkit installation should execute proper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s to compile and link the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're familiar with the "make" utility, create a makefile.  Use compiler and linker options from the mkprodct.* script found in the toolkit/src/cookbook path of your SPICE Toolkit install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, modify the cookbook mkprodct.* build script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rogram name must be *.pgm, for example demo.pgm, to be recognized by the scrip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he library references in the script to use absolute pathnam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he path for the executable to the current working direct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ome platforms, you must modify the script to refer to your program by na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D001-39EB-4F3A-9BDC-6BCB605008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988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77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, compile the program on the command line. The program must be linked against the SPICELIB object library spicelib.a (spicelib.lib under MS Windows systems).  On a PC running Linux and g77, i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77 compiler is in your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indicated by the response to the command "which g77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olkit is installed in the path (for the purpose of this example) /myhome/tool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ve named the program demo.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you can compile and link your program using the comm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77 -o demo  demo.f 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myhome/toolkit/lib/spicelib.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F1E3-46C0-45E1-8F9B-C846CC80B7D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85920" y="1432080"/>
            <a:ext cx="8501040" cy="4782960"/>
            <a:chOff x="385920" y="1432080"/>
            <a:chExt cx="8501040" cy="4782960"/>
          </a:xfrm>
        </p:grpSpPr>
        <p:grpSp>
          <p:nvGrpSpPr>
            <p:cNvPr id="229" name=""/>
            <p:cNvGrpSpPr/>
            <p:nvPr/>
          </p:nvGrpSpPr>
          <p:grpSpPr>
            <a:xfrm>
              <a:off x="385920" y="1432080"/>
              <a:ext cx="8501040" cy="4782960"/>
              <a:chOff x="385920" y="1432080"/>
              <a:chExt cx="8501040" cy="47829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85920" y="1432080"/>
                <a:ext cx="8501040" cy="4782960"/>
                <a:chOff x="385920" y="1432080"/>
                <a:chExt cx="8501040" cy="47829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385920" y="1432080"/>
                  <a:ext cx="8501040" cy="4782960"/>
                  <a:chOff x="385920" y="1432080"/>
                  <a:chExt cx="8501040" cy="47829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85920" y="172260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71480" y="161784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85920" y="143208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85920" y="613260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71480" y="613116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15800" y="146232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3795120" y="146232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09680" y="3148200"/>
                <a:ext cx="299880" cy="2143080"/>
                <a:chOff x="409680" y="3148200"/>
                <a:chExt cx="299880" cy="214308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09680" y="3148200"/>
                  <a:ext cx="299880" cy="2143080"/>
                  <a:chOff x="409680" y="3148200"/>
                  <a:chExt cx="299880" cy="21430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22280" y="315612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409680" y="3148200"/>
                    <a:ext cx="299880" cy="2143080"/>
                    <a:chOff x="409680" y="3148200"/>
                    <a:chExt cx="299880" cy="214308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09680" y="314820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411120" y="52912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552600" y="4197600"/>
                  <a:ext cx="46080" cy="42840"/>
                  <a:chOff x="552600" y="4197600"/>
                  <a:chExt cx="46080" cy="428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52600" y="419760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54040" y="419904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409680" y="5488200"/>
                <a:ext cx="301680" cy="601560"/>
                <a:chOff x="409680" y="5488200"/>
                <a:chExt cx="301680" cy="60156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409680" y="5810400"/>
                  <a:ext cx="301680" cy="279360"/>
                  <a:chOff x="409680" y="5810400"/>
                  <a:chExt cx="301680" cy="2793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422280" y="581364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09680" y="5810400"/>
                    <a:ext cx="301680" cy="279360"/>
                    <a:chOff x="409680" y="5810400"/>
                    <a:chExt cx="301680" cy="2793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9680" y="58104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12920" y="60897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409680" y="5488200"/>
                  <a:ext cx="301680" cy="280800"/>
                  <a:chOff x="409680" y="5488200"/>
                  <a:chExt cx="301680" cy="280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22280" y="54928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409680" y="5488200"/>
                    <a:ext cx="301680" cy="280800"/>
                    <a:chOff x="409680" y="5488200"/>
                    <a:chExt cx="301680" cy="280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09680" y="54882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12920" y="57690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9" name=""/>
                <p:cNvSpPr/>
                <p:nvPr/>
              </p:nvSpPr>
              <p:spPr>
                <a:xfrm>
                  <a:off x="519120" y="588348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7680" y="55627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439920" y="1478160"/>
              <a:ext cx="191880" cy="179280"/>
              <a:chOff x="439920" y="1478160"/>
              <a:chExt cx="191880" cy="17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446040" y="147816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439920" y="1482840"/>
                <a:ext cx="187200" cy="174600"/>
                <a:chOff x="439920" y="1482840"/>
                <a:chExt cx="187200" cy="174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39920" y="148284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44600" y="16574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87440" y="1517760"/>
                <a:ext cx="102960" cy="98280"/>
                <a:chOff x="487440" y="1517760"/>
                <a:chExt cx="102960" cy="9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87440" y="151776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87440" y="151776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8618400" y="1487520"/>
              <a:ext cx="193680" cy="177840"/>
              <a:chOff x="8618400" y="1487520"/>
              <a:chExt cx="193680" cy="1778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8618400" y="1487520"/>
                <a:ext cx="193680" cy="177840"/>
                <a:chOff x="8618400" y="1487520"/>
                <a:chExt cx="193680" cy="177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24880" y="148752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8618400" y="1489320"/>
                  <a:ext cx="193680" cy="176040"/>
                  <a:chOff x="8618400" y="1489320"/>
                  <a:chExt cx="193680" cy="176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8618400" y="148932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626320" y="166536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8648640" y="1495440"/>
                <a:ext cx="138240" cy="152640"/>
                <a:chOff x="8648640" y="1495440"/>
                <a:chExt cx="138240" cy="152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8650440" y="150984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8648640" y="149544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8" name=""/>
          <p:cNvSpPr/>
          <p:nvPr/>
        </p:nvSpPr>
        <p:spPr>
          <a:xfrm>
            <a:off x="1030680" y="19051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7269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ing the g77 compi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Fortran compile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c 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C compile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link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7280" y="19051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kprodct.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2B93-01BD-4A2F-A60B-B5B9E85CE6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75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mpiled and linked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913120" y="380520"/>
            <a:ext cx="48686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6EB1-641A-457D-BAF2-59179B97BC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9120" y="380520"/>
            <a:ext cx="49752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2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20" y="1469880"/>
            <a:ext cx="8501040" cy="4782960"/>
            <a:chOff x="385920" y="1469880"/>
            <a:chExt cx="8501040" cy="4782960"/>
          </a:xfrm>
        </p:grpSpPr>
        <p:grpSp>
          <p:nvGrpSpPr>
            <p:cNvPr id="286" name=""/>
            <p:cNvGrpSpPr/>
            <p:nvPr/>
          </p:nvGrpSpPr>
          <p:grpSpPr>
            <a:xfrm>
              <a:off x="385920" y="1469880"/>
              <a:ext cx="8501040" cy="4782960"/>
              <a:chOff x="385920" y="1469880"/>
              <a:chExt cx="8501040" cy="478296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85920" y="1469880"/>
                <a:ext cx="8501040" cy="4782960"/>
                <a:chOff x="385920" y="1469880"/>
                <a:chExt cx="8501040" cy="478296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385920" y="1469880"/>
                  <a:ext cx="8501040" cy="4782960"/>
                  <a:chOff x="385920" y="1469880"/>
                  <a:chExt cx="8501040" cy="4782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385920" y="176040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71480" y="165564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85920" y="146988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85920" y="617040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1480" y="616896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15800" y="150012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3795120" y="150012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09680" y="3186000"/>
                <a:ext cx="299880" cy="2143080"/>
                <a:chOff x="409680" y="3186000"/>
                <a:chExt cx="299880" cy="214308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409680" y="3186000"/>
                  <a:ext cx="299880" cy="2143080"/>
                  <a:chOff x="409680" y="3186000"/>
                  <a:chExt cx="299880" cy="21430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422280" y="319392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409680" y="3186000"/>
                    <a:ext cx="299880" cy="2143080"/>
                    <a:chOff x="409680" y="3186000"/>
                    <a:chExt cx="299880" cy="214308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09680" y="318600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411120" y="53290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552600" y="4235400"/>
                  <a:ext cx="46080" cy="42840"/>
                  <a:chOff x="552600" y="4235400"/>
                  <a:chExt cx="46080" cy="428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52600" y="423540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54040" y="423684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409680" y="5526000"/>
                <a:ext cx="301680" cy="601560"/>
                <a:chOff x="409680" y="5526000"/>
                <a:chExt cx="301680" cy="60156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09680" y="5848200"/>
                  <a:ext cx="301680" cy="279360"/>
                  <a:chOff x="409680" y="5848200"/>
                  <a:chExt cx="301680" cy="2793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422280" y="585144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409680" y="5848200"/>
                    <a:ext cx="301680" cy="279360"/>
                    <a:chOff x="409680" y="5848200"/>
                    <a:chExt cx="301680" cy="27936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09680" y="58482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2920" y="61275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409680" y="5526000"/>
                  <a:ext cx="301680" cy="280800"/>
                  <a:chOff x="409680" y="5526000"/>
                  <a:chExt cx="301680" cy="280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422280" y="55306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409680" y="5526000"/>
                    <a:ext cx="301680" cy="280800"/>
                    <a:chOff x="409680" y="5526000"/>
                    <a:chExt cx="301680" cy="2808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09680" y="55260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12920" y="58068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6" name=""/>
                <p:cNvSpPr/>
                <p:nvPr/>
              </p:nvSpPr>
              <p:spPr>
                <a:xfrm>
                  <a:off x="519120" y="592128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7680" y="56005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439920" y="1515960"/>
              <a:ext cx="191880" cy="179280"/>
              <a:chOff x="439920" y="1515960"/>
              <a:chExt cx="191880" cy="179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6040" y="151596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439920" y="1520640"/>
                <a:ext cx="187200" cy="174600"/>
                <a:chOff x="439920" y="1520640"/>
                <a:chExt cx="187200" cy="1746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39920" y="152064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4600" y="16952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87440" y="1555560"/>
                <a:ext cx="102960" cy="98280"/>
                <a:chOff x="487440" y="1555560"/>
                <a:chExt cx="102960" cy="98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87440" y="155556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87440" y="155556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8618400" y="1525320"/>
              <a:ext cx="193680" cy="177840"/>
              <a:chOff x="8618400" y="1525320"/>
              <a:chExt cx="193680" cy="1778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8618400" y="1525320"/>
                <a:ext cx="193680" cy="177840"/>
                <a:chOff x="8618400" y="1525320"/>
                <a:chExt cx="193680" cy="1778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8624880" y="152532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8618400" y="1527120"/>
                  <a:ext cx="193680" cy="176040"/>
                  <a:chOff x="8618400" y="1527120"/>
                  <a:chExt cx="193680" cy="1760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8618400" y="152712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626320" y="170316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8648640" y="1533240"/>
                <a:ext cx="138240" cy="152640"/>
                <a:chOff x="8648640" y="1533240"/>
                <a:chExt cx="138240" cy="152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650440" y="154764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8648640" y="153324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5" name=""/>
          <p:cNvSpPr/>
          <p:nvPr/>
        </p:nvSpPr>
        <p:spPr>
          <a:xfrm>
            <a:off x="99252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09556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  &gt; setup.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  &gt; 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  &gt; cass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  &gt; cassini_iss_n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 (km):   4810.9418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 (km):   7384.326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 (deg): 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 (deg): 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 (deg):      2.5146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30240" y="182880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6F8D-A320-47DA-8A4D-60C88F3C6B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8D5C-DAC8-4D49-8E50-6E71AFBE5E19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SPICE-ba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ran 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section of the boresight ray of a given CASSINI science instrument with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 of a given Saturnian satellite.   The program will compu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3E8A-AD58-43F9-A3D1-E2AAABB56C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o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3800" y="29685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8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9640" y="43117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38840" y="4042440"/>
            <a:ext cx="112716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78640" y="348444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8000" y="369108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5" y="4"/>
                </a:moveTo>
                <a:arcTo wR="10800" hR="10800" stAng="-5490773" swAng="5490773"/>
                <a:lnTo>
                  <a:pt x="10800" y="10800"/>
                </a:lnTo>
                <a:close/>
              </a:path>
              <a:path fill="none" w="21600" h="21600">
                <a:moveTo>
                  <a:pt x="10515" y="4"/>
                </a:moveTo>
                <a:arcTo wR="10800" hR="10800" stAng="-5490773" swAng="5490773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08040" y="4208760"/>
            <a:ext cx="138168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66" y="742"/>
                </a:moveTo>
                <a:arcTo wR="10800" hR="10800" stAng="-6681746" swAng="6749917"/>
                <a:lnTo>
                  <a:pt x="10800" y="10800"/>
                </a:lnTo>
                <a:close/>
              </a:path>
              <a:path fill="none" w="21600" h="21600">
                <a:moveTo>
                  <a:pt x="6866" y="742"/>
                </a:moveTo>
                <a:arcTo wR="10800" hR="10800" stAng="-6681746" swAng="6749917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8840" y="6248520"/>
            <a:ext cx="407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99D5-603A-4053-B927-8C8817F4E9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9360" y="312588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6320" y="404352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43040" y="5587920"/>
            <a:ext cx="407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9022-F61E-4415-A26C-C7D5B6BA1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3360" y="1355760"/>
            <a:ext cx="848844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63480" y="380520"/>
            <a:ext cx="7567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4E33-634A-4FE2-888E-E16CE04106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42200" y="656604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69640" y="1650960"/>
            <a:ext cx="82962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required kernels available to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is via FURNSH. For this example we make a setup file (also called 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kernel” or “furnsh kernel”) containing a list of kernels to be loade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etup file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FURNSH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992400" y="380520"/>
            <a:ext cx="27021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360" y="2506680"/>
            <a:ext cx="7624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93CC-47B2-4841-827D-85C1C38152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1355760"/>
            <a:ext cx="77630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 load kernels specified via setup file. (Done on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SPICELIB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cept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3BE6-5C26-460F-9F84-CF25987FDB60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50840" y="380520"/>
            <a:ext cx="6786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Surface Intercept and Rang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040" y="4119480"/>
            <a:ext cx="7750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SPICELIB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 ( OBSP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000" y="3467160"/>
            <a:ext cx="76820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0040" y="1278000"/>
            <a:ext cx="7950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the targ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 We use "converged Newtonian" light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stellar aberration corrections to produce the most accurate su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ept solution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RFXPT (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CN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GEPC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 OBSPOS,  FOUND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9BFC-D2FD-4213-A1EA-D6EA816DC13D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4T00:29:57Z</cp:lastPrinted>
  <dcterms:modified xsi:type="dcterms:W3CDTF">2007-10-12T23:53:59Z</dcterms:modified>
  <cp:revision>458</cp:revision>
  <dc:subject/>
  <dc:title>Writing a FORTRAN SPICE Based Program </dc:title>
</cp:coreProperties>
</file>