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75040" y="-12600"/>
            <a:ext cx="2982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75040" y="87044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87044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-1260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75040" y="-12600"/>
            <a:ext cx="2982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75040" y="87044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87044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-1260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75040" y="-12600"/>
            <a:ext cx="2982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75040" y="87044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87044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-1260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75040" y="-12600"/>
            <a:ext cx="2982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75040" y="87044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87044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-1260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F5F4-6054-4D87-A204-7DDDB6A99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AA95-94A1-4464-B38C-C4732DE6F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502A-979E-4914-9389-A2ADCF57D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7796-7503-49FE-B2DA-4CFC745D2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30832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5C65-64D6-48B2-B1BC-994A07611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D42E-CD42-4650-8878-9C6C348B8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7BE3-4663-4209-80F3-20B5E0843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F899C-F6CA-48ED-96AA-0626BF5A9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30832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A35E-0854-42D3-AD7E-51D2FE29B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539A-FA3D-4180-ACA9-A24E72C36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0A77C-6D0C-467D-875A-BF30676F3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5C37-DAB7-4E8A-BBDB-8DA834770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54E9-5225-4C8F-A124-12E91EFF3EC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590920" y="3048120"/>
            <a:ext cx="3975120" cy="2781360"/>
            <a:chOff x="2590920" y="3048120"/>
            <a:chExt cx="3975120" cy="2781360"/>
          </a:xfrm>
        </p:grpSpPr>
        <p:graphicFrame>
          <p:nvGraphicFramePr>
            <p:cNvPr id="116" name=""/>
            <p:cNvGraphicFramePr/>
            <p:nvPr/>
          </p:nvGraphicFramePr>
          <p:xfrm>
            <a:off x="2590920" y="4660920"/>
            <a:ext cx="1104840" cy="107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4660920"/>
                      <a:ext cx="1104840" cy="10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3479760" y="3048120"/>
            <a:ext cx="3086280" cy="278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79760" y="3048120"/>
                      <a:ext cx="3086280" cy="27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09320" y="1828800"/>
            <a:ext cx="4800600" cy="1006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tting and Install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he SPICE Toolkit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60958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84280" y="380520"/>
            <a:ext cx="19796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ances of the SPICE Toolkit are available 24x7 from the NAIF anonymous ftp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, C, IDL, MATLA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supported platform/OS/compiler combin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assword or identification i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may select a complete “package” or individual application/utility execu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eed to select both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elect a packag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get and read the READM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installation script provided by NAIF (if there is o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and read the Toolkit description document (dscriptn.tx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B6BC-D901-4CBA-A9D2-DB5881A5CE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87720" y="380520"/>
            <a:ext cx="4186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Don’t Port It Yourself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2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package for one of the environments supported by NAIF that has been built and tested for yo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ighly recommend you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y to port any instance of the Toolkit to some other environment without consulting with NAIF fir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both portability issues and compiler optimization issues that must be carefully dealt wit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64EA-31C6-4C4D-A158-C5EF4E268D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93840" y="1460520"/>
            <a:ext cx="8501040" cy="4782960"/>
            <a:chOff x="393840" y="1460520"/>
            <a:chExt cx="8501040" cy="4782960"/>
          </a:xfrm>
        </p:grpSpPr>
        <p:grpSp>
          <p:nvGrpSpPr>
            <p:cNvPr id="127" name=""/>
            <p:cNvGrpSpPr/>
            <p:nvPr/>
          </p:nvGrpSpPr>
          <p:grpSpPr>
            <a:xfrm>
              <a:off x="393840" y="1460520"/>
              <a:ext cx="8501040" cy="4782960"/>
              <a:chOff x="393840" y="1460520"/>
              <a:chExt cx="8501040" cy="478296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393840" y="1460520"/>
                <a:ext cx="8501040" cy="4782960"/>
                <a:chOff x="393840" y="1460520"/>
                <a:chExt cx="8501040" cy="478296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393840" y="1460520"/>
                  <a:ext cx="8501040" cy="4782960"/>
                  <a:chOff x="393840" y="1460520"/>
                  <a:chExt cx="8501040" cy="478296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393840" y="17510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79400" y="16462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393840" y="14605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393840" y="61610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9400" y="61596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23720" y="14907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"/>
                <p:cNvSpPr/>
                <p:nvPr/>
              </p:nvSpPr>
              <p:spPr>
                <a:xfrm>
                  <a:off x="3803040" y="14907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17600" y="3176640"/>
                <a:ext cx="299880" cy="2143080"/>
                <a:chOff x="417600" y="3176640"/>
                <a:chExt cx="299880" cy="214308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417600" y="3176640"/>
                  <a:ext cx="299880" cy="2143080"/>
                  <a:chOff x="417600" y="3176640"/>
                  <a:chExt cx="299880" cy="21430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430200" y="31845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417600" y="3176640"/>
                    <a:ext cx="299880" cy="2143080"/>
                    <a:chOff x="417600" y="3176640"/>
                    <a:chExt cx="299880" cy="214308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417600" y="31766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19040" y="53197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560520" y="4226040"/>
                  <a:ext cx="46080" cy="42840"/>
                  <a:chOff x="560520" y="4226040"/>
                  <a:chExt cx="46080" cy="4284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560520" y="42260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61960" y="42274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" name=""/>
              <p:cNvGrpSpPr/>
              <p:nvPr/>
            </p:nvGrpSpPr>
            <p:grpSpPr>
              <a:xfrm>
                <a:off x="417600" y="5516640"/>
                <a:ext cx="301680" cy="601560"/>
                <a:chOff x="417600" y="5516640"/>
                <a:chExt cx="301680" cy="60156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417600" y="5838840"/>
                  <a:ext cx="301680" cy="279360"/>
                  <a:chOff x="417600" y="5838840"/>
                  <a:chExt cx="301680" cy="27936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430200" y="58420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417600" y="5838840"/>
                    <a:ext cx="301680" cy="279360"/>
                    <a:chOff x="417600" y="5838840"/>
                    <a:chExt cx="301680" cy="27936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417600" y="58388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420840" y="61182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417600" y="5516640"/>
                  <a:ext cx="301680" cy="280800"/>
                  <a:chOff x="417600" y="5516640"/>
                  <a:chExt cx="301680" cy="28080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430200" y="55213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417600" y="5516640"/>
                    <a:ext cx="301680" cy="280800"/>
                    <a:chOff x="417600" y="5516640"/>
                    <a:chExt cx="301680" cy="280800"/>
                  </a:xfrm>
                </p:grpSpPr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417600" y="55166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420840" y="57974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7" name=""/>
                <p:cNvSpPr/>
                <p:nvPr/>
              </p:nvSpPr>
              <p:spPr>
                <a:xfrm>
                  <a:off x="527040" y="59119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5600" y="55911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447840" y="1506600"/>
              <a:ext cx="191880" cy="179280"/>
              <a:chOff x="447840" y="1506600"/>
              <a:chExt cx="191880" cy="179280"/>
            </a:xfrm>
          </p:grpSpPr>
          <p:sp>
            <p:nvSpPr>
              <p:cNvPr id="160" name=""/>
              <p:cNvSpPr/>
              <p:nvPr/>
            </p:nvSpPr>
            <p:spPr>
              <a:xfrm>
                <a:off x="453960" y="15066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447840" y="1511280"/>
                <a:ext cx="187200" cy="174600"/>
                <a:chOff x="447840" y="1511280"/>
                <a:chExt cx="187200" cy="1746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47840" y="15112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52520" y="16858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95360" y="1546200"/>
                <a:ext cx="102960" cy="98280"/>
                <a:chOff x="495360" y="1546200"/>
                <a:chExt cx="102960" cy="982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95360" y="15462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95360" y="15462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8626320" y="1515960"/>
              <a:ext cx="193680" cy="177840"/>
              <a:chOff x="8626320" y="1515960"/>
              <a:chExt cx="193680" cy="1778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8626320" y="1515960"/>
                <a:ext cx="193680" cy="177840"/>
                <a:chOff x="8626320" y="1515960"/>
                <a:chExt cx="193680" cy="1778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8632800" y="15159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" name=""/>
                <p:cNvGrpSpPr/>
                <p:nvPr/>
              </p:nvGrpSpPr>
              <p:grpSpPr>
                <a:xfrm>
                  <a:off x="8626320" y="1517760"/>
                  <a:ext cx="193680" cy="176040"/>
                  <a:chOff x="8626320" y="1517760"/>
                  <a:chExt cx="193680" cy="1760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8626320" y="15177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634240" y="16938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8656560" y="1523880"/>
                <a:ext cx="138240" cy="152640"/>
                <a:chOff x="8656560" y="1523880"/>
                <a:chExt cx="138240" cy="1526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8658360" y="15382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8656560" y="15238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6" name=""/>
          <p:cNvSpPr/>
          <p:nvPr/>
        </p:nvSpPr>
        <p:spPr>
          <a:xfrm>
            <a:off x="830160" y="1874880"/>
            <a:ext cx="713088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mpt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ftp naif.jpl.nas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ed to naif.jpl.nas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20  Welcome to the NAIF FTP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ame (your.sight:your_name):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anonym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31 Please specify the 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sword: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your@e.mail.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=============================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|                     Jet Propulsion Laboratory  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|                  * * *    W A R N I N G   * * *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|                          Property of the       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|                      UNITED STATES GOVERNMENT  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=============================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 Login successful. Have f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mote system type is UN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ing binary mode to transfer f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cd pub/naif/toolkit/&lt;FORTRAN or C or IDL or MATLAB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50 CWD command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6160" y="380520"/>
            <a:ext cx="1233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tp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E6F0-615C-4A3C-97CC-227BB1BA60A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380880" y="1447920"/>
            <a:ext cx="8501040" cy="4782960"/>
            <a:chOff x="380880" y="1447920"/>
            <a:chExt cx="8501040" cy="4782960"/>
          </a:xfrm>
        </p:grpSpPr>
        <p:grpSp>
          <p:nvGrpSpPr>
            <p:cNvPr id="179" name=""/>
            <p:cNvGrpSpPr/>
            <p:nvPr/>
          </p:nvGrpSpPr>
          <p:grpSpPr>
            <a:xfrm>
              <a:off x="380880" y="1447920"/>
              <a:ext cx="8501040" cy="4782960"/>
              <a:chOff x="380880" y="1447920"/>
              <a:chExt cx="8501040" cy="47829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80880" y="1447920"/>
                <a:ext cx="8501040" cy="4782960"/>
                <a:chOff x="380880" y="1447920"/>
                <a:chExt cx="8501040" cy="478296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380880" y="1447920"/>
                  <a:ext cx="8501040" cy="4782960"/>
                  <a:chOff x="380880" y="1447920"/>
                  <a:chExt cx="8501040" cy="47829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80880" y="17384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66440" y="16336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80880" y="14479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80880" y="61484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66440" y="61470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0760" y="14781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" name=""/>
                <p:cNvSpPr/>
                <p:nvPr/>
              </p:nvSpPr>
              <p:spPr>
                <a:xfrm>
                  <a:off x="3790080" y="14781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04640" y="3164040"/>
                <a:ext cx="299880" cy="2143080"/>
                <a:chOff x="404640" y="3164040"/>
                <a:chExt cx="299880" cy="214308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404640" y="3164040"/>
                  <a:ext cx="299880" cy="2143080"/>
                  <a:chOff x="404640" y="3164040"/>
                  <a:chExt cx="299880" cy="2143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417240" y="31719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404640" y="3164040"/>
                    <a:ext cx="299880" cy="2143080"/>
                    <a:chOff x="404640" y="3164040"/>
                    <a:chExt cx="299880" cy="214308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404640" y="31640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06080" y="53071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547560" y="4213440"/>
                  <a:ext cx="46080" cy="42840"/>
                  <a:chOff x="547560" y="4213440"/>
                  <a:chExt cx="46080" cy="428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547560" y="42134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549000" y="42148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404640" y="5504040"/>
                <a:ext cx="301680" cy="601560"/>
                <a:chOff x="404640" y="5504040"/>
                <a:chExt cx="301680" cy="60156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404640" y="5826240"/>
                  <a:ext cx="301680" cy="279360"/>
                  <a:chOff x="404640" y="5826240"/>
                  <a:chExt cx="301680" cy="2793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417240" y="58294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404640" y="5826240"/>
                    <a:ext cx="301680" cy="279360"/>
                    <a:chOff x="404640" y="5826240"/>
                    <a:chExt cx="301680" cy="2793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404640" y="58262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07880" y="61056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404640" y="5504040"/>
                  <a:ext cx="301680" cy="280800"/>
                  <a:chOff x="404640" y="5504040"/>
                  <a:chExt cx="301680" cy="28080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417240" y="55087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404640" y="5504040"/>
                    <a:ext cx="301680" cy="280800"/>
                    <a:chOff x="404640" y="5504040"/>
                    <a:chExt cx="301680" cy="28080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04640" y="55040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07880" y="57848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9" name=""/>
                <p:cNvSpPr/>
                <p:nvPr/>
              </p:nvSpPr>
              <p:spPr>
                <a:xfrm>
                  <a:off x="514080" y="58993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2640" y="55785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" name=""/>
            <p:cNvGrpSpPr/>
            <p:nvPr/>
          </p:nvGrpSpPr>
          <p:grpSpPr>
            <a:xfrm>
              <a:off x="434880" y="1494000"/>
              <a:ext cx="191880" cy="179280"/>
              <a:chOff x="434880" y="1494000"/>
              <a:chExt cx="191880" cy="179280"/>
            </a:xfrm>
          </p:grpSpPr>
          <p:sp>
            <p:nvSpPr>
              <p:cNvPr id="212" name=""/>
              <p:cNvSpPr/>
              <p:nvPr/>
            </p:nvSpPr>
            <p:spPr>
              <a:xfrm>
                <a:off x="441000" y="14940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434880" y="1498680"/>
                <a:ext cx="187200" cy="174600"/>
                <a:chOff x="434880" y="1498680"/>
                <a:chExt cx="187200" cy="1746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34880" y="14986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560" y="16732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82400" y="1533600"/>
                <a:ext cx="102960" cy="98280"/>
                <a:chOff x="482400" y="1533600"/>
                <a:chExt cx="102960" cy="98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82400" y="15336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82400" y="15336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8613360" y="1503360"/>
              <a:ext cx="193680" cy="177840"/>
              <a:chOff x="8613360" y="1503360"/>
              <a:chExt cx="193680" cy="1778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613360" y="1503360"/>
                <a:ext cx="193680" cy="177840"/>
                <a:chOff x="8613360" y="1503360"/>
                <a:chExt cx="193680" cy="1778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8619840" y="15033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8613360" y="1505160"/>
                  <a:ext cx="193680" cy="176040"/>
                  <a:chOff x="8613360" y="1505160"/>
                  <a:chExt cx="193680" cy="17604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8613360" y="15051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621280" y="16812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5" name=""/>
              <p:cNvGrpSpPr/>
              <p:nvPr/>
            </p:nvGrpSpPr>
            <p:grpSpPr>
              <a:xfrm>
                <a:off x="8643600" y="1511280"/>
                <a:ext cx="138240" cy="152640"/>
                <a:chOff x="8643600" y="1511280"/>
                <a:chExt cx="138240" cy="152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8645400" y="15256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8643600" y="15112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8" name=""/>
          <p:cNvSpPr/>
          <p:nvPr/>
        </p:nvSpPr>
        <p:spPr>
          <a:xfrm>
            <a:off x="830160" y="1819440"/>
            <a:ext cx="183672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Ab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I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g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Cyg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Windows_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Windows_I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Windows_La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_Sol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1828800"/>
            <a:ext cx="0" cy="419112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0960" y="487692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ORT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748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6160" y="380520"/>
            <a:ext cx="1233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tp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1828800"/>
            <a:ext cx="2133720" cy="23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Apple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Intel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Cygwin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Linux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Linux_C_64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Windows_Visual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_Solaris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_Solaris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_Solaris_GCC_64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1828800"/>
            <a:ext cx="0" cy="419112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1828800"/>
            <a:ext cx="2057400" cy="15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Apple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Intel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Linux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Windows_Visual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_Solaris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_Solaris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64520" y="4876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71840" y="6278400"/>
            <a:ext cx="444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The environments available at the time you downlo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the Toolkit may differ from those shown he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1828800"/>
            <a:ext cx="0" cy="419112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1828800"/>
            <a:ext cx="1981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Apple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Intel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Linux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Windows_Visual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5440" y="48769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C440-9B44-4C17-9D98-D44400A8A5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393840" y="1460520"/>
            <a:ext cx="8501040" cy="4782960"/>
            <a:chOff x="393840" y="1460520"/>
            <a:chExt cx="8501040" cy="4782960"/>
          </a:xfrm>
        </p:grpSpPr>
        <p:grpSp>
          <p:nvGrpSpPr>
            <p:cNvPr id="242" name=""/>
            <p:cNvGrpSpPr/>
            <p:nvPr/>
          </p:nvGrpSpPr>
          <p:grpSpPr>
            <a:xfrm>
              <a:off x="393840" y="1460520"/>
              <a:ext cx="8501040" cy="4782960"/>
              <a:chOff x="393840" y="1460520"/>
              <a:chExt cx="8501040" cy="478296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393840" y="1460520"/>
                <a:ext cx="8501040" cy="4782960"/>
                <a:chOff x="393840" y="1460520"/>
                <a:chExt cx="8501040" cy="478296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393840" y="1460520"/>
                  <a:ext cx="8501040" cy="4782960"/>
                  <a:chOff x="393840" y="1460520"/>
                  <a:chExt cx="8501040" cy="478296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393840" y="17510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79400" y="16462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93840" y="14605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93840" y="61610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79400" y="61596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23720" y="14907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3803040" y="14907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17600" y="3176640"/>
                <a:ext cx="299880" cy="2143080"/>
                <a:chOff x="417600" y="3176640"/>
                <a:chExt cx="299880" cy="214308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417600" y="3176640"/>
                  <a:ext cx="299880" cy="2143080"/>
                  <a:chOff x="417600" y="3176640"/>
                  <a:chExt cx="299880" cy="21430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430200" y="31845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417600" y="3176640"/>
                    <a:ext cx="299880" cy="2143080"/>
                    <a:chOff x="417600" y="3176640"/>
                    <a:chExt cx="299880" cy="214308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417600" y="31766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419040" y="53197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560520" y="4226040"/>
                  <a:ext cx="46080" cy="42840"/>
                  <a:chOff x="560520" y="4226040"/>
                  <a:chExt cx="46080" cy="428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60520" y="42260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61960" y="42274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1" name=""/>
              <p:cNvGrpSpPr/>
              <p:nvPr/>
            </p:nvGrpSpPr>
            <p:grpSpPr>
              <a:xfrm>
                <a:off x="417600" y="5516640"/>
                <a:ext cx="301680" cy="601560"/>
                <a:chOff x="417600" y="5516640"/>
                <a:chExt cx="301680" cy="60156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417600" y="5838840"/>
                  <a:ext cx="301680" cy="279360"/>
                  <a:chOff x="417600" y="5838840"/>
                  <a:chExt cx="301680" cy="2793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430200" y="58420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417600" y="5838840"/>
                    <a:ext cx="301680" cy="279360"/>
                    <a:chOff x="417600" y="5838840"/>
                    <a:chExt cx="301680" cy="27936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417600" y="58388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420840" y="61182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417600" y="5516640"/>
                  <a:ext cx="301680" cy="280800"/>
                  <a:chOff x="417600" y="5516640"/>
                  <a:chExt cx="301680" cy="280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430200" y="55213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417600" y="5516640"/>
                    <a:ext cx="301680" cy="280800"/>
                    <a:chOff x="417600" y="5516640"/>
                    <a:chExt cx="301680" cy="280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17600" y="55166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20840" y="57974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2" name=""/>
                <p:cNvSpPr/>
                <p:nvPr/>
              </p:nvSpPr>
              <p:spPr>
                <a:xfrm>
                  <a:off x="527040" y="59119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25600" y="55911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4" name=""/>
            <p:cNvGrpSpPr/>
            <p:nvPr/>
          </p:nvGrpSpPr>
          <p:grpSpPr>
            <a:xfrm>
              <a:off x="447840" y="1506600"/>
              <a:ext cx="191880" cy="179280"/>
              <a:chOff x="447840" y="1506600"/>
              <a:chExt cx="191880" cy="17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453960" y="15066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447840" y="1511280"/>
                <a:ext cx="187200" cy="174600"/>
                <a:chOff x="447840" y="1511280"/>
                <a:chExt cx="187200" cy="1746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47840" y="15112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52520" y="16858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95360" y="1546200"/>
                <a:ext cx="102960" cy="98280"/>
                <a:chOff x="495360" y="1546200"/>
                <a:chExt cx="102960" cy="982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95360" y="15462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95360" y="15462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8626320" y="1515960"/>
              <a:ext cx="193680" cy="177840"/>
              <a:chOff x="8626320" y="1515960"/>
              <a:chExt cx="193680" cy="177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8626320" y="1515960"/>
                <a:ext cx="193680" cy="177840"/>
                <a:chOff x="8626320" y="1515960"/>
                <a:chExt cx="193680" cy="1778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8632800" y="15159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" name=""/>
                <p:cNvGrpSpPr/>
                <p:nvPr/>
              </p:nvGrpSpPr>
              <p:grpSpPr>
                <a:xfrm>
                  <a:off x="8626320" y="1517760"/>
                  <a:ext cx="193680" cy="176040"/>
                  <a:chOff x="8626320" y="1517760"/>
                  <a:chExt cx="193680" cy="1760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8626320" y="15177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8634240" y="16938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" name=""/>
              <p:cNvGrpSpPr/>
              <p:nvPr/>
            </p:nvGrpSpPr>
            <p:grpSpPr>
              <a:xfrm>
                <a:off x="8656560" y="1523880"/>
                <a:ext cx="138240" cy="152640"/>
                <a:chOff x="8656560" y="1523880"/>
                <a:chExt cx="138240" cy="1526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8658360" y="15382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8656560" y="15238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1" name=""/>
          <p:cNvSpPr/>
          <p:nvPr/>
        </p:nvSpPr>
        <p:spPr>
          <a:xfrm>
            <a:off x="830160" y="1792440"/>
            <a:ext cx="4570560" cy="40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cd &lt;environment&gt;/pack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b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 Type set 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get toolkit.tar.Z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 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toolkit.ex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cspice.tar.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cspice.ex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cy.tar.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cy.ex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mice.tar.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mice.ex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asc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 Type set to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get importSpice.c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 not availabe for Windows environmen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get READ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get dscriptn.tx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get whats.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 q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29840" y="380520"/>
            <a:ext cx="7691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pying the Toolkit and Install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11FD-03EA-4667-BE2C-5136C06101F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80880" y="1447920"/>
            <a:ext cx="8501040" cy="4782960"/>
            <a:chOff x="380880" y="1447920"/>
            <a:chExt cx="8501040" cy="4782960"/>
          </a:xfrm>
        </p:grpSpPr>
        <p:grpSp>
          <p:nvGrpSpPr>
            <p:cNvPr id="294" name=""/>
            <p:cNvGrpSpPr/>
            <p:nvPr/>
          </p:nvGrpSpPr>
          <p:grpSpPr>
            <a:xfrm>
              <a:off x="380880" y="1447920"/>
              <a:ext cx="8501040" cy="4782960"/>
              <a:chOff x="380880" y="1447920"/>
              <a:chExt cx="8501040" cy="47829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80880" y="1447920"/>
                <a:ext cx="8501040" cy="4782960"/>
                <a:chOff x="380880" y="1447920"/>
                <a:chExt cx="8501040" cy="478296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80880" y="1447920"/>
                  <a:ext cx="8501040" cy="4782960"/>
                  <a:chOff x="380880" y="1447920"/>
                  <a:chExt cx="8501040" cy="47829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80880" y="17384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766440" y="16336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80880" y="14479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80880" y="61484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66440" y="61470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410760" y="14781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>
                  <a:off x="3790080" y="14781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04640" y="3164040"/>
                <a:ext cx="299880" cy="2143080"/>
                <a:chOff x="404640" y="3164040"/>
                <a:chExt cx="299880" cy="214308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404640" y="3164040"/>
                  <a:ext cx="299880" cy="2143080"/>
                  <a:chOff x="404640" y="3164040"/>
                  <a:chExt cx="299880" cy="214308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417240" y="31719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04640" y="3164040"/>
                    <a:ext cx="299880" cy="2143080"/>
                    <a:chOff x="404640" y="3164040"/>
                    <a:chExt cx="299880" cy="214308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404640" y="31640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406080" y="53071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547560" y="4213440"/>
                  <a:ext cx="46080" cy="42840"/>
                  <a:chOff x="547560" y="4213440"/>
                  <a:chExt cx="46080" cy="428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547560" y="42134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49000" y="42148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404640" y="5504040"/>
                <a:ext cx="301680" cy="601560"/>
                <a:chOff x="404640" y="5504040"/>
                <a:chExt cx="301680" cy="6015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404640" y="5826240"/>
                  <a:ext cx="301680" cy="279360"/>
                  <a:chOff x="404640" y="5826240"/>
                  <a:chExt cx="301680" cy="2793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17240" y="58294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404640" y="5826240"/>
                    <a:ext cx="301680" cy="279360"/>
                    <a:chOff x="404640" y="5826240"/>
                    <a:chExt cx="301680" cy="2793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404640" y="58262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407880" y="61056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404640" y="5504040"/>
                  <a:ext cx="301680" cy="280800"/>
                  <a:chOff x="404640" y="5504040"/>
                  <a:chExt cx="301680" cy="2808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417240" y="55087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404640" y="5504040"/>
                    <a:ext cx="301680" cy="280800"/>
                    <a:chOff x="404640" y="5504040"/>
                    <a:chExt cx="301680" cy="28080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404640" y="55040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407880" y="57848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4" name=""/>
                <p:cNvSpPr/>
                <p:nvPr/>
              </p:nvSpPr>
              <p:spPr>
                <a:xfrm>
                  <a:off x="514080" y="58993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12640" y="55785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" name=""/>
            <p:cNvGrpSpPr/>
            <p:nvPr/>
          </p:nvGrpSpPr>
          <p:grpSpPr>
            <a:xfrm>
              <a:off x="434880" y="1494000"/>
              <a:ext cx="191880" cy="179280"/>
              <a:chOff x="434880" y="1494000"/>
              <a:chExt cx="191880" cy="17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441000" y="14940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434880" y="1498680"/>
                <a:ext cx="187200" cy="174600"/>
                <a:chOff x="434880" y="1498680"/>
                <a:chExt cx="187200" cy="1746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34880" y="14986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39560" y="16732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82400" y="1533600"/>
                <a:ext cx="102960" cy="98280"/>
                <a:chOff x="482400" y="1533600"/>
                <a:chExt cx="102960" cy="982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82400" y="15336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82400" y="15336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4" name=""/>
            <p:cNvGrpSpPr/>
            <p:nvPr/>
          </p:nvGrpSpPr>
          <p:grpSpPr>
            <a:xfrm>
              <a:off x="8613360" y="1503360"/>
              <a:ext cx="193680" cy="177840"/>
              <a:chOff x="8613360" y="1503360"/>
              <a:chExt cx="193680" cy="1778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8613360" y="1503360"/>
                <a:ext cx="193680" cy="177840"/>
                <a:chOff x="8613360" y="1503360"/>
                <a:chExt cx="193680" cy="1778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619840" y="15033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8613360" y="1505160"/>
                  <a:ext cx="193680" cy="176040"/>
                  <a:chOff x="8613360" y="1505160"/>
                  <a:chExt cx="193680" cy="17604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8613360" y="15051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8621280" y="16812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8643600" y="1511280"/>
                <a:ext cx="138240" cy="152640"/>
                <a:chOff x="8643600" y="1511280"/>
                <a:chExt cx="138240" cy="1526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8645400" y="15256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8643600" y="15112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3" name=""/>
          <p:cNvSpPr/>
          <p:nvPr/>
        </p:nvSpPr>
        <p:spPr>
          <a:xfrm>
            <a:off x="848880" y="1832040"/>
            <a:ext cx="68364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low the directions given in the README. Normally this consis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following (n/a for PC Window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0160" y="2631960"/>
            <a:ext cx="31989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mpt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chmod u+x importSpice.c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mpt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./importSpice.c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 rm toolkit.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65240" y="3557520"/>
            <a:ext cx="268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70160" y="3481560"/>
            <a:ext cx="306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49240" y="4118040"/>
            <a:ext cx="73101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PC Windows, execute the toolkit.exe application (or cspice or icy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e) to expand the arch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7720" y="4738680"/>
            <a:ext cx="10044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tool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49960" y="3432240"/>
            <a:ext cx="7691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now have the expanded toolkit (or cspice or icy or mice) root direc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29840" y="380520"/>
            <a:ext cx="7691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pying the Toolkit and Install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FDA3-27BD-4EAE-88CC-874D8607AB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2440" y="380520"/>
            <a:ext cx="55008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figuring Your Computer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ome programming environments there are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qui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ditional steps to prepare for programming using SP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ome programming environments there are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comme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ditional steps to make program development easi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ad the “Setting Up Computer” tutorial and the “README” file found in the Toolkit download directory for more informa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1B64-F610-4CA4-9041-66380278ED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the execu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b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onvert the SPICE transfer format SPK and CK files supplied with the Toolkit to local bina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k_01.tsp, cook_02.tsp, cook_01.tc, and cook_02.tc are found in the ../data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i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kbrie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pac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summarize the converted kerne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may occur if operating systems or compiler versions are out of sy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build the Toolkit using the script “makeall.csh” (or “makeall.bat”) located in the “top level” directory (toolkit or cspice or icy or mic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rare circumstance that things still don’t work, contact your System Administrator or NAI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3914280" y="380520"/>
            <a:ext cx="2521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heck It Ou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2F7E-EBC4-49A3-B90B-FC1523126C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7-05-04T22:20:55Z</cp:lastPrinted>
  <dcterms:modified xsi:type="dcterms:W3CDTF">2007-10-12T23:46:13Z</dcterms:modified>
  <cp:revision>55</cp:revision>
  <dc:subject/>
  <dc:title>No Slide Title</dc:title>
</cp:coreProperties>
</file>