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BD93D-122D-41D2-8A03-8EE00ECA8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ECEC7-CABA-420C-A4BD-259BD9AA5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C51CA-BFCB-4B2D-9B7C-58C8C62E8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10157-C3B0-45F6-8180-9FAAFCFD35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6F51-7A91-4F11-BF58-06E90DD18A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6870D-CA6A-4F8A-8A34-7BCCA6BCD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195C4-00E6-4B02-BDD8-01C247514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1E1BF-7BB6-4896-A875-64BDA239E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7968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243D9-7856-43B2-AB6F-4D3149E13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04F24-1746-47F3-83C1-E8B129DB1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962C6-C69F-4677-AAE4-E1D9F09B7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E66A6-5C1C-4230-9895-A025E5E3D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676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616800"/>
            <a:ext cx="289080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41760" y="6616800"/>
            <a:ext cx="190188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9FA04A-5B40-4B3B-B7EE-434E94EEC97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8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024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072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50840" y="2286000"/>
            <a:ext cx="5259240" cy="528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ummary of Key Point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86200" y="380520"/>
            <a:ext cx="472752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hich Pieces Do I Use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’s no single ans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24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s on what task you wish to accomplis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24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s on what mission you are working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xt several charts highlight some ke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24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ssume you have already looked at the major SPICE tutorials, or already have some familiarity with  SPI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24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ssume you have successfully downloaded and installed the SPICE Toolk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printing this tutorial and keeping it near your works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mmary of Key Poi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32CBD-AA79-4632-A468-2AD1F58143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23880" y="380520"/>
            <a:ext cx="585612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minder of Key Subsystem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K:    Position (and velocity) of th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K:    Size/shape/orientation of target bod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K:        Instrument field-of-view ge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:      Orientation of spacecraft or spacecraft structures that mo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K:       Definition/specification of non-core reference fr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SK:     UTC (SCET)        ET time conver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L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SK:  SCLK        ET time conver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57560" y="5003640"/>
            <a:ext cx="457200" cy="76320"/>
          </a:xfrm>
          <a:prstGeom prst="leftRightArrow">
            <a:avLst>
              <a:gd name="adj1" fmla="val 50000"/>
              <a:gd name="adj2" fmla="val 119257"/>
            </a:avLst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11720" y="5416560"/>
            <a:ext cx="457200" cy="76320"/>
          </a:xfrm>
          <a:prstGeom prst="leftRightArrow">
            <a:avLst>
              <a:gd name="adj1" fmla="val 50000"/>
              <a:gd name="adj2" fmla="val 119257"/>
            </a:avLst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mmary of Key Poi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EE4FE-382C-4832-8725-5FF6DD66D1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181480" y="4853160"/>
            <a:ext cx="3429000" cy="838080"/>
          </a:xfrm>
          <a:prstGeom prst="rect">
            <a:avLst/>
          </a:prstGeom>
          <a:solidFill>
            <a:srgbClr val="e8e8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94440" y="3900600"/>
            <a:ext cx="3429000" cy="838080"/>
          </a:xfrm>
          <a:prstGeom prst="rect">
            <a:avLst/>
          </a:prstGeom>
          <a:solidFill>
            <a:srgbClr val="e8e8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2971800"/>
            <a:ext cx="3429000" cy="838080"/>
          </a:xfrm>
          <a:prstGeom prst="rect">
            <a:avLst/>
          </a:prstGeom>
          <a:solidFill>
            <a:srgbClr val="e8e8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2057400"/>
            <a:ext cx="3429000" cy="838080"/>
          </a:xfrm>
          <a:prstGeom prst="rect">
            <a:avLst/>
          </a:prstGeom>
          <a:solidFill>
            <a:srgbClr val="e8e8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4865760"/>
            <a:ext cx="3429000" cy="838080"/>
          </a:xfrm>
          <a:prstGeom prst="rect">
            <a:avLst/>
          </a:prstGeom>
          <a:solidFill>
            <a:srgbClr val="e8e8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3873600"/>
            <a:ext cx="3429000" cy="838080"/>
          </a:xfrm>
          <a:prstGeom prst="rect">
            <a:avLst/>
          </a:prstGeom>
          <a:solidFill>
            <a:srgbClr val="e8e8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971800"/>
            <a:ext cx="3429000" cy="838080"/>
          </a:xfrm>
          <a:prstGeom prst="rect">
            <a:avLst/>
          </a:prstGeom>
          <a:solidFill>
            <a:srgbClr val="e8e8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2057400"/>
            <a:ext cx="3429000" cy="838080"/>
          </a:xfrm>
          <a:prstGeom prst="rect">
            <a:avLst/>
          </a:prstGeom>
          <a:solidFill>
            <a:srgbClr val="e8e8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35120" y="366840"/>
            <a:ext cx="563256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imary Kernel Interface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89120" y="2247840"/>
            <a:ext cx="761760" cy="457200"/>
            <a:chOff x="789120" y="2247840"/>
            <a:chExt cx="761760" cy="457200"/>
          </a:xfrm>
        </p:grpSpPr>
        <p:sp>
          <p:nvSpPr>
            <p:cNvPr id="75" name=""/>
            <p:cNvSpPr/>
            <p:nvPr/>
          </p:nvSpPr>
          <p:spPr>
            <a:xfrm>
              <a:off x="789120" y="2247840"/>
              <a:ext cx="761760" cy="457200"/>
            </a:xfrm>
            <a:prstGeom prst="roundRect">
              <a:avLst>
                <a:gd name="adj" fmla="val 16667"/>
              </a:avLst>
            </a:prstGeom>
            <a:solidFill>
              <a:srgbClr val="40fc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66520" y="2306520"/>
              <a:ext cx="637920" cy="368280"/>
            </a:xfrm>
            <a:prstGeom prst="rect">
              <a:avLst/>
            </a:prstGeom>
            <a:solidFill>
              <a:srgbClr val="40f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762120" y="3124080"/>
            <a:ext cx="761760" cy="457200"/>
            <a:chOff x="762120" y="3124080"/>
            <a:chExt cx="761760" cy="457200"/>
          </a:xfrm>
        </p:grpSpPr>
        <p:sp>
          <p:nvSpPr>
            <p:cNvPr id="78" name=""/>
            <p:cNvSpPr/>
            <p:nvPr/>
          </p:nvSpPr>
          <p:spPr>
            <a:xfrm>
              <a:off x="762120" y="3124080"/>
              <a:ext cx="761760" cy="457200"/>
            </a:xfrm>
            <a:prstGeom prst="roundRect">
              <a:avLst>
                <a:gd name="adj" fmla="val 16667"/>
              </a:avLst>
            </a:prstGeom>
            <a:solidFill>
              <a:srgbClr val="40fc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9520" y="3165120"/>
              <a:ext cx="650160" cy="368280"/>
            </a:xfrm>
            <a:prstGeom prst="rect">
              <a:avLst/>
            </a:prstGeom>
            <a:solidFill>
              <a:srgbClr val="40f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4025880"/>
            <a:ext cx="761760" cy="457200"/>
            <a:chOff x="762120" y="4025880"/>
            <a:chExt cx="761760" cy="457200"/>
          </a:xfrm>
        </p:grpSpPr>
        <p:sp>
          <p:nvSpPr>
            <p:cNvPr id="81" name=""/>
            <p:cNvSpPr/>
            <p:nvPr/>
          </p:nvSpPr>
          <p:spPr>
            <a:xfrm>
              <a:off x="762120" y="4025880"/>
              <a:ext cx="761760" cy="457200"/>
            </a:xfrm>
            <a:prstGeom prst="roundRect">
              <a:avLst>
                <a:gd name="adj" fmla="val 16667"/>
              </a:avLst>
            </a:prstGeom>
            <a:solidFill>
              <a:srgbClr val="40fc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31320" y="4076640"/>
              <a:ext cx="397080" cy="368280"/>
            </a:xfrm>
            <a:prstGeom prst="rect">
              <a:avLst/>
            </a:prstGeom>
            <a:solidFill>
              <a:srgbClr val="40f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62120" y="5043600"/>
            <a:ext cx="761760" cy="457200"/>
            <a:chOff x="762120" y="5043600"/>
            <a:chExt cx="761760" cy="457200"/>
          </a:xfrm>
        </p:grpSpPr>
        <p:sp>
          <p:nvSpPr>
            <p:cNvPr id="84" name=""/>
            <p:cNvSpPr/>
            <p:nvPr/>
          </p:nvSpPr>
          <p:spPr>
            <a:xfrm>
              <a:off x="762120" y="5043600"/>
              <a:ext cx="761760" cy="457200"/>
            </a:xfrm>
            <a:prstGeom prst="roundRect">
              <a:avLst>
                <a:gd name="adj" fmla="val 16667"/>
              </a:avLst>
            </a:prstGeom>
            <a:solidFill>
              <a:srgbClr val="40fc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1440" y="5087880"/>
              <a:ext cx="497880" cy="368280"/>
            </a:xfrm>
            <a:prstGeom prst="rect">
              <a:avLst/>
            </a:prstGeom>
            <a:solidFill>
              <a:srgbClr val="40f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423040" y="2260440"/>
            <a:ext cx="761760" cy="457200"/>
            <a:chOff x="5423040" y="2260440"/>
            <a:chExt cx="761760" cy="457200"/>
          </a:xfrm>
        </p:grpSpPr>
        <p:sp>
          <p:nvSpPr>
            <p:cNvPr id="87" name=""/>
            <p:cNvSpPr/>
            <p:nvPr/>
          </p:nvSpPr>
          <p:spPr>
            <a:xfrm>
              <a:off x="5423040" y="2260440"/>
              <a:ext cx="761760" cy="457200"/>
            </a:xfrm>
            <a:prstGeom prst="roundRect">
              <a:avLst>
                <a:gd name="adj" fmla="val 16667"/>
              </a:avLst>
            </a:prstGeom>
            <a:solidFill>
              <a:srgbClr val="40fc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76040" y="2311200"/>
              <a:ext cx="473400" cy="368280"/>
            </a:xfrm>
            <a:prstGeom prst="rect">
              <a:avLst/>
            </a:prstGeom>
            <a:solidFill>
              <a:srgbClr val="40f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410080" y="3124080"/>
            <a:ext cx="762120" cy="457200"/>
            <a:chOff x="5410080" y="3124080"/>
            <a:chExt cx="762120" cy="457200"/>
          </a:xfrm>
        </p:grpSpPr>
        <p:sp>
          <p:nvSpPr>
            <p:cNvPr id="90" name=""/>
            <p:cNvSpPr/>
            <p:nvPr/>
          </p:nvSpPr>
          <p:spPr>
            <a:xfrm>
              <a:off x="5410080" y="3124080"/>
              <a:ext cx="762120" cy="457200"/>
            </a:xfrm>
            <a:prstGeom prst="roundRect">
              <a:avLst>
                <a:gd name="adj" fmla="val 16667"/>
              </a:avLst>
            </a:prstGeom>
            <a:solidFill>
              <a:srgbClr val="40fc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88200" y="3151080"/>
              <a:ext cx="612000" cy="368280"/>
            </a:xfrm>
            <a:prstGeom prst="rect">
              <a:avLst/>
            </a:prstGeom>
            <a:solidFill>
              <a:srgbClr val="40f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413320" y="4052880"/>
            <a:ext cx="778680" cy="457200"/>
            <a:chOff x="5413320" y="4052880"/>
            <a:chExt cx="778680" cy="457200"/>
          </a:xfrm>
        </p:grpSpPr>
        <p:sp>
          <p:nvSpPr>
            <p:cNvPr id="93" name=""/>
            <p:cNvSpPr/>
            <p:nvPr/>
          </p:nvSpPr>
          <p:spPr>
            <a:xfrm>
              <a:off x="5413320" y="4052880"/>
              <a:ext cx="762120" cy="457200"/>
            </a:xfrm>
            <a:prstGeom prst="roundRect">
              <a:avLst>
                <a:gd name="adj" fmla="val 16667"/>
              </a:avLst>
            </a:prstGeom>
            <a:solidFill>
              <a:srgbClr val="40fc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15480" y="410688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L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336640" y="5043600"/>
            <a:ext cx="947160" cy="457200"/>
            <a:chOff x="5336640" y="5043600"/>
            <a:chExt cx="947160" cy="457200"/>
          </a:xfrm>
        </p:grpSpPr>
        <p:sp>
          <p:nvSpPr>
            <p:cNvPr id="96" name=""/>
            <p:cNvSpPr/>
            <p:nvPr/>
          </p:nvSpPr>
          <p:spPr>
            <a:xfrm>
              <a:off x="5389560" y="5043600"/>
              <a:ext cx="871560" cy="457200"/>
            </a:xfrm>
            <a:prstGeom prst="roundRect">
              <a:avLst>
                <a:gd name="adj" fmla="val 16667"/>
              </a:avLst>
            </a:prstGeom>
            <a:solidFill>
              <a:srgbClr val="40fc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36640" y="511992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K/ES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828440" y="2209680"/>
            <a:ext cx="179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KEZR, SPKP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KCOV, SPK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9520" y="2997360"/>
            <a:ext cx="185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XFORM, PXFORM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KEZR, SPKP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DV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33840" y="4094280"/>
            <a:ext cx="172476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 baseline="-15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OL, GETF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9160" y="4876920"/>
            <a:ext cx="18021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XFORM, PX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KEZR, SPKP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KCOV, CK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CKGPAV, CKGP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00240" y="3195720"/>
            <a:ext cx="164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2ET, TIM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42720" y="3938760"/>
            <a:ext cx="185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S2E, SCE2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XFORM, PXFORM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KEZR, SPKP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05280" y="5092560"/>
            <a:ext cx="139716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KFIND, EKG</a:t>
            </a:r>
            <a:r>
              <a:rPr b="1" lang="en-US" sz="2400" spc="-1" strike="noStrike" baseline="-15000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64040" y="5943600"/>
            <a:ext cx="685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  FURNSH is used to load (provide access to ) all SPICE kern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I names shown are for FORTRAN vers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use lower case and add an “_c” when us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use lower case and prepend “cspice_” when using Icy (IDL) and Mice (MAT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129528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005d"/>
                </a:solidFill>
                <a:latin typeface="Arial"/>
              </a:rPr>
              <a:t>Which SPICE interface modules are most commonly called to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se</a:t>
            </a:r>
            <a:r>
              <a:rPr b="1" lang="en-US" sz="2000" spc="-1" strike="noStrike">
                <a:solidFill>
                  <a:srgbClr val="0e005d"/>
                </a:solidFill>
                <a:latin typeface="Arial"/>
              </a:rPr>
              <a:t> the data from a given kernel typ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22096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XFORM, PXFORM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KEZR, SPKP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mmary of Key Poi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9620-9F02-49FA-8C2A-EA4357C655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23960" y="380520"/>
            <a:ext cx="563904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imary Kernel Interface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90720" y="2666880"/>
          <a:ext cx="7543800" cy="2870280"/>
        </p:xfrm>
        <a:graphic>
          <a:graphicData uri="http://schemas.openxmlformats.org/drawingml/2006/table">
            <a:tbl>
              <a:tblPr/>
              <a:tblGrid>
                <a:gridCol w="3124080"/>
                <a:gridCol w="695160"/>
                <a:gridCol w="676440"/>
                <a:gridCol w="533520"/>
                <a:gridCol w="533160"/>
                <a:gridCol w="609840"/>
                <a:gridCol w="609480"/>
                <a:gridCol w="762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KEZR, SPKP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a6b05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XFORM, PXFO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GP, CKGPA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a6b05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F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a6b05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1" lang="en-US" sz="2400" spc="-1" strike="noStrike" baseline="-11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2ET, TIM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a6b05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S2E, SCE2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a6b05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a6b05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NOS (time conversion app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a6b05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990080" y="5791320"/>
            <a:ext cx="510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a6b05"/>
                </a:solidFill>
                <a:latin typeface="Arial"/>
              </a:rPr>
              <a:t>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        =  the indicated kernel typ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ybe   =  the indicated kernel typ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y b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14479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005d"/>
                </a:solidFill>
                <a:latin typeface="Arial"/>
              </a:rPr>
              <a:t>For a given module, which kind(s) of kernel(s) will or may be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6880" y="236232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Type(s)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mmary of Key Poi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95CEC-DB80-47EC-A8D8-4A2DB80974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47720" y="380520"/>
            <a:ext cx="56070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Kernel “Coverage” Caution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432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set of kernels mus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data for all “objects” of inter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you must include intermediary objects that provide a conn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data covering the time span of interest to yo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ch out for data gaps within that time sp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ch out for the difference of ~65 seconds between ET and U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ll the kernel types needed by SPICE to answer  your qu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the previous charts allude, you may need one or more kernels that are not obvio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managed (loaded) properly if there are overlapping (competing) data within the set of files you are u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mmary of Key Poi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D72C8-26E7-450A-ADFA-F214EB4384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92040" y="134640"/>
            <a:ext cx="4256280" cy="7938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How Can I Find Possibly</a:t>
            </a:r>
            <a:br>
              <a:rPr sz="2800"/>
            </a:b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Useful Toolkit Modules?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the previous ch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at the appropriate SPICE tutorial(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at the “Most Useful SPICELIB Subroutines” documen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/doc/html/info/mostused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 the permuted index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celib_idx for the FORTRAN toolkit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/doc/html/info/spicelib_idx.htm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is document also correlates entry point names with source code fil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pice_idx for the C and Icy toolkits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/doc/html/info/cspice_idx.htm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relevant portions of a SPICE “required reading” reference document (e.g. “spk.re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lnSpc>
                <a:spcPct val="80000"/>
              </a:lnSpc>
              <a:spcBef>
                <a:spcPts val="675"/>
              </a:spcBef>
              <a:buClr>
                <a:srgbClr val="e200f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e200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oc/html/req/spk.html   for the hyperlinked html version (bes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oc/spk.req  for the plain text ver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mmary of Key Poi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3308F-B633-41D0-95FD-CCD44FAA8A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82880" y="64800"/>
            <a:ext cx="4773600" cy="7938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How Can I Understand How</a:t>
            </a:r>
            <a:br>
              <a:rPr sz="2800"/>
            </a:b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To Use Those Modules?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84320"/>
            <a:ext cx="83818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mary user-oriented documentation about each module is found in the “header” at the top of each source code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ore documentation is found at the additional entry points for those FORTRAN modules that have multiple entry points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 documentation for major subsystems is found in like-named “required reading” documents (e.g. spk.req,  ck.req,  etc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ICE tutorials contain much helpful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“SPICE Documentation Taxonomy” in the tutorials collection for additional reading sugg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mmary of Key Poi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107AA-9B2E-452D-AEE1-B8BD26EEE0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95120" y="380520"/>
            <a:ext cx="691668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oes NAIF Provide Any Examples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ly all module headers contain one or more working exam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Useful SPICELIB Subroutines” has code fragments  …/doc/html/info/mostused.ht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“required reading” reference documents often contain examples …/doc/html/req/index.htm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tutorials offer programming exam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simple “cookbook” programs are found in the Toolkit  …/src/cookbook/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use of the SPICE Programming Lessons available from the NAIF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tp://naif.jpl.nasa.gov/pub/naif/toolkit_docs/Lessons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mmary of Key Poi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6E88E-AA87-4C46-A8B7-767E639647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03:46:47Z</dcterms:created>
  <dc:creator>Chuck Acton</dc:creator>
  <dc:description/>
  <dc:language>en-US</dc:language>
  <cp:lastModifiedBy>Charles Acton</cp:lastModifiedBy>
  <cp:lastPrinted>2003-10-05T22:15:22Z</cp:lastPrinted>
  <dcterms:modified xsi:type="dcterms:W3CDTF">2007-10-12T23:36:59Z</dcterms:modified>
  <cp:revision>69</cp:revision>
  <dc:subject/>
  <dc:title>Primary Kernel Interfaces</dc:title>
</cp:coreProperties>
</file>