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328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63520" y="587520"/>
            <a:ext cx="451512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3280" y="4331160"/>
            <a:ext cx="5465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63520" y="587520"/>
            <a:ext cx="4515120" cy="33861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OS X men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63520" y="587520"/>
            <a:ext cx="4515120" cy="3386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cspice.so, cspice.dlm with icy.so. icy.d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63520" y="587520"/>
            <a:ext cx="4515120" cy="33861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cspice.so, cspice.dlm with icy.so. icy.d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63520" y="587520"/>
            <a:ext cx="4515120" cy="33861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test information. Edited furnsh warning. CSPICE no longer throws an error for multiply loaded binary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FF8AB-10E5-4F5A-B42C-E9D9178F5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3024E-1FE4-46BB-AF28-E36EE7E46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3EDA6-FDE6-4444-A6BC-53E6D1EE7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3E9D4-4699-4DA9-8D10-570086D3A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DB59-B2F9-4F91-A5C7-0C20A845E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10B5E-DDB3-4BA2-A4F4-5B3D2C2E0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B7F89-D239-41FA-9D76-FB1D93371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E7D5D-BE96-40E2-BFE5-200AE18B6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DC0A5-1DA7-40AC-BDDA-1F0170DFC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D922-3936-4208-A49E-59EB88CC4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F6167-FAD9-47B4-97C9-397065A06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C097C-4208-44CD-B9E1-DD177B3BD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6064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676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616800"/>
            <a:ext cx="289080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41760" y="6616800"/>
            <a:ext cx="190188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09FBF2-AA75-480C-BE63-A1B511961AF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8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024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072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3520" y="22813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676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62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024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072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296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01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17600" y="2266920"/>
            <a:ext cx="4711680" cy="898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DL Interface to CSPICE</a:t>
            </a:r>
            <a:br>
              <a:rPr sz="32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“Icy” 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000" y="3346560"/>
            <a:ext cx="7686360" cy="22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How to Access the CSPICE library U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Interactive Data Language (IDL)</a:t>
            </a:r>
            <a:r>
              <a:rPr b="1" lang="en-US" sz="2400" spc="-1" strike="noStrike" baseline="30000">
                <a:solidFill>
                  <a:srgbClr val="081d58"/>
                </a:solidFill>
                <a:latin typeface="Arial"/>
              </a:rPr>
              <a:t>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18400" y="6389640"/>
            <a:ext cx="911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 baseline="30000">
                <a:solidFill>
                  <a:srgbClr val="081d58"/>
                </a:solidFill>
                <a:latin typeface="Arial"/>
              </a:rPr>
              <a:t>© </a:t>
            </a:r>
            <a:r>
              <a:rPr b="1" lang="en-US" sz="1400" spc="-1" strike="noStrike">
                <a:solidFill>
                  <a:srgbClr val="081d58"/>
                </a:solidFill>
                <a:latin typeface="Arial"/>
              </a:rPr>
              <a:t>ITT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1676520"/>
            <a:ext cx="807696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81d58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Mitigation: two approa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Load all needed SPICE kernels for your IDL session at the beginning of the session, paying careful attention to the files loaded and the loading order (loading order affects preced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onvince yourself that this approach will provide ALL of the scripts you will run during this IDL session with the appropriate SPIC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At or near the end of every IDL script you wri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provide a call to </a:t>
            </a:r>
            <a:r>
              <a:rPr b="0" lang="en-US" sz="1800" spc="-1" strike="noStrike">
                <a:solidFill>
                  <a:srgbClr val="081d58"/>
                </a:solidFill>
                <a:latin typeface="Courier New"/>
              </a:rPr>
              <a:t>cspice_unload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for each kernel loaded using </a:t>
            </a:r>
            <a:r>
              <a:rPr b="0" lang="en-US" sz="1800" spc="-1" strike="noStrike">
                <a:solidFill>
                  <a:srgbClr val="081d58"/>
                </a:solidFill>
                <a:latin typeface="Courier New"/>
              </a:rPr>
              <a:t>cspice_furn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provide a call to </a:t>
            </a:r>
            <a:r>
              <a:rPr b="0" lang="en-US" sz="1800" spc="-1" strike="noStrike">
                <a:solidFill>
                  <a:srgbClr val="081d58"/>
                </a:solidFill>
                <a:latin typeface="Courier New"/>
              </a:rPr>
              <a:t>cspice_kclear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to remove ALL kernel data from the kernel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380880"/>
            <a:ext cx="33339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Operation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221A3-35A7-408E-B0F7-494B17B4DC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8040" y="1521000"/>
            <a:ext cx="783900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682560" indent="-2253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87320" y="380880"/>
            <a:ext cx="396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Vectorizatio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88920" y="3270240"/>
            <a:ext cx="22827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64440" y="3328920"/>
            <a:ext cx="270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292400"/>
            <a:ext cx="814068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common Icy functions include use of vectorized arguments, a capability not available in C or FORTRAN toolk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use Icy to retrieve state vectors and light-time values for 1000 ephemeris ti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an array of 1000 ephemeris times with step size of 10 hours, starting from July 1, 20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spice_str2et, 'July 1, 2005', 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t = dindgen( 1000 )*36000.d + 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ieve the state vectors and corresponding light times from Mars to earth at eac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t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J2000 frame, using LT+S aberration corre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spice_spkezr, 'Earth', et, 'J2000', 'LT+S', 'MARS', state, l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1019C-DD8B-4B95-995F-26121AAAAA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1292400"/>
            <a:ext cx="814068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ate 6-vector corresponding to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phemeris time with the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_i = state[*,i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t the ephemeris time vect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previous example to UTC calendar strings with three decimal places accura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mat = 'C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c   = 3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spice_et2utc, et, format, prec, utcs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all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tcs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array of 1000 strings eac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ring the calendar date corresponding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t[i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Acces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ring of utcstr corresponding to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phemeris time with the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tcstr_i = utcstr[i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87320" y="380880"/>
            <a:ext cx="396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Vectorization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60160" y="6576840"/>
            <a:ext cx="21686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inues on next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EC37C-BF77-4FA6-BF45-96838B4669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1292400"/>
            <a:ext cx="861048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t the position components of the N state vectors to latitudinal coordinates (the first three components of a state vector - IDL uses a zero based vector index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spice_reclat, state[0:2,*], radius, latitude, long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all returns three double precision variables of type Array[1000]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t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560" y="380880"/>
            <a:ext cx="396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Vectorization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C7DA-142A-471C-9207-94FEF549CA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320560" y="380880"/>
            <a:ext cx="61318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imple Use of Icy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295280"/>
            <a:ext cx="806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an example of Icy use and vectorization, calculate and plot the trajectory in the J2000 inertial frame of the Cassini spacecraft from June 20, 2004 to December 1, 200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251080"/>
            <a:ext cx="84582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;; Define the number of divisions of the time interval and the time inter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EP = 10000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tc  = [ 'Jun 20, 2004', 'Dec 1, 2005' ]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;; Load the needed ker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spice_furnsh, 'standard.ker'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spice_furnsh, '/kernels/cassini/spk/T18-5TDJ5.bsp'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spice_str2et, utc, et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s = dindgen(STEP)*(et[1]-et[0])/STEP + et[0]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spice_spkpos, 'Cassini', times, 'J2000', 'NONE', 'SATURN BARYCENTER', pos, ltime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;; Plot the resulting traje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= pos[0,*]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y = pos[1,*]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z = pos[2,*]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plot, x, y,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spice_k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59DEC-E756-4D5F-8D52-878F27E2F4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311560" y="380880"/>
            <a:ext cx="6157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raphic Output using IDL i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06560" y="1673280"/>
            <a:ext cx="5332320" cy="3806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235160" y="5703840"/>
            <a:ext cx="66308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jectory of the Cassini vehicle in the J2000 frame, for June 20, 2005 to Dec 1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33240" y="4815000"/>
            <a:ext cx="271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15720" y="3193920"/>
            <a:ext cx="271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84600" y="2967120"/>
            <a:ext cx="2606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2C5EF-B7A3-480C-B382-1EC0803437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20680" y="380520"/>
            <a:ext cx="143676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pic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6640" y="1978200"/>
            <a:ext cx="7610400" cy="311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y 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y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iz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Use of Icy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748FF-5136-40A5-9AC7-C3EFA9C4E6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8040" y="1521000"/>
            <a:ext cx="78390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e of use: Icy operates as an extension to the IDL language reg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y supports more than three-hundred CSPICE rout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y calls usually correspond to the call format of the underlying CSPICE routine, returning IDL native data typ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y has some capability not available in CSPICE such as vector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PICE error messages return to IDL in the form usable by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rror handler constru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82920" y="380520"/>
            <a:ext cx="240840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Benefi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4A2EF-DDDC-41D0-B0C8-8BC57AC56F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1676520"/>
            <a:ext cx="88394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DL environment includes an intrinsic capability to use external rout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y functions as an IDL Dynamically Loadable Module (DLM).  A DLM consists of a shared object library (icy.so/.dll) and a DLM text definition file (icy.dlm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016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hared library contains a set of IDL callable C interface routines that wrap a subset of CSPICE wrapper cal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016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ext definition file lists the routines within the shared library and the format for the routine’s call paramet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016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41440" y="380520"/>
            <a:ext cx="44402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ow Does It Work? (1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61A43-BF7C-4B81-BCD2-F1895CD96D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320" y="1676520"/>
            <a:ext cx="8839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Icy from IDL requires you register the Icy DLM with IDL to access the interface routines. Several means exist to do s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Unix/Linux, start IDL from the directory containg icy.dlm and icy.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the IDL interpreter (or from a command script), execute the dlm_register command, 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244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L&gt; dlm_register, '/naif/icy/lib/icy.dlm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244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L&gt; dlm_register, 'c:\naif\icy\lib\icy.dlm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 icy.dlm and icy.so (icy.dll) to IDL's binary directory {The IDL install directory}/bin/bin.&lt;your_arch&gt;, 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244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usr/local/rsi/idl_6.3/bin/bin.darwin.ppc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244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:\RSI\IDL63\bin\bin.x86\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the IDL_DLM_PATH environment variable to a directory containing icy.dlm and icy.so (icy.d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44680" y="380520"/>
            <a:ext cx="44402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ow Does It Work?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27452-8C40-49FE-BE38-C3AB51D5E4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8040" y="1444680"/>
            <a:ext cx="7989840" cy="44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user invokes a call to a DLM rout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IDL call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the interface routine in the shared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, linked again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CSPICE, which performs its func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s the resul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to ID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arent from the user’s persp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44680" y="380520"/>
            <a:ext cx="44402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ow Does It Work? (3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D75F0-1A5F-4C94-9B44-18D14F21DD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971440" y="380880"/>
            <a:ext cx="3085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676520"/>
            <a:ext cx="8066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IF distributes the Icy package as an independent product analogous to SPICELIB and CSP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ckage inclu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SPIC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cy interface sourc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form specific build scripts for Icy and CSP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L versions of the SPICE cookbook programs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tict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b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HTML based help system for both Icy and CSPICE, with the Icy help cross-linked to CSP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cy shared library and DLM file. The system is ready for use after installation of the these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2B4EC-C0FC-4EBD-9AA9-E8E2529851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14560" y="380880"/>
            <a:ext cx="33339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Operatio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8040" y="1371600"/>
            <a:ext cx="791532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user may occasionally encounter an IDL math excep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 Program caused arithmetic error: Floating und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arning occurs most often as a consequence of CSPICE math oper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ll known cases, the SIGFPE exceptions caused by CSPICE can be ignored. CSPICE assumes numeric underflow as z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user can adjust IDL’s response to math exceptions by setting to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!EXCE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b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!EXCEPT =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uppresses the SIGFPE mess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!EXCEPT =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default, reports math exceptions on return to the interactive prom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!EXCEPT =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ports exceptions immediately after executing the comm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F7762-1EDD-4AC5-8015-E6A5E6A2D0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895480" y="380880"/>
            <a:ext cx="33339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Operation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00200"/>
            <a:ext cx="815328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81d58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A possible irritant exists in loading kernels using the </a:t>
            </a:r>
            <a:r>
              <a:rPr b="1" lang="en-US" sz="2000" spc="-1" strike="noStrike">
                <a:solidFill>
                  <a:srgbClr val="081d58"/>
                </a:solidFill>
                <a:latin typeface="Courier New"/>
              </a:rPr>
              <a:t>cspice_furnsh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 fun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Kernels are loaded into your IDL session, not into your IDL scripts. This me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loaded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binary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kernels remain accessible (“active”) throughout your IDL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ata from loaded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text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kernels remain in the kernel pool (in the IDL memory space) throughout your IDL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onsequence: some kernel data may be available to one of your scripts even though not intended to be 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You could get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ncorrect results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(If you run only one script during your IDL session, there’s no problem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2562B-7B96-4DBD-845C-493C5AA4B8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0T14:50:09Z</dcterms:created>
  <dc:creator>Chuck Acton</dc:creator>
  <dc:description/>
  <cp:keywords/>
  <dc:language>en-US</dc:language>
  <cp:lastModifiedBy>Charles Acton</cp:lastModifiedBy>
  <cp:lastPrinted>2007-03-23T21:08:12Z</cp:lastPrinted>
  <dcterms:modified xsi:type="dcterms:W3CDTF">2007-10-12T23:30:00Z</dcterms:modified>
  <cp:revision>641</cp:revision>
  <dc:subject/>
  <dc:title>No Slide Title</dc:title>
</cp:coreProperties>
</file>