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4D57-533C-4B55-840C-34592A389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92F8-CA2C-4C91-9AB8-08A5D3E36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F2B1-1FAD-4A33-9FD4-F96FF6BEB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89EE-00DA-4567-A27F-ED762205E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69B6-755B-4B7F-BCBB-5439AEFE4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ECAE-9B40-4197-A2F8-0417B6235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B047-AAE7-49AE-BC15-03296F375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3EEE-D566-45A4-A42B-F570D1134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CA49-267C-477C-8D5A-F706164A1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B8EE-A9B9-4F5C-B474-55C553E47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CF5B-8C0A-4905-9E9E-DBE138C1E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B385-020A-4018-93AB-109052D1E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F2267A-00C1-46E4-9AC0-F6A67588F4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86040" y="2438280"/>
            <a:ext cx="5433840" cy="1321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paring for Programming</a:t>
            </a:r>
            <a:br>
              <a:rPr sz="32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sing the 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391440" cy="6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06520" y="380520"/>
            <a:ext cx="60739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etting Path to Toolkit Executab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h, tcsh: Use the set command to add the location of toolkit executables to your pat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path = ($path 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toolkit/exe)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path = ($path 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cspice/ex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path = ($path 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cy/ex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path = ($path 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ice/ex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=$PATH: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toolkit/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=$PATH: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cspice/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=$PATH: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cy/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=$PATH: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ice/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location of toolki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ab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the environment variable PATH from th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vanc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ane on th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Syste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Panel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rol Panel-&gt;System-&gt;Advanc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drive:\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\toolkit\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drive:\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\cspice\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drive:\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\icy\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drive:\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\mice\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248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e </a:t>
            </a:r>
            <a:r>
              <a:rPr b="0" i="1" lang="en-US" sz="1600" spc="-1" strike="noStrike">
                <a:solidFill>
                  <a:srgbClr val="063de8"/>
                </a:solidFill>
                <a:latin typeface="Arial"/>
              </a:rPr>
              <a:t>ital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the path in which you installed the toolkit on your c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34400" y="12193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commended for all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61F6-FD99-440C-9148-1E2E78DB33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 and link an application, say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pro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gainst the SPICELIB/CSPICE libra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SPICE is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/naif/toolkit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CSPICE is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/naif/cspice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cc </a:t>
            </a:r>
            <a:r>
              <a:rPr b="0" i="1" lang="en-US" sz="1200" spc="-1" strike="noStrike">
                <a:solidFill>
                  <a:srgbClr val="063de8"/>
                </a:solidFill>
                <a:latin typeface="Courier New"/>
              </a:rPr>
              <a:t>program.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-I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cspice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clude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cspice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/csupport.a 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cspice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/cspice.a -l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77 </a:t>
            </a:r>
            <a:r>
              <a:rPr b="0" i="1" lang="en-US" sz="1200" spc="-1" strike="noStrike">
                <a:solidFill>
                  <a:srgbClr val="063de8"/>
                </a:solidFill>
                <a:latin typeface="Courier New"/>
              </a:rPr>
              <a:t>program.f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toolkit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pport.a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toolkit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icelib.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FORTRAN compilers (e.g. Absoft) require an additional flag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lU7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  when linking against SPICELIB to pull in the standard Unix symb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fault SPICE library names do not conform to the UNIX conven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b</a:t>
            </a:r>
            <a:r>
              <a:rPr b="0" i="1" lang="en-US" sz="1600" spc="-1" strike="noStrike">
                <a:solidFill>
                  <a:srgbClr val="063de8"/>
                </a:solidFill>
                <a:latin typeface="Courier New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 you cannot use the library path/name optio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L/</a:t>
            </a:r>
            <a:r>
              <a:rPr b="0" i="1" lang="en-US" sz="1600" spc="-1" strike="noStrike">
                <a:solidFill>
                  <a:srgbClr val="063de8"/>
                </a:solidFill>
                <a:latin typeface="Courier New"/>
              </a:rPr>
              <a:t>path_to_li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l</a:t>
            </a:r>
            <a:r>
              <a:rPr b="0" i="1" lang="en-US" sz="1600" spc="-1" strike="noStrike">
                <a:solidFill>
                  <a:srgbClr val="063de8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less you rename the SPICE libr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635280" y="380520"/>
            <a:ext cx="3468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nix/Linux: Build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7DF5-BB40-49C7-8BFB-C8CCBE86F0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ndard installation of Microsoft Visual Studio or Visual Toolkit may not update environment variables needed to use the C compiler (cl) from the standard DOS shel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 variables for "cl" - Visual Studio 7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LU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Vc7\include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FrameworkSDK\include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Vc7\lib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FrameworkSDK\Lib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Vc7\bin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565000" y="380520"/>
            <a:ext cx="5591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: Compiler setting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2CE6-6C85-41B9-B850-20B273F2EF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SPICE is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C:\naif\toolkit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CSPICE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C:\naif\cspice\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e and link an application, say </a:t>
            </a:r>
            <a:r>
              <a:rPr b="1" i="1" lang="en-US" sz="1600" spc="-1" strike="noStrike">
                <a:solidFill>
                  <a:srgbClr val="063de8"/>
                </a:solidFill>
                <a:latin typeface="Arial"/>
              </a:rPr>
              <a:t>progra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gainst the SPICELIB/CSPI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 cl </a:t>
            </a:r>
            <a:r>
              <a:rPr b="0" i="1" lang="en-US" sz="1200" spc="-1" strike="noStrike">
                <a:solidFill>
                  <a:srgbClr val="063de8"/>
                </a:solidFill>
                <a:latin typeface="Courier New"/>
              </a:rPr>
              <a:t>program.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-I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cspice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clude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cspice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\csupport.lib 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cspice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\cspice.l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R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 df </a:t>
            </a:r>
            <a:r>
              <a:rPr b="0" i="1" lang="en-US" sz="1200" spc="-1" strike="noStrike">
                <a:solidFill>
                  <a:srgbClr val="063de8"/>
                </a:solidFill>
                <a:latin typeface="Courier New"/>
              </a:rPr>
              <a:t>program.f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toolkit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\SUPPORT.LIB 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toolkit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\SPICELIB.L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663720" y="380520"/>
            <a:ext cx="3400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: Build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D831-0A7B-4025-8DA0-736F2CE29C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46400" y="380520"/>
            <a:ext cx="62244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: Register the Icy DLM to ID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: do one of the following three th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 the IDL application from a shell in the directory containing both icy.dlm and icy.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the IDL_DLM_PATH environment variable to include the directory containing icy.dlm and icy.so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-3013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env IDL_DLM_PATH  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&lt;path to icy.dl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IDL register comm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-3013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L&gt; dlm_register, 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&lt;path to icy.dl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: do one of the following two th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environment variable IDL_DLM_PATH from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vanc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ne of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ystem Contr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IDL register comman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-3013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L&gt; dlm_register, 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&lt;path to icy.dl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the IDL registration using the help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L&gt; help, ‘icy’, /DL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ICY - IDL/CSPICE interface from JPL/NAIF (not load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3000" y="114300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ired for “Ic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7516-A5A7-49BC-9EF6-7968130A65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2249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IDL IDE’s preferences panel to set the current working directory to the location where you will be developing your lessons’ co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al: Place you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lm_regi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and in a start up script. Specify the script using the IDL IDE’s preferences pan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44160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Icy: Using the IDL IDE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6280" y="114300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commended for “Ic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FF5D-1934-4882-97A6-EF9022D0FC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2249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Mice is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C:\naif\mice\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Windows, or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/naif/mice/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Unix/Linux. Use of Mice from MATLAB requires the Mice source and library directories exist in the MATLAB search pa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Window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path('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C:\naif\mice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'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path('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C:\naif\mice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rc\mice'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Unix/Linu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path('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/naif/mice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'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path('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/naif/mice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rc/mice'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897080" y="380520"/>
            <a:ext cx="917640" cy="792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Mice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30840" y="114300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ired for “Mi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841E-1192-4BCE-A0C4-20B81D99E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21:44:41Z</dcterms:created>
  <dc:creator>Charles Acton</dc:creator>
  <dc:description/>
  <dc:language>en-US</dc:language>
  <cp:lastModifiedBy>Charles Acton</cp:lastModifiedBy>
  <cp:lastPrinted>2007-05-01T22:43:55Z</cp:lastPrinted>
  <dcterms:modified xsi:type="dcterms:W3CDTF">2007-10-12T23:30:27Z</dcterms:modified>
  <cp:revision>92</cp:revision>
  <dc:subject/>
  <dc:title>Starting Up Using Icy</dc:title>
</cp:coreProperties>
</file>