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58288" cy="6872288"/>
  <p:notesSz cx="70088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5D0B-122C-4731-9DCC-856F30A87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349C-6049-435B-A527-38400FA01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E6FEA-DAB6-4A69-BDF1-23F259E50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F869-83F7-409F-93DC-327257E01D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CE43-E98B-4713-9A49-40F97C798B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D2C4-0A41-4327-B692-159824363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AD971-C50A-4743-8A67-553E19960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1A3B8-55AA-4EE2-901A-52FE344A7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76D6A-AAA7-4DA1-9A9A-976E4FCE2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B177-FFF2-41D7-8727-538F6D876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6F09E-8DE0-4F04-BAAE-9DD846775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EA33C-BD16-4DCF-8CBE-B2732F8D3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1B49-A71E-424D-822D-7ABA98A4B1A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440" y="2743200"/>
            <a:ext cx="4292640" cy="528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PICE Introduction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of a precursor to SPICE was initiated by scientists in 1984 as part of a major initiative to improve archiving and distribution of space science data in all NASA discip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y for leading this effort was assigned to the newly-created Navigation and Ancillary Information Facility (NAIF), located at the Jet Propulsion Labora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’s SPICE system dates from about 199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89640" y="380520"/>
            <a:ext cx="15271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isto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torials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CDE1-98FE-4414-820F-61BA52CEAA2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7994520" cy="25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iginal focus of SPICE was on “ancillary” (engineering/housekeeping) data and associated software needed by scientists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ience data analysis and correlation with other resul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cope of SPICE usage has now grown to cover the full lifecycle of a mis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2680" y="4343400"/>
            <a:ext cx="1750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on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30240" y="5638680"/>
            <a:ext cx="942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37840" y="4343400"/>
            <a:ext cx="26586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on design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science purp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27680" y="4343400"/>
            <a:ext cx="2616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ailed science observation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06560" y="5638680"/>
            <a:ext cx="2029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on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9040" y="5638680"/>
            <a:ext cx="2520000" cy="833760"/>
          </a:xfrm>
          <a:prstGeom prst="rect">
            <a:avLst/>
          </a:prstGeom>
          <a:solidFill>
            <a:srgbClr val="d5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 scienc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is and 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 other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8960" y="4343400"/>
            <a:ext cx="1817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ience archive user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847680" y="380520"/>
            <a:ext cx="30178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Breadth of U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5105520"/>
            <a:ext cx="8076960" cy="279360"/>
          </a:xfrm>
          <a:prstGeom prst="rect">
            <a:avLst/>
          </a:prstGeom>
          <a:solidFill>
            <a:srgbClr val="25d9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1520" y="5087880"/>
            <a:ext cx="2073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 Life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16360" y="6477120"/>
            <a:ext cx="184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iginal focus of SP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8343720" y="4960800"/>
            <a:ext cx="685800" cy="609840"/>
          </a:xfrm>
          <a:prstGeom prst="triangle">
            <a:avLst>
              <a:gd name="adj" fmla="val 50000"/>
            </a:avLst>
          </a:prstGeom>
          <a:solidFill>
            <a:srgbClr val="25d9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4952880"/>
            <a:ext cx="762120" cy="685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362320" y="4952520"/>
            <a:ext cx="838080" cy="685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4952880"/>
            <a:ext cx="762120" cy="685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181480" y="4952520"/>
            <a:ext cx="838440" cy="685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4952880"/>
            <a:ext cx="761760" cy="685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91520" y="4952520"/>
            <a:ext cx="838080" cy="685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torials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62EDB-61E9-4AB0-9FE1-4F53244FDE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is used on essentially all NASA solar system exploration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:  All Mars missions, Cassini, Deep Impact, Messenger, Ju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ed SPICE data have been (or are being) created for some past mi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: Voyager, Viking Orbi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is used to some degree in support of some space physics and astrophysics mi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: Hubble Space Telescope, SIRTF, Genesis, Kep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is used on some non-NASA mi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Russia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ars 96;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ESA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uygens Probe, Mars Express, Rosetta and Venus Express;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Japan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yabusa;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India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drayaan-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ephemerides are used at some terrestrial observato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is used by NASA’s Deep Space Network for both scheduling and operating the antenn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3632040" y="380520"/>
            <a:ext cx="34466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ajor Customer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torials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C6C8-E894-4405-8EE9-3A1568B1A9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61760" y="20570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CE is the U.S. Planetary Data System de facto standard for archival of ancillary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CE data for European planetary missions are archived in ESA’s Planetary Science Arch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036960" y="380520"/>
            <a:ext cx="4667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Ancillary Data Archiv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torials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9D364-D115-4F4C-8E7F-F3DF00D1D9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CE system components are freely 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osts to individual u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s pay for adaptation, deployment and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TAR restri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get complete source code and much docu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SPICE system development and maintenance is supported by NASA, based on the backing of the space science commun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152600" y="380520"/>
            <a:ext cx="2406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stribu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torials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5519-B0F2-41E3-AC56-C02B557CDE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69680" y="380520"/>
            <a:ext cx="5591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Quality of Training Material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et of tutorials has been presented and revised numerous ti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“good news”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quality is much better than earlier ver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“bad news”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matter how hard we try, it seems impossible to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all the facts absolutely right and up-to-da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the level of detail “right” for every stud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all of the language clear, complete and conci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 everything in the “correct” ord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training materials are meant to supplement–not replace–the subroutine headers and the “required reading” reference documents that are the primary sources for user information about SP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torials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F67D9-0FC3-4C31-8C91-9562EF398D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3T19:16:27Z</dcterms:created>
  <dc:creator>Chuck Acton</dc:creator>
  <dc:description/>
  <cp:keywords/>
  <dc:language>en-US</dc:language>
  <cp:lastModifiedBy>Charles Acton</cp:lastModifiedBy>
  <cp:lastPrinted>2000-04-30T20:24:19Z</cp:lastPrinted>
  <dcterms:modified xsi:type="dcterms:W3CDTF">2007-10-12T22:36:42Z</dcterms:modified>
  <cp:revision>70</cp:revision>
  <dc:subject/>
  <dc:title>SPICE Overview - 1</dc:title>
</cp:coreProperties>
</file>