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3C8F-13D1-4728-A92B-FD2F6CC85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49A7-0749-4E72-96C2-E626F8D81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7E05-73CF-4FBA-8F34-DB730E1F4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CB8DD-2D89-47D6-BCD7-C0C15D346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80E0-05F8-46C8-A689-B67C2B4E5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CAD03-83D5-4C30-B935-1669158DF6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F0F43-2FDC-44E7-A75D-806A615E0B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F126C-4A42-47E3-895E-0650FCAB4C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28F1D-11E3-4383-90C6-8BE8D8D74D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A15A9-DFA6-4929-805C-698AB2FF81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8BEB-4213-4F58-88B6-A231DBF051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5F1B9-4D5E-49A7-ADE8-532EAEB276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31404-A1DC-4F50-8AB4-7A41524EA3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A1924-C49E-4A9C-BD80-97947DC1B0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99791-6DCE-43ED-8A7D-78EA970525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44D4E-9543-4577-AFE4-869F7F991C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E8BA5-0C6C-43B8-981A-D52BF7D22D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42A4F-6992-4B06-8F88-27E9EC177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A247-261D-40AD-8DFA-1F91F02D2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218B-B7A9-49F5-A9F2-6CEBC3AA9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B616-1AE9-45EA-8539-359621408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825D-BDB8-4719-A1A5-A4428C5B4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0447-72BA-4075-A8C3-564FD3DF1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28B4-985E-4714-83FA-6C36E455D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1327-3271-4456-A464-9A7204E6697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2248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90B0-7A1D-4AB4-AACA-EBD33D071BE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119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560" bIns="7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560" bIns="7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4200" y="182520"/>
              <a:ext cx="587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75760" y="182520"/>
              <a:ext cx="680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819520"/>
            <a:ext cx="4394160" cy="528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Exception Handling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ture traceback at point where error was signal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t error message writing and error signal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call RESET to resume normal error handl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768760" y="380520"/>
            <a:ext cx="51624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rror Handling Action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B02E-9661-447F-8EDC-9C9B49928F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 of error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een/stdout (defaul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ated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diagnostics are appended to the file as errors are encounte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LL” --- suppress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NULL device is specified, error messages can still be retrieved using API ca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, cannot send messages to stder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, writing to a file opened by means other than calling errdev_c is possible only if CSPICE routines were used to open the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limitations may be removed in a later version of CSPI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078440" y="380520"/>
            <a:ext cx="2544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rror Devic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1EF4-7FC4-4F84-9906-B364BFB555A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error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ERRACT (  ‘SET’,  ‘RETURN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act_c ( “set”, LEN, “return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argument is ignored when action is “set”; when action is “get”, LEN should be set to the available room in the output string, for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act_c ( “get”, ACTLEN, action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error de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ERRDEV (  ‘SET’, ‘errlog.txt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dev_c ( “set”, LEN, “errlog.txt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error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ERRPRT (  ‘SET’, ‘NONE, SHORT, TRACEBACK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racing is disabled, selecting TRACEBACK has no effe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prt_c ( “set”, LEN, “none, short, traceback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ustomize Error Handling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9E27-AFBC-4F01-A03F-E2930FDCFB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e trac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ly done to speed up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 is highly dependent on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-up has been a few percent to roughly 30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end estimate based on older, slower tracing implem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RCOFF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TRCOFF   or   trcoff_c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used, should be done at start of your program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not re-enable tracing during a program ru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ustomize Error Handling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E312-349E-4426-8E03-9F550FDA0C7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FAILED to determine whether an error has been signa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FAILED() ) THEN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failed_c() ) 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FAILED after calling one or more SPICE routines in a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ly, it’s safe to call a series of SPICE routines without testing FAILED after each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GETMSG to retrieve short or long error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GETMSG ( ‘SHORT’, SMSG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msg_c ( “short”, LEN, smsg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424320" y="380520"/>
            <a:ext cx="3852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Error Statu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0C51-96EC-46C0-8C53-6572D2AE81B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QCKTRC or TRCDEP and TRCNAM to retrieve traceback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SPICE, only f2c’d versions of these routines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value of RETURN() to determine whether routines should return on en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relevant if user code is designed to support RETURN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e error condition, then reset error statu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RE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et_c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handle error condition in Icy-based applications; a reset is automatically performed by 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424320" y="380520"/>
            <a:ext cx="3852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Error Statu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DA42-F14E-4B4F-BBE3-D84BF53A40D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long error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1840 charac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ETMS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ETMSG ( ‘File &lt;#&gt; was not found.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msg_c    ( “File &lt;#&gt; was not found.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string, integer, or d.p values at run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ER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ERRCH ( ‘#’, ‘cassini.bsp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ch_c    ( “#”, “cassini.bsp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can use ERRINT, ERRD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Fortran, can refer to files by logical unit numbers:  ERRFN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715920" y="380520"/>
            <a:ext cx="3267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ignal Error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065E-DD82-4FD5-A848-EBF38E8CAE1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GERR to signal error.  Supply short error message as input to SIGER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IGERR ( ‘FILE OPEN FAILED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err_c    ( “FILE OPEN FAILED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ing” error causes SPICE error response to occ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messages, if enab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error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return status, if error action is RETU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t further error signaling if in RETURN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program if in abort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t error status after handling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RESET(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_c(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715920" y="380520"/>
            <a:ext cx="3267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ignal Error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95B5-8349-4B97-A6E2-8E928C2471A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ac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default, a SPICE error signal stops execution of IDL scripts; a SPICE error message is displayed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returns to the execution level (normally the command prompt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 sets the CSPICE shared object library’s error handling system to RETURN mode.  No other modes are us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SPICE error state is reset after detecting an err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the IDL CATCH feature to respond to error condi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 of !error_state.n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_M_BAD_IDL_ARGS - indicates invalid argument lis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_M_SPICE_ERROR - indicates occurrence of a SPICE err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PICE short, long, and traceback error messages are merged into a single, parsable,  messag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erged error message is contained in the variable !error_state.msg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SPICE_ET2UTC: SPICE(MISSINGTIMEINFO): [et2utc-&gt;ET2UTC-&gt;UNITIM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he following, needed to convert between th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uniform time scales, could not be found in th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kernel pool: DELTET/DELTA_T_A, DELTET/K,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LTET/EB, DELTET/M. Your program may have failed to load…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513240" y="380520"/>
            <a:ext cx="3649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Error Handling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ABA4-CD1E-49C2-9125-42759649D07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1282680"/>
            <a:ext cx="7772400" cy="542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ac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default, a SPICE error signal stops execution of MATLAB scripts; a SPICE error message is displayed; control returns to the execution leve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e sets the CSPICE shared object library’s error handling system to RETURN mode.  No other modes are us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SPICE error state is reset after detecting an err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the MATLAB try/catch construct to respond to error condi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PICE short, long, and traceback error messages are merged into a single, parsable,  messag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??? SPICE(MISSINGTIMEINFO): [et2utc-&gt;ET2UTC-&gt;UNITIM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he following, needed to convert between th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uniform time scales, could not be found in th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kernel pool: DELTET/DELTA_T_A, DELTET/K,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LTET/EB, DELTET/M. Your program may have failed to load…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MATLAB function lasterror to retrieve SPICE error diagnostics. When a SPICE error occu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“message” field of the structure returned by lasterror contains the SPICE error messag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“stack” field of this structure refers to the location in the m-file from which the Mice wrapper was called (and so is generally not useful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“identifier” field of this structure currently is not set.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349440" y="380520"/>
            <a:ext cx="3987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Error Handling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4181-F221-43D7-9E2B-EE9DF88099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Exceptions 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Dependen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and Fortran Error Handl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 Handling 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 De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ize Error Hand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Error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Error Hand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Error Hand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632480" y="380520"/>
            <a:ext cx="1436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18CC-3EEC-4FA5-B275-372EECD84E9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sier problem solv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ve tracing enabled when debugg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test FAILED after a sequence of one or more consecutive calls to SPICE routine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throw away error output.  It may be the only reasonable clue as to what’s going wrong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s that must suppress SPICE error output should trap it and provide a means for retrieving 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FAILED to see whether an error occurr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GETMSG to retrieve error mess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RESET to clear the error condi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PICE error handling in your own code where appropri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reporting errors to NAIF, have SPICE error message output availab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whether error output is actually from SPICE routines, from non-SPICE code, or was generated at the system lev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468240" y="380520"/>
            <a:ext cx="3762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ommend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4034-5893-4B72-95C8-B931C7A345C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77724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time error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files not loa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ps in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upted or malformed files (e.g. ftp’d in wrong mod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 subroutine/function argument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 values unrecogniz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 values out of ran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ype/dimension mismat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y zero, square root of a negative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ufficient disk space for output fi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required read/write permission/privile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309480" y="380520"/>
            <a:ext cx="40798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xceptions Are…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85F9-9134-43E9-ADD4-32EDB09DC7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id but unusual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 the zero vec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otation axis of the identity matri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boresight intercept lat/lon for a non-intercept ca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a substring where the end index precedes the start inde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h cases are normally not SPICE “Error Conditions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must be handled by a logical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s found by analysis tools, such as par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 SQL que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 string representing number (borderline cas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h cases are normally not SPICE “Error Conditio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if a SPICE parsing routine failed because it couldn’t open a scratch file, THAT would be an “error condition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309480" y="380520"/>
            <a:ext cx="40798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xceptions Are…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DEDB-8C9C-4666-83FD-D492E18156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94040" y="380520"/>
            <a:ext cx="49147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anguage Dependenci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LIB and CSPICE provide essentially identical error handling capabili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and Mice provide similar error handling functionality; this functionality is quite different from that of CSPIC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ystems do rely on CSPICE for most err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 and Mice provide no API for customizing underlying CSPICE error handling behavi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, long, and traceback error messages are merged into a single, parsable,  mess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IDL or MATLAB features to customize error hand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your program from stopp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 SPICE error mess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is tutorial deals with SPICELIB and CSPICE error handl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is a bit on Icy and Mice near the e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A910-347D-4113-8334-709D956017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handling in SPICE:  safety fi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p errors where they occur; don’t let them propa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let errors “fall through” to the operating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y meaningful diagnostic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rporate relevant run-time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y context in human-readable for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depend on callers to handle err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ly, “error flags” are not returned to call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unless told not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try to continue by making “smart guesses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routine interface for error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routines called within SPICE may be called by users’ application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963800" y="380520"/>
            <a:ext cx="71467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Fortran and C Error Handling Features - 1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5071-B7A2-4965-A732-84EC6AD856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descriptive messages when and where an error is det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message, long message, (explanation), trace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” the error:  set error status, output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efault, CSPICE error output goes to stdout (not stder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ieve error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status and error messages via subroutine call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 error response---actions taken when an error occu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error handling mode (“action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error output de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message sele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ibit tra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mprove run-time performance (only for thoroughly debugged cod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934640" y="380520"/>
            <a:ext cx="71470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Fortran and C Error Handling Features - 2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E2EB-E5DA-426B-8ADD-191319A66B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25 charac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easily be compared with expected valu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SPICE(FILEOPENFAILED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1840 charac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ontain values supplied at run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'The file &lt;sat077.bsp&gt; was not found.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s call tree above routine where error was signal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dependent on system tracing capabi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need a “crash” to obtain a traceba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762360" y="380520"/>
            <a:ext cx="3176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rror Messag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1D62-0B9D-4732-80B9-82C732F009C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777240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safe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messages and traceback to your screen or stdou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program; return status code if possi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use in programs that must keep runn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mpts to return control to the calling applic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rves error information so calling application can respo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messages to current error devi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error status to “true”:  FAILED() will return “true.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“return” status to “true”:  RETURN() will return “true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PICE routines will return on entry.   Very simple routines will generally execute anyw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2768760" y="380520"/>
            <a:ext cx="51624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rror Handling Action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47760" y="60530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continues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CDED-2F4D-4301-9EDB-A1D69AD9B2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dcterms:modified xsi:type="dcterms:W3CDTF">2007-10-12T23:35:42Z</dcterms:modified>
  <cp:revision>84</cp:revision>
  <dc:subject/>
  <dc:title>SPICE Toolkit Exception Handling</dc:title>
</cp:coreProperties>
</file>