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6C3B-1B11-4477-8E6F-0D68CC0B7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67FE-D6AC-4CDF-BFDD-C5C2BB1AD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02F1-C0DE-470C-8904-404CDC088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DD21-C055-41F2-8813-78439AB05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2A4B-6E07-452F-9940-225C96112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FF9A-FD22-4438-83D5-742DC65D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7A2D-31D6-4E97-8BE0-63AD8FE7F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3B8A-90EF-4C1D-893E-14AAF98CA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387C-3DAA-4BDA-88E3-0F32DDB97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F9A7-F30A-4EA1-9C7E-B3AB86E25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FF9C-BDDA-4D8D-8BB3-0E140DB7E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DA08-A5B7-4CCF-86D0-C0D4E4E45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889E-5C1C-4B94-B5DA-D789209FEB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61760" y="2271600"/>
            <a:ext cx="4038840" cy="1482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strument Kernel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ther boresight nor reference vectors have to be co-aligned with one of the FOV frame’s ax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for convenience they are frequently defined to be along one of the a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ther boresight nor corner nor reference vectors have to be unit v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ey frequently are defined as unit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FOV is specified using the half angular extents method, boresight and reference vectors have to be linearly independent but they don’t have to be perpendicula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for convenience the reference vector is usually picked to be normal to the bores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angular extents for a rectangular FOV specify the angles between the boresight and the FOV sides, i.e. they are for the middle of the F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57080" y="380520"/>
            <a:ext cx="5613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4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137C-BF80-4A9D-B3A9-E6C10274EA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3360" y="1417680"/>
            <a:ext cx="722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circular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27080" y="3676680"/>
            <a:ext cx="140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08080" y="2971800"/>
            <a:ext cx="7785000" cy="3283560"/>
            <a:chOff x="1108080" y="2971800"/>
            <a:chExt cx="7785000" cy="3283560"/>
          </a:xfrm>
        </p:grpSpPr>
        <p:sp>
          <p:nvSpPr>
            <p:cNvPr id="136" name=""/>
            <p:cNvSpPr/>
            <p:nvPr/>
          </p:nvSpPr>
          <p:spPr>
            <a:xfrm flipV="1">
              <a:off x="2257560" y="3745080"/>
              <a:ext cx="3757320" cy="179856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106440" y="4267080"/>
              <a:ext cx="24588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0040" y="3433680"/>
              <a:ext cx="1384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56280" y="4672080"/>
              <a:ext cx="50976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08880" y="523404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263680" y="4854240"/>
              <a:ext cx="3227400" cy="6951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40760" y="5367240"/>
              <a:ext cx="209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08080" y="591984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8960" y="297180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938760" y="4611240"/>
              <a:ext cx="16142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3800" y="47084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6280" y="310500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06920" y="419256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3000" y="538632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3720" y="35290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7400" y="3986280"/>
              <a:ext cx="1741320" cy="174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499000" y="4703400"/>
              <a:ext cx="700200" cy="15084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248520" y="4536720"/>
              <a:ext cx="699840" cy="1508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9640" y="39290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7040" y="479124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90520" y="2631960"/>
            <a:ext cx="935280" cy="93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20920" y="380520"/>
            <a:ext cx="4259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60" y="2135160"/>
            <a:ext cx="2400480" cy="157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58880" y="24271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00" y="310032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4600" y="3060720"/>
            <a:ext cx="88920" cy="7452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424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360" y="29541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8560" y="273528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12800" y="25718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58880" y="2604960"/>
            <a:ext cx="0" cy="208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58880" y="2943360"/>
            <a:ext cx="0" cy="1569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7760" y="3757680"/>
            <a:ext cx="2286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B2A5-A7ED-46DB-91C8-65D8074835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77960" y="162252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circular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3840" y="2597040"/>
            <a:ext cx="7253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SHAPE            = 'CIRC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FRAME            = 'FRAME_FOR_INS-1111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UNDARY_CORNERS = ( 0.0  1.0  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2800" y="380520"/>
            <a:ext cx="4597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299120"/>
            <a:ext cx="72532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SHAPE            = 'CIRC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FRAME            = 'FRAME_FOR_INS-1111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260440"/>
            <a:ext cx="7480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8480" y="396252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25E1-FEA8-49B2-A162-F348B57D98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74640" y="1523880"/>
            <a:ext cx="715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n elliptical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25440" y="2833560"/>
            <a:ext cx="7785360" cy="3283560"/>
            <a:chOff x="1225440" y="2833560"/>
            <a:chExt cx="7785360" cy="3283560"/>
          </a:xfrm>
        </p:grpSpPr>
        <p:sp>
          <p:nvSpPr>
            <p:cNvPr id="177" name=""/>
            <p:cNvSpPr/>
            <p:nvPr/>
          </p:nvSpPr>
          <p:spPr>
            <a:xfrm flipV="1">
              <a:off x="2374920" y="4811400"/>
              <a:ext cx="4618080" cy="59364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371400" y="4181400"/>
              <a:ext cx="158760" cy="80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14560" y="3321000"/>
              <a:ext cx="1384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4000" y="4533840"/>
              <a:ext cx="50940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6240" y="5095800"/>
              <a:ext cx="13845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81400" y="47163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58120" y="5229360"/>
              <a:ext cx="209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25440" y="5781600"/>
              <a:ext cx="1384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6320" y="283356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055760" y="4473360"/>
              <a:ext cx="16146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4160" y="46483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65720" y="295920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1280" y="40543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30360" y="52484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30760" y="36496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37000" y="4145040"/>
              <a:ext cx="2389320" cy="110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616720" y="4532040"/>
              <a:ext cx="855360" cy="18396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486480" y="4398480"/>
              <a:ext cx="579600" cy="1256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27400" y="4011480"/>
              <a:ext cx="3708360" cy="1417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5760" y="49798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0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27280" y="4186080"/>
              <a:ext cx="648000" cy="9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92600" y="409428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9560" y="48182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4920" y="464508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54320" y="380520"/>
            <a:ext cx="4394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2120" y="2171880"/>
            <a:ext cx="2400480" cy="157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711440" y="2463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61760" y="313704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66800" y="3097080"/>
            <a:ext cx="88920" cy="748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76440" y="224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3920" y="2990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75680" y="277164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1320" y="2990880"/>
            <a:ext cx="676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26.57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5360" y="260820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960" y="308448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711440" y="2666880"/>
            <a:ext cx="0" cy="208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09640" y="2990880"/>
            <a:ext cx="0" cy="1569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709640" y="3132000"/>
            <a:ext cx="169920" cy="2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3920" y="3129120"/>
            <a:ext cx="29196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960" y="3794040"/>
            <a:ext cx="2286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57 = arc tan (2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3400" y="264168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2DFC-4C80-4934-BF8D-547CB093C9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elliptical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3840" y="2514600"/>
            <a:ext cx="7253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SHAPE            = 'ELLIP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FRAME            = 'FRAME_FOR_INS-2222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UNDARY_CORNERS = ( 0.0  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 0.0  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92320" y="380520"/>
            <a:ext cx="472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4299120"/>
            <a:ext cx="72532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SHAPE            = 'ELLIP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FRAME            = 'FRAME_FOR_INS-2222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CROSS_ANGLE      = 26.565051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8480" y="2178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8480" y="396252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FE26-1A17-49F8-BD1C-E5D96F9FA31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1525680"/>
            <a:ext cx="731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rectangular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65400" y="2981160"/>
            <a:ext cx="7785000" cy="3283560"/>
            <a:chOff x="1265400" y="2981160"/>
            <a:chExt cx="7785000" cy="3283560"/>
          </a:xfrm>
        </p:grpSpPr>
        <p:sp>
          <p:nvSpPr>
            <p:cNvPr id="226" name=""/>
            <p:cNvSpPr/>
            <p:nvPr/>
          </p:nvSpPr>
          <p:spPr>
            <a:xfrm flipV="1">
              <a:off x="2414520" y="4341960"/>
              <a:ext cx="4389480" cy="121104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28840" y="4398840"/>
              <a:ext cx="2088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6600" y="3476520"/>
              <a:ext cx="1384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3600" y="4681440"/>
              <a:ext cx="50940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66200" y="524340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421000" y="48639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97720" y="5376960"/>
              <a:ext cx="209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5400" y="592920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95920" y="298116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095360" y="4620960"/>
              <a:ext cx="16146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5560" y="47275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95960" y="30020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60920" y="41767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9960" y="53960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84560" y="35798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5480" y="4276800"/>
              <a:ext cx="2173320" cy="1123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656320" y="4670280"/>
              <a:ext cx="898560" cy="19368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11760" y="4546440"/>
              <a:ext cx="493920" cy="1065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436840" y="3998520"/>
              <a:ext cx="2600280" cy="1552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1920" y="38448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433600" y="5192640"/>
              <a:ext cx="273060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443320" y="5510160"/>
              <a:ext cx="4471920" cy="540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5440" y="5653080"/>
              <a:ext cx="9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2400" y="56340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6480" y="4386240"/>
              <a:ext cx="50652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55840" y="4384800"/>
              <a:ext cx="11592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36760" y="4376880"/>
              <a:ext cx="457200" cy="11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1000" y="409248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78280" y="51926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15280" y="436716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6600" y="481320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3720" y="545940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14480" y="380520"/>
            <a:ext cx="50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120" y="2424240"/>
            <a:ext cx="2400480" cy="157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720" y="2944800"/>
            <a:ext cx="15746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468440" y="27162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8760" y="338940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4160" y="3349800"/>
            <a:ext cx="88560" cy="7452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3800" y="2498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3243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9920" y="300204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8320" y="3220920"/>
            <a:ext cx="676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26.57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9440" y="374508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16160" y="29066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24080" y="375120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" y="29066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67000" y="2944440"/>
            <a:ext cx="0" cy="1573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468440" y="3231720"/>
            <a:ext cx="0" cy="1573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468440" y="3392280"/>
            <a:ext cx="169920" cy="2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76480" y="3389400"/>
            <a:ext cx="191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7320" y="4046400"/>
            <a:ext cx="2286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57 = arc tan (2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D3EE-09F6-42B3-BEBD-3AC665B229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rectangular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2444760"/>
            <a:ext cx="72532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SHAPE            = ’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FRAME            = 'FRAME_FOR_INS-33333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UNDARY_CORNERS = ( 2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-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-1.0  4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655360" y="380520"/>
            <a:ext cx="5402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72532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SHAPE            = ’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FRAME            = 'FRAME_FOR_INS-33333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CROSS_ANGLE      = 26.565051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8480" y="210816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480" y="4275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BDE2-1AD5-4955-A4B7-4925B783F3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1525680"/>
            <a:ext cx="731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trapezoidal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50880" y="2563920"/>
            <a:ext cx="7785000" cy="3283200"/>
            <a:chOff x="650880" y="2563920"/>
            <a:chExt cx="7785000" cy="3283200"/>
          </a:xfrm>
        </p:grpSpPr>
        <p:sp>
          <p:nvSpPr>
            <p:cNvPr id="285" name=""/>
            <p:cNvSpPr/>
            <p:nvPr/>
          </p:nvSpPr>
          <p:spPr>
            <a:xfrm flipV="1">
              <a:off x="1800360" y="3800520"/>
              <a:ext cx="4146480" cy="13348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665440" y="4024080"/>
              <a:ext cx="19512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17600" y="3144600"/>
              <a:ext cx="1384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99080" y="4263840"/>
              <a:ext cx="50976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51680" y="482580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806480" y="44463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83560" y="4959360"/>
              <a:ext cx="209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0880" y="551160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81760" y="25639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481560" y="4203360"/>
              <a:ext cx="16142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81400" y="4309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1440" y="25844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6400" y="37591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5800" y="49784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0840" y="341316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1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4800">
              <a:off x="3903840" y="3860280"/>
              <a:ext cx="2350800" cy="1104840"/>
            </a:xfrm>
            <a:custGeom>
              <a:avLst/>
              <a:gdLst>
                <a:gd name="textAreaLeft" fmla="*/ 516960 w 2350800"/>
                <a:gd name="textAreaRight" fmla="*/ 1833840 w 2350800"/>
                <a:gd name="textAreaTop" fmla="*/ 243000 h 1104840"/>
                <a:gd name="textAreaBottom" fmla="*/ 8618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041800" y="4293720"/>
              <a:ext cx="708120" cy="15228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737320" y="4128840"/>
              <a:ext cx="753840" cy="16200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822320" y="3617640"/>
              <a:ext cx="3111480" cy="151596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27760" y="34272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1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19440" y="4775040"/>
              <a:ext cx="273024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828800" y="5075280"/>
              <a:ext cx="4653000" cy="712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0920" y="5235480"/>
              <a:ext cx="9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78240" y="52164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65600" y="4029120"/>
              <a:ext cx="30780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57600" y="4019400"/>
              <a:ext cx="100080" cy="9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5880" y="4011480"/>
              <a:ext cx="223920" cy="11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5000" y="374472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5480" y="388440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78440" y="47498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00840" y="502596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18040" y="438948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06280" y="380520"/>
            <a:ext cx="4891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olygonal Fields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CF9D-5410-43C4-8526-2277BC9864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polygonal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3840" y="2590920"/>
            <a:ext cx="72532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SHAPE            = 'POLYGON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FRAME            = 'FRAME_FOR_INS-4444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BOUNDARY_CORNERS = ( 1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-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-1.0  4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60560" y="380520"/>
            <a:ext cx="499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olygonal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68480" y="2178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4589640"/>
            <a:ext cx="7480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gonal FOV cannot be specified using half angular ex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1FD0-8003-4AD1-94FB-6C6308F6012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 file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angular extents from corner vectors returned by GETF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54360" y="380520"/>
            <a:ext cx="1595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C572-8647-4457-85D4-08239B7B9D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kernel serves as a repository for instrument specific information that may be useful within the SPIC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s for an instrument’s field-of-view size, shape, and ori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instrument timing parameters and other data relating to SPICE computations might also be placed in an I-ker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Instrument mounting alignment data are most often specified in a mission’s frames kernel (FK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K is a SPICE text kern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475160" y="380520"/>
            <a:ext cx="1752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urpo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6128-63F5-47F7-AC40-E17F3421B74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2281320"/>
            <a:ext cx="7542360" cy="410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ow Energy Magnetospheric Measurements System 1 (LEMMS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ince the MIMI_LEMMS1 detector's FOV is circular and it's diameter is 1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egrees, looking down the X-axis in the CASSINI_MIMI_LEMMS1 frame, we hav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Note we are arbitrarily choosing a vector that terminates in the Z=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lane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^ 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/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/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/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/    o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/  7.50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x-------------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X  \        |   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 \      |     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-- 1.0 --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23760" y="2271240"/>
            <a:ext cx="0" cy="388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13480" y="380880"/>
            <a:ext cx="308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IK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LEMMS1 FOV definition was taken from the Cassini MIMI IK (cas_mimi_v11.t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3760" y="2281320"/>
            <a:ext cx="753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1720" y="2281320"/>
            <a:ext cx="0" cy="388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1160" y="6183360"/>
            <a:ext cx="0" cy="39348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51720" y="6183360"/>
            <a:ext cx="0" cy="39348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36360" y="6392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20FF-891B-4771-AF9A-B7DC22965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2157480"/>
            <a:ext cx="6450120" cy="393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he Y component of one 'boundary corner' vector i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Y Component = 1.0 * tan ( 7.50 degrees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= 0.1316524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he boundary corner vector as displayed below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ormalized to unit lengt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FRAME  = 'CASSINI_MIMI_LEMMS1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SHAPE  = 'CIRCLE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BORESIGHT  = 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.0000000000000000   0.0000000000000000  +1.000000000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BOUNDARY_CORNERS = 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.0000000000000000  +0.1305261922200500  +0.9914448613738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187632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21720" y="187632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371600" y="2157480"/>
            <a:ext cx="0" cy="395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821720" y="2157480"/>
            <a:ext cx="0" cy="395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6116760"/>
            <a:ext cx="64501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240" y="152568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V definition from the Cassini MIMI IK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13480" y="380880"/>
            <a:ext cx="308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IK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29E1-2EEA-4793-93F4-518396575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separation between the boundary corner vector and the boresight is the angula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240" y="2440080"/>
            <a:ext cx="776952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FOV parameter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GETFOV(-11111, 1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iz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ANGSIZ = VSEP( BSGHT, BNDS(1,1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ield of view parameter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11111, 1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siz = vsep_c( bsght, &amp;(bnds[0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58680" y="380520"/>
            <a:ext cx="5186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OV Angular Siz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47AA-96BA-43CF-8BC8-BE5E95E7E1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sizes are the angular separations between the boresight and the boundary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2440080"/>
            <a:ext cx="77695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the FOV parameters from the kernel pool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CALL GETFOV(-22222, 2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eparation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ANG1   = VSEP( BSGHT, BNDS(1,1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  = VSEP( BSGHT, BNDS(1,2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The angle along the semi-major axis is the l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of the two separations comp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MAX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MLANG = MIN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396880" y="380520"/>
            <a:ext cx="5908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Angular Siz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39AC-8E67-4D1D-A933-E4D31656C59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7240" y="1444680"/>
            <a:ext cx="776952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OV parameters from the kernel pool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22222, 2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= vsep_c( bsght, &amp;(bnds[0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= vsep_c( bsght, &amp;(bnds[1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The angle along the semi-major axis is the larger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wo separations computed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ang1 &gt; ang2 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1; smlang = ang2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2; smlang = ang1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396880" y="380520"/>
            <a:ext cx="5908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Angular Siz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9436-60A4-44E6-A0F3-A29FC20FBB1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7240" y="1525680"/>
            <a:ext cx="7769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extents of the FOV are computed by calculating the angle between the bisector of adjacent unit boundary vectors and the bor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040" y="3218040"/>
            <a:ext cx="6176880" cy="2464200"/>
            <a:chOff x="176040" y="3218040"/>
            <a:chExt cx="6176880" cy="2464200"/>
          </a:xfrm>
        </p:grpSpPr>
        <p:sp>
          <p:nvSpPr>
            <p:cNvPr id="352" name=""/>
            <p:cNvSpPr/>
            <p:nvPr/>
          </p:nvSpPr>
          <p:spPr>
            <a:xfrm flipV="1">
              <a:off x="1325520" y="3758760"/>
              <a:ext cx="4389120" cy="12114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331640" y="4281120"/>
              <a:ext cx="3227400" cy="6951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6040" y="534672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06560" y="3693960"/>
              <a:ext cx="0" cy="571680"/>
            </a:xfrm>
            <a:prstGeom prst="line">
              <a:avLst/>
            </a:prstGeom>
            <a:ln w="3816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0960" y="4275000"/>
              <a:ext cx="844560" cy="123840"/>
            </a:xfrm>
            <a:prstGeom prst="line">
              <a:avLst/>
            </a:prstGeom>
            <a:ln w="3816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960" y="481320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6120" y="3693960"/>
              <a:ext cx="2173320" cy="112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566960" y="4087800"/>
              <a:ext cx="898560" cy="193680"/>
            </a:xfrm>
            <a:prstGeom prst="line">
              <a:avLst/>
            </a:prstGeom>
            <a:ln w="381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522760" y="3963960"/>
              <a:ext cx="493560" cy="1065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7480" y="3416400"/>
              <a:ext cx="2600280" cy="155232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344240" y="4610160"/>
              <a:ext cx="273060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353960" y="4927680"/>
              <a:ext cx="4471920" cy="540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57600" y="3638520"/>
              <a:ext cx="104760" cy="104760"/>
            </a:xfrm>
            <a:prstGeom prst="ellipse">
              <a:avLst/>
            </a:prstGeom>
            <a:solidFill>
              <a:srgbClr val="00aa0c"/>
            </a:solidFill>
            <a:ln w="1260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51120" y="4367160"/>
              <a:ext cx="104760" cy="104760"/>
            </a:xfrm>
            <a:prstGeom prst="ellipse">
              <a:avLst/>
            </a:prstGeom>
            <a:solidFill>
              <a:srgbClr val="00aa0c"/>
            </a:solidFill>
            <a:ln w="1260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7600" y="423072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352520" y="3224160"/>
              <a:ext cx="4431960" cy="1751040"/>
            </a:xfrm>
            <a:prstGeom prst="line">
              <a:avLst/>
            </a:prstGeom>
            <a:ln w="38160">
              <a:solidFill>
                <a:srgbClr val="00aa0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385640" y="4295520"/>
              <a:ext cx="4967280" cy="669960"/>
            </a:xfrm>
            <a:prstGeom prst="line">
              <a:avLst/>
            </a:prstGeom>
            <a:ln w="38160">
              <a:solidFill>
                <a:srgbClr val="00aa0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2880" y="321804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a0c"/>
                  </a:solidFill>
                  <a:latin typeface="Arial"/>
                </a:rPr>
                <a:t>Bis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88800" y="3562200"/>
              <a:ext cx="524160" cy="8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7080" y="3570120"/>
              <a:ext cx="132228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51560" y="3351240"/>
            <a:ext cx="2552760" cy="1562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35840" y="3689280"/>
            <a:ext cx="1469880" cy="88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32800" y="4089240"/>
            <a:ext cx="46080" cy="460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7752960" y="3700080"/>
            <a:ext cx="3240" cy="436680"/>
          </a:xfrm>
          <a:prstGeom prst="line">
            <a:avLst/>
          </a:prstGeom>
          <a:ln w="28440">
            <a:solidFill>
              <a:srgbClr val="00aa0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37480" y="4093560"/>
            <a:ext cx="754200" cy="2880"/>
          </a:xfrm>
          <a:prstGeom prst="line">
            <a:avLst/>
          </a:prstGeom>
          <a:ln w="28440">
            <a:solidFill>
              <a:srgbClr val="00aa0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37640" y="37544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sml_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21360" y="4184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lrg_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37600" y="3700440"/>
            <a:ext cx="2880" cy="123840"/>
          </a:xfrm>
          <a:prstGeom prst="line">
            <a:avLst/>
          </a:prstGeom>
          <a:ln w="12600">
            <a:solidFill>
              <a:srgbClr val="fc012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42280" y="3990960"/>
            <a:ext cx="3240" cy="166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759440" y="4231800"/>
            <a:ext cx="734760" cy="1800"/>
          </a:xfrm>
          <a:prstGeom prst="line">
            <a:avLst/>
          </a:prstGeom>
          <a:ln w="12600">
            <a:solidFill>
              <a:srgbClr val="fc0128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2240" y="5057640"/>
            <a:ext cx="24408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AF82-B6DD-4ADF-B0EC-78E2A2B79C4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7240" y="1488960"/>
            <a:ext cx="77695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FOV parameters from the kernel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GETFOV(-33333, 4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Normalize the 3 boundary vector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CALL UNORM(BNDS(1,1), UNTBND(1,1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UNORM(BNDS(1,2), UNTBND(1,2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UNORM(BNDS(1,3), UNTBND(1,3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ver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ADD(UNTBND(1,1), UNTBND(1,2), VE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SCL(0.5, VEC1, VE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ADD(UNTBND(1,2), UNTBND(1,3), VEC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SCL(0.5, VEC2, VEC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ep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  = VSEP( BSGHT, VEC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  = VSEP( BSGHT, VEC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Separate the larger and smaller angle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LRGANG = MAX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MLANG = MIN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4DB8-AC6D-44A6-A2EC-9F4562F38BC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7240" y="1257480"/>
            <a:ext cx="77695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OV parameters from the kernel pool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33333, 4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Normalize the 3 boundary vector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0][0]), &amp;(untbnd[0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1][0]), &amp;(untbnd[1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2][0]), &amp;(untbnd[2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verage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dd_c(&amp;(untbnd[0][0]), &amp;(untbnd[1][0])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cl_c(0.5, vec1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dd_c(&amp;(untbnd[1][0]), &amp;(untbnd[2][0])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cl_c(0.5, vec2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= vsep_c( bsght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= vsep_c( bsght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Separate the larger and smaller angle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ang1 &gt; ang2 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1; smlang = ang2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2; smlang = ang1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8DB3-8EFC-4A4F-9E70-EA6CAB7B9C50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133720"/>
            <a:ext cx="701064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PL/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ents describing the keywords and 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 follow, as well as any other pertin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word = Valu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descriptive com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Keyword = Valu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comments, followed by more data, etc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240" y="164160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mat and structure of a typical I-Kernel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83080" y="380520"/>
            <a:ext cx="355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EE87-8E87-4639-B0DE-DA951EEB8E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irements on keywords in an IK are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must begin with INS[#], where [#] is replaced with the NAIF instrument ID code (which is a negative number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tal length of the keyword must be less than 32 charact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are case-sensitive. (Keyword != KEY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examples of IK keywor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S MOC NA focal length: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94031_FOCAL_LENG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 HRSC SRC pixel angular size: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41220_IFO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 ASPERA NPI number of sector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41130_NUMBER_OF_S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 SPICE does not require any specific keywords to be  present in an 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xception is a set of keywords defining an instrument’s FOV if the NAIF Toolkit’s GETFOV routine is planned to be used to retrieve the FOV attrib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required by GETFOV will be covered later in this tutori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298320" y="380520"/>
            <a:ext cx="411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Content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C580-FBBC-4932-BBCC-7C652EC80B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s usually contain extensive comments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 source(s) for the data included in the 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s/IDs assigned to the instrument and its pa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anation of each keyword included in the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FOV and detector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descriptions of the algorithms in which parameters provided in the IK are used, and even fragments of source code implementing these algorit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 optical distortion models or timing algorit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ation exists primarily to assist users in integrating I-Kernel data into their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needs to know the keyword name to get its value from the loaded IK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needs to know what that value means in order to use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98320" y="380520"/>
            <a:ext cx="411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Content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8A7D-7B17-45A8-9B08-545D8D90AB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ith any SPICE kernel, IK files are loaded using FURN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URNSH ( ’ik_file_name.ti’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knowing the name and type (DP, integer, or character) of a keyword of interest, the value(s) associated with that keyword can be retrieved using G*POOL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D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I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C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instrument’s FOV is defined in the IK using a special set of keywords discussed later in this tutorial, the FOV shape, reference frame, boresight vector, and boundary vectors can be retrieved by calling the GETFOV rout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ETFOV ( INSTID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HAPE, FRAME, BSIGHT, N, BOUND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709720" y="380520"/>
            <a:ext cx="52898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Interface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F4EA-5B38-4BB5-9C4D-1C389D3A86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92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keywords defining FOV attributes for the instrument with NAIF ID (#) must be present in the IK if the NAIF Toolkit’s GETFOV module will be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shape of the FO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SHAPE     = 'CIRCLE' or 'ELLIPSE' 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RECTANGLE' or 'POLYGON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reference frame with respect to which the boresight vector and FOV boundary vectors are spec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FRAME     = 'frame name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the boresight v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BORESIGHT = ( X, Y, Z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60320" y="380520"/>
            <a:ext cx="56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CE96-312A-4247-A35A-931A697A73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75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(s) defining FOV boundary vectors, in either of two w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specifying boundary vectors explici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LASS_SPEC       = 'CORNERS'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BOUNDARY_CORN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( X(1), Y(1), Z(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…     …     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n), Y(n), Z(n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BOUNDARY_CORN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provides an array of vectors that point to the "corners" of the instrument field of view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60320" y="380520"/>
            <a:ext cx="56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44B9-61AC-487A-BC67-0E65F000B3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75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providing half angular extents of the FOV (possible only for circular, elliptical or rectangular FOV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LASS_SPEC        = 'ANGLE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REF_VECTOR        = ( X, Y, Z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REF_ANGLE         = halfangl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ROSS_ANGLE       = halfangl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ANGLE_UNITS       = 'DEGREES' 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RADIANS’ or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REF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specifies a reference vector that together with the boresight vector defines the plane in which the half angle give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REF_A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yword is measured. The other half angle give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CROSS_ANG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is measured in the plane normal to this plane and containing the boresight ve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57080" y="380520"/>
            <a:ext cx="5613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F384-2C97-4B1D-B211-81DD7249F3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6:40:46Z</cp:lastPrinted>
  <dcterms:modified xsi:type="dcterms:W3CDTF">2007-10-12T23:35:12Z</dcterms:modified>
  <cp:revision>61</cp:revision>
  <dc:subject/>
  <dc:title>Instrument Kernels</dc:title>
</cp:coreProperties>
</file>