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58288" cy="6872288"/>
  <p:notesSz cx="70088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7E43-7A68-4FC4-A548-CC7A2E8C4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1B54-E7DF-421D-A891-1C08599A6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40AB-1111-46E6-9123-CC6251547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4C51-E0F3-4FDC-A03D-242FA1578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7549-DB56-4A26-B025-EA43CD848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5DF8-D4CA-49F0-B66D-E1FB23F15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044C-018B-48D7-A67E-73EACF676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6BAF-794E-4677-9D91-52C12C3C8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6EB2-CAD1-463E-811E-085190235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422F-E0CF-441B-9496-287DF552A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184C-5C99-41A3-89AE-D7E464455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43F3-8AEA-421D-8C3D-8CF846A10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CC7E-9098-41A5-B5A7-109504672D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9400" y="2742840"/>
            <a:ext cx="6427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Event Finding Subsyste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59000" y="371520"/>
            <a:ext cx="265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ield-of-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eld-of-view detection algorithm identifies configurations where an instrument field-of-view intersects or contains a body of interest. The instrument’s field-of-view properties are defined in a SPICE instrument kern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-of-view detection algorithms answer questions of the for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iven a time interval [t1, t2] and a body, at what times within [t1, t2] does the body intersect the instrument field-of-view?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Can I see it, if so, when?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rder to answer questions of the for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iven a time interval [t1, t2] and a set of bodies, which bodies will intersect the instrument field-of-view across [t1, t2]?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hat can I see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er performs a field-of-view search over [t1, t2] for each bod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4C68-251E-4415-A450-CF99F20DE8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9000" y="380520"/>
            <a:ext cx="2340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umeric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merical event detection algorithms identify configurations where a particular scalar geometric quantity satisfies some relationship, as defined by an operator and a reference value, or a unary ope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quantit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ular separation: observed angular separation between limb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ular speed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 of angular velocity of apparent target about an ob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ular rate: the time derivative of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arent angular sepa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arent angular dia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: ||r|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rate: d(||r||)/d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ongation angle: Sun-observer-target ang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angle: observer-target-Sun ang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e: an element of the position vector in a particular coordinate system and reference frame. The position vector is defined as either “observer to target” or “sub observer point on target.”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e systems and the corresponding coordinat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TANGULA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LINDRICAL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DETIC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INAL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/DEC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GHT_ASCENSION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HERICAL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AT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18360" y="6548400"/>
            <a:ext cx="18511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inued on the next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06BE-961E-4692-AC8F-364DEC17D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75000" y="380520"/>
            <a:ext cx="2340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umeric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ble operato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uantity &gt; reference_valu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uantity = reference_valu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uantity &lt; reference_valu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M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M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M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M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etectable events using a numeric event sear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apsis or closest approa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um distance between a body and center or between two bod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ap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 distance between a body and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nting constra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 separation between the look direction and Sun dir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confin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vehicle sub-point on a body lies within a latitude/longitude ra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 cross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coordinate of a body position in equator based frame equals ze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4C18-083B-4C8C-8A47-7D5D2DEB7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5680" y="380520"/>
            <a:ext cx="2971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 Math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ents subsystem uses the SPICE windows data type as an input, named the confinement window, to define the time intervals to search. A window is also used as an output, named the result window, during which the event of interest occu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are collections of zero or more ordered, disjoint intervals of double precision numbers. The event finder subsystem uses windows to define the initial search times and final result tim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olkit contains a family of routines for creating windows and performing “set arithmetic” on them (union, intersection, difference, etc.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indows based implementation allows a user to perform multiple searches where the window result of one search is used as the input (confinement) for the next, either to satisfy a restriction on multiple conditions or as a refinement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, the physics of a multi-event geometry may be such that the search for one event will proceed faster than another and markedly reduce the measure of the search space for the next searc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DD68-26A9-44E9-9623-5A9FD4D681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64120" y="380520"/>
            <a:ext cx="2386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ampl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interval for which the subpoint of a vehicle passes through a latitude/longitude “box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2760" y="3137040"/>
            <a:ext cx="3200400" cy="3124080"/>
          </a:xfrm>
          <a:prstGeom prst="ellipse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52760" y="4432320"/>
            <a:ext cx="3200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1460520"/>
            <a:ext cx="7124760" cy="5397480"/>
          </a:xfrm>
          <a:custGeom>
            <a:avLst/>
            <a:gdLst/>
            <a:ahLst/>
            <a:rect l="l" t="t" r="r" b="b"/>
            <a:pathLst>
              <a:path w="4488" h="3400">
                <a:moveTo>
                  <a:pt x="312" y="3400"/>
                </a:moveTo>
                <a:cubicBezTo>
                  <a:pt x="156" y="2028"/>
                  <a:pt x="0" y="656"/>
                  <a:pt x="696" y="328"/>
                </a:cubicBezTo>
                <a:cubicBezTo>
                  <a:pt x="1392" y="0"/>
                  <a:pt x="2940" y="716"/>
                  <a:pt x="4488" y="1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52960" y="397476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52960" y="397476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52960" y="3593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52960" y="359388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57880" y="359424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914720" y="35942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7880" y="3594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3840" y="397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533840" y="2298240"/>
            <a:ext cx="457200" cy="129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91040" y="2603520"/>
            <a:ext cx="762120" cy="1371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33840" y="3594240"/>
            <a:ext cx="457200" cy="380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962520"/>
            <a:ext cx="28954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first for time intervals with the restriction on the subpoint latitude, then use the result window as the confinement window for a restriction search on the subpoint longit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6BDB-09C9-45DA-B519-E77E94184B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64120" y="380520"/>
            <a:ext cx="2386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ampl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intervals for which an orbiter passes in line-of-sight of a station, with a local elevation above 30 degrees, with a maximum distance of 30000 k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3137040"/>
            <a:ext cx="3200400" cy="3124080"/>
          </a:xfrm>
          <a:prstGeom prst="ellipse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4432320"/>
            <a:ext cx="3200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8120" y="359424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898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123720" y="3898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1160" y="1460520"/>
            <a:ext cx="7124760" cy="5397480"/>
          </a:xfrm>
          <a:custGeom>
            <a:avLst/>
            <a:gdLst/>
            <a:ahLst/>
            <a:rect l="l" t="t" r="r" b="b"/>
            <a:pathLst>
              <a:path w="4488" h="3400">
                <a:moveTo>
                  <a:pt x="312" y="3400"/>
                </a:moveTo>
                <a:cubicBezTo>
                  <a:pt x="156" y="2028"/>
                  <a:pt x="0" y="656"/>
                  <a:pt x="696" y="328"/>
                </a:cubicBezTo>
                <a:cubicBezTo>
                  <a:pt x="1392" y="0"/>
                  <a:pt x="2940" y="716"/>
                  <a:pt x="4488" y="1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523880" y="3435480"/>
            <a:ext cx="1828800" cy="45072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752120" y="2514240"/>
            <a:ext cx="1600200" cy="13842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895480" y="1841040"/>
            <a:ext cx="457200" cy="2057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048120" y="1828800"/>
            <a:ext cx="304560" cy="20700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962520"/>
            <a:ext cx="28954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first for time intervals where station-target distance is less-than 30000 km then use that result window as the confinement window for a search to determine when elevation is greater-than 30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5A0F-F7B7-4D55-B3F0-74CE9D111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7000" y="14475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ation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-of-View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863520" y="380520"/>
            <a:ext cx="1436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6C76-1256-4B82-AC1A-88D639C5DD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7000" y="14475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AIF team is working to add a new subsystem to the SPICE Toolkits. This subsystem is designed to identify the times or time intervals of particular geometric ev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, Icy, and Mice will include some or all event finding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vent subsystem algorithms detect four types of ev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-of-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rst three types describe a specific set of geometric conditions identified with the corresponding type name. The fourth type describes a geometric quantity satisfying a numeric relationsh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IF has not determined a release date for the sub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611520" y="380520"/>
            <a:ext cx="193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4759-D5D6-4AD3-9FA0-1A109F1C14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clipse detection algorithm identifies twelve eclipse configurations (as observed from the eclipsed body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 models assum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her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hape for eclipser and eclipsed bodi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oint 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n represent the illumination sour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580920" y="380520"/>
            <a:ext cx="2024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D59D-55E0-4CC1-9CB4-DFFDDF634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038400"/>
            <a:ext cx="167652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495600"/>
            <a:ext cx="761760" cy="7621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048120" y="2581200"/>
            <a:ext cx="5486400" cy="236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19104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73384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27664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72420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24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02912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057040" y="3876480"/>
            <a:ext cx="655308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7400" y="2886120"/>
            <a:ext cx="647712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5440" y="387684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657520"/>
            <a:ext cx="5562720" cy="236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4120" y="220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4120" y="265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4120" y="309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4120" y="36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7640" y="416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8840" y="355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09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2160" y="220968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60" y="5105520"/>
            <a:ext cx="832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: Eclipsed body in full illu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: Eclipsed body partially illuminated, partially in the penum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: Eclipsed body exclusively in the penum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: Eclipsed body completely in the umbra (NAIF defines this state as also in the penumbra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: Eclipsed body fully in penumbra with complete umbral shadow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: Eclipsed body partially in penumbral and partially in umbral reg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6EE5-A074-4BBC-BA81-6FF249D310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809880"/>
            <a:ext cx="6858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819520"/>
            <a:ext cx="2209680" cy="2286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95120" y="3429000"/>
            <a:ext cx="57913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962520"/>
            <a:ext cx="5791320" cy="533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429000"/>
            <a:ext cx="754380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837720" y="3124080"/>
            <a:ext cx="754380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61760" y="3962520"/>
            <a:ext cx="78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90680" y="417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5520" y="365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2520" y="287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594400"/>
            <a:ext cx="81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: Eclipsed body partially illuminated with the penumbral shadow completely on body, no umbral 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: Eclipsed body in illuminated, penumbral, and umbral regions with full umbral shadow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: Eclipsed body in illuminated, penumbral, and umbral regions without full umbral shadow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09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2160" y="220968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516B-268D-4B93-B7DA-DB7ED3825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819520"/>
            <a:ext cx="2286000" cy="2286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85440" y="396252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38080" y="3429000"/>
            <a:ext cx="746784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37720" y="3124080"/>
            <a:ext cx="754380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895120" y="3429000"/>
            <a:ext cx="571500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791320" cy="533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720" y="27432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65164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: Eclipsed body partially illuminated with the penumbral and umbral shadows both fully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09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160" y="220968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AB5A-BA76-4E0B-8877-AFD0C7BE3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172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44800"/>
            <a:ext cx="609840" cy="609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616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006720"/>
            <a:ext cx="2286000" cy="2286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85440" y="414972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980720" y="3616200"/>
            <a:ext cx="62485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980720" y="4149720"/>
            <a:ext cx="62485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760" y="2930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58240" y="3463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2520" y="220968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533920"/>
            <a:ext cx="81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: Eclipsed body partially illuminated with full umbral shadow on body, no penumbral 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: Eclipsed body partially illuminated, partially in the umbra shadow, no penumbral 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, these configurations exist only for point illumination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2800" y="21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440" y="39211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D89A-F17C-47BC-90E0-FEB1CAA3B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2362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ccul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ccultation detection algorithm identifies configurations with a triaxial ellipsoid modeling the occulting body. A triaxial ellipsoid or point object models the occulted bod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44480" y="2819520"/>
            <a:ext cx="108000" cy="108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495680"/>
            <a:ext cx="160020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4800600"/>
            <a:ext cx="838080" cy="685800"/>
          </a:xfrm>
          <a:custGeom>
            <a:avLst/>
            <a:gdLst/>
            <a:ahLst/>
            <a:rect l="l" t="t" r="r" b="b"/>
            <a:pathLst>
              <a:path w="685" h="685">
                <a:moveTo>
                  <a:pt x="342" y="0"/>
                </a:moveTo>
                <a:lnTo>
                  <a:pt x="360" y="0"/>
                </a:lnTo>
                <a:lnTo>
                  <a:pt x="378" y="2"/>
                </a:lnTo>
                <a:lnTo>
                  <a:pt x="395" y="4"/>
                </a:lnTo>
                <a:lnTo>
                  <a:pt x="412" y="7"/>
                </a:lnTo>
                <a:lnTo>
                  <a:pt x="428" y="11"/>
                </a:lnTo>
                <a:lnTo>
                  <a:pt x="444" y="15"/>
                </a:lnTo>
                <a:lnTo>
                  <a:pt x="460" y="21"/>
                </a:lnTo>
                <a:lnTo>
                  <a:pt x="475" y="27"/>
                </a:lnTo>
                <a:lnTo>
                  <a:pt x="490" y="34"/>
                </a:lnTo>
                <a:lnTo>
                  <a:pt x="506" y="41"/>
                </a:lnTo>
                <a:lnTo>
                  <a:pt x="520" y="49"/>
                </a:lnTo>
                <a:lnTo>
                  <a:pt x="534" y="58"/>
                </a:lnTo>
                <a:lnTo>
                  <a:pt x="548" y="68"/>
                </a:lnTo>
                <a:lnTo>
                  <a:pt x="560" y="78"/>
                </a:lnTo>
                <a:lnTo>
                  <a:pt x="573" y="89"/>
                </a:lnTo>
                <a:lnTo>
                  <a:pt x="585" y="100"/>
                </a:lnTo>
                <a:lnTo>
                  <a:pt x="596" y="112"/>
                </a:lnTo>
                <a:lnTo>
                  <a:pt x="607" y="125"/>
                </a:lnTo>
                <a:lnTo>
                  <a:pt x="617" y="138"/>
                </a:lnTo>
                <a:lnTo>
                  <a:pt x="627" y="151"/>
                </a:lnTo>
                <a:lnTo>
                  <a:pt x="636" y="165"/>
                </a:lnTo>
                <a:lnTo>
                  <a:pt x="644" y="179"/>
                </a:lnTo>
                <a:lnTo>
                  <a:pt x="652" y="194"/>
                </a:lnTo>
                <a:lnTo>
                  <a:pt x="659" y="209"/>
                </a:lnTo>
                <a:lnTo>
                  <a:pt x="665" y="224"/>
                </a:lnTo>
                <a:lnTo>
                  <a:pt x="670" y="240"/>
                </a:lnTo>
                <a:lnTo>
                  <a:pt x="675" y="257"/>
                </a:lnTo>
                <a:lnTo>
                  <a:pt x="678" y="274"/>
                </a:lnTo>
                <a:lnTo>
                  <a:pt x="681" y="290"/>
                </a:lnTo>
                <a:lnTo>
                  <a:pt x="684" y="307"/>
                </a:lnTo>
                <a:lnTo>
                  <a:pt x="685" y="325"/>
                </a:lnTo>
                <a:lnTo>
                  <a:pt x="685" y="342"/>
                </a:lnTo>
                <a:lnTo>
                  <a:pt x="685" y="360"/>
                </a:lnTo>
                <a:lnTo>
                  <a:pt x="684" y="378"/>
                </a:lnTo>
                <a:lnTo>
                  <a:pt x="681" y="395"/>
                </a:lnTo>
                <a:lnTo>
                  <a:pt x="678" y="411"/>
                </a:lnTo>
                <a:lnTo>
                  <a:pt x="675" y="428"/>
                </a:lnTo>
                <a:lnTo>
                  <a:pt x="670" y="444"/>
                </a:lnTo>
                <a:lnTo>
                  <a:pt x="665" y="460"/>
                </a:lnTo>
                <a:lnTo>
                  <a:pt x="659" y="475"/>
                </a:lnTo>
                <a:lnTo>
                  <a:pt x="652" y="490"/>
                </a:lnTo>
                <a:lnTo>
                  <a:pt x="644" y="506"/>
                </a:lnTo>
                <a:lnTo>
                  <a:pt x="636" y="520"/>
                </a:lnTo>
                <a:lnTo>
                  <a:pt x="627" y="534"/>
                </a:lnTo>
                <a:lnTo>
                  <a:pt x="617" y="547"/>
                </a:lnTo>
                <a:lnTo>
                  <a:pt x="607" y="560"/>
                </a:lnTo>
                <a:lnTo>
                  <a:pt x="596" y="573"/>
                </a:lnTo>
                <a:lnTo>
                  <a:pt x="585" y="584"/>
                </a:lnTo>
                <a:lnTo>
                  <a:pt x="573" y="596"/>
                </a:lnTo>
                <a:lnTo>
                  <a:pt x="560" y="606"/>
                </a:lnTo>
                <a:lnTo>
                  <a:pt x="548" y="616"/>
                </a:lnTo>
                <a:lnTo>
                  <a:pt x="534" y="626"/>
                </a:lnTo>
                <a:lnTo>
                  <a:pt x="520" y="635"/>
                </a:lnTo>
                <a:lnTo>
                  <a:pt x="506" y="644"/>
                </a:lnTo>
                <a:lnTo>
                  <a:pt x="490" y="652"/>
                </a:lnTo>
                <a:lnTo>
                  <a:pt x="475" y="658"/>
                </a:lnTo>
                <a:lnTo>
                  <a:pt x="460" y="664"/>
                </a:lnTo>
                <a:lnTo>
                  <a:pt x="444" y="670"/>
                </a:lnTo>
                <a:lnTo>
                  <a:pt x="428" y="674"/>
                </a:lnTo>
                <a:lnTo>
                  <a:pt x="412" y="678"/>
                </a:lnTo>
                <a:lnTo>
                  <a:pt x="395" y="681"/>
                </a:lnTo>
                <a:lnTo>
                  <a:pt x="378" y="683"/>
                </a:lnTo>
                <a:lnTo>
                  <a:pt x="360" y="685"/>
                </a:lnTo>
                <a:lnTo>
                  <a:pt x="342" y="685"/>
                </a:lnTo>
                <a:lnTo>
                  <a:pt x="325" y="685"/>
                </a:lnTo>
                <a:lnTo>
                  <a:pt x="308" y="683"/>
                </a:lnTo>
                <a:lnTo>
                  <a:pt x="291" y="681"/>
                </a:lnTo>
                <a:lnTo>
                  <a:pt x="274" y="678"/>
                </a:lnTo>
                <a:lnTo>
                  <a:pt x="257" y="674"/>
                </a:lnTo>
                <a:lnTo>
                  <a:pt x="240" y="670"/>
                </a:lnTo>
                <a:lnTo>
                  <a:pt x="225" y="664"/>
                </a:lnTo>
                <a:lnTo>
                  <a:pt x="209" y="658"/>
                </a:lnTo>
                <a:lnTo>
                  <a:pt x="194" y="652"/>
                </a:lnTo>
                <a:lnTo>
                  <a:pt x="179" y="644"/>
                </a:lnTo>
                <a:lnTo>
                  <a:pt x="165" y="635"/>
                </a:lnTo>
                <a:lnTo>
                  <a:pt x="151" y="626"/>
                </a:lnTo>
                <a:lnTo>
                  <a:pt x="138" y="616"/>
                </a:lnTo>
                <a:lnTo>
                  <a:pt x="125" y="606"/>
                </a:lnTo>
                <a:lnTo>
                  <a:pt x="112" y="596"/>
                </a:lnTo>
                <a:lnTo>
                  <a:pt x="100" y="584"/>
                </a:lnTo>
                <a:lnTo>
                  <a:pt x="89" y="573"/>
                </a:lnTo>
                <a:lnTo>
                  <a:pt x="78" y="560"/>
                </a:lnTo>
                <a:lnTo>
                  <a:pt x="68" y="547"/>
                </a:lnTo>
                <a:lnTo>
                  <a:pt x="58" y="534"/>
                </a:lnTo>
                <a:lnTo>
                  <a:pt x="50" y="520"/>
                </a:lnTo>
                <a:lnTo>
                  <a:pt x="41" y="506"/>
                </a:lnTo>
                <a:lnTo>
                  <a:pt x="34" y="490"/>
                </a:lnTo>
                <a:lnTo>
                  <a:pt x="27" y="475"/>
                </a:lnTo>
                <a:lnTo>
                  <a:pt x="21" y="460"/>
                </a:lnTo>
                <a:lnTo>
                  <a:pt x="16" y="444"/>
                </a:lnTo>
                <a:lnTo>
                  <a:pt x="11" y="428"/>
                </a:lnTo>
                <a:lnTo>
                  <a:pt x="7" y="411"/>
                </a:lnTo>
                <a:lnTo>
                  <a:pt x="4" y="395"/>
                </a:lnTo>
                <a:lnTo>
                  <a:pt x="2" y="378"/>
                </a:lnTo>
                <a:lnTo>
                  <a:pt x="1" y="360"/>
                </a:lnTo>
                <a:lnTo>
                  <a:pt x="0" y="342"/>
                </a:lnTo>
                <a:lnTo>
                  <a:pt x="1" y="325"/>
                </a:lnTo>
                <a:lnTo>
                  <a:pt x="2" y="307"/>
                </a:lnTo>
                <a:lnTo>
                  <a:pt x="4" y="290"/>
                </a:lnTo>
                <a:lnTo>
                  <a:pt x="7" y="274"/>
                </a:lnTo>
                <a:lnTo>
                  <a:pt x="11" y="257"/>
                </a:lnTo>
                <a:lnTo>
                  <a:pt x="16" y="240"/>
                </a:lnTo>
                <a:lnTo>
                  <a:pt x="21" y="224"/>
                </a:lnTo>
                <a:lnTo>
                  <a:pt x="27" y="209"/>
                </a:lnTo>
                <a:lnTo>
                  <a:pt x="34" y="194"/>
                </a:lnTo>
                <a:lnTo>
                  <a:pt x="41" y="179"/>
                </a:lnTo>
                <a:lnTo>
                  <a:pt x="50" y="165"/>
                </a:lnTo>
                <a:lnTo>
                  <a:pt x="58" y="151"/>
                </a:lnTo>
                <a:lnTo>
                  <a:pt x="68" y="138"/>
                </a:lnTo>
                <a:lnTo>
                  <a:pt x="78" y="125"/>
                </a:lnTo>
                <a:lnTo>
                  <a:pt x="89" y="112"/>
                </a:lnTo>
                <a:lnTo>
                  <a:pt x="100" y="100"/>
                </a:lnTo>
                <a:lnTo>
                  <a:pt x="112" y="89"/>
                </a:lnTo>
                <a:lnTo>
                  <a:pt x="125" y="78"/>
                </a:lnTo>
                <a:lnTo>
                  <a:pt x="138" y="68"/>
                </a:lnTo>
                <a:lnTo>
                  <a:pt x="151" y="58"/>
                </a:lnTo>
                <a:lnTo>
                  <a:pt x="165" y="49"/>
                </a:lnTo>
                <a:lnTo>
                  <a:pt x="179" y="41"/>
                </a:lnTo>
                <a:lnTo>
                  <a:pt x="194" y="34"/>
                </a:lnTo>
                <a:lnTo>
                  <a:pt x="209" y="27"/>
                </a:lnTo>
                <a:lnTo>
                  <a:pt x="225" y="21"/>
                </a:lnTo>
                <a:lnTo>
                  <a:pt x="240" y="15"/>
                </a:lnTo>
                <a:lnTo>
                  <a:pt x="257" y="11"/>
                </a:lnTo>
                <a:lnTo>
                  <a:pt x="274" y="7"/>
                </a:lnTo>
                <a:lnTo>
                  <a:pt x="291" y="4"/>
                </a:lnTo>
                <a:lnTo>
                  <a:pt x="308" y="2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solidFill>
            <a:srgbClr val="c0c0c0"/>
          </a:solidFill>
          <a:ln w="468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95680"/>
            <a:ext cx="1600200" cy="1828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267080"/>
            <a:ext cx="1752480" cy="1524240"/>
          </a:xfrm>
          <a:custGeom>
            <a:avLst/>
            <a:gdLst/>
            <a:ahLst/>
            <a:rect l="l" t="t" r="r" b="b"/>
            <a:pathLst>
              <a:path w="685" h="685">
                <a:moveTo>
                  <a:pt x="342" y="0"/>
                </a:moveTo>
                <a:lnTo>
                  <a:pt x="360" y="0"/>
                </a:lnTo>
                <a:lnTo>
                  <a:pt x="378" y="2"/>
                </a:lnTo>
                <a:lnTo>
                  <a:pt x="395" y="4"/>
                </a:lnTo>
                <a:lnTo>
                  <a:pt x="412" y="7"/>
                </a:lnTo>
                <a:lnTo>
                  <a:pt x="428" y="11"/>
                </a:lnTo>
                <a:lnTo>
                  <a:pt x="444" y="15"/>
                </a:lnTo>
                <a:lnTo>
                  <a:pt x="460" y="21"/>
                </a:lnTo>
                <a:lnTo>
                  <a:pt x="475" y="27"/>
                </a:lnTo>
                <a:lnTo>
                  <a:pt x="490" y="34"/>
                </a:lnTo>
                <a:lnTo>
                  <a:pt x="506" y="41"/>
                </a:lnTo>
                <a:lnTo>
                  <a:pt x="520" y="49"/>
                </a:lnTo>
                <a:lnTo>
                  <a:pt x="534" y="58"/>
                </a:lnTo>
                <a:lnTo>
                  <a:pt x="548" y="68"/>
                </a:lnTo>
                <a:lnTo>
                  <a:pt x="560" y="78"/>
                </a:lnTo>
                <a:lnTo>
                  <a:pt x="573" y="89"/>
                </a:lnTo>
                <a:lnTo>
                  <a:pt x="585" y="100"/>
                </a:lnTo>
                <a:lnTo>
                  <a:pt x="596" y="112"/>
                </a:lnTo>
                <a:lnTo>
                  <a:pt x="607" y="125"/>
                </a:lnTo>
                <a:lnTo>
                  <a:pt x="617" y="138"/>
                </a:lnTo>
                <a:lnTo>
                  <a:pt x="627" y="151"/>
                </a:lnTo>
                <a:lnTo>
                  <a:pt x="636" y="165"/>
                </a:lnTo>
                <a:lnTo>
                  <a:pt x="644" y="179"/>
                </a:lnTo>
                <a:lnTo>
                  <a:pt x="652" y="194"/>
                </a:lnTo>
                <a:lnTo>
                  <a:pt x="659" y="209"/>
                </a:lnTo>
                <a:lnTo>
                  <a:pt x="665" y="224"/>
                </a:lnTo>
                <a:lnTo>
                  <a:pt x="670" y="240"/>
                </a:lnTo>
                <a:lnTo>
                  <a:pt x="675" y="257"/>
                </a:lnTo>
                <a:lnTo>
                  <a:pt x="678" y="274"/>
                </a:lnTo>
                <a:lnTo>
                  <a:pt x="681" y="290"/>
                </a:lnTo>
                <a:lnTo>
                  <a:pt x="684" y="307"/>
                </a:lnTo>
                <a:lnTo>
                  <a:pt x="685" y="325"/>
                </a:lnTo>
                <a:lnTo>
                  <a:pt x="685" y="342"/>
                </a:lnTo>
                <a:lnTo>
                  <a:pt x="685" y="360"/>
                </a:lnTo>
                <a:lnTo>
                  <a:pt x="684" y="378"/>
                </a:lnTo>
                <a:lnTo>
                  <a:pt x="681" y="395"/>
                </a:lnTo>
                <a:lnTo>
                  <a:pt x="678" y="411"/>
                </a:lnTo>
                <a:lnTo>
                  <a:pt x="675" y="428"/>
                </a:lnTo>
                <a:lnTo>
                  <a:pt x="670" y="444"/>
                </a:lnTo>
                <a:lnTo>
                  <a:pt x="665" y="460"/>
                </a:lnTo>
                <a:lnTo>
                  <a:pt x="659" y="475"/>
                </a:lnTo>
                <a:lnTo>
                  <a:pt x="652" y="490"/>
                </a:lnTo>
                <a:lnTo>
                  <a:pt x="644" y="506"/>
                </a:lnTo>
                <a:lnTo>
                  <a:pt x="636" y="520"/>
                </a:lnTo>
                <a:lnTo>
                  <a:pt x="627" y="534"/>
                </a:lnTo>
                <a:lnTo>
                  <a:pt x="617" y="547"/>
                </a:lnTo>
                <a:lnTo>
                  <a:pt x="607" y="560"/>
                </a:lnTo>
                <a:lnTo>
                  <a:pt x="596" y="573"/>
                </a:lnTo>
                <a:lnTo>
                  <a:pt x="585" y="584"/>
                </a:lnTo>
                <a:lnTo>
                  <a:pt x="573" y="596"/>
                </a:lnTo>
                <a:lnTo>
                  <a:pt x="560" y="606"/>
                </a:lnTo>
                <a:lnTo>
                  <a:pt x="548" y="616"/>
                </a:lnTo>
                <a:lnTo>
                  <a:pt x="534" y="626"/>
                </a:lnTo>
                <a:lnTo>
                  <a:pt x="520" y="635"/>
                </a:lnTo>
                <a:lnTo>
                  <a:pt x="506" y="644"/>
                </a:lnTo>
                <a:lnTo>
                  <a:pt x="490" y="652"/>
                </a:lnTo>
                <a:lnTo>
                  <a:pt x="475" y="658"/>
                </a:lnTo>
                <a:lnTo>
                  <a:pt x="460" y="664"/>
                </a:lnTo>
                <a:lnTo>
                  <a:pt x="444" y="670"/>
                </a:lnTo>
                <a:lnTo>
                  <a:pt x="428" y="674"/>
                </a:lnTo>
                <a:lnTo>
                  <a:pt x="412" y="678"/>
                </a:lnTo>
                <a:lnTo>
                  <a:pt x="395" y="681"/>
                </a:lnTo>
                <a:lnTo>
                  <a:pt x="378" y="683"/>
                </a:lnTo>
                <a:lnTo>
                  <a:pt x="360" y="685"/>
                </a:lnTo>
                <a:lnTo>
                  <a:pt x="342" y="685"/>
                </a:lnTo>
                <a:lnTo>
                  <a:pt x="325" y="685"/>
                </a:lnTo>
                <a:lnTo>
                  <a:pt x="308" y="683"/>
                </a:lnTo>
                <a:lnTo>
                  <a:pt x="291" y="681"/>
                </a:lnTo>
                <a:lnTo>
                  <a:pt x="274" y="678"/>
                </a:lnTo>
                <a:lnTo>
                  <a:pt x="257" y="674"/>
                </a:lnTo>
                <a:lnTo>
                  <a:pt x="240" y="670"/>
                </a:lnTo>
                <a:lnTo>
                  <a:pt x="225" y="664"/>
                </a:lnTo>
                <a:lnTo>
                  <a:pt x="209" y="658"/>
                </a:lnTo>
                <a:lnTo>
                  <a:pt x="194" y="652"/>
                </a:lnTo>
                <a:lnTo>
                  <a:pt x="179" y="644"/>
                </a:lnTo>
                <a:lnTo>
                  <a:pt x="165" y="635"/>
                </a:lnTo>
                <a:lnTo>
                  <a:pt x="151" y="626"/>
                </a:lnTo>
                <a:lnTo>
                  <a:pt x="138" y="616"/>
                </a:lnTo>
                <a:lnTo>
                  <a:pt x="125" y="606"/>
                </a:lnTo>
                <a:lnTo>
                  <a:pt x="112" y="596"/>
                </a:lnTo>
                <a:lnTo>
                  <a:pt x="100" y="584"/>
                </a:lnTo>
                <a:lnTo>
                  <a:pt x="89" y="573"/>
                </a:lnTo>
                <a:lnTo>
                  <a:pt x="78" y="560"/>
                </a:lnTo>
                <a:lnTo>
                  <a:pt x="68" y="547"/>
                </a:lnTo>
                <a:lnTo>
                  <a:pt x="58" y="534"/>
                </a:lnTo>
                <a:lnTo>
                  <a:pt x="50" y="520"/>
                </a:lnTo>
                <a:lnTo>
                  <a:pt x="41" y="506"/>
                </a:lnTo>
                <a:lnTo>
                  <a:pt x="34" y="490"/>
                </a:lnTo>
                <a:lnTo>
                  <a:pt x="27" y="475"/>
                </a:lnTo>
                <a:lnTo>
                  <a:pt x="21" y="460"/>
                </a:lnTo>
                <a:lnTo>
                  <a:pt x="16" y="444"/>
                </a:lnTo>
                <a:lnTo>
                  <a:pt x="11" y="428"/>
                </a:lnTo>
                <a:lnTo>
                  <a:pt x="7" y="411"/>
                </a:lnTo>
                <a:lnTo>
                  <a:pt x="4" y="395"/>
                </a:lnTo>
                <a:lnTo>
                  <a:pt x="2" y="378"/>
                </a:lnTo>
                <a:lnTo>
                  <a:pt x="1" y="360"/>
                </a:lnTo>
                <a:lnTo>
                  <a:pt x="0" y="342"/>
                </a:lnTo>
                <a:lnTo>
                  <a:pt x="1" y="325"/>
                </a:lnTo>
                <a:lnTo>
                  <a:pt x="2" y="307"/>
                </a:lnTo>
                <a:lnTo>
                  <a:pt x="4" y="290"/>
                </a:lnTo>
                <a:lnTo>
                  <a:pt x="7" y="274"/>
                </a:lnTo>
                <a:lnTo>
                  <a:pt x="11" y="257"/>
                </a:lnTo>
                <a:lnTo>
                  <a:pt x="16" y="240"/>
                </a:lnTo>
                <a:lnTo>
                  <a:pt x="21" y="224"/>
                </a:lnTo>
                <a:lnTo>
                  <a:pt x="27" y="209"/>
                </a:lnTo>
                <a:lnTo>
                  <a:pt x="34" y="194"/>
                </a:lnTo>
                <a:lnTo>
                  <a:pt x="41" y="179"/>
                </a:lnTo>
                <a:lnTo>
                  <a:pt x="50" y="165"/>
                </a:lnTo>
                <a:lnTo>
                  <a:pt x="58" y="151"/>
                </a:lnTo>
                <a:lnTo>
                  <a:pt x="68" y="138"/>
                </a:lnTo>
                <a:lnTo>
                  <a:pt x="78" y="125"/>
                </a:lnTo>
                <a:lnTo>
                  <a:pt x="89" y="112"/>
                </a:lnTo>
                <a:lnTo>
                  <a:pt x="100" y="100"/>
                </a:lnTo>
                <a:lnTo>
                  <a:pt x="112" y="89"/>
                </a:lnTo>
                <a:lnTo>
                  <a:pt x="125" y="78"/>
                </a:lnTo>
                <a:lnTo>
                  <a:pt x="138" y="68"/>
                </a:lnTo>
                <a:lnTo>
                  <a:pt x="151" y="58"/>
                </a:lnTo>
                <a:lnTo>
                  <a:pt x="165" y="49"/>
                </a:lnTo>
                <a:lnTo>
                  <a:pt x="179" y="41"/>
                </a:lnTo>
                <a:lnTo>
                  <a:pt x="194" y="34"/>
                </a:lnTo>
                <a:lnTo>
                  <a:pt x="209" y="27"/>
                </a:lnTo>
                <a:lnTo>
                  <a:pt x="225" y="21"/>
                </a:lnTo>
                <a:lnTo>
                  <a:pt x="240" y="15"/>
                </a:lnTo>
                <a:lnTo>
                  <a:pt x="257" y="11"/>
                </a:lnTo>
                <a:lnTo>
                  <a:pt x="274" y="7"/>
                </a:lnTo>
                <a:lnTo>
                  <a:pt x="291" y="4"/>
                </a:lnTo>
                <a:lnTo>
                  <a:pt x="308" y="2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solidFill>
            <a:srgbClr val="c0c0c0"/>
          </a:solidFill>
          <a:ln w="46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514600"/>
            <a:ext cx="1600200" cy="1523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514600"/>
            <a:ext cx="1752840" cy="1523880"/>
          </a:xfrm>
          <a:custGeom>
            <a:avLst/>
            <a:gdLst/>
            <a:ahLst/>
            <a:rect l="l" t="t" r="r" b="b"/>
            <a:pathLst>
              <a:path w="685" h="685">
                <a:moveTo>
                  <a:pt x="342" y="0"/>
                </a:moveTo>
                <a:lnTo>
                  <a:pt x="360" y="0"/>
                </a:lnTo>
                <a:lnTo>
                  <a:pt x="378" y="2"/>
                </a:lnTo>
                <a:lnTo>
                  <a:pt x="395" y="4"/>
                </a:lnTo>
                <a:lnTo>
                  <a:pt x="412" y="7"/>
                </a:lnTo>
                <a:lnTo>
                  <a:pt x="428" y="11"/>
                </a:lnTo>
                <a:lnTo>
                  <a:pt x="444" y="15"/>
                </a:lnTo>
                <a:lnTo>
                  <a:pt x="460" y="21"/>
                </a:lnTo>
                <a:lnTo>
                  <a:pt x="475" y="27"/>
                </a:lnTo>
                <a:lnTo>
                  <a:pt x="490" y="34"/>
                </a:lnTo>
                <a:lnTo>
                  <a:pt x="506" y="41"/>
                </a:lnTo>
                <a:lnTo>
                  <a:pt x="520" y="49"/>
                </a:lnTo>
                <a:lnTo>
                  <a:pt x="534" y="58"/>
                </a:lnTo>
                <a:lnTo>
                  <a:pt x="548" y="68"/>
                </a:lnTo>
                <a:lnTo>
                  <a:pt x="560" y="78"/>
                </a:lnTo>
                <a:lnTo>
                  <a:pt x="573" y="89"/>
                </a:lnTo>
                <a:lnTo>
                  <a:pt x="585" y="100"/>
                </a:lnTo>
                <a:lnTo>
                  <a:pt x="596" y="112"/>
                </a:lnTo>
                <a:lnTo>
                  <a:pt x="607" y="125"/>
                </a:lnTo>
                <a:lnTo>
                  <a:pt x="617" y="138"/>
                </a:lnTo>
                <a:lnTo>
                  <a:pt x="627" y="151"/>
                </a:lnTo>
                <a:lnTo>
                  <a:pt x="636" y="165"/>
                </a:lnTo>
                <a:lnTo>
                  <a:pt x="644" y="179"/>
                </a:lnTo>
                <a:lnTo>
                  <a:pt x="652" y="194"/>
                </a:lnTo>
                <a:lnTo>
                  <a:pt x="659" y="209"/>
                </a:lnTo>
                <a:lnTo>
                  <a:pt x="665" y="224"/>
                </a:lnTo>
                <a:lnTo>
                  <a:pt x="670" y="240"/>
                </a:lnTo>
                <a:lnTo>
                  <a:pt x="675" y="257"/>
                </a:lnTo>
                <a:lnTo>
                  <a:pt x="678" y="274"/>
                </a:lnTo>
                <a:lnTo>
                  <a:pt x="681" y="290"/>
                </a:lnTo>
                <a:lnTo>
                  <a:pt x="684" y="307"/>
                </a:lnTo>
                <a:lnTo>
                  <a:pt x="685" y="325"/>
                </a:lnTo>
                <a:lnTo>
                  <a:pt x="685" y="342"/>
                </a:lnTo>
                <a:lnTo>
                  <a:pt x="685" y="360"/>
                </a:lnTo>
                <a:lnTo>
                  <a:pt x="684" y="378"/>
                </a:lnTo>
                <a:lnTo>
                  <a:pt x="681" y="395"/>
                </a:lnTo>
                <a:lnTo>
                  <a:pt x="678" y="411"/>
                </a:lnTo>
                <a:lnTo>
                  <a:pt x="675" y="428"/>
                </a:lnTo>
                <a:lnTo>
                  <a:pt x="670" y="444"/>
                </a:lnTo>
                <a:lnTo>
                  <a:pt x="665" y="460"/>
                </a:lnTo>
                <a:lnTo>
                  <a:pt x="659" y="475"/>
                </a:lnTo>
                <a:lnTo>
                  <a:pt x="652" y="490"/>
                </a:lnTo>
                <a:lnTo>
                  <a:pt x="644" y="506"/>
                </a:lnTo>
                <a:lnTo>
                  <a:pt x="636" y="520"/>
                </a:lnTo>
                <a:lnTo>
                  <a:pt x="627" y="534"/>
                </a:lnTo>
                <a:lnTo>
                  <a:pt x="617" y="547"/>
                </a:lnTo>
                <a:lnTo>
                  <a:pt x="607" y="560"/>
                </a:lnTo>
                <a:lnTo>
                  <a:pt x="596" y="573"/>
                </a:lnTo>
                <a:lnTo>
                  <a:pt x="585" y="584"/>
                </a:lnTo>
                <a:lnTo>
                  <a:pt x="573" y="596"/>
                </a:lnTo>
                <a:lnTo>
                  <a:pt x="560" y="606"/>
                </a:lnTo>
                <a:lnTo>
                  <a:pt x="548" y="616"/>
                </a:lnTo>
                <a:lnTo>
                  <a:pt x="534" y="626"/>
                </a:lnTo>
                <a:lnTo>
                  <a:pt x="520" y="635"/>
                </a:lnTo>
                <a:lnTo>
                  <a:pt x="506" y="644"/>
                </a:lnTo>
                <a:lnTo>
                  <a:pt x="490" y="652"/>
                </a:lnTo>
                <a:lnTo>
                  <a:pt x="475" y="658"/>
                </a:lnTo>
                <a:lnTo>
                  <a:pt x="460" y="664"/>
                </a:lnTo>
                <a:lnTo>
                  <a:pt x="444" y="670"/>
                </a:lnTo>
                <a:lnTo>
                  <a:pt x="428" y="674"/>
                </a:lnTo>
                <a:lnTo>
                  <a:pt x="412" y="678"/>
                </a:lnTo>
                <a:lnTo>
                  <a:pt x="395" y="681"/>
                </a:lnTo>
                <a:lnTo>
                  <a:pt x="378" y="683"/>
                </a:lnTo>
                <a:lnTo>
                  <a:pt x="360" y="685"/>
                </a:lnTo>
                <a:lnTo>
                  <a:pt x="342" y="685"/>
                </a:lnTo>
                <a:lnTo>
                  <a:pt x="325" y="685"/>
                </a:lnTo>
                <a:lnTo>
                  <a:pt x="308" y="683"/>
                </a:lnTo>
                <a:lnTo>
                  <a:pt x="291" y="681"/>
                </a:lnTo>
                <a:lnTo>
                  <a:pt x="274" y="678"/>
                </a:lnTo>
                <a:lnTo>
                  <a:pt x="257" y="674"/>
                </a:lnTo>
                <a:lnTo>
                  <a:pt x="240" y="670"/>
                </a:lnTo>
                <a:lnTo>
                  <a:pt x="225" y="664"/>
                </a:lnTo>
                <a:lnTo>
                  <a:pt x="209" y="658"/>
                </a:lnTo>
                <a:lnTo>
                  <a:pt x="194" y="652"/>
                </a:lnTo>
                <a:lnTo>
                  <a:pt x="179" y="644"/>
                </a:lnTo>
                <a:lnTo>
                  <a:pt x="165" y="635"/>
                </a:lnTo>
                <a:lnTo>
                  <a:pt x="151" y="626"/>
                </a:lnTo>
                <a:lnTo>
                  <a:pt x="138" y="616"/>
                </a:lnTo>
                <a:lnTo>
                  <a:pt x="125" y="606"/>
                </a:lnTo>
                <a:lnTo>
                  <a:pt x="112" y="596"/>
                </a:lnTo>
                <a:lnTo>
                  <a:pt x="100" y="584"/>
                </a:lnTo>
                <a:lnTo>
                  <a:pt x="89" y="573"/>
                </a:lnTo>
                <a:lnTo>
                  <a:pt x="78" y="560"/>
                </a:lnTo>
                <a:lnTo>
                  <a:pt x="68" y="547"/>
                </a:lnTo>
                <a:lnTo>
                  <a:pt x="58" y="534"/>
                </a:lnTo>
                <a:lnTo>
                  <a:pt x="50" y="520"/>
                </a:lnTo>
                <a:lnTo>
                  <a:pt x="41" y="506"/>
                </a:lnTo>
                <a:lnTo>
                  <a:pt x="34" y="490"/>
                </a:lnTo>
                <a:lnTo>
                  <a:pt x="27" y="475"/>
                </a:lnTo>
                <a:lnTo>
                  <a:pt x="21" y="460"/>
                </a:lnTo>
                <a:lnTo>
                  <a:pt x="16" y="444"/>
                </a:lnTo>
                <a:lnTo>
                  <a:pt x="11" y="428"/>
                </a:lnTo>
                <a:lnTo>
                  <a:pt x="7" y="411"/>
                </a:lnTo>
                <a:lnTo>
                  <a:pt x="4" y="395"/>
                </a:lnTo>
                <a:lnTo>
                  <a:pt x="2" y="378"/>
                </a:lnTo>
                <a:lnTo>
                  <a:pt x="1" y="360"/>
                </a:lnTo>
                <a:lnTo>
                  <a:pt x="0" y="342"/>
                </a:lnTo>
                <a:lnTo>
                  <a:pt x="1" y="325"/>
                </a:lnTo>
                <a:lnTo>
                  <a:pt x="2" y="307"/>
                </a:lnTo>
                <a:lnTo>
                  <a:pt x="4" y="290"/>
                </a:lnTo>
                <a:lnTo>
                  <a:pt x="7" y="274"/>
                </a:lnTo>
                <a:lnTo>
                  <a:pt x="11" y="257"/>
                </a:lnTo>
                <a:lnTo>
                  <a:pt x="16" y="240"/>
                </a:lnTo>
                <a:lnTo>
                  <a:pt x="21" y="224"/>
                </a:lnTo>
                <a:lnTo>
                  <a:pt x="27" y="209"/>
                </a:lnTo>
                <a:lnTo>
                  <a:pt x="34" y="194"/>
                </a:lnTo>
                <a:lnTo>
                  <a:pt x="41" y="179"/>
                </a:lnTo>
                <a:lnTo>
                  <a:pt x="50" y="165"/>
                </a:lnTo>
                <a:lnTo>
                  <a:pt x="58" y="151"/>
                </a:lnTo>
                <a:lnTo>
                  <a:pt x="68" y="138"/>
                </a:lnTo>
                <a:lnTo>
                  <a:pt x="78" y="125"/>
                </a:lnTo>
                <a:lnTo>
                  <a:pt x="89" y="112"/>
                </a:lnTo>
                <a:lnTo>
                  <a:pt x="100" y="100"/>
                </a:lnTo>
                <a:lnTo>
                  <a:pt x="112" y="89"/>
                </a:lnTo>
                <a:lnTo>
                  <a:pt x="125" y="78"/>
                </a:lnTo>
                <a:lnTo>
                  <a:pt x="138" y="68"/>
                </a:lnTo>
                <a:lnTo>
                  <a:pt x="151" y="58"/>
                </a:lnTo>
                <a:lnTo>
                  <a:pt x="165" y="49"/>
                </a:lnTo>
                <a:lnTo>
                  <a:pt x="179" y="41"/>
                </a:lnTo>
                <a:lnTo>
                  <a:pt x="194" y="34"/>
                </a:lnTo>
                <a:lnTo>
                  <a:pt x="209" y="27"/>
                </a:lnTo>
                <a:lnTo>
                  <a:pt x="225" y="21"/>
                </a:lnTo>
                <a:lnTo>
                  <a:pt x="240" y="15"/>
                </a:lnTo>
                <a:lnTo>
                  <a:pt x="257" y="11"/>
                </a:lnTo>
                <a:lnTo>
                  <a:pt x="274" y="7"/>
                </a:lnTo>
                <a:lnTo>
                  <a:pt x="291" y="4"/>
                </a:lnTo>
                <a:lnTo>
                  <a:pt x="308" y="2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solidFill>
            <a:srgbClr val="c0c0c0"/>
          </a:solidFill>
          <a:ln w="46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819520"/>
            <a:ext cx="914400" cy="838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55960" y="251460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6520" y="2590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57320" y="449568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400" y="4191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42900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target occulted by a sphero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791320"/>
            <a:ext cx="15238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heroid partially occulting a second sphero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429000"/>
            <a:ext cx="17524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heroid fully occulting a second sphero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5813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spheroid passing between a second, larger spheroid and the ob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5867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2485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6560" y="58975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6560" y="62784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ing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8EB3-AB1A-4300-BFF7-683FB590F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9:16:27Z</dcterms:created>
  <dc:creator>Chuck Acton</dc:creator>
  <dc:description/>
  <cp:keywords/>
  <dc:language>en-US</dc:language>
  <cp:lastModifiedBy>Ed Wright</cp:lastModifiedBy>
  <cp:lastPrinted>2007-10-01T19:30:16Z</cp:lastPrinted>
  <dcterms:modified xsi:type="dcterms:W3CDTF">2007-10-02T15:29:01Z</dcterms:modified>
  <cp:revision>169</cp:revision>
  <dc:subject/>
  <dc:title>SPICE Overview - 1</dc:title>
</cp:coreProperties>
</file>