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FD8A-C8BB-457F-B1B8-1AB73B04F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82F7-5A0A-446B-B949-AFACEDFBE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A035-4F53-4273-A724-942A38A81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31BD-CFD7-40B2-AF1D-A5E4DF0FC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355E2-C840-4374-9532-3E545AA6B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3526B-DBAC-4291-949B-C1EFD54FA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187D6-5903-4392-B12F-EE0F5D9F6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E103-61CD-4A74-AD66-3330BFED0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8A20-1C5F-44E9-846A-37C30F3B9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8AD7-56E7-413E-9100-2238F3074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A2EB-907C-4575-A4D0-788761D22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31D5-FF59-4ED0-B534-B7327D074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992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5491A3-63B5-4D21-88A3-F76F2D56DFE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22813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62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132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144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66720" y="2263680"/>
            <a:ext cx="5994720" cy="1006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Writing an Mice (MATLAB)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ased Program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391440" cy="17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318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76320" y="380520"/>
            <a:ext cx="71596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mpute Lat/Lon and Illumination Ang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35396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planetocentric lat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s well as the planetodetic lat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 the intersection poin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‘found’ the return boolean from cspice_srfxp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60f50"/>
                </a:solidFill>
                <a:latin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( foun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clon, pc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reclat( po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03200" y="2971800"/>
            <a:ext cx="639288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Let re, rp, and f be the satellite's longer equa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radius, polar radius, and flattening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 =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radii(1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p =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radii(3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 = ( re - rp ) / 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alt] = cspice_recgeo( point, re, f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5160" y="4952880"/>
            <a:ext cx="776304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llumination angles we want are the outputs of cspice_illum.  Units are rad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illum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6171-6A51-48F0-B2C7-D82560B32E46}" type="slidenum">
              <a:t>10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16000" y="380520"/>
            <a:ext cx="66549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ometry Calculations: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53960"/>
            <a:ext cx="8001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Compute the boresight ray intersection with the surface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target body. `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ヒラギノ角ゴ Pro W3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 norm(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yield desired r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oint, dist, trgepc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spos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, f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srfxpt( 'Ellipsoid'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If an intercept is found, compute planetocentric and planet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latitude and longitude of the point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foun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clon, pc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reclat( po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Let re, rp, and f be the satellite's longer equa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radius, polar radius, and flattening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 = radii(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p = radii(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 = ( re - rp ) / 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dlon, pd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alt] = cspice_recgeo( point, re, f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Compute illumination angles at the surfac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hase, solar, emiss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illum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, 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’CN+S'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po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3B213-51DE-495A-ADFD-61632D63DA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90480" y="1596600"/>
            <a:ext cx="7996320" cy="465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de above used quite a few inputs that we don't have ye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DB epoch of interest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and s/c name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 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ixed fram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boresight vector in the 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these values are user inputs; others can be obtained via CSPICE call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the required kernels have been loa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prompt for the satellit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spacecraft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instrum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ime of interest 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= input( 'Enter satellite name  &gt; ', 's'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= input( 'Enter spacecraft name &gt; ', 's'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input( 'Enter instrument name &gt; ', 's'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= input( 'Enter time            &gt; ', 's'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F0B0-4C27-4465-9697-9564E149161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720" y="3098880"/>
            <a:ext cx="802656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720" y="1447920"/>
            <a:ext cx="8102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we can get the rest of the inputs from Mice cal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TDB epoch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from the user-supplied time string (which m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 to the UTC, TDB or TT time system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cspice_str2et( time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720" y="3049560"/>
            <a:ext cx="7834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satellite’s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dii = cspice_bodvrd(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atnm, 'RADII', 3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720" y="3902040"/>
            <a:ext cx="78343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instrument boresight direction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he name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n which it is defin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instid, found] = cspice_bodn2c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 ~foun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xt = sprintf( 'Unable to determine ID for instrument: %d', instnm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(t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shape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frame, ins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bundry] = cspice_getfov( instid, ROOM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2072-4396-4CF8-B25C-A7A4BB40793B}" type="slidenum">
              <a:t>13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50497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ting inputs: 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523880"/>
            <a:ext cx="792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Prompt for the user-supplied inputs for our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input( 'Enter setup file name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pice_furnsh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= input( 'Enter satellite name 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= input( 'Enter spacecraft name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input( 'Enter instrument name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tim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= input( 'Enter time           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Get the epoch corresponding to the input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cspice_str2et( time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Get the radii of the satell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cspice_bodvrd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'RADII', 3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Get the instrument boresight and frame n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instid, found] = cspice_bodn2c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~foun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xt = sprintf( 'Unable to determine ID for instrument: %d', instnm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(t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shape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frame, ins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bundry] = cspice_getfov( instid, ROOM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C437-1DE0-4FA5-BCBE-F545669058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38320" y="380520"/>
            <a:ext cx="30178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splay resul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600200"/>
            <a:ext cx="784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Display results.  Convert angles from radians to deg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for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2336760"/>
            <a:ext cx="73850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centric longitude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clo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centric latitude 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cla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detic longitude  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dlo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detic latitude   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R2D*pdla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Range from spacecraft to intercept point (km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t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Range from spacecraft to target center   (km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(obspos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hase angle             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has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solar incidence angle   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sola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emission angle          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emiss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456160"/>
            <a:ext cx="754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( ['No intercept point found at ' time ]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FF85-2E5C-435C-8FA0-632D110594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90480" y="1676160"/>
            <a:ext cx="7539120" cy="41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inish up the program we need to declare the variables we've 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highlight techniques used by NAIF programmer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remaining MATLAB code required to make a syntactically valid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052800" y="380520"/>
            <a:ext cx="44625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505320"/>
            <a:ext cx="63640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 PROG_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BCORR = 'CN+S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OOM   = 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    = cspice_dp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Prompt for the user-supplied inputs for our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input( 'Enter setup file name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pice_furnsh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= input( 'Enter satellite name 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= input( 'Enter spacecraft name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input( 'Enter instrument name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= input( 'Enter time           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FA7B-CC99-447F-8DC1-191931CBDB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12600" y="380520"/>
            <a:ext cx="5172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792504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Get the epoch corresponding to the input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cspice_str2et( time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Get the radii of the satell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cspice_bodvrd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'RADII', 3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Get the instrument boresight and frame n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instid, found] = cspice_bodn2c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~foun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xt = sprintf( 'Unable to determine ID for instrument: %d', instnm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(t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shape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frame, ins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bundry] = cspice_getfov( instid, ROOM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4F05-D2FB-48F1-B5ED-C8D3CAEE62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08000" y="380520"/>
            <a:ext cx="50734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523880"/>
            <a:ext cx="792504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Compute the boresight ray intersection with the surface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target body. `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ヒラギノ角ゴ Pro W3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 norm(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yield desired r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oint, d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trgepc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obspos, f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] = cspice_srfxpt( 'Ellipsoid'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, 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ABCORR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frame, ins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If an intercept is found, compute planetocentric and planet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latitude and longitude of th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foun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clon, pc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reclat( po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Let re, rp, and f be the satellite's longer equatorial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radius, polar radius, and flattening factor.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 = radii(1);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p = radii(3);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 = ( re - rp ) / 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dlon, pd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alt] = cspice_recgeo( point, re, f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Compute illumination angles at the surface poi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phase, solar, emissn] = cspice_illum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, 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ABCORR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po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85E4-5D48-46E8-B855-57A12DCC34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5920" y="380520"/>
            <a:ext cx="50734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523880"/>
            <a:ext cx="79250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Display results.  Convert angles from radians to degrees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for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centric longitude      (deg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clo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centric latitude       (deg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cla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detic longitude        (deg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dlo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detic latitude         (deg):  %11.6f\n',..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R2D*pdla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Range from spacecraft to intercept point (km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t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Range from spacecraft to target center   (km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(obspos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hase angle                   (deg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has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solar incidence angle         (deg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sola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emission angle                (deg):  %11.6f\n’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emiss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( ['No intercept point found at ' time 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Unload the kernels and clear the kernel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pice_k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A70D0-94E3-4668-99EA-E360584E32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05120" y="26665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is coding example is an “animated” presentation that is best viewed using PowerPoint set to “Slide Show” m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ndefined variables are displayed in red; results are displayed in b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236760" y="380520"/>
            <a:ext cx="42134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ewing This Tutoria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B79FF-2E9D-4ADA-9FDD-8C300AC43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90480" y="159876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looks like we have everything taken care o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all necess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made a setup file (metakernel) pointing to th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wrote the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run 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214440" y="380520"/>
            <a:ext cx="42591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562A-84B6-4AB0-AEE4-DB58DE95D3C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14440" y="380520"/>
            <a:ext cx="42591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80880" y="1447920"/>
            <a:ext cx="8501040" cy="4782960"/>
            <a:chOff x="380880" y="1447920"/>
            <a:chExt cx="8501040" cy="4782960"/>
          </a:xfrm>
        </p:grpSpPr>
        <p:grpSp>
          <p:nvGrpSpPr>
            <p:cNvPr id="199" name=""/>
            <p:cNvGrpSpPr/>
            <p:nvPr/>
          </p:nvGrpSpPr>
          <p:grpSpPr>
            <a:xfrm>
              <a:off x="380880" y="1447920"/>
              <a:ext cx="8501040" cy="4782960"/>
              <a:chOff x="380880" y="1447920"/>
              <a:chExt cx="8501040" cy="478296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380880" y="1447920"/>
                <a:ext cx="8501040" cy="4782960"/>
                <a:chOff x="380880" y="1447920"/>
                <a:chExt cx="8501040" cy="478296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380880" y="1447920"/>
                  <a:ext cx="8501040" cy="4782960"/>
                  <a:chOff x="380880" y="1447920"/>
                  <a:chExt cx="8501040" cy="47829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80880" y="17384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66440" y="16336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80880" y="14479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80880" y="61484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66440" y="61470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10760" y="14781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8" name=""/>
                <p:cNvSpPr/>
                <p:nvPr/>
              </p:nvSpPr>
              <p:spPr>
                <a:xfrm>
                  <a:off x="3790080" y="14781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04640" y="3164040"/>
                <a:ext cx="299880" cy="2143080"/>
                <a:chOff x="404640" y="3164040"/>
                <a:chExt cx="299880" cy="214308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404640" y="3164040"/>
                  <a:ext cx="299880" cy="2143080"/>
                  <a:chOff x="404640" y="3164040"/>
                  <a:chExt cx="299880" cy="214308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17240" y="31719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404640" y="3164040"/>
                    <a:ext cx="299880" cy="2143080"/>
                    <a:chOff x="404640" y="3164040"/>
                    <a:chExt cx="299880" cy="21430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04640" y="31640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06080" y="53071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547560" y="4213440"/>
                  <a:ext cx="46080" cy="42840"/>
                  <a:chOff x="547560" y="4213440"/>
                  <a:chExt cx="46080" cy="428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547560" y="42134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549000" y="42148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8" name=""/>
              <p:cNvGrpSpPr/>
              <p:nvPr/>
            </p:nvGrpSpPr>
            <p:grpSpPr>
              <a:xfrm>
                <a:off x="404640" y="5504040"/>
                <a:ext cx="301680" cy="601560"/>
                <a:chOff x="404640" y="5504040"/>
                <a:chExt cx="301680" cy="6015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404640" y="5826240"/>
                  <a:ext cx="301680" cy="279360"/>
                  <a:chOff x="404640" y="5826240"/>
                  <a:chExt cx="301680" cy="2793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417240" y="58294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404640" y="5826240"/>
                    <a:ext cx="301680" cy="279360"/>
                    <a:chOff x="404640" y="5826240"/>
                    <a:chExt cx="301680" cy="279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04640" y="58262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07880" y="61056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404640" y="5504040"/>
                  <a:ext cx="301680" cy="280800"/>
                  <a:chOff x="404640" y="5504040"/>
                  <a:chExt cx="301680" cy="280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417240" y="55087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404640" y="5504040"/>
                    <a:ext cx="301680" cy="280800"/>
                    <a:chOff x="404640" y="5504040"/>
                    <a:chExt cx="301680" cy="28080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04640" y="55040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407880" y="57848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9" name=""/>
                <p:cNvSpPr/>
                <p:nvPr/>
              </p:nvSpPr>
              <p:spPr>
                <a:xfrm>
                  <a:off x="514080" y="58993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2640" y="55785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"/>
            <p:cNvGrpSpPr/>
            <p:nvPr/>
          </p:nvGrpSpPr>
          <p:grpSpPr>
            <a:xfrm>
              <a:off x="434880" y="1494000"/>
              <a:ext cx="191880" cy="179280"/>
              <a:chOff x="434880" y="1494000"/>
              <a:chExt cx="191880" cy="179280"/>
            </a:xfrm>
          </p:grpSpPr>
          <p:sp>
            <p:nvSpPr>
              <p:cNvPr id="232" name=""/>
              <p:cNvSpPr/>
              <p:nvPr/>
            </p:nvSpPr>
            <p:spPr>
              <a:xfrm>
                <a:off x="441000" y="14940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434880" y="1498680"/>
                <a:ext cx="187200" cy="174600"/>
                <a:chOff x="434880" y="1498680"/>
                <a:chExt cx="187200" cy="1746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34880" y="14986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9560" y="16732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82400" y="1533600"/>
                <a:ext cx="102960" cy="98280"/>
                <a:chOff x="482400" y="1533600"/>
                <a:chExt cx="102960" cy="982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82400" y="15336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82400" y="15336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8613360" y="1503360"/>
              <a:ext cx="193680" cy="177840"/>
              <a:chOff x="8613360" y="1503360"/>
              <a:chExt cx="193680" cy="17784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8613360" y="1503360"/>
                <a:ext cx="193680" cy="177840"/>
                <a:chOff x="8613360" y="1503360"/>
                <a:chExt cx="193680" cy="177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8619840" y="15033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8613360" y="1505160"/>
                  <a:ext cx="193680" cy="176040"/>
                  <a:chOff x="8613360" y="1505160"/>
                  <a:chExt cx="193680" cy="1760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8613360" y="15051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621280" y="16812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8643600" y="1511280"/>
                <a:ext cx="138240" cy="152640"/>
                <a:chOff x="8643600" y="1511280"/>
                <a:chExt cx="138240" cy="152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8645400" y="15256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8643600" y="15112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8" name=""/>
          <p:cNvSpPr/>
          <p:nvPr/>
        </p:nvSpPr>
        <p:spPr>
          <a:xfrm>
            <a:off x="992520" y="1828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09556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etup file name &gt; setup.k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atellite name  &gt; titan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pacecraft name &gt; cassini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instrument name &gt; cassini_iss_nac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time            &gt; 2005 feb 15 8:15 U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ongitude      (deg):  -156.443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atitude       (deg):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ongitude        (deg):  -156.443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atitude         (deg):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intercept point (km):  4810.9418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target center   (km):  7384.326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hase angle                   (deg):    43.2745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solar incidence angle         (deg):    41.0384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emission angle                (deg):     2.5146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6040" y="1828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g_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0254-A5E1-4D96-910C-F21DFDD5E8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tude defin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centric latitude of a point P:  angle between segment from origin to point and x-y plane (red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detic latitude of a point P: angle between x-y plane and extension of ellipsoid normal vector N that connects x-y plane and P (blue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545000" y="380520"/>
            <a:ext cx="15955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ackup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612880" y="3621240"/>
            <a:ext cx="0" cy="24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842760" y="4429080"/>
            <a:ext cx="6911280" cy="32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651040" y="3544920"/>
            <a:ext cx="2881440" cy="245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303800" y="3544920"/>
            <a:ext cx="1228680" cy="249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17000" y="3181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16440" y="600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08240" y="496404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ellips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7748000">
            <a:off x="4957560" y="4616280"/>
            <a:ext cx="28080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08200" y="5278320"/>
            <a:ext cx="184140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2880" y="6041880"/>
            <a:ext cx="491652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48160" y="614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y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66000" y="4527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23240" y="397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56200" y="5227560"/>
            <a:ext cx="184068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11320" y="5554080"/>
            <a:ext cx="144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centr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76640" y="5626800"/>
            <a:ext cx="134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det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B712-6D62-42CC-B853-8317DA09EC42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let's go over the important steps in the process of writing a Mice-based program and putting it to work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 the geometry probl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he set of SPICE kernels that contain the data needed to perform the comput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ulate an algorithm to compute the quantities of interest using SP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and compile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actual kernel files and verify that they contain the data needed to support the computation for the time(s) of inter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llustrate these steps, let's write a program that computes the apparent intersection of the boresight ray of a given CASSINI science instrument with the surface of a given Saturnian satellite.   The program will comput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tocentric and planetodetic (geodetic) latitudes and longitudes of the intercept poi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ge from spacecraft to intercept point and from spacecraft to target cen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mination angles (phase, solar incidence, and emission) at the intercept poi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095360" y="380520"/>
            <a:ext cx="24973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FB65-DF18-47A1-A5B2-F375BD4853C4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11520" y="1393920"/>
            <a:ext cx="4730760" cy="5110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3520" y="534528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what mode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0760" y="1239840"/>
            <a:ext cx="39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he bore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on the surface,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/c to intercept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, and illumination angle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cept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3880" y="29718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9480" y="35481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objec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600" y="41101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instru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8680" y="472428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spacecraf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3200" y="30160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IME (UTC, TDB or 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72640" y="35863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A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82920" y="4110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S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04080" y="47242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C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81240" y="53355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TUP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380520"/>
            <a:ext cx="444024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bservation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0000" y="4311720"/>
            <a:ext cx="82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535400">
            <a:off x="6702840" y="4039920"/>
            <a:ext cx="1126440" cy="10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4229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42293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6080" y="5656320"/>
            <a:ext cx="601560" cy="587160"/>
          </a:xfrm>
          <a:custGeom>
            <a:avLst/>
            <a:gdLst>
              <a:gd name="textAreaLeft" fmla="*/ 137160 w 601560"/>
              <a:gd name="textAreaRight" fmla="*/ 464400 w 601560"/>
              <a:gd name="textAreaTop" fmla="*/ 133920 h 587160"/>
              <a:gd name="textAreaBottom" fmla="*/ 453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32440" y="4657680"/>
            <a:ext cx="2458800" cy="13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35520" y="389088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491240" y="3312720"/>
            <a:ext cx="844560" cy="13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1320" y="300672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29680" y="35082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618600">
            <a:off x="6406560" y="3690360"/>
            <a:ext cx="19047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43" y="14"/>
                </a:moveTo>
                <a:arcTo wR="10800" hR="10800" stAng="-5577502" swAng="5577502"/>
                <a:lnTo>
                  <a:pt x="10800" y="10800"/>
                </a:lnTo>
                <a:close/>
              </a:path>
              <a:path fill="none" w="21600" h="21600">
                <a:moveTo>
                  <a:pt x="10243" y="14"/>
                </a:moveTo>
                <a:arcTo wR="10800" hR="10800" stAng="-5577502" swAng="5577502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7091000">
            <a:off x="6918480" y="4196880"/>
            <a:ext cx="1380960" cy="127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981" y="698"/>
                </a:moveTo>
                <a:arcTo wR="10800" hR="10800" stAng="-6642670" swAng="6642670"/>
                <a:lnTo>
                  <a:pt x="10800" y="10800"/>
                </a:lnTo>
                <a:close/>
              </a:path>
              <a:path fill="none" w="21600" h="21600">
                <a:moveTo>
                  <a:pt x="6981" y="698"/>
                </a:moveTo>
                <a:arcTo wR="10800" hR="10800" stAng="-6642670" swAng="6642670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911480" y="2888280"/>
            <a:ext cx="2032560" cy="2208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F0E02-EF83-4C38-A3B5-2B85BDD061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52880" y="380520"/>
            <a:ext cx="2589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eeded Dat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41760" y="1528920"/>
            <a:ext cx="3708360" cy="4281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86280" y="2322360"/>
            <a:ext cx="45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ransformation ker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s of satellites,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hemerides for spacecraf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 barycenter and satell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40200" y="5079960"/>
            <a:ext cx="601920" cy="587520"/>
          </a:xfrm>
          <a:custGeom>
            <a:avLst/>
            <a:gdLst>
              <a:gd name="textAreaLeft" fmla="*/ 137160 w 601920"/>
              <a:gd name="textAreaRight" fmla="*/ 464760 w 601920"/>
              <a:gd name="textAreaTop" fmla="*/ 133920 h 587520"/>
              <a:gd name="textAreaBottom" fmla="*/ 453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610400" y="33904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97240" y="316080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148360" y="4235400"/>
            <a:ext cx="2457360" cy="11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35520" y="350532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8618600">
            <a:off x="6549120" y="33166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23160" y="31608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3535400">
            <a:off x="6779880" y="3642480"/>
            <a:ext cx="1123560" cy="108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4" y="6"/>
                </a:moveTo>
                <a:arcTo wR="10800" hR="10800" stAng="-5280924" swAng="5280924"/>
                <a:lnTo>
                  <a:pt x="10800" y="10800"/>
                </a:lnTo>
                <a:close/>
              </a:path>
              <a:path fill="none" w="21600" h="21600">
                <a:moveTo>
                  <a:pt x="11174" y="6"/>
                </a:moveTo>
                <a:arcTo wR="10800" hR="10800" stAng="-5280924" swAng="5280924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76320" y="4043520"/>
            <a:ext cx="82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674000">
            <a:off x="7396200" y="3688200"/>
            <a:ext cx="8744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93" y="487"/>
                </a:moveTo>
                <a:arcTo wR="10800" hR="10800" stAng="-6436356" swAng="5907042"/>
                <a:lnTo>
                  <a:pt x="10800" y="10800"/>
                </a:lnTo>
                <a:close/>
              </a:path>
              <a:path fill="none" w="21600" h="21600">
                <a:moveTo>
                  <a:pt x="7593" y="487"/>
                </a:moveTo>
                <a:arcTo wR="10800" hR="10800" stAng="-6436356" swAng="5907042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554800" y="2754720"/>
            <a:ext cx="1581120" cy="186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D606-3201-46A4-8D17-2B4328446A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55760"/>
            <a:ext cx="8534160" cy="47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quired to compute vectors, rotations and other parameters shown in the picture are stored in the SPICE kernels listed below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 these kernels have been selected to support this presentation; they should not be assumed to be appropriate for user application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          Kernel Type      File n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-----------------     --------------   -----------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me conversions            generic LS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naif0008.t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SINI SCLK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sini.ts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orientation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shape      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position          planet/s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hemeris SP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020514_SE_SAT105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anet barycenter position  planet SP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981005_PLTEPH-DE405S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position         spacecraft SPK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tour9201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orientation      spacecraft C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050215.b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alignment        CASSINI F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v37.t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boresight        Instrument I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iss_v09.t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647720" y="380520"/>
            <a:ext cx="739944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ich kinds of kernels are needed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7171-4407-46BA-B08E-C7B03A8311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340760" y="6562800"/>
            <a:ext cx="180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682640"/>
            <a:ext cx="84582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asiest and most flexible way to make these kernels available to the program is via cspice_furnsh. For this example we make a setup file (also called a “metakernel” or “furnsh kernel”) containing a list of kernels to be load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RNELS_TO_LOAD = (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naif0008.tls',             'cassini.tsc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pck00008.tpc',             '020514_SE_SAT105.bsp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981005_PLTEPH-DE405S.bsp', 'tour9201.bsp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050215.bc',            'cas_v37.tf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iss_v09.ti'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e make the program prompt for the name of this setup fi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input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'Enter setup file name &gt;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pice_furnsh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26240" y="378000"/>
            <a:ext cx="2633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oad ker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4520" y="2629080"/>
            <a:ext cx="7624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e:  these kernels have been selected to support this presentation; they should not be assumed to be appropriate for user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4ED8-721F-4F3B-9BFD-D990F8899B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90600" y="380520"/>
            <a:ext cx="45068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Solu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720" y="1355760"/>
            <a:ext cx="77630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setup file (“metakernel”) name; load kernels specified via setup file. (Done on previous char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user inputs required to completely specify problem.  Obtain further inputs required by geometry routines via Mice ca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section of the boresight direction ray with the surface of the satellite, presented as a triaxial ellipso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re is an inters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Cartesian coordinates of the intersection point to planetocentric latitudinal and planetodetic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spacecraft-to-intercept point range and spacecraft-to-target cent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the illumination angles (phase, solar incidence, and emission) at the intercept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the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discuss the geometric portion of the problem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BBF5-3ED7-46D8-8F10-98A780891D73}" type="slidenum">
              <a:t>8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1432080"/>
            <a:ext cx="807696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the instrument boresight vector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satellite’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surface at the TDB time of interest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 This cal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returns the distance between the spacecraft and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ight-time corrected epoch at the intercept point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the targe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-to-spacecraft vector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nd a boolean flag indicating wheth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tercept was found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te: undefined variables are in red; results are in blu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oint, dist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gepc,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 obspos, f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srfxpt(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'Ellipsoid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...      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706480" y="380520"/>
            <a:ext cx="5275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ute surface intercep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0040" y="4311720"/>
            <a:ext cx="77500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nges we want are obtained from the outputs of cspice_srfxpt.  These outputs are defined only if a surface  intercept is found.  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craft-to-surface intercept range is the output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-to-target center range is the norm of the output argument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s are km.  We use the MATLAB functi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r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obtain the n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norm( obspo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write out the range data along with the other program resul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3344-7016-4E21-A8FB-8FD334D0CCA8}" type="slidenum">
              <a:t>9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4-04-30T00:36:05Z</cp:lastPrinted>
  <dcterms:modified xsi:type="dcterms:W3CDTF">2007-10-12T23:53:24Z</dcterms:modified>
  <cp:revision>542</cp:revision>
  <dc:subject/>
  <dc:title>Writing a FORTRAN SPICE Based Program </dc:title>
</cp:coreProperties>
</file>