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ct" ContentType="image/x-pict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84D99-24C1-44EB-BE07-50746C9FA3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F439C-4403-47DC-BC77-95187A2B1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A6FB4-1B08-45EC-89C3-0B6ADAB078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8A515-8B5E-4D31-8E2E-A745BE24FF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0BD4B-3FDD-4AFF-8D39-4ECC1F3284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3315D-9EA7-4864-B882-FD9EF42378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90355-F92E-4C83-B165-B14B2AB7F1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F59A0-D538-4C52-9791-351F25131A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D23F9-7DFD-4C2B-ADEE-9C40F6DB78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75EC9-61A9-4500-BFCC-E3724864BD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571BC-4BD2-4588-AFB9-7E14FADAEB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31E77-9F55-44C8-80F3-DE29DC280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700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1FA9-8A20-4364-84B0-FB228571BB8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700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ct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7520" y="2271600"/>
            <a:ext cx="6816960" cy="227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Shape Model Preview </a:t>
            </a: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An overview of Current Status of and 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Further Development Plans for the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SPICE Digital Shape Kernel Subsystem (DSK)</a:t>
            </a:r>
            <a:endParaRPr b="1" lang="en-US" sz="24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00040" y="5181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r>
              <a:rPr b="1" lang="en-US" sz="2400" spc="-1" strike="noStrike">
                <a:solidFill>
                  <a:srgbClr val="081d58"/>
                </a:solidFill>
                <a:latin typeface="ヒラギノ角ゴ Pro W3"/>
              </a:rPr>
              <a:t>_x0013_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07600" y="1393560"/>
            <a:ext cx="8001000" cy="527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SK Fi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the SPICE DAS fil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nary, direct acc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-independent buffering built 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ent area built 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SK Softwar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ICE software which enables users to create and use DSK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r routi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er routi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-level API routi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example: routines dealing with observer-target geomet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ing utility pr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SK Docu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utor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ired Reading fi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ule head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2928600" y="380520"/>
            <a:ext cx="514044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SK System Component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S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712A1-2EF3-4051-A7F9-79229C4FCF9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75920" y="1228680"/>
            <a:ext cx="8001000" cy="547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utines that enable a SPICE-based application to create a DSK kern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n new DSK kernel for write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n existing DSK kernel for write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rt new DSK segment (“segments” are partial DSK data sets containing data for a given region on a specified objec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data to DSK segm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utines that extract data from a DSK fi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 elevation of surface at given longitude/latitu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 specified attributes, for example the surface normal vector, for a specified longitude and latitu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pidly obtain data for large portion of surface (“bulk read”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 DSK attributes such as number of plates, pixel size, min/max elevation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-level functions (including, but not limited to, the following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ute sub-observer point on surface and height of observer above surfa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ute intercept of ray with surfa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termine whether a portion of a target body’s surface is within the FOV of specified instrument at specified tim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termine occultation/transit state of a point targ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ute limb and terminator loc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ute Illumination angles at a specified surface poi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2548080" y="380520"/>
            <a:ext cx="58845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SK Software Components -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S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4BAEB-0C60-47D6-A962-EA1E34D7866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91760" y="1533600"/>
            <a:ext cx="8001000" cy="489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tility programs th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DSK files: import other surface shape data sets into SPICE DSK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 DSK fi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comment area acc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mmarize DSK file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set or merge DSK fi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wnsample DSK fi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vert one DSK data type to anoth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: create type 2 DSK file from type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2548080" y="380520"/>
            <a:ext cx="58845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SK Software Components -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S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4A082-2380-4CF7-9B0D-DBBDAAC3133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 radius at surface point  (inputs are in red, outputs in blue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LL DSKRAD ( </a:t>
            </a:r>
            <a:r>
              <a:rPr b="1" lang="en-US" sz="1500" spc="-1" strike="noStrike">
                <a:solidFill>
                  <a:srgbClr val="fc0128"/>
                </a:solidFill>
                <a:latin typeface="Arial"/>
              </a:rPr>
              <a:t>TARGET, LON, LAT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500" spc="-1" strike="noStrike">
                <a:solidFill>
                  <a:srgbClr val="063de8"/>
                </a:solidFill>
                <a:latin typeface="Arial"/>
              </a:rPr>
              <a:t>RADIUS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puts:  target body name, longitude and latitude of point of interes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utput:  radius (distance from target center) at surface poin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sub-observer point on targe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LL SUBPT ( </a:t>
            </a:r>
            <a:r>
              <a:rPr b="1" lang="en-US" sz="1500" spc="-1" strike="noStrike">
                <a:solidFill>
                  <a:srgbClr val="fc0128"/>
                </a:solidFill>
                <a:latin typeface="Arial"/>
              </a:rPr>
              <a:t>METHOD, TARGET, ET, ABCORR, OBSRVR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500" spc="-1" strike="noStrike">
                <a:solidFill>
                  <a:srgbClr val="063de8"/>
                </a:solidFill>
                <a:latin typeface="Arial"/>
              </a:rPr>
              <a:t>SPOINT, ALT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UBPT is a generic, high-level API.  SUBPT doesn’t assume the surface is modeled by a DSK.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put “METHOD” indicates surface model and sub-point definitio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527480" indent="-169560">
              <a:lnSpc>
                <a:spcPct val="8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or ellipsoids, METHOD may be set to ‘near point’ or ‘intercept’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527480" indent="-169560">
              <a:lnSpc>
                <a:spcPct val="8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or DSKs, set METHOD to ‘DSK intercept’, indicating that the sub-point is defined as the closest intersection to the observer of the observer-target center ray with the surface, and DSK model is to be used.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527480" indent="-169560">
              <a:lnSpc>
                <a:spcPct val="8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ote that SPICE should not assume DSK is to be used just because a DSK for the target body is loaded; may be too inefficient for some applications.  Caller must say which model is to be used.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ther inputs:  target body name, epoch, aberration correction, observer name.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utputs:  sub-observer point in Cartesian coordinates, expressed in the body-fixed frame associated with the target, and altitude of the observer above the sub-point.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597120" y="380520"/>
            <a:ext cx="37864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SK API Example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S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AB704-5E1B-47EA-A9F8-8080D0B8560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581280" y="3809880"/>
            <a:ext cx="1830600" cy="15242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60720" y="380520"/>
            <a:ext cx="67881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Using Shape with Orientation Data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73240" y="5607000"/>
            <a:ext cx="1295280" cy="352440"/>
          </a:xfrm>
          <a:prstGeom prst="roundRect">
            <a:avLst>
              <a:gd name="adj" fmla="val 16667"/>
            </a:avLst>
          </a:prstGeom>
          <a:solidFill>
            <a:srgbClr val="5e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09680" y="4378320"/>
            <a:ext cx="1067040" cy="304920"/>
          </a:xfrm>
          <a:prstGeom prst="roundRect">
            <a:avLst>
              <a:gd name="adj" fmla="val 16667"/>
            </a:avLst>
          </a:prstGeom>
          <a:solidFill>
            <a:srgbClr val="5e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17600" y="3014640"/>
            <a:ext cx="1067040" cy="457200"/>
          </a:xfrm>
          <a:prstGeom prst="roundRect">
            <a:avLst>
              <a:gd name="adj" fmla="val 16667"/>
            </a:avLst>
          </a:prstGeom>
          <a:solidFill>
            <a:srgbClr val="5e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92400" y="3006720"/>
            <a:ext cx="10951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KP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SPICE Toolki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76520" y="32353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52680" y="323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962520" y="2971800"/>
            <a:ext cx="1009440" cy="588960"/>
            <a:chOff x="3962520" y="2971800"/>
            <a:chExt cx="1009440" cy="588960"/>
          </a:xfrm>
        </p:grpSpPr>
        <p:sp>
          <p:nvSpPr>
            <p:cNvPr id="176" name=""/>
            <p:cNvSpPr/>
            <p:nvPr/>
          </p:nvSpPr>
          <p:spPr>
            <a:xfrm>
              <a:off x="3974400" y="3155760"/>
              <a:ext cx="49320" cy="79920"/>
            </a:xfrm>
            <a:custGeom>
              <a:avLst/>
              <a:gdLst/>
              <a:ahLst/>
              <a:rect l="l" t="t" r="r" b="b"/>
              <a:pathLst>
                <a:path w="130" h="211">
                  <a:moveTo>
                    <a:pt x="127" y="0"/>
                  </a:moveTo>
                  <a:lnTo>
                    <a:pt x="30" y="102"/>
                  </a:lnTo>
                  <a:lnTo>
                    <a:pt x="0" y="210"/>
                  </a:lnTo>
                  <a:lnTo>
                    <a:pt x="129" y="6"/>
                  </a:lnTo>
                  <a:lnTo>
                    <a:pt x="1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62520" y="2972880"/>
              <a:ext cx="1009440" cy="587880"/>
            </a:xfrm>
            <a:custGeom>
              <a:avLst/>
              <a:gdLst/>
              <a:ahLst/>
              <a:rect l="l" t="t" r="r" b="b"/>
              <a:pathLst>
                <a:path w="2660" h="1549">
                  <a:moveTo>
                    <a:pt x="212" y="511"/>
                  </a:moveTo>
                  <a:lnTo>
                    <a:pt x="175" y="518"/>
                  </a:lnTo>
                  <a:lnTo>
                    <a:pt x="152" y="533"/>
                  </a:lnTo>
                  <a:lnTo>
                    <a:pt x="121" y="557"/>
                  </a:lnTo>
                  <a:lnTo>
                    <a:pt x="91" y="579"/>
                  </a:lnTo>
                  <a:lnTo>
                    <a:pt x="76" y="602"/>
                  </a:lnTo>
                  <a:lnTo>
                    <a:pt x="60" y="625"/>
                  </a:lnTo>
                  <a:lnTo>
                    <a:pt x="45" y="656"/>
                  </a:lnTo>
                  <a:lnTo>
                    <a:pt x="37" y="678"/>
                  </a:lnTo>
                  <a:lnTo>
                    <a:pt x="30" y="717"/>
                  </a:lnTo>
                  <a:lnTo>
                    <a:pt x="15" y="747"/>
                  </a:lnTo>
                  <a:lnTo>
                    <a:pt x="7" y="769"/>
                  </a:lnTo>
                  <a:lnTo>
                    <a:pt x="0" y="793"/>
                  </a:lnTo>
                  <a:lnTo>
                    <a:pt x="0" y="816"/>
                  </a:lnTo>
                  <a:lnTo>
                    <a:pt x="0" y="838"/>
                  </a:lnTo>
                  <a:lnTo>
                    <a:pt x="0" y="862"/>
                  </a:lnTo>
                  <a:lnTo>
                    <a:pt x="0" y="892"/>
                  </a:lnTo>
                  <a:lnTo>
                    <a:pt x="0" y="922"/>
                  </a:lnTo>
                  <a:lnTo>
                    <a:pt x="7" y="953"/>
                  </a:lnTo>
                  <a:lnTo>
                    <a:pt x="22" y="983"/>
                  </a:lnTo>
                  <a:lnTo>
                    <a:pt x="30" y="1006"/>
                  </a:lnTo>
                  <a:lnTo>
                    <a:pt x="52" y="1022"/>
                  </a:lnTo>
                  <a:lnTo>
                    <a:pt x="76" y="1044"/>
                  </a:lnTo>
                  <a:lnTo>
                    <a:pt x="106" y="1059"/>
                  </a:lnTo>
                  <a:lnTo>
                    <a:pt x="136" y="1074"/>
                  </a:lnTo>
                  <a:lnTo>
                    <a:pt x="167" y="1098"/>
                  </a:lnTo>
                  <a:lnTo>
                    <a:pt x="197" y="1113"/>
                  </a:lnTo>
                  <a:lnTo>
                    <a:pt x="220" y="1121"/>
                  </a:lnTo>
                  <a:lnTo>
                    <a:pt x="243" y="1128"/>
                  </a:lnTo>
                  <a:lnTo>
                    <a:pt x="259" y="1136"/>
                  </a:lnTo>
                  <a:lnTo>
                    <a:pt x="281" y="1143"/>
                  </a:lnTo>
                  <a:lnTo>
                    <a:pt x="304" y="1151"/>
                  </a:lnTo>
                  <a:lnTo>
                    <a:pt x="335" y="1158"/>
                  </a:lnTo>
                  <a:lnTo>
                    <a:pt x="365" y="1174"/>
                  </a:lnTo>
                  <a:lnTo>
                    <a:pt x="388" y="1182"/>
                  </a:lnTo>
                  <a:lnTo>
                    <a:pt x="411" y="1182"/>
                  </a:lnTo>
                  <a:lnTo>
                    <a:pt x="441" y="1189"/>
                  </a:lnTo>
                  <a:lnTo>
                    <a:pt x="464" y="1197"/>
                  </a:lnTo>
                  <a:lnTo>
                    <a:pt x="495" y="1204"/>
                  </a:lnTo>
                  <a:lnTo>
                    <a:pt x="525" y="1204"/>
                  </a:lnTo>
                  <a:lnTo>
                    <a:pt x="548" y="1212"/>
                  </a:lnTo>
                  <a:lnTo>
                    <a:pt x="579" y="1219"/>
                  </a:lnTo>
                  <a:lnTo>
                    <a:pt x="601" y="1227"/>
                  </a:lnTo>
                  <a:lnTo>
                    <a:pt x="632" y="1235"/>
                  </a:lnTo>
                  <a:lnTo>
                    <a:pt x="662" y="1243"/>
                  </a:lnTo>
                  <a:lnTo>
                    <a:pt x="700" y="1258"/>
                  </a:lnTo>
                  <a:lnTo>
                    <a:pt x="739" y="1273"/>
                  </a:lnTo>
                  <a:lnTo>
                    <a:pt x="769" y="1281"/>
                  </a:lnTo>
                  <a:lnTo>
                    <a:pt x="807" y="1296"/>
                  </a:lnTo>
                  <a:lnTo>
                    <a:pt x="837" y="1311"/>
                  </a:lnTo>
                  <a:lnTo>
                    <a:pt x="868" y="1327"/>
                  </a:lnTo>
                  <a:lnTo>
                    <a:pt x="899" y="1334"/>
                  </a:lnTo>
                  <a:lnTo>
                    <a:pt x="929" y="1349"/>
                  </a:lnTo>
                  <a:lnTo>
                    <a:pt x="967" y="1364"/>
                  </a:lnTo>
                  <a:lnTo>
                    <a:pt x="997" y="1379"/>
                  </a:lnTo>
                  <a:lnTo>
                    <a:pt x="1021" y="1387"/>
                  </a:lnTo>
                  <a:lnTo>
                    <a:pt x="1051" y="1395"/>
                  </a:lnTo>
                  <a:lnTo>
                    <a:pt x="1089" y="1411"/>
                  </a:lnTo>
                  <a:lnTo>
                    <a:pt x="1112" y="1418"/>
                  </a:lnTo>
                  <a:lnTo>
                    <a:pt x="1150" y="1433"/>
                  </a:lnTo>
                  <a:lnTo>
                    <a:pt x="1173" y="1441"/>
                  </a:lnTo>
                  <a:lnTo>
                    <a:pt x="1196" y="1448"/>
                  </a:lnTo>
                  <a:lnTo>
                    <a:pt x="1234" y="1456"/>
                  </a:lnTo>
                  <a:lnTo>
                    <a:pt x="1265" y="1463"/>
                  </a:lnTo>
                  <a:lnTo>
                    <a:pt x="1295" y="1479"/>
                  </a:lnTo>
                  <a:lnTo>
                    <a:pt x="1325" y="1487"/>
                  </a:lnTo>
                  <a:lnTo>
                    <a:pt x="1356" y="1494"/>
                  </a:lnTo>
                  <a:lnTo>
                    <a:pt x="1394" y="1502"/>
                  </a:lnTo>
                  <a:lnTo>
                    <a:pt x="1425" y="1509"/>
                  </a:lnTo>
                  <a:lnTo>
                    <a:pt x="1447" y="1517"/>
                  </a:lnTo>
                  <a:lnTo>
                    <a:pt x="1470" y="1517"/>
                  </a:lnTo>
                  <a:lnTo>
                    <a:pt x="1493" y="1517"/>
                  </a:lnTo>
                  <a:lnTo>
                    <a:pt x="1516" y="1524"/>
                  </a:lnTo>
                  <a:lnTo>
                    <a:pt x="1538" y="1524"/>
                  </a:lnTo>
                  <a:lnTo>
                    <a:pt x="1569" y="1532"/>
                  </a:lnTo>
                  <a:lnTo>
                    <a:pt x="1592" y="1532"/>
                  </a:lnTo>
                  <a:lnTo>
                    <a:pt x="1622" y="1540"/>
                  </a:lnTo>
                  <a:lnTo>
                    <a:pt x="1653" y="1540"/>
                  </a:lnTo>
                  <a:lnTo>
                    <a:pt x="1676" y="1548"/>
                  </a:lnTo>
                  <a:lnTo>
                    <a:pt x="1698" y="1548"/>
                  </a:lnTo>
                  <a:lnTo>
                    <a:pt x="1721" y="1548"/>
                  </a:lnTo>
                  <a:lnTo>
                    <a:pt x="1760" y="1548"/>
                  </a:lnTo>
                  <a:lnTo>
                    <a:pt x="1790" y="1548"/>
                  </a:lnTo>
                  <a:lnTo>
                    <a:pt x="1828" y="1548"/>
                  </a:lnTo>
                  <a:lnTo>
                    <a:pt x="1851" y="1548"/>
                  </a:lnTo>
                  <a:lnTo>
                    <a:pt x="1874" y="1548"/>
                  </a:lnTo>
                  <a:lnTo>
                    <a:pt x="1890" y="1548"/>
                  </a:lnTo>
                  <a:lnTo>
                    <a:pt x="1912" y="1548"/>
                  </a:lnTo>
                  <a:lnTo>
                    <a:pt x="1935" y="1540"/>
                  </a:lnTo>
                  <a:lnTo>
                    <a:pt x="1958" y="1540"/>
                  </a:lnTo>
                  <a:lnTo>
                    <a:pt x="1981" y="1532"/>
                  </a:lnTo>
                  <a:lnTo>
                    <a:pt x="2011" y="1532"/>
                  </a:lnTo>
                  <a:lnTo>
                    <a:pt x="2034" y="1524"/>
                  </a:lnTo>
                  <a:lnTo>
                    <a:pt x="2057" y="1524"/>
                  </a:lnTo>
                  <a:lnTo>
                    <a:pt x="2080" y="1524"/>
                  </a:lnTo>
                  <a:lnTo>
                    <a:pt x="2118" y="1517"/>
                  </a:lnTo>
                  <a:lnTo>
                    <a:pt x="2141" y="1509"/>
                  </a:lnTo>
                  <a:lnTo>
                    <a:pt x="2163" y="1509"/>
                  </a:lnTo>
                  <a:lnTo>
                    <a:pt x="2202" y="1494"/>
                  </a:lnTo>
                  <a:lnTo>
                    <a:pt x="2240" y="1487"/>
                  </a:lnTo>
                  <a:lnTo>
                    <a:pt x="2262" y="1479"/>
                  </a:lnTo>
                  <a:lnTo>
                    <a:pt x="2286" y="1471"/>
                  </a:lnTo>
                  <a:lnTo>
                    <a:pt x="2323" y="1456"/>
                  </a:lnTo>
                  <a:lnTo>
                    <a:pt x="2346" y="1441"/>
                  </a:lnTo>
                  <a:lnTo>
                    <a:pt x="2370" y="1426"/>
                  </a:lnTo>
                  <a:lnTo>
                    <a:pt x="2392" y="1418"/>
                  </a:lnTo>
                  <a:lnTo>
                    <a:pt x="2430" y="1387"/>
                  </a:lnTo>
                  <a:lnTo>
                    <a:pt x="2446" y="1364"/>
                  </a:lnTo>
                  <a:lnTo>
                    <a:pt x="2476" y="1342"/>
                  </a:lnTo>
                  <a:lnTo>
                    <a:pt x="2506" y="1311"/>
                  </a:lnTo>
                  <a:lnTo>
                    <a:pt x="2530" y="1273"/>
                  </a:lnTo>
                  <a:lnTo>
                    <a:pt x="2560" y="1243"/>
                  </a:lnTo>
                  <a:lnTo>
                    <a:pt x="2575" y="1219"/>
                  </a:lnTo>
                  <a:lnTo>
                    <a:pt x="2598" y="1182"/>
                  </a:lnTo>
                  <a:lnTo>
                    <a:pt x="2621" y="1143"/>
                  </a:lnTo>
                  <a:lnTo>
                    <a:pt x="2636" y="1106"/>
                  </a:lnTo>
                  <a:lnTo>
                    <a:pt x="2651" y="1067"/>
                  </a:lnTo>
                  <a:lnTo>
                    <a:pt x="2659" y="1029"/>
                  </a:lnTo>
                  <a:lnTo>
                    <a:pt x="2659" y="1006"/>
                  </a:lnTo>
                  <a:lnTo>
                    <a:pt x="2659" y="983"/>
                  </a:lnTo>
                  <a:lnTo>
                    <a:pt x="2659" y="961"/>
                  </a:lnTo>
                  <a:lnTo>
                    <a:pt x="2659" y="938"/>
                  </a:lnTo>
                  <a:lnTo>
                    <a:pt x="2659" y="899"/>
                  </a:lnTo>
                  <a:lnTo>
                    <a:pt x="2659" y="877"/>
                  </a:lnTo>
                  <a:lnTo>
                    <a:pt x="2659" y="854"/>
                  </a:lnTo>
                  <a:lnTo>
                    <a:pt x="2659" y="831"/>
                  </a:lnTo>
                  <a:lnTo>
                    <a:pt x="2659" y="808"/>
                  </a:lnTo>
                  <a:lnTo>
                    <a:pt x="2659" y="785"/>
                  </a:lnTo>
                  <a:lnTo>
                    <a:pt x="2659" y="747"/>
                  </a:lnTo>
                  <a:lnTo>
                    <a:pt x="2651" y="717"/>
                  </a:lnTo>
                  <a:lnTo>
                    <a:pt x="2643" y="686"/>
                  </a:lnTo>
                  <a:lnTo>
                    <a:pt x="2643" y="663"/>
                  </a:lnTo>
                  <a:lnTo>
                    <a:pt x="2628" y="633"/>
                  </a:lnTo>
                  <a:lnTo>
                    <a:pt x="2598" y="594"/>
                  </a:lnTo>
                  <a:lnTo>
                    <a:pt x="2567" y="564"/>
                  </a:lnTo>
                  <a:lnTo>
                    <a:pt x="2552" y="541"/>
                  </a:lnTo>
                  <a:lnTo>
                    <a:pt x="2537" y="518"/>
                  </a:lnTo>
                  <a:lnTo>
                    <a:pt x="2514" y="495"/>
                  </a:lnTo>
                  <a:lnTo>
                    <a:pt x="2491" y="473"/>
                  </a:lnTo>
                  <a:lnTo>
                    <a:pt x="2468" y="449"/>
                  </a:lnTo>
                  <a:lnTo>
                    <a:pt x="2446" y="427"/>
                  </a:lnTo>
                  <a:lnTo>
                    <a:pt x="2422" y="412"/>
                  </a:lnTo>
                  <a:lnTo>
                    <a:pt x="2400" y="397"/>
                  </a:lnTo>
                  <a:lnTo>
                    <a:pt x="2377" y="381"/>
                  </a:lnTo>
                  <a:lnTo>
                    <a:pt x="2346" y="350"/>
                  </a:lnTo>
                  <a:lnTo>
                    <a:pt x="2316" y="335"/>
                  </a:lnTo>
                  <a:lnTo>
                    <a:pt x="2286" y="320"/>
                  </a:lnTo>
                  <a:lnTo>
                    <a:pt x="2255" y="312"/>
                  </a:lnTo>
                  <a:lnTo>
                    <a:pt x="2225" y="297"/>
                  </a:lnTo>
                  <a:lnTo>
                    <a:pt x="2186" y="297"/>
                  </a:lnTo>
                  <a:lnTo>
                    <a:pt x="2163" y="289"/>
                  </a:lnTo>
                  <a:lnTo>
                    <a:pt x="2141" y="289"/>
                  </a:lnTo>
                  <a:lnTo>
                    <a:pt x="2110" y="282"/>
                  </a:lnTo>
                  <a:lnTo>
                    <a:pt x="2087" y="282"/>
                  </a:lnTo>
                  <a:lnTo>
                    <a:pt x="2065" y="274"/>
                  </a:lnTo>
                  <a:lnTo>
                    <a:pt x="2034" y="274"/>
                  </a:lnTo>
                  <a:lnTo>
                    <a:pt x="2011" y="267"/>
                  </a:lnTo>
                  <a:lnTo>
                    <a:pt x="1973" y="259"/>
                  </a:lnTo>
                  <a:lnTo>
                    <a:pt x="1942" y="252"/>
                  </a:lnTo>
                  <a:lnTo>
                    <a:pt x="1912" y="252"/>
                  </a:lnTo>
                  <a:lnTo>
                    <a:pt x="1890" y="244"/>
                  </a:lnTo>
                  <a:lnTo>
                    <a:pt x="1874" y="244"/>
                  </a:lnTo>
                  <a:lnTo>
                    <a:pt x="1851" y="236"/>
                  </a:lnTo>
                  <a:lnTo>
                    <a:pt x="1821" y="236"/>
                  </a:lnTo>
                  <a:lnTo>
                    <a:pt x="1798" y="228"/>
                  </a:lnTo>
                  <a:lnTo>
                    <a:pt x="1775" y="228"/>
                  </a:lnTo>
                  <a:lnTo>
                    <a:pt x="1745" y="221"/>
                  </a:lnTo>
                  <a:lnTo>
                    <a:pt x="1706" y="213"/>
                  </a:lnTo>
                  <a:lnTo>
                    <a:pt x="1683" y="205"/>
                  </a:lnTo>
                  <a:lnTo>
                    <a:pt x="1661" y="205"/>
                  </a:lnTo>
                  <a:lnTo>
                    <a:pt x="1637" y="198"/>
                  </a:lnTo>
                  <a:lnTo>
                    <a:pt x="1607" y="190"/>
                  </a:lnTo>
                  <a:lnTo>
                    <a:pt x="1585" y="183"/>
                  </a:lnTo>
                  <a:lnTo>
                    <a:pt x="1561" y="168"/>
                  </a:lnTo>
                  <a:lnTo>
                    <a:pt x="1531" y="160"/>
                  </a:lnTo>
                  <a:lnTo>
                    <a:pt x="1508" y="144"/>
                  </a:lnTo>
                  <a:lnTo>
                    <a:pt x="1485" y="137"/>
                  </a:lnTo>
                  <a:lnTo>
                    <a:pt x="1462" y="122"/>
                  </a:lnTo>
                  <a:lnTo>
                    <a:pt x="1432" y="114"/>
                  </a:lnTo>
                  <a:lnTo>
                    <a:pt x="1401" y="99"/>
                  </a:lnTo>
                  <a:lnTo>
                    <a:pt x="1378" y="92"/>
                  </a:lnTo>
                  <a:lnTo>
                    <a:pt x="1356" y="84"/>
                  </a:lnTo>
                  <a:lnTo>
                    <a:pt x="1325" y="76"/>
                  </a:lnTo>
                  <a:lnTo>
                    <a:pt x="1302" y="68"/>
                  </a:lnTo>
                  <a:lnTo>
                    <a:pt x="1272" y="60"/>
                  </a:lnTo>
                  <a:lnTo>
                    <a:pt x="1241" y="53"/>
                  </a:lnTo>
                  <a:lnTo>
                    <a:pt x="1203" y="45"/>
                  </a:lnTo>
                  <a:lnTo>
                    <a:pt x="1165" y="38"/>
                  </a:lnTo>
                  <a:lnTo>
                    <a:pt x="1142" y="30"/>
                  </a:lnTo>
                  <a:lnTo>
                    <a:pt x="1112" y="23"/>
                  </a:lnTo>
                  <a:lnTo>
                    <a:pt x="1081" y="15"/>
                  </a:lnTo>
                  <a:lnTo>
                    <a:pt x="1058" y="15"/>
                  </a:lnTo>
                  <a:lnTo>
                    <a:pt x="1028" y="15"/>
                  </a:lnTo>
                  <a:lnTo>
                    <a:pt x="997" y="8"/>
                  </a:lnTo>
                  <a:lnTo>
                    <a:pt x="967" y="8"/>
                  </a:lnTo>
                  <a:lnTo>
                    <a:pt x="937" y="8"/>
                  </a:lnTo>
                  <a:lnTo>
                    <a:pt x="906" y="0"/>
                  </a:lnTo>
                  <a:lnTo>
                    <a:pt x="868" y="0"/>
                  </a:lnTo>
                  <a:lnTo>
                    <a:pt x="830" y="0"/>
                  </a:lnTo>
                  <a:lnTo>
                    <a:pt x="807" y="0"/>
                  </a:lnTo>
                  <a:lnTo>
                    <a:pt x="769" y="0"/>
                  </a:lnTo>
                  <a:lnTo>
                    <a:pt x="731" y="0"/>
                  </a:lnTo>
                  <a:lnTo>
                    <a:pt x="700" y="0"/>
                  </a:lnTo>
                  <a:lnTo>
                    <a:pt x="677" y="0"/>
                  </a:lnTo>
                  <a:lnTo>
                    <a:pt x="655" y="0"/>
                  </a:lnTo>
                  <a:lnTo>
                    <a:pt x="616" y="8"/>
                  </a:lnTo>
                  <a:lnTo>
                    <a:pt x="586" y="8"/>
                  </a:lnTo>
                  <a:lnTo>
                    <a:pt x="556" y="15"/>
                  </a:lnTo>
                  <a:lnTo>
                    <a:pt x="532" y="23"/>
                  </a:lnTo>
                  <a:lnTo>
                    <a:pt x="510" y="30"/>
                  </a:lnTo>
                  <a:lnTo>
                    <a:pt x="487" y="38"/>
                  </a:lnTo>
                  <a:lnTo>
                    <a:pt x="464" y="53"/>
                  </a:lnTo>
                  <a:lnTo>
                    <a:pt x="441" y="68"/>
                  </a:lnTo>
                  <a:lnTo>
                    <a:pt x="419" y="84"/>
                  </a:lnTo>
                  <a:lnTo>
                    <a:pt x="396" y="92"/>
                  </a:lnTo>
                  <a:lnTo>
                    <a:pt x="372" y="114"/>
                  </a:lnTo>
                  <a:lnTo>
                    <a:pt x="350" y="129"/>
                  </a:lnTo>
                  <a:lnTo>
                    <a:pt x="327" y="152"/>
                  </a:lnTo>
                  <a:lnTo>
                    <a:pt x="304" y="175"/>
                  </a:lnTo>
                  <a:lnTo>
                    <a:pt x="281" y="198"/>
                  </a:lnTo>
                  <a:lnTo>
                    <a:pt x="266" y="221"/>
                  </a:lnTo>
                  <a:lnTo>
                    <a:pt x="251" y="244"/>
                  </a:lnTo>
                  <a:lnTo>
                    <a:pt x="236" y="267"/>
                  </a:lnTo>
                  <a:lnTo>
                    <a:pt x="220" y="289"/>
                  </a:lnTo>
                  <a:lnTo>
                    <a:pt x="212" y="320"/>
                  </a:lnTo>
                  <a:lnTo>
                    <a:pt x="197" y="350"/>
                  </a:lnTo>
                  <a:lnTo>
                    <a:pt x="190" y="366"/>
                  </a:lnTo>
                  <a:lnTo>
                    <a:pt x="182" y="389"/>
                  </a:lnTo>
                  <a:lnTo>
                    <a:pt x="175" y="412"/>
                  </a:lnTo>
                  <a:lnTo>
                    <a:pt x="167" y="434"/>
                  </a:lnTo>
                  <a:lnTo>
                    <a:pt x="160" y="457"/>
                  </a:lnTo>
                  <a:lnTo>
                    <a:pt x="160" y="480"/>
                  </a:lnTo>
                  <a:lnTo>
                    <a:pt x="144" y="503"/>
                  </a:lnTo>
                  <a:lnTo>
                    <a:pt x="121" y="518"/>
                  </a:lnTo>
                  <a:lnTo>
                    <a:pt x="114" y="541"/>
                  </a:lnTo>
                  <a:lnTo>
                    <a:pt x="91" y="557"/>
                  </a:lnTo>
                  <a:lnTo>
                    <a:pt x="84" y="579"/>
                  </a:lnTo>
                  <a:lnTo>
                    <a:pt x="68" y="594"/>
                  </a:lnTo>
                  <a:lnTo>
                    <a:pt x="60" y="617"/>
                  </a:lnTo>
                  <a:lnTo>
                    <a:pt x="52" y="640"/>
                  </a:lnTo>
                  <a:lnTo>
                    <a:pt x="52" y="656"/>
                  </a:lnTo>
                </a:path>
              </a:pathLst>
            </a:custGeom>
            <a:gradFill rotWithShape="0">
              <a:gsLst>
                <a:gs pos="0">
                  <a:srgbClr val="ffabb9"/>
                </a:gs>
                <a:gs pos="100000">
                  <a:srgbClr val="b1050d"/>
                </a:gs>
              </a:gsLst>
              <a:path path="rect">
                <a:fillToRect l="50000" t="50000" r="50000" b="50000"/>
              </a:path>
            </a:gra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95280" y="3200040"/>
              <a:ext cx="135720" cy="98280"/>
            </a:xfrm>
            <a:prstGeom prst="triangle">
              <a:avLst>
                <a:gd name="adj" fmla="val 43667"/>
              </a:avLst>
            </a:prstGeom>
            <a:solidFill>
              <a:srgbClr val="919191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rot="10800000">
              <a:off x="3992400" y="3301200"/>
              <a:ext cx="135720" cy="97920"/>
            </a:xfrm>
            <a:prstGeom prst="triangle">
              <a:avLst>
                <a:gd name="adj" fmla="val 100000"/>
              </a:avLst>
            </a:prstGeom>
            <a:solidFill>
              <a:srgbClr val="86868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0800000">
              <a:off x="4053240" y="3199680"/>
              <a:ext cx="135720" cy="98280"/>
            </a:xfrm>
            <a:prstGeom prst="triangle">
              <a:avLst>
                <a:gd name="adj" fmla="val 43667"/>
              </a:avLst>
            </a:prstGeom>
            <a:solidFill>
              <a:srgbClr val="86868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0800000">
              <a:off x="4132080" y="3300480"/>
              <a:ext cx="135720" cy="97560"/>
            </a:xfrm>
            <a:prstGeom prst="triangle">
              <a:avLst>
                <a:gd name="adj" fmla="val 100000"/>
              </a:avLst>
            </a:prstGeom>
            <a:solidFill>
              <a:srgbClr val="c3c3c3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97240" y="3061080"/>
              <a:ext cx="146160" cy="92880"/>
            </a:xfrm>
            <a:prstGeom prst="triangle">
              <a:avLst>
                <a:gd name="adj" fmla="val 49986"/>
              </a:avLst>
            </a:prstGeom>
            <a:solidFill>
              <a:srgbClr val="b2b2b2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32440" y="3201120"/>
              <a:ext cx="131400" cy="97200"/>
            </a:xfrm>
            <a:prstGeom prst="triangle">
              <a:avLst>
                <a:gd name="adj" fmla="val 43866"/>
              </a:avLst>
            </a:prstGeom>
            <a:solidFill>
              <a:srgbClr val="b2b2b2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56120" y="3090960"/>
              <a:ext cx="132480" cy="106920"/>
            </a:xfrm>
            <a:prstGeom prst="triangle">
              <a:avLst>
                <a:gd name="adj" fmla="val 49968"/>
              </a:avLst>
            </a:prstGeom>
            <a:solidFill>
              <a:srgbClr val="86868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94560" y="3299760"/>
              <a:ext cx="137160" cy="99360"/>
            </a:xfrm>
            <a:custGeom>
              <a:avLst/>
              <a:gdLst/>
              <a:ahLst/>
              <a:rect l="l" t="t" r="r" b="b"/>
              <a:pathLst>
                <a:path w="362" h="262">
                  <a:moveTo>
                    <a:pt x="0" y="0"/>
                  </a:moveTo>
                  <a:lnTo>
                    <a:pt x="48" y="213"/>
                  </a:lnTo>
                  <a:lnTo>
                    <a:pt x="361" y="261"/>
                  </a:lnTo>
                  <a:lnTo>
                    <a:pt x="0" y="0"/>
                  </a:lnTo>
                </a:path>
              </a:pathLst>
            </a:custGeom>
            <a:solidFill>
              <a:srgbClr val="393939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75840" y="3200040"/>
              <a:ext cx="78480" cy="97920"/>
            </a:xfrm>
            <a:custGeom>
              <a:avLst/>
              <a:gdLst/>
              <a:ahLst/>
              <a:rect l="l" t="t" r="r" b="b"/>
              <a:pathLst>
                <a:path w="207" h="258">
                  <a:moveTo>
                    <a:pt x="52" y="257"/>
                  </a:moveTo>
                  <a:lnTo>
                    <a:pt x="0" y="88"/>
                  </a:lnTo>
                  <a:lnTo>
                    <a:pt x="206" y="0"/>
                  </a:lnTo>
                  <a:lnTo>
                    <a:pt x="52" y="257"/>
                  </a:lnTo>
                </a:path>
              </a:pathLst>
            </a:custGeom>
            <a:solidFill>
              <a:srgbClr val="393939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62520" y="3235680"/>
              <a:ext cx="33840" cy="70560"/>
            </a:xfrm>
            <a:custGeom>
              <a:avLst/>
              <a:gdLst/>
              <a:ahLst/>
              <a:rect l="l" t="t" r="r" b="b"/>
              <a:pathLst>
                <a:path w="90" h="186">
                  <a:moveTo>
                    <a:pt x="36" y="0"/>
                  </a:moveTo>
                  <a:lnTo>
                    <a:pt x="0" y="185"/>
                  </a:lnTo>
                  <a:lnTo>
                    <a:pt x="89" y="172"/>
                  </a:lnTo>
                  <a:lnTo>
                    <a:pt x="36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63240" y="3301560"/>
              <a:ext cx="50400" cy="82080"/>
            </a:xfrm>
            <a:custGeom>
              <a:avLst/>
              <a:gdLst/>
              <a:ahLst/>
              <a:rect l="l" t="t" r="r" b="b"/>
              <a:pathLst>
                <a:path w="133" h="217">
                  <a:moveTo>
                    <a:pt x="81" y="0"/>
                  </a:moveTo>
                  <a:lnTo>
                    <a:pt x="0" y="12"/>
                  </a:lnTo>
                  <a:lnTo>
                    <a:pt x="132" y="216"/>
                  </a:lnTo>
                  <a:lnTo>
                    <a:pt x="81" y="0"/>
                  </a:lnTo>
                </a:path>
              </a:pathLst>
            </a:custGeom>
            <a:solidFill>
              <a:srgbClr val="393939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75840" y="3157560"/>
              <a:ext cx="79560" cy="77760"/>
            </a:xfrm>
            <a:custGeom>
              <a:avLst/>
              <a:gdLst/>
              <a:ahLst/>
              <a:rect l="l" t="t" r="r" b="b"/>
              <a:pathLst>
                <a:path w="210" h="205">
                  <a:moveTo>
                    <a:pt x="209" y="110"/>
                  </a:moveTo>
                  <a:lnTo>
                    <a:pt x="129" y="0"/>
                  </a:lnTo>
                  <a:lnTo>
                    <a:pt x="0" y="204"/>
                  </a:lnTo>
                  <a:lnTo>
                    <a:pt x="209" y="1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23360" y="3089880"/>
              <a:ext cx="100440" cy="111960"/>
            </a:xfrm>
            <a:custGeom>
              <a:avLst/>
              <a:gdLst/>
              <a:ahLst/>
              <a:rect l="l" t="t" r="r" b="b"/>
              <a:pathLst>
                <a:path w="265" h="295">
                  <a:moveTo>
                    <a:pt x="0" y="175"/>
                  </a:moveTo>
                  <a:lnTo>
                    <a:pt x="86" y="294"/>
                  </a:lnTo>
                  <a:lnTo>
                    <a:pt x="264" y="0"/>
                  </a:lnTo>
                  <a:lnTo>
                    <a:pt x="0" y="175"/>
                  </a:lnTo>
                </a:path>
              </a:pathLst>
            </a:custGeom>
            <a:solidFill>
              <a:srgbClr val="393939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12560" y="3381840"/>
              <a:ext cx="118440" cy="43920"/>
            </a:xfrm>
            <a:custGeom>
              <a:avLst/>
              <a:gdLst/>
              <a:ahLst/>
              <a:rect l="l" t="t" r="r" b="b"/>
              <a:pathLst>
                <a:path w="313" h="116">
                  <a:moveTo>
                    <a:pt x="312" y="45"/>
                  </a:moveTo>
                  <a:lnTo>
                    <a:pt x="309" y="115"/>
                  </a:lnTo>
                  <a:lnTo>
                    <a:pt x="0" y="0"/>
                  </a:lnTo>
                  <a:lnTo>
                    <a:pt x="312" y="4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23360" y="3090240"/>
              <a:ext cx="101160" cy="66600"/>
            </a:xfrm>
            <a:custGeom>
              <a:avLst/>
              <a:gdLst/>
              <a:ahLst/>
              <a:rect l="l" t="t" r="r" b="b"/>
              <a:pathLst>
                <a:path w="267" h="176">
                  <a:moveTo>
                    <a:pt x="0" y="175"/>
                  </a:moveTo>
                  <a:lnTo>
                    <a:pt x="52" y="0"/>
                  </a:lnTo>
                  <a:lnTo>
                    <a:pt x="266" y="0"/>
                  </a:lnTo>
                  <a:lnTo>
                    <a:pt x="0" y="175"/>
                  </a:lnTo>
                </a:path>
              </a:pathLst>
            </a:custGeom>
            <a:solidFill>
              <a:srgbClr val="393939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44240" y="3030840"/>
              <a:ext cx="81360" cy="61200"/>
            </a:xfrm>
            <a:custGeom>
              <a:avLst/>
              <a:gdLst/>
              <a:ahLst/>
              <a:rect l="l" t="t" r="r" b="b"/>
              <a:pathLst>
                <a:path w="215" h="162">
                  <a:moveTo>
                    <a:pt x="0" y="156"/>
                  </a:moveTo>
                  <a:lnTo>
                    <a:pt x="108" y="0"/>
                  </a:lnTo>
                  <a:lnTo>
                    <a:pt x="214" y="161"/>
                  </a:lnTo>
                  <a:lnTo>
                    <a:pt x="0" y="156"/>
                  </a:lnTo>
                </a:path>
              </a:pathLst>
            </a:custGeom>
            <a:solidFill>
              <a:srgbClr val="292929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31000" y="3398040"/>
              <a:ext cx="79560" cy="45000"/>
            </a:xfrm>
            <a:custGeom>
              <a:avLst/>
              <a:gdLst/>
              <a:ahLst/>
              <a:rect l="l" t="t" r="r" b="b"/>
              <a:pathLst>
                <a:path w="210" h="119">
                  <a:moveTo>
                    <a:pt x="4" y="0"/>
                  </a:moveTo>
                  <a:lnTo>
                    <a:pt x="209" y="118"/>
                  </a:lnTo>
                  <a:lnTo>
                    <a:pt x="0" y="72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31720" y="3302280"/>
              <a:ext cx="135000" cy="143280"/>
            </a:xfrm>
            <a:custGeom>
              <a:avLst/>
              <a:gdLst/>
              <a:ahLst/>
              <a:rect l="l" t="t" r="r" b="b"/>
              <a:pathLst>
                <a:path w="356" h="378">
                  <a:moveTo>
                    <a:pt x="355" y="0"/>
                  </a:moveTo>
                  <a:lnTo>
                    <a:pt x="215" y="377"/>
                  </a:lnTo>
                  <a:lnTo>
                    <a:pt x="0" y="252"/>
                  </a:lnTo>
                  <a:lnTo>
                    <a:pt x="355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24160" y="3092040"/>
              <a:ext cx="147960" cy="107640"/>
            </a:xfrm>
            <a:custGeom>
              <a:avLst/>
              <a:gdLst/>
              <a:ahLst/>
              <a:rect l="l" t="t" r="r" b="b"/>
              <a:pathLst>
                <a:path w="390" h="284">
                  <a:moveTo>
                    <a:pt x="0" y="0"/>
                  </a:moveTo>
                  <a:lnTo>
                    <a:pt x="389" y="165"/>
                  </a:lnTo>
                  <a:lnTo>
                    <a:pt x="170" y="283"/>
                  </a:lnTo>
                  <a:lnTo>
                    <a:pt x="0" y="0"/>
                  </a:lnTo>
                </a:path>
              </a:pathLst>
            </a:custGeom>
            <a:solidFill>
              <a:srgbClr val="868686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26320" y="3058560"/>
              <a:ext cx="145800" cy="97200"/>
            </a:xfrm>
            <a:custGeom>
              <a:avLst/>
              <a:gdLst/>
              <a:ahLst/>
              <a:rect l="l" t="t" r="r" b="b"/>
              <a:pathLst>
                <a:path w="385" h="257">
                  <a:moveTo>
                    <a:pt x="0" y="86"/>
                  </a:moveTo>
                  <a:lnTo>
                    <a:pt x="384" y="0"/>
                  </a:lnTo>
                  <a:lnTo>
                    <a:pt x="381" y="256"/>
                  </a:lnTo>
                  <a:lnTo>
                    <a:pt x="0" y="86"/>
                  </a:lnTo>
                </a:path>
              </a:pathLst>
            </a:custGeom>
            <a:solidFill>
              <a:srgbClr val="777777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88240" y="3154680"/>
              <a:ext cx="81360" cy="145080"/>
            </a:xfrm>
            <a:custGeom>
              <a:avLst/>
              <a:gdLst/>
              <a:ahLst/>
              <a:rect l="l" t="t" r="r" b="b"/>
              <a:pathLst>
                <a:path w="215" h="383">
                  <a:moveTo>
                    <a:pt x="214" y="0"/>
                  </a:moveTo>
                  <a:lnTo>
                    <a:pt x="206" y="382"/>
                  </a:lnTo>
                  <a:lnTo>
                    <a:pt x="0" y="120"/>
                  </a:lnTo>
                  <a:lnTo>
                    <a:pt x="214" y="0"/>
                  </a:lnTo>
                </a:path>
              </a:pathLst>
            </a:custGeom>
            <a:solidFill>
              <a:srgbClr val="cbcbcb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66720" y="3154680"/>
              <a:ext cx="78480" cy="147240"/>
            </a:xfrm>
            <a:custGeom>
              <a:avLst/>
              <a:gdLst/>
              <a:ahLst/>
              <a:rect l="l" t="t" r="r" b="b"/>
              <a:pathLst>
                <a:path w="207" h="388">
                  <a:moveTo>
                    <a:pt x="11" y="0"/>
                  </a:moveTo>
                  <a:lnTo>
                    <a:pt x="206" y="2"/>
                  </a:lnTo>
                  <a:lnTo>
                    <a:pt x="0" y="387"/>
                  </a:lnTo>
                  <a:lnTo>
                    <a:pt x="11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85280" y="2987280"/>
              <a:ext cx="65160" cy="105840"/>
            </a:xfrm>
            <a:custGeom>
              <a:avLst/>
              <a:gdLst/>
              <a:ahLst/>
              <a:rect l="l" t="t" r="r" b="b"/>
              <a:pathLst>
                <a:path w="172" h="279">
                  <a:moveTo>
                    <a:pt x="0" y="115"/>
                  </a:moveTo>
                  <a:lnTo>
                    <a:pt x="171" y="0"/>
                  </a:lnTo>
                  <a:lnTo>
                    <a:pt x="103" y="278"/>
                  </a:lnTo>
                  <a:lnTo>
                    <a:pt x="0" y="115"/>
                  </a:lnTo>
                </a:path>
              </a:pathLst>
            </a:custGeom>
            <a:solidFill>
              <a:srgbClr val="393939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25240" y="2987280"/>
              <a:ext cx="147960" cy="105840"/>
            </a:xfrm>
            <a:custGeom>
              <a:avLst/>
              <a:gdLst/>
              <a:ahLst/>
              <a:rect l="l" t="t" r="r" b="b"/>
              <a:pathLst>
                <a:path w="390" h="279">
                  <a:moveTo>
                    <a:pt x="67" y="0"/>
                  </a:moveTo>
                  <a:lnTo>
                    <a:pt x="389" y="186"/>
                  </a:lnTo>
                  <a:lnTo>
                    <a:pt x="0" y="278"/>
                  </a:lnTo>
                  <a:lnTo>
                    <a:pt x="67" y="0"/>
                  </a:lnTo>
                </a:path>
              </a:pathLst>
            </a:custGeom>
            <a:solidFill>
              <a:srgbClr val="393939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64560" y="3155760"/>
              <a:ext cx="138600" cy="146160"/>
            </a:xfrm>
            <a:custGeom>
              <a:avLst/>
              <a:gdLst/>
              <a:ahLst/>
              <a:rect l="l" t="t" r="r" b="b"/>
              <a:pathLst>
                <a:path w="366" h="385">
                  <a:moveTo>
                    <a:pt x="213" y="0"/>
                  </a:moveTo>
                  <a:lnTo>
                    <a:pt x="365" y="312"/>
                  </a:lnTo>
                  <a:lnTo>
                    <a:pt x="0" y="384"/>
                  </a:lnTo>
                  <a:lnTo>
                    <a:pt x="213" y="0"/>
                  </a:lnTo>
                </a:path>
              </a:pathLst>
            </a:custGeom>
            <a:solidFill>
              <a:srgbClr val="777777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8520" y="3274200"/>
              <a:ext cx="135720" cy="144000"/>
            </a:xfrm>
            <a:custGeom>
              <a:avLst/>
              <a:gdLst/>
              <a:ahLst/>
              <a:rect l="l" t="t" r="r" b="b"/>
              <a:pathLst>
                <a:path w="358" h="380">
                  <a:moveTo>
                    <a:pt x="0" y="71"/>
                  </a:moveTo>
                  <a:lnTo>
                    <a:pt x="196" y="379"/>
                  </a:lnTo>
                  <a:lnTo>
                    <a:pt x="357" y="0"/>
                  </a:lnTo>
                  <a:lnTo>
                    <a:pt x="0" y="71"/>
                  </a:lnTo>
                </a:path>
              </a:pathLst>
            </a:custGeom>
            <a:solidFill>
              <a:srgbClr val="393939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13800" y="3301560"/>
              <a:ext cx="130320" cy="142920"/>
            </a:xfrm>
            <a:custGeom>
              <a:avLst/>
              <a:gdLst/>
              <a:ahLst/>
              <a:rect l="l" t="t" r="r" b="b"/>
              <a:pathLst>
                <a:path w="344" h="377">
                  <a:moveTo>
                    <a:pt x="141" y="0"/>
                  </a:moveTo>
                  <a:lnTo>
                    <a:pt x="343" y="311"/>
                  </a:lnTo>
                  <a:lnTo>
                    <a:pt x="0" y="376"/>
                  </a:lnTo>
                  <a:lnTo>
                    <a:pt x="141" y="0"/>
                  </a:lnTo>
                </a:path>
              </a:pathLst>
            </a:custGeom>
            <a:solidFill>
              <a:srgbClr val="393939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12000" y="3418920"/>
              <a:ext cx="133200" cy="74880"/>
            </a:xfrm>
            <a:custGeom>
              <a:avLst/>
              <a:gdLst/>
              <a:ahLst/>
              <a:rect l="l" t="t" r="r" b="b"/>
              <a:pathLst>
                <a:path w="351" h="198">
                  <a:moveTo>
                    <a:pt x="350" y="0"/>
                  </a:moveTo>
                  <a:lnTo>
                    <a:pt x="318" y="197"/>
                  </a:lnTo>
                  <a:lnTo>
                    <a:pt x="0" y="67"/>
                  </a:lnTo>
                  <a:lnTo>
                    <a:pt x="350" y="0"/>
                  </a:lnTo>
                </a:path>
              </a:pathLst>
            </a:custGeom>
            <a:solidFill>
              <a:srgbClr val="393939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50800" y="2972520"/>
              <a:ext cx="122400" cy="86760"/>
            </a:xfrm>
            <a:custGeom>
              <a:avLst/>
              <a:gdLst/>
              <a:ahLst/>
              <a:rect l="l" t="t" r="r" b="b"/>
              <a:pathLst>
                <a:path w="323" h="229">
                  <a:moveTo>
                    <a:pt x="0" y="36"/>
                  </a:moveTo>
                  <a:lnTo>
                    <a:pt x="235" y="0"/>
                  </a:lnTo>
                  <a:lnTo>
                    <a:pt x="322" y="228"/>
                  </a:lnTo>
                  <a:lnTo>
                    <a:pt x="0" y="36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39360" y="2971800"/>
              <a:ext cx="106920" cy="86760"/>
            </a:xfrm>
            <a:custGeom>
              <a:avLst/>
              <a:gdLst/>
              <a:ahLst/>
              <a:rect l="l" t="t" r="r" b="b"/>
              <a:pathLst>
                <a:path w="282" h="229">
                  <a:moveTo>
                    <a:pt x="0" y="0"/>
                  </a:moveTo>
                  <a:lnTo>
                    <a:pt x="281" y="14"/>
                  </a:lnTo>
                  <a:lnTo>
                    <a:pt x="86" y="228"/>
                  </a:lnTo>
                  <a:lnTo>
                    <a:pt x="0" y="0"/>
                  </a:lnTo>
                </a:path>
              </a:pathLst>
            </a:custGeom>
            <a:solidFill>
              <a:srgbClr val="777777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70320" y="2977920"/>
              <a:ext cx="75960" cy="179640"/>
            </a:xfrm>
            <a:custGeom>
              <a:avLst/>
              <a:gdLst/>
              <a:ahLst/>
              <a:rect l="l" t="t" r="r" b="b"/>
              <a:pathLst>
                <a:path w="201" h="474">
                  <a:moveTo>
                    <a:pt x="200" y="0"/>
                  </a:moveTo>
                  <a:lnTo>
                    <a:pt x="195" y="473"/>
                  </a:lnTo>
                  <a:lnTo>
                    <a:pt x="0" y="211"/>
                  </a:lnTo>
                  <a:lnTo>
                    <a:pt x="20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4120" y="2976840"/>
              <a:ext cx="137520" cy="177840"/>
            </a:xfrm>
            <a:custGeom>
              <a:avLst/>
              <a:gdLst/>
              <a:ahLst/>
              <a:rect l="l" t="t" r="r" b="b"/>
              <a:pathLst>
                <a:path w="363" h="469">
                  <a:moveTo>
                    <a:pt x="4" y="0"/>
                  </a:moveTo>
                  <a:lnTo>
                    <a:pt x="362" y="367"/>
                  </a:lnTo>
                  <a:lnTo>
                    <a:pt x="0" y="468"/>
                  </a:lnTo>
                  <a:lnTo>
                    <a:pt x="4" y="0"/>
                  </a:lnTo>
                </a:path>
              </a:pathLst>
            </a:custGeom>
            <a:solidFill>
              <a:srgbClr val="cbcbcb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44840" y="3116520"/>
              <a:ext cx="136080" cy="158400"/>
            </a:xfrm>
            <a:custGeom>
              <a:avLst/>
              <a:gdLst/>
              <a:ahLst/>
              <a:rect l="l" t="t" r="r" b="b"/>
              <a:pathLst>
                <a:path w="359" h="418">
                  <a:moveTo>
                    <a:pt x="358" y="0"/>
                  </a:moveTo>
                  <a:lnTo>
                    <a:pt x="156" y="417"/>
                  </a:lnTo>
                  <a:lnTo>
                    <a:pt x="0" y="100"/>
                  </a:lnTo>
                  <a:lnTo>
                    <a:pt x="7" y="95"/>
                  </a:lnTo>
                  <a:lnTo>
                    <a:pt x="358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44120" y="2975040"/>
              <a:ext cx="173880" cy="140760"/>
            </a:xfrm>
            <a:custGeom>
              <a:avLst/>
              <a:gdLst/>
              <a:ahLst/>
              <a:rect l="l" t="t" r="r" b="b"/>
              <a:pathLst>
                <a:path w="459" h="371">
                  <a:moveTo>
                    <a:pt x="7" y="0"/>
                  </a:moveTo>
                  <a:lnTo>
                    <a:pt x="458" y="117"/>
                  </a:lnTo>
                  <a:lnTo>
                    <a:pt x="357" y="370"/>
                  </a:lnTo>
                  <a:lnTo>
                    <a:pt x="0" y="9"/>
                  </a:lnTo>
                  <a:lnTo>
                    <a:pt x="7" y="0"/>
                  </a:lnTo>
                </a:path>
              </a:pathLst>
            </a:custGeom>
            <a:solidFill>
              <a:srgbClr val="cbcbcb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78400" y="3021120"/>
              <a:ext cx="97200" cy="95760"/>
            </a:xfrm>
            <a:custGeom>
              <a:avLst/>
              <a:gdLst/>
              <a:ahLst/>
              <a:rect l="l" t="t" r="r" b="b"/>
              <a:pathLst>
                <a:path w="257" h="253">
                  <a:moveTo>
                    <a:pt x="103" y="0"/>
                  </a:moveTo>
                  <a:lnTo>
                    <a:pt x="256" y="69"/>
                  </a:lnTo>
                  <a:lnTo>
                    <a:pt x="0" y="252"/>
                  </a:lnTo>
                  <a:lnTo>
                    <a:pt x="103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05320" y="3115440"/>
              <a:ext cx="246960" cy="158760"/>
            </a:xfrm>
            <a:custGeom>
              <a:avLst/>
              <a:gdLst/>
              <a:ahLst/>
              <a:rect l="l" t="t" r="r" b="b"/>
              <a:pathLst>
                <a:path w="651" h="419">
                  <a:moveTo>
                    <a:pt x="199" y="0"/>
                  </a:moveTo>
                  <a:lnTo>
                    <a:pt x="650" y="182"/>
                  </a:lnTo>
                  <a:lnTo>
                    <a:pt x="0" y="418"/>
                  </a:lnTo>
                  <a:lnTo>
                    <a:pt x="199" y="0"/>
                  </a:lnTo>
                </a:path>
              </a:pathLst>
            </a:custGeom>
            <a:solidFill>
              <a:srgbClr val="eaeaea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8760" y="3048480"/>
              <a:ext cx="172440" cy="137520"/>
            </a:xfrm>
            <a:custGeom>
              <a:avLst/>
              <a:gdLst/>
              <a:ahLst/>
              <a:rect l="l" t="t" r="r" b="b"/>
              <a:pathLst>
                <a:path w="455" h="363">
                  <a:moveTo>
                    <a:pt x="252" y="0"/>
                  </a:moveTo>
                  <a:lnTo>
                    <a:pt x="454" y="362"/>
                  </a:lnTo>
                  <a:lnTo>
                    <a:pt x="0" y="177"/>
                  </a:lnTo>
                  <a:lnTo>
                    <a:pt x="252" y="0"/>
                  </a:lnTo>
                </a:path>
              </a:pathLst>
            </a:custGeom>
            <a:solidFill>
              <a:srgbClr val="393939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05320" y="3184920"/>
              <a:ext cx="246240" cy="154800"/>
            </a:xfrm>
            <a:custGeom>
              <a:avLst/>
              <a:gdLst/>
              <a:ahLst/>
              <a:rect l="l" t="t" r="r" b="b"/>
              <a:pathLst>
                <a:path w="649" h="408">
                  <a:moveTo>
                    <a:pt x="0" y="237"/>
                  </a:moveTo>
                  <a:lnTo>
                    <a:pt x="494" y="407"/>
                  </a:lnTo>
                  <a:lnTo>
                    <a:pt x="648" y="0"/>
                  </a:lnTo>
                  <a:lnTo>
                    <a:pt x="0" y="237"/>
                  </a:lnTo>
                </a:path>
              </a:pathLst>
            </a:custGeom>
            <a:solidFill>
              <a:srgbClr val="eaeaea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43040" y="3274200"/>
              <a:ext cx="249120" cy="146520"/>
            </a:xfrm>
            <a:custGeom>
              <a:avLst/>
              <a:gdLst/>
              <a:ahLst/>
              <a:rect l="l" t="t" r="r" b="b"/>
              <a:pathLst>
                <a:path w="657" h="387">
                  <a:moveTo>
                    <a:pt x="168" y="0"/>
                  </a:moveTo>
                  <a:lnTo>
                    <a:pt x="0" y="386"/>
                  </a:lnTo>
                  <a:lnTo>
                    <a:pt x="656" y="170"/>
                  </a:lnTo>
                  <a:lnTo>
                    <a:pt x="168" y="0"/>
                  </a:lnTo>
                </a:path>
              </a:pathLst>
            </a:custGeom>
            <a:solidFill>
              <a:srgbClr val="cbcbcb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45920" y="3337920"/>
              <a:ext cx="246240" cy="135720"/>
            </a:xfrm>
            <a:custGeom>
              <a:avLst/>
              <a:gdLst/>
              <a:ahLst/>
              <a:rect l="l" t="t" r="r" b="b"/>
              <a:pathLst>
                <a:path w="649" h="358">
                  <a:moveTo>
                    <a:pt x="0" y="215"/>
                  </a:moveTo>
                  <a:lnTo>
                    <a:pt x="321" y="357"/>
                  </a:lnTo>
                  <a:lnTo>
                    <a:pt x="331" y="357"/>
                  </a:lnTo>
                  <a:lnTo>
                    <a:pt x="648" y="0"/>
                  </a:lnTo>
                  <a:lnTo>
                    <a:pt x="0" y="215"/>
                  </a:lnTo>
                </a:path>
              </a:pathLst>
            </a:custGeom>
            <a:solidFill>
              <a:srgbClr val="777777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34040" y="3420000"/>
              <a:ext cx="136080" cy="73800"/>
            </a:xfrm>
            <a:custGeom>
              <a:avLst/>
              <a:gdLst/>
              <a:ahLst/>
              <a:rect l="l" t="t" r="r" b="b"/>
              <a:pathLst>
                <a:path w="359" h="195">
                  <a:moveTo>
                    <a:pt x="28" y="0"/>
                  </a:moveTo>
                  <a:lnTo>
                    <a:pt x="358" y="146"/>
                  </a:lnTo>
                  <a:lnTo>
                    <a:pt x="0" y="194"/>
                  </a:lnTo>
                  <a:lnTo>
                    <a:pt x="28" y="0"/>
                  </a:lnTo>
                </a:path>
              </a:pathLst>
            </a:custGeom>
            <a:solidFill>
              <a:srgbClr val="393939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34760" y="3475440"/>
              <a:ext cx="135000" cy="54720"/>
            </a:xfrm>
            <a:custGeom>
              <a:avLst/>
              <a:gdLst/>
              <a:ahLst/>
              <a:rect l="l" t="t" r="r" b="b"/>
              <a:pathLst>
                <a:path w="356" h="145">
                  <a:moveTo>
                    <a:pt x="355" y="0"/>
                  </a:moveTo>
                  <a:lnTo>
                    <a:pt x="287" y="144"/>
                  </a:lnTo>
                  <a:lnTo>
                    <a:pt x="0" y="50"/>
                  </a:lnTo>
                  <a:lnTo>
                    <a:pt x="355" y="0"/>
                  </a:lnTo>
                </a:path>
              </a:pathLst>
            </a:custGeom>
            <a:solidFill>
              <a:srgbClr val="393939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469040" y="3337920"/>
              <a:ext cx="157680" cy="163080"/>
            </a:xfrm>
            <a:custGeom>
              <a:avLst/>
              <a:gdLst/>
              <a:ahLst/>
              <a:rect l="l" t="t" r="r" b="b"/>
              <a:pathLst>
                <a:path w="416" h="430">
                  <a:moveTo>
                    <a:pt x="323" y="0"/>
                  </a:moveTo>
                  <a:lnTo>
                    <a:pt x="415" y="429"/>
                  </a:lnTo>
                  <a:lnTo>
                    <a:pt x="0" y="354"/>
                  </a:lnTo>
                  <a:lnTo>
                    <a:pt x="323" y="0"/>
                  </a:lnTo>
                </a:path>
              </a:pathLst>
            </a:custGeom>
            <a:solidFill>
              <a:srgbClr val="393939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4560" y="3472920"/>
              <a:ext cx="185040" cy="56880"/>
            </a:xfrm>
            <a:custGeom>
              <a:avLst/>
              <a:gdLst/>
              <a:ahLst/>
              <a:rect l="l" t="t" r="r" b="b"/>
              <a:pathLst>
                <a:path w="488" h="150">
                  <a:moveTo>
                    <a:pt x="69" y="0"/>
                  </a:moveTo>
                  <a:lnTo>
                    <a:pt x="487" y="76"/>
                  </a:lnTo>
                  <a:lnTo>
                    <a:pt x="0" y="149"/>
                  </a:lnTo>
                  <a:lnTo>
                    <a:pt x="69" y="0"/>
                  </a:lnTo>
                </a:path>
              </a:pathLst>
            </a:custGeom>
            <a:solidFill>
              <a:srgbClr val="292929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44560" y="3502800"/>
              <a:ext cx="183240" cy="55440"/>
            </a:xfrm>
            <a:custGeom>
              <a:avLst/>
              <a:gdLst/>
              <a:ahLst/>
              <a:rect l="l" t="t" r="r" b="b"/>
              <a:pathLst>
                <a:path w="483" h="147">
                  <a:moveTo>
                    <a:pt x="482" y="0"/>
                  </a:moveTo>
                  <a:lnTo>
                    <a:pt x="362" y="146"/>
                  </a:lnTo>
                  <a:lnTo>
                    <a:pt x="0" y="71"/>
                  </a:lnTo>
                  <a:lnTo>
                    <a:pt x="48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81720" y="3502080"/>
              <a:ext cx="196200" cy="56520"/>
            </a:xfrm>
            <a:custGeom>
              <a:avLst/>
              <a:gdLst/>
              <a:ahLst/>
              <a:rect l="l" t="t" r="r" b="b"/>
              <a:pathLst>
                <a:path w="517" h="149">
                  <a:moveTo>
                    <a:pt x="120" y="0"/>
                  </a:moveTo>
                  <a:lnTo>
                    <a:pt x="132" y="0"/>
                  </a:lnTo>
                  <a:lnTo>
                    <a:pt x="141" y="2"/>
                  </a:lnTo>
                  <a:lnTo>
                    <a:pt x="516" y="114"/>
                  </a:lnTo>
                  <a:lnTo>
                    <a:pt x="0" y="148"/>
                  </a:lnTo>
                  <a:lnTo>
                    <a:pt x="12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94680" y="3338640"/>
              <a:ext cx="123840" cy="163440"/>
            </a:xfrm>
            <a:custGeom>
              <a:avLst/>
              <a:gdLst/>
              <a:ahLst/>
              <a:rect l="l" t="t" r="r" b="b"/>
              <a:pathLst>
                <a:path w="327" h="431">
                  <a:moveTo>
                    <a:pt x="0" y="0"/>
                  </a:moveTo>
                  <a:lnTo>
                    <a:pt x="326" y="293"/>
                  </a:lnTo>
                  <a:lnTo>
                    <a:pt x="83" y="430"/>
                  </a:lnTo>
                  <a:lnTo>
                    <a:pt x="0" y="0"/>
                  </a:lnTo>
                </a:path>
              </a:pathLst>
            </a:custGeom>
            <a:solidFill>
              <a:srgbClr val="868686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26720" y="3448080"/>
              <a:ext cx="148680" cy="96480"/>
            </a:xfrm>
            <a:custGeom>
              <a:avLst/>
              <a:gdLst/>
              <a:ahLst/>
              <a:rect l="l" t="t" r="r" b="b"/>
              <a:pathLst>
                <a:path w="392" h="255">
                  <a:moveTo>
                    <a:pt x="391" y="254"/>
                  </a:moveTo>
                  <a:lnTo>
                    <a:pt x="237" y="0"/>
                  </a:lnTo>
                  <a:lnTo>
                    <a:pt x="0" y="138"/>
                  </a:lnTo>
                  <a:lnTo>
                    <a:pt x="391" y="254"/>
                  </a:lnTo>
                </a:path>
              </a:pathLst>
            </a:custGeom>
            <a:solidFill>
              <a:srgbClr val="292929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92880" y="3187800"/>
              <a:ext cx="110520" cy="150480"/>
            </a:xfrm>
            <a:custGeom>
              <a:avLst/>
              <a:gdLst/>
              <a:ahLst/>
              <a:rect l="l" t="t" r="r" b="b"/>
              <a:pathLst>
                <a:path w="292" h="397">
                  <a:moveTo>
                    <a:pt x="153" y="0"/>
                  </a:moveTo>
                  <a:lnTo>
                    <a:pt x="291" y="393"/>
                  </a:lnTo>
                  <a:lnTo>
                    <a:pt x="0" y="396"/>
                  </a:lnTo>
                  <a:lnTo>
                    <a:pt x="15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94680" y="3336120"/>
              <a:ext cx="121320" cy="110160"/>
            </a:xfrm>
            <a:custGeom>
              <a:avLst/>
              <a:gdLst/>
              <a:ahLst/>
              <a:rect l="l" t="t" r="r" b="b"/>
              <a:pathLst>
                <a:path w="320" h="291">
                  <a:moveTo>
                    <a:pt x="0" y="4"/>
                  </a:moveTo>
                  <a:lnTo>
                    <a:pt x="287" y="0"/>
                  </a:lnTo>
                  <a:lnTo>
                    <a:pt x="319" y="290"/>
                  </a:lnTo>
                  <a:lnTo>
                    <a:pt x="0" y="4"/>
                  </a:lnTo>
                </a:path>
              </a:pathLst>
            </a:custGeom>
            <a:solidFill>
              <a:srgbClr val="cbcbcb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809880" y="3581280"/>
            <a:ext cx="16002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sellated Pl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2590920"/>
            <a:ext cx="137160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sts of plate model vertices and associated plates, and optionally, albedo data for each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4120" y="5715000"/>
            <a:ext cx="1676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etary cons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 containing rotation data for the body, and possi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i-axial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320" y="5334120"/>
            <a:ext cx="152388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me source of rotation state information (pole RA/DEC and prime meridian loc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4378320"/>
            <a:ext cx="137160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 edi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Usually done by NAIF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529160"/>
            <a:ext cx="42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19560" y="452916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57400" y="5638680"/>
            <a:ext cx="137160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 edi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Usually done by NAIF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29000" y="5791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962520" y="1371600"/>
            <a:ext cx="1194840" cy="1087560"/>
            <a:chOff x="3962520" y="1371600"/>
            <a:chExt cx="1194840" cy="1087560"/>
          </a:xfrm>
        </p:grpSpPr>
        <p:pic>
          <p:nvPicPr>
            <p:cNvPr id="239" name="" descr=""/>
            <p:cNvPicPr/>
            <p:nvPr/>
          </p:nvPicPr>
          <p:blipFill>
            <a:blip r:embed="rId2"/>
            <a:stretch/>
          </p:blipFill>
          <p:spPr>
            <a:xfrm>
              <a:off x="3962520" y="1435320"/>
              <a:ext cx="1059120" cy="101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4965840" y="1371600"/>
              <a:ext cx="191520" cy="108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209680" y="1600200"/>
            <a:ext cx="1067040" cy="457200"/>
          </a:xfrm>
          <a:prstGeom prst="roundRect">
            <a:avLst>
              <a:gd name="adj" fmla="val 16667"/>
            </a:avLst>
          </a:prstGeom>
          <a:solidFill>
            <a:srgbClr val="5e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00320" y="1617840"/>
            <a:ext cx="109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gra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ke a D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SPICE Toolki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11760" y="2405160"/>
            <a:ext cx="12078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ital Ter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9160" y="4876920"/>
            <a:ext cx="13968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iaxial Ellips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962520" y="5334120"/>
            <a:ext cx="1090440" cy="10522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36440" y="4238640"/>
            <a:ext cx="14637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xes dimensions for tri-axial ellips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6440" y="1571760"/>
            <a:ext cx="16833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T/LON and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ove ellipsoid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tance from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18288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7600" y="1371600"/>
            <a:ext cx="1752480" cy="266688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666880"/>
              <a:gd name="textAreaBottom" fmla="*/ 2581560 h 2666880"/>
            </a:gdLst>
            <a:ahLst/>
            <a:rect l="textAreaLeft" t="textAreaTop" r="textAreaRight" b="textAreaBottom"/>
            <a:pathLst>
              <a:path w="21600" h="32868">
                <a:moveTo>
                  <a:pt x="3600" y="0"/>
                </a:moveTo>
                <a:arcTo wR="3600" hR="3600" stAng="16200000" swAng="-5400000"/>
                <a:lnTo>
                  <a:pt x="0" y="29268"/>
                </a:lnTo>
                <a:arcTo wR="3600" hR="3600" stAng="10800000" swAng="-5400000"/>
                <a:lnTo>
                  <a:pt x="18000" y="328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4114800"/>
            <a:ext cx="1752480" cy="23623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362320"/>
              <a:gd name="textAreaBottom" fmla="*/ 2277000 h 2362320"/>
            </a:gdLst>
            <a:ahLst/>
            <a:rect l="textAreaLeft" t="textAreaTop" r="textAreaRight" b="textAreaBottom"/>
            <a:pathLst>
              <a:path w="21600" h="29115">
                <a:moveTo>
                  <a:pt x="3600" y="0"/>
                </a:moveTo>
                <a:arcTo wR="3600" hR="3600" stAng="16200000" swAng="-5400000"/>
                <a:lnTo>
                  <a:pt x="0" y="25515"/>
                </a:lnTo>
                <a:arcTo wR="3600" hR="3600" stAng="10800000" swAng="-5400000"/>
                <a:lnTo>
                  <a:pt x="18000" y="29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02160" y="1752480"/>
            <a:ext cx="1116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1828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2362320"/>
            <a:ext cx="1828800" cy="3124080"/>
          </a:xfrm>
          <a:prstGeom prst="rect">
            <a:avLst/>
          </a:prstGeom>
          <a:solidFill>
            <a:srgbClr val="39a18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05720" y="1947960"/>
            <a:ext cx="2038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application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science data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7007400" y="3475080"/>
            <a:ext cx="1069560" cy="920520"/>
            <a:chOff x="7007400" y="3475080"/>
            <a:chExt cx="1069560" cy="920520"/>
          </a:xfrm>
        </p:grpSpPr>
        <p:sp>
          <p:nvSpPr>
            <p:cNvPr id="256" name=""/>
            <p:cNvSpPr/>
            <p:nvPr/>
          </p:nvSpPr>
          <p:spPr>
            <a:xfrm>
              <a:off x="7007400" y="3475080"/>
              <a:ext cx="1069560" cy="920520"/>
            </a:xfrm>
            <a:prstGeom prst="roundRect">
              <a:avLst>
                <a:gd name="adj" fmla="val 16667"/>
              </a:avLst>
            </a:prstGeom>
            <a:solidFill>
              <a:srgbClr val="0e69f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51680" y="3574080"/>
              <a:ext cx="960120" cy="750600"/>
            </a:xfrm>
            <a:prstGeom prst="rect">
              <a:avLst/>
            </a:prstGeom>
            <a:solidFill>
              <a:srgbClr val="0e6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icelib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spice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cy 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7010280" y="4419720"/>
            <a:ext cx="144792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PICE routines for obtaining rotation state and shape, and then computing derived quantit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873000">
            <a:off x="5486400" y="2819160"/>
            <a:ext cx="1143000" cy="228600"/>
          </a:xfrm>
          <a:prstGeom prst="rightArrow">
            <a:avLst>
              <a:gd name="adj1" fmla="val 50000"/>
              <a:gd name="adj2" fmla="val 125000"/>
            </a:avLst>
          </a:prstGeom>
          <a:solidFill>
            <a:srgbClr val="fc771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20511600">
            <a:off x="5562360" y="4495320"/>
            <a:ext cx="1143000" cy="228600"/>
          </a:xfrm>
          <a:prstGeom prst="rightArrow">
            <a:avLst>
              <a:gd name="adj1" fmla="val 50000"/>
              <a:gd name="adj2" fmla="val 125000"/>
            </a:avLst>
          </a:prstGeom>
          <a:solidFill>
            <a:srgbClr val="fc771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02520" y="1446120"/>
            <a:ext cx="609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11880" y="5365800"/>
            <a:ext cx="609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S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9BF41-D410-4871-8F58-8EED1830FA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91760" y="1533600"/>
            <a:ext cx="8001000" cy="489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cursor “Plate Model” system was delivered to NEAR and Hayabusa and used successfully on those mis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prototype version of the DSK system was delivered to the DAWN project in November 2006. This software has been integrated into the SOA (Science Opportunity Analyzer) progra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A uses DSK files to import shape model data for Vesta and Cer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A also uses DSK software, along with custom, higher-level DSK-based software provided by NAIF, to perform geometric computations involving target body shape dat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IF is currently developing the deliverable DSK syste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IF plans to release an alpha-test version of the DSK system within six month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ease date of SPICE Toolkit including the DSK system is TB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3004920" y="380520"/>
            <a:ext cx="50050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SK Development Statu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S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3B8FC-1806-4FD4-B2BD-FA6468D2B590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82400" y="2109600"/>
            <a:ext cx="8001000" cy="28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SK Data Representatio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SK System Component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SK Software Component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SK API Exampl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sing Shape with Orientation Data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SK Development Statu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3597120" y="380520"/>
            <a:ext cx="37404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PICE DSK Topic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S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076BC-EC19-4D0D-8F6E-F7C89FD2DA8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07600" y="1444320"/>
            <a:ext cx="8001000" cy="488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IF is developing a new SPICE kernel type: DSK (“digital shape kernel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n completed, the DSK system will be incorporated into the SPICE Toolki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ICE DSK system deals with data sets describing topography of solar system objects, or more generally, shapes of 3-dimensional objects.  Exampl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gital elevation models (DEM) for the surfaces of Mars or the Mo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sellated plate model for the surface of a natural satellite, asteroid or comet nucleu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rizon masks for DSN st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SK system facilitates high-accuracy, SPICE-based geometric computations using shape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ly SPICE uses only triaxial ellipsoid shape models, which support low-accuracy comput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SK system compri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DSK data fi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ware (subroutines and program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01800" y="380520"/>
            <a:ext cx="19350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S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8AE9F-58C6-4C89-803E-C9D87A01091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07960" y="1488600"/>
            <a:ext cx="8121600" cy="462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“requirements” listed here are of an informal nature; they are derived from customer interaction and NAIF team members’ experience using SP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all requirement: facilitate high-accuracy geometry computations involving surfaces of extended bodies. Examples of computations that should be supporte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ion of “sub-observer point” and height of observer above surf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y-surface intercept poi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cultation/transit state of a point targ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b and terminator 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lumination angles at a specified surface poi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 if a target is in an instrument’s field of view (FOV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3820680" y="380520"/>
            <a:ext cx="33116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Requirements -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S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6F541-5E0E-46E1-BA9E-A5C7619541B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07600" y="1329840"/>
            <a:ext cx="8178840" cy="53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should support popular shape represen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xample: DEM, triangular pla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should support efficient random access data sear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xample: for a given (LONGITUDE, LATITUDE) coordinate pair, return radius (distance from body center) of the corresponding surface poi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should support rapid, high volume data extraction (“bulk read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ired for efficient use by graphics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should be able to use data sets spread across multiple fi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current data sets exceed 2Gbytes in 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r data sets should be expected in the fu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ractical to store all needed data in one fi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should be able to work with models for different bodies simultaneously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xample: support simultaneous use of data sets for Mars and Phobo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3822840" y="380520"/>
            <a:ext cx="33112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Requirements -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S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DA38D-0EE3-4C5A-8F0E-A6623195C92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07600" y="1393560"/>
            <a:ext cx="8001000" cy="527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should be able to work with multiple models for different parts of the surface of a specified body simultaneous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simultaneous use of multiple data sets having different resolutions, or event different mathematical representations, for different regions of the surfac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files should be por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files should support inclusion of meta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ols should be provided f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mmarizing contents of data fi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ing metadata in data fi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rging or subsetting data fi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gesting data from other types of fi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xample: Bob Gaskell’s and Peter Thomas’ shape mod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3823920" y="380520"/>
            <a:ext cx="33116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Requirements -3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S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10682-D528-443F-BE9D-0D9F3C85D3C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82400" y="1228680"/>
            <a:ext cx="8001000" cy="547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gital elevation model (DE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s longitude/latitude to “elevatio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of a surface point can be defined as distance from the origin of a body-fixed reference frame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can be defined as height above a reference ellipsoid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: image created from MGS laser altimeter (MOLA) Mars D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593440" y="380520"/>
            <a:ext cx="57502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SK Data Representations -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66920" y="2978280"/>
            <a:ext cx="4586400" cy="36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S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E41DA-C03C-4521-95CE-16BF42173CE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82400" y="1228680"/>
            <a:ext cx="8001000" cy="547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te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face of object is represented as a collection of triangular pla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lexible than digital elevation model:  arbitrary 3-D surface can be model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face could be a complicated shape with multiple surface points having the same latitude and longitu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s:  “dumbbell”-shaped asteroid, caves, arch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efficient than digital elevation model of similar resolution in terms of storage and computational spe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2593440" y="380520"/>
            <a:ext cx="57502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SK Data Representations -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68280" y="4362480"/>
            <a:ext cx="1940040" cy="1646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692440" y="4191120"/>
            <a:ext cx="2557440" cy="1987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581800" y="3949560"/>
            <a:ext cx="2641320" cy="2372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431000" y="6324480"/>
            <a:ext cx="627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ample images created from DSK plate models (center and right  images are based on Phobos dat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S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390B5-A8B1-470E-8F5A-11C044A09A4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66360" y="1292400"/>
            <a:ext cx="8001000" cy="21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SK shape representations are polymorphi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SK shape representations are called “Data Types.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ch data type has its own mathematical representation of a surfa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ch data type has associated software that implements common functionality, such as the ability to return a radius (distance of surface point from body center) value for a specified latitude and longitud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ch data type may have additional, unique functionalit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example, type 2 has accessor routines that return plate and vertex data. These functions are not applicable to other data type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570040" y="380520"/>
            <a:ext cx="57499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SK Data Representations -3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57440" y="5797440"/>
            <a:ext cx="533160" cy="520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0520" y="4908600"/>
            <a:ext cx="1924200" cy="1434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38400" y="5048280"/>
            <a:ext cx="812520" cy="88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6400" y="5683320"/>
            <a:ext cx="1308240" cy="8953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47840" y="5683320"/>
            <a:ext cx="1308240" cy="8953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01880" y="5676840"/>
            <a:ext cx="1308240" cy="8953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56280" y="5676840"/>
            <a:ext cx="1307880" cy="8953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83160" y="3594240"/>
            <a:ext cx="1307880" cy="8953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95320" y="5746680"/>
            <a:ext cx="11178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M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packed 16-bit integer radius data with scale factor and offs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39960" y="5175360"/>
            <a:ext cx="9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5187960"/>
            <a:ext cx="9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16160" y="5759280"/>
            <a:ext cx="138420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RIANGULAR PLATE MOD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38520" y="3905280"/>
            <a:ext cx="15494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SK Shap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73600" y="5187960"/>
            <a:ext cx="9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70200" y="5759280"/>
            <a:ext cx="138456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OUBLE PRECISION RADIUS 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08560" y="5207040"/>
            <a:ext cx="9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5657760"/>
            <a:ext cx="125748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M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packed 16-bit integer radius data with scale factor and offset---stereographic proje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43880" y="5867280"/>
            <a:ext cx="111744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346040" y="4819320"/>
            <a:ext cx="52768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65120" y="4838760"/>
            <a:ext cx="0" cy="349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21040" y="4844880"/>
            <a:ext cx="0" cy="349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30800" y="4844880"/>
            <a:ext cx="0" cy="349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10400" y="4832280"/>
            <a:ext cx="0" cy="349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24320" y="4483080"/>
            <a:ext cx="0" cy="349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S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D28EC-B033-4FC8-8590-7B2C0659BA1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rles Acton</cp:lastModifiedBy>
  <cp:lastPrinted>2004-04-28T05:00:41Z</cp:lastPrinted>
  <dcterms:modified xsi:type="dcterms:W3CDTF">2007-10-12T23:40:19Z</dcterms:modified>
  <cp:revision>570</cp:revision>
  <dc:subject/>
  <dc:title>The SPICE Ephemeris Subsystem SPK  with emphasis on Reading SPK Files</dc:title>
</cp:coreProperties>
</file>