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A15F-EDDB-4A90-915C-6DAE205DD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8D3C-6EB6-4442-9865-D039DA53D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C70E-C8F5-4FB6-A00C-C9B402040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6E2B-5724-482B-B77C-758C28C09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8DC2-4E37-4F35-AADA-95B21DDD4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88DA-63EE-440A-BB06-5A7C739EA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1942-75CB-4746-A0B9-06438D007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C844-C664-47C9-BC7F-86CF6DB8A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AC58-FFFB-4E78-A806-16645204A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0E05-F5A3-46F0-9EAC-944268DE6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4A74-E898-4054-9243-C17555311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05EB-8325-42F4-802D-6A8AB8581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D66B-731A-4728-BDF4-32DD927B99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24120" y="2491920"/>
            <a:ext cx="36576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aking a CK fil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8480" y="380520"/>
            <a:ext cx="6262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Setup File Keywor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K_FILE_NAME           = 'LSK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FILE_NAME          = 'SCLK file’ (or MAKE_FAKE_SCLK=‘new SCLK file’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FRAMES_FILE_NAME        = 'FRAMES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COMMENTS_FILE_NAME      = 'file containing comment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DUCER_ID             = 'producer group/person nam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NAL_FILE_NAME      = 'internal file name str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_SEGMENT_ID           = 'segment ID str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_TYPE                 = 1, 2, or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RUMENT_ID           = CK 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FRAME_NAME    = 'reference frame nam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XIMUM_VALID_INTERVAL  = interval length, seco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TIME_TYPE         = 'SCLK', 'UTC', 'TICKS’, ‘DPSCLK’, or ‘ET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TIME_CORRECTION         = bias to be applied to input times, seco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        = 'MSOP QUATERNIONS', 'SPICE QUATERNIONS'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ULER ANGLES', or 'MATRIC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QUATERNION_NORM_ERROR   = maximum normalization err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ANGLE_UNITS       = 'DEGREES' or 'RADIA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ROTATIONS_ORDER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ROTATIONS_TYPE    = 'BODY' or 'SPACE'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ULAR_RATE_PRESENT    = 'YES', 'NO', 'MAKE UP', 'MAKE UP/NO AVERAG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ANGULAR_RATE_FRAME      = 'REFERENCE' or 'INSTRUMENT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ANGULAR_RATE_THRESHOLD  = ( max X rate, max Y rate, max Z rate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ANGLES  = (  angle3,  angle2,  angle1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AXES 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UNITS   = 'DEGREES' or 'RADIA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19320"/>
            <a:ext cx="6858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133720"/>
            <a:ext cx="685800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657600"/>
            <a:ext cx="6858000" cy="31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3716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219320"/>
            <a:ext cx="12952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upp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Kernels/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Output 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p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Inpu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p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25560" y="5791320"/>
            <a:ext cx="2057400" cy="733320"/>
            <a:chOff x="-25560" y="5791320"/>
            <a:chExt cx="2057400" cy="733320"/>
          </a:xfrm>
        </p:grpSpPr>
        <p:sp>
          <p:nvSpPr>
            <p:cNvPr id="139" name=""/>
            <p:cNvSpPr/>
            <p:nvPr/>
          </p:nvSpPr>
          <p:spPr>
            <a:xfrm>
              <a:off x="50760" y="5791320"/>
              <a:ext cx="1882800" cy="730080"/>
            </a:xfrm>
            <a:prstGeom prst="roundRect">
              <a:avLst>
                <a:gd name="adj" fmla="val 16667"/>
              </a:avLst>
            </a:prstGeom>
            <a:solidFill>
              <a:srgbClr val="d7d7d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25560" y="579132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40e"/>
                  </a:solidFill>
                  <a:latin typeface="Courier New"/>
                </a:rPr>
                <a:t>Optional keywords are shown in 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5D46-99D4-4E17-82B0-ADD39F039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1728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88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SPICE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QCOS QSIN1 QSIN2 QSIN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....... .... ..... ..... .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QCOS QSIN1 QSIN2 QSIN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MSOP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-QSIN1 -QSIN2 -QSIN3 QCOS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.......  .....  .....  ..... 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-QSIN1 -QSIN2 -QSIN3 QCOS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EULER ANGL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 ...... .... .... 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MATRIC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M11 M12 M13 M21 ... M3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 ...... ... ... ... ... ... 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M11 M12 M13 M21 ... M3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057400"/>
            <a:ext cx="4800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3282840"/>
            <a:ext cx="5085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5680" y="4481640"/>
            <a:ext cx="40384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6200" y="5705640"/>
            <a:ext cx="48769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6040" y="12193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DC32-7BF9-448A-9FD1-F64596970D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1260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tern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_DATA_TYPE=‘SPICE QUATERNIONS’ indicates the quaternions being used follow the SPICE formation rules(*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_DATA_TYPE=‘MSOP QUATERNIONS’ indicates the quaternions being used follow the traditional AACS formation rules(*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ly quaternions that come in telemetry are of this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ERNION_NORM_ERROR keyword may be used to identify and filter out input records with quaternions that are not unit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t a tolerance for comparing the norm of the input quaternion with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ler 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three angles must be provi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angles provided on the input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 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tation axes specified in the setup 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ULER_ROTATIONS_ORDER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trix rotating vectors from base to the structure frame is computed 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st = [ANG3]axis3 * [ANG2]axis2 * [ANG1]axis1 * Vr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les can be provided in degrees or radi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477120"/>
            <a:ext cx="7315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*) NAIF prepared and provides on request a “white paper” explaining differences between various quaternion sty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5118-6FD2-4997-A3EE-F994C4459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1440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rates are an optional input. Their presence or absence must be indicated using the ANGULAR_RATE_PRESENT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ngular rates are provided (ANGULAR_RATE_PRESENT=‘YES’), they must be in a form of 3d vector expressed either in the base frame (less common) or structure frame (more comm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NGULAR_RATE_FRAME keyword must be set to indicate which of the two is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ngular rates are not provided, the program can either make a CK without rates (ANGULAR_RATE_PRESENT=‘NO’), or try to compute rates from the orientation data by using uniform rotation algorithm implemented in Type 3 CK, either with averaging (ANGULAR_RATE_PRESENT=‘MAKE UP’) or without averaging (ANGULAR_RATE_PRESENT=‘MAKE UP/NO AVERAGING’) of the rates computed for adjacent orientation data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_RATE_THRESHOLD may be used to identify and filter out input records with angular rate components that are too large to be re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ata can be tagged with UTC, SCLK, or SCLK ticks, specified using the INPUT_TIME_TYP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tags must not have embedded sp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E3FE-A55B-45D5-A51C-85820C3F9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98760" y="380520"/>
            <a:ext cx="5772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Output Details (1)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Type 1, 2, or 3 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1 is rarely used - only in cases when the input contains very few data points that are far apart so that interpolation between them make no se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2 is also rarely used, primarily to package orientation for spinn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ly the input for making Type 2 CKs should contain two times and the angular rate in each rec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3 is the most commonly used output type because it provides interpolation between the orientation data points stored in the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olation intervals are determined based on the threshold value specified in the MAXIMUM_VALID_INTERVAL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eshold interval is given in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put Type 3 CK will allow interpolation between all input points that are less than or equal to the thresho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ditional transformation to be combined with the input attitude may be specified using OFFSET_ROTATION_</a:t>
            </a:r>
            <a:r>
              <a:rPr b="1" lang="en-US" sz="3600" spc="-1" strike="noStrike" baseline="-17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tion for specification of the offset rotation angles is the same as for the input Euler ang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vector defined in the base frame is first multiplied by the offset ro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st = [ROTinput] * [ROToffset] * Vr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7573-5A16-4FF7-9951-C0B524175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44840" y="380520"/>
            <a:ext cx="5659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Output Detail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times may be adjusted by a constant value specified in seconds using TIME_CORRECTION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put CK file contains one or more CK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segments are generated if the input data volume is large and does not fit into the program’s internal buffer (100,000 pointing reco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output file has many segments, each segment’s start time is equal to the stop time of the previous segment, i.e. there are no gaps at the segment bound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ment area of the output CK contains the following inform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of the comment file, if it was specified using the COMMENT_FILE_NAME keyw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of the setup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of coverage for each segment written to the file, including a table listing interpolation intervals for segments of Type 2 or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53B3-3451-4A34-9232-1F865DDBCC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158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166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172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setup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setup for predict M'01 CK gener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ER_ID             = ’NAIF/JPL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SK_FILE_NAME           = 'naif0007.tl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LK_FILE_NAME          = 'ORB1_SCLKSCET.00001.tsc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ENTS_FILE_NAME      = 'msopck_comments.examp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NAL_FILE_NAME      = 'sample M01 SC Orientation CK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_SEGMENT_ID           = 'SAMPLE M01 SC BUS ATTITUD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MENT_ID           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ERENCE_FRAME_NAME    = 'MARSIAU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_TYPE                 =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XIMUM_VALID_INTERVAL  =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_TIME_TYPE         = ’SCLK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_DATA_TYPE         = 'MSOP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ATERNION_NORM_ERROR   = 1.0E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GULAR_RATE_PRESENT    = 'MAKE UP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A710-6181-4486-BD5F-952C5892CE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193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01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07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comments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mple Mars Surveyor '01 Orbiter Spacecraft Orientation CK F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entation Data in the F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 file contains sample orientation for the Mars Surveyor ‘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biter (M01) spacecraft frame, 'M01_SPACECRAFT', rel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the Mars Mean Equator and IAU vector of J2000, 'MARSIAU', inerti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ame. The NAIF ID code for the 'M01_SPACECRAFT' frame is -5300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 file is a special sample C-Kernel file created by NAIF to illust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program. This file should not be used for any other purp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876A-8128-4AC7-9045-32AEBBEC45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228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42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input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68.064    -0.24376335     0.68291384     0.28475901     0.626993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2.114    -0.24249471     0.68338563     0.28591829     0.626443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3.242    -0.24204185     0.68355329     0.28633291     0.626246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4.064    -0.24194814     0.68358228     0.28641744     0.6262119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80.064    -0.24012676     0.68424169     0.28807922     0.62543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86.064    -0.23830473     0.68489895     0.28973563     0.624641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92.064    -0.23648008     0.68555126     0.29139303     0.623848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98.064    -0.23465389     0.68620253     0.29304524     0.623047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4.064    -0.23282999     0.68684150     0.29470173     0.622245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4.114    -0.23277293     0.68686688     0.29475362     0.622214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5.242    -0.23231585     0.68702790     0.29516507     0.622012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10.064    -0.23100059     0.68748174     0.29634561     0.6214393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16.064    -0.22917353     0.68811325     0.29799308     0.620628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22.064    -0.22734161     0.68874177     0.29963482     0.619814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28.064    -0.22551078     0.68936246     0.30128030     0.618994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4.064    -0.22367453     0.68998299     0.30291779     0.6181698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6.114    -0.22300583     0.69021050     0.30351804     0.617862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8.011    -0.22251770     0.69037871     0.30395477     0.617636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7F3B-3BB9-4D80-9BCA-11C754A9F5E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263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71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77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sopck msopck_setup.example msopck_input.example msopck_example_ck.b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Utility Program, Version 3.0.0, 2003-05-05; SPICE Toolkit Ver. N005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file content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etup file content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UN-TIME OBTAINED META INFORM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T_CREATION_TIME = 2004-04-29T12:17: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RT_TIME            = 2004-04-27T00:00:05.5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P_TIME             = 2004-04-27T23:59:56.2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POLATION INTERVALS IN THE FILE SEGMEN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G.SUMMARY: ID -53000, COVERG: 2004-04-27T00:00:05.516 2004-04-27T23:59:56.2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4-04-27T00:00:05.516    2004-04-27T20:05:26.2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4-04-27T20:11:20.278    2004-04-27T23:59:56.2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98880" y="380520"/>
            <a:ext cx="45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4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988D-BC08-44A9-BC4B-C2E277EE46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provides means to create CK files either by packaging orientation computed elsewhere or by first computing orientation and then packaging it in a CK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ing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ready exis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ientation data can be done in two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PICE CK writer routines by calling them from within a SPICE-based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a text file containing attitude data to a CK using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uting as well as packag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ientation can be done in two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PICE geometry routines and CK writer routines by calling them from within a SPICE-based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ng attitude using SPICE routines is not discussed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orientation rules and schedules to a CK using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366800" y="380520"/>
            <a:ext cx="1979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0DDD-DD62-4C82-8C80-1B3AD79602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60600" y="380520"/>
            <a:ext cx="2205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rogram for making CK files from a set of orientation specification rules, and schedules defining when these rules are to be fo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 simple command line interfa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s orientation and schedule specification to be provided in a setup file that follows the SPICE text kernel 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s all supporting kernels -- SPK, PCK, etc -- to be provided in a meta-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4E77-BD31-4372-8769-B98A9DFD6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5080" y="380520"/>
            <a:ext cx="37828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Usag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the following command line arg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diCkt -furnish support_dat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spec ck_spec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ck outfi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tol fit_tolerance [units]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&lt;sclk|newsclk&gt; sclk_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furnish’, ‘-spec’ and ‘-ck’ are used to specify the input meta-kernel, input attitude specification file and output CK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ol’ is used to specify the tolerance to which the orientation stored in the CK should match the specified attitude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clk’ and ‘-newsclk’ specify the name of an existing SCLK or the new “fake” SCLK to be created for use with the output 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CD13-1282-4F83-9080-E06CFB14D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28520" y="380520"/>
            <a:ext cx="6986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Furnsh and Spec Fi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6201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FURNSH” kernel lists SPICE kernels that are to be used by prediCkt to determine geometry needed to compute ori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ediCkt attitude specification (spec) file follows the text kernel syntax and provides three types of infor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dynamic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orientations based on these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the schedules defining when those orientations should be follow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ents of the FURNSH kernel and the spec file are included in the comment area of the output CK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A507-414B-4A05-A5A2-00A15C30E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00320" y="380520"/>
            <a:ext cx="45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Direc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91920" y="1447560"/>
            <a:ext cx="79182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directions can be of the following typ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ephemeris (position vectors, velocity vecto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with respect to a frame (expressed as Cartesian vector or specified by RA and DE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s sub-observer poi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surface normal and lines of constant latitude or longit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other, already defined directions (rotated from them, computed as cross products using them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two sets of spec file keyword assignments specify nadir and spacecraft velocity directions for M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'ToMars     = POSITION OF MARS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01 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'scVelocity = VELOCITY OF M01  -' )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ARS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B99F-150C-44B5-A42B-008DF4D074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00520" y="380520"/>
            <a:ext cx="4954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Orient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ientation is specified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that one of the frames axes (+X,+Y,+Z,-X,-Y,-Z) points exactly along one of the defined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that another frame axis points as closely as possible to another defined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axis is the cross product of the first tw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the base frame with respect to which the orientation of this “constructed” frame is to b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spec file keyword assignments specify the nominal nadir orientation for THEMIS, flown on M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IENTATION_NAME     += '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MARY              += '+Z = 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ARY            += '+Y = scVelocity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_FRAME           += 'J2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8F22-C7D6-42E5-B9B6-7A3DCC1C78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9200" y="380520"/>
            <a:ext cx="52023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Schedule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856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hedule is defined by specifying a series of time intervals during which a given orientation is to be fo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interval for a given CK ID the spec file defines the orientation name, start time, and stop time (as Ephemeris Tim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spec file keyword assignments specify a schedule with a single window during which M01 will yield nadir-pointed orientation for THEM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SCLK               =  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SPK                = -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FRAMES            +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ORIENTATION  += 'SOLUTION TO M01_THEMIS_IR = 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START        += @2004-FEB-10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STOP         += @2004-FEB-15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8240-AE4D-4827-A342-9664492E6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79200" y="380520"/>
            <a:ext cx="52023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Schedule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xample on the previous sli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FRAMES keyword specifies the CK ID to be used in the output 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D is incorporated into the keywords defining the schedule interv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SCLK keyword specifies the ID of the SCLK to be used in creating the 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SPK keyword specifies the ID of the object, the position of which is used in applying light time correction when orientation is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TO” construct specifies that although the orientation is sought for the M01 spacecraft frame (ID -53000), it is computed for the camera frame (M01_THEMIS_IR) and then transformed to be for the spacecraf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4F8F-B217-4E08-8E00-89EA0E1D24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312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 m01_map_nadir.prediCk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'ToMars     = POSITION OF MARS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01 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'scVelocity = VELOCITY OF M01  -' )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ARS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ENTATION_NAME     += '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MARY              += '+Z = 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           += '+Y = scVelocity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E_FRAME           += 'J2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SCLK               =  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SPK                = -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FRAMES            +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ORIENTATION  += 'SOLUTION TO M01_THEMIS_IR = 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START        += @2004-FEB-10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STOP         += @2004-FEB-15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57400" y="380520"/>
            <a:ext cx="4843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Example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D624-2F89-47B7-9C31-1095862CE7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347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355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361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t m01_map_nadir.furns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RNELS_TO_LOAD = ( 'naif0007.tls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_v26.tf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ar033-5.bsp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_map_rec.bsp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.tsc' 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ediCkt -furnish m01_map_nadir.furnsh -spec m01_map_nadir.prediCkt -ck m01_map_nadir.bc -tol 0.01 degrees -sclk m01.ts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gin Segment: 1 --- SOLUTION TO M01_THEMIS_IR = CameratoMa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structing Seg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rom: 2004 FEB 10 00:00:00.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 : 2004 FEB 15 00:00:00.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 0.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 5.0 %    (50 quatern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95.0 %    (925 quatern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957400" y="380520"/>
            <a:ext cx="4843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Example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E5CB-53FA-4E6B-AD20-85D9D12842F7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8360" y="380520"/>
            <a:ext cx="38498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K Writer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toolkit provides the following CK writer routin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1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1 / ckw01_c / cspice_ckw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2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2 / ckw02_c / cspice_ckw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3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3 / ckw03_c / cspice_ckw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4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4B, CKW04A, CKW04E (no CSPICE, Icy, or Mice wrapp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5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5 / ckw05_c (no Icy or Mice wrapp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Type 3 writer is discussed in this tuto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rs for Types 1 and 2 have very similar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s 4 and 5 are are not commonly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E944-012B-41F7-A479-374FE6889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07800" y="380520"/>
            <a:ext cx="4729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Exampl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2280" y="1374840"/>
            <a:ext cx="8146800" cy="51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code fragment illustrates the creation of a Type 3 C-kernel having a single seg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opn_c ( filename, “my-ckernel”, 0, &amp;hand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ert code that properly constructs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lkdp, quats, avvs, and starts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w03_c ( handle, begtim, endtim, ins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erence_frame”, avflag, “segment_id”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rec, sclkdp, quats, avvs, nints, starts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cls_c ( hand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D8E1-1476-455B-AE20-57816CD837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78040" y="380520"/>
            <a:ext cx="5378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</a:t>
            </a:r>
            <a:r>
              <a:rPr b="1" lang="en-US" sz="3200" spc="-1" strike="noStrike">
                <a:solidFill>
                  <a:srgbClr val="081d58"/>
                </a:solidFill>
                <a:latin typeface="Courier New"/>
              </a:rPr>
              <a:t>ckw03_c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6880" y="1599840"/>
            <a:ext cx="799956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file handle for the newly created C-kern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tim, endt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start and stop times in SCLK ticks for the seg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strument ID code for the C-kern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ame of the reference or base frame that is known to SPI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ice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dicating whether or not to include angular velocity in the seg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g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string identifying the segment. It should be less than 40 characters in leng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91EE-7FBB-407A-8C50-D7C338DBD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78040" y="380520"/>
            <a:ext cx="5378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</a:t>
            </a:r>
            <a:r>
              <a:rPr b="1" lang="en-US" sz="3200" spc="-1" strike="noStrike">
                <a:solidFill>
                  <a:srgbClr val="081d58"/>
                </a:solidFill>
                <a:latin typeface="Courier New"/>
              </a:rPr>
              <a:t>ckw03_c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50800"/>
            <a:ext cx="8534520" cy="51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r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number of record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monotonically increasing list of times, given in SCLK ticks, that identify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sampl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list of SPICE quaternions that rotate vectors from the frame specifi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gument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2q_c ( C_matrix, quaterion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gular rate vectors given in the frame specifi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list of SCLK ticks indicating the start of interpolation intervals.  They must correspond to entrie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number of entries in st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DD60-F39F-4F32-BBBB-BC20D0725C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39920" y="380520"/>
            <a:ext cx="626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Making Up Rat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7240" y="1374840"/>
            <a:ext cx="7772400" cy="51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easiest ways to accomplish this is to assume a constant rotation rate between subsequent quatern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k=0; k&lt;(nrec-1); k++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2m_c ( quats[k][0], init_ro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2m_c ( quats[k+1][0], final_ro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txm_c ( final_rot, init_rot, rotma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xisa_c ( rotmat, axis, &amp;ang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_c ( scid, sclkdp[k], &amp;init_e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_c ( scid, sclkdp[k+1], &amp;final_e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scl_c ( angle/(final_et-init_et), axi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avvs[k][0] );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opy th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rec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the last elemen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06800" y="649116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on nex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0FE9-0EAD-4D94-A0BA-7E38744CF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11240" y="380520"/>
            <a:ext cx="6935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Making Up Rate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167652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angular rates in this fashion assumes that no more than a 180-degree rotation has occurred between adjacent quaternions.  In shor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xisa_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oses the smallest angle that performs the rotation encapsulated in the input matri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echniques exist, including differentiating quaternions.  Care must be exercised when taking that particular approach, how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5405-DE7E-4D86-988E-FD5571FC7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04960" y="380520"/>
            <a:ext cx="1911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2280" y="1447560"/>
            <a:ext cx="81468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rogram for making CK files from orientation provided as a time tagged, space-delimited table in a text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process quaternions (SPICE and non-SPICE flavors), Euler angles, or matrixes, tagged with UTC, SCLK, or 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all setups to be provided in a setup file that follows the SPICE text kernel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a simple command line interface with the following 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opck setup_file input_data_file output_ck_fil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utput CK already exists, new segment(s) are appended t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8EF0-AAFE-42B4-B74A-2649B9D04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2-19T00:42:37Z</cp:lastPrinted>
  <dcterms:modified xsi:type="dcterms:W3CDTF">2007-10-12T23:44:14Z</dcterms:modified>
  <cp:revision>115</cp:revision>
  <dc:subject/>
  <dc:title>SPICELIB Utilities and Applications</dc:title>
</cp:coreProperties>
</file>