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0C712-E94A-4CE8-93EE-3AC895E2B8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CA1CE-2D27-4C42-B21F-519ACC684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D2DC2-6DEC-4FFF-AAE5-F85CCE5A39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8DD9B-45E6-4C40-A723-AB3BC07DEA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32247-F08B-459E-8D62-7BA7F596B4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E070B-794E-4A8C-B987-1EE6E346EF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3063C-7093-499E-9D05-E04241B150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EBB3E-AEF3-4F39-A3F3-BDC5284B8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6E74B-6A52-4D7A-8F90-B5A12EBD4F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C80E6-AE5A-4F4A-BBA9-3E61059A97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80A7F-48B8-4A8D-852A-C8B4598BE2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1E8CD-B5A1-425F-80EA-7F1D6C4ECC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700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35053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1D09-07AA-4D4C-818C-A9F1C830701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14560" y="2469960"/>
            <a:ext cx="52084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PICE Development Plans</a:t>
            </a:r>
            <a:br>
              <a:rPr sz="32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and Possibilitie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5181120"/>
            <a:ext cx="6400800" cy="76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92520" y="380520"/>
            <a:ext cx="15271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 in prog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LAB interface to CSP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pe model sub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metric Event Finder sub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possi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suggestion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lans and Possibilities for Further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CD03A-2062-4C7D-824C-1856A7BB70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612960" y="380520"/>
            <a:ext cx="34923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Work In Progres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LAB interface to CSP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lete the beta-testing, make needed revisions, add additional functionality (interfaces to CSPICE modules) if/as needed to have a reasonably complete s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official packages in a future Toolkit relea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kely later in CY 200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pe model sub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nthesis of current shape model (triaxial ellipsoids), “plate model” for small, irregularly shaped bodies, and a digital elevation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a-test version might be available later in CY200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ial addition to Toolkit probably in first half of CY200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ometric event finder sub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d time(s) when such-and-such a geometric condition exis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a-test version might be available later in CY200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ial addition to Toolkit probably in first half of CY200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lans and Possibilities for Further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D92A2-E78E-438C-843B-5DDA3AC78D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59436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Other Possibilities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1981080"/>
            <a:ext cx="260676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 interface to a limited set of SPICE comput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760" y="1285920"/>
            <a:ext cx="5807160" cy="5340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248520" y="3657600"/>
            <a:ext cx="2735280" cy="22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is example, compute the illumination angles on Mars at LON 114.7 and LAT -14.7 as seen from Mars Express on 2004 JAN 4 08:52:00.  The user can pick either a planetocentric or planetodetic reference fr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50640" y="1675440"/>
            <a:ext cx="200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CALC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lans and Possibilities for Further Developm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74D76-B578-452B-A248-4FBFDD7FCC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36760" y="380520"/>
            <a:ext cx="42832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Other Possibilities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al interfaces to SPIC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va Native Interface (JNI), Pyth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al target models: rings, gravity, atmosphere, magnetosphere,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 a more flexible and extensible instrument modeling mechan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lans and Possibilities for Further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5132E-AEE7-4B49-ABE9-ABF0AF6CCA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36760" y="380520"/>
            <a:ext cx="42832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Other Possibilities - 3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tools for easier specification and visualization of reference fra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a “predict spk” tool that makes it easy to construct an SPK file from simple ru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a better interface with the extensive comet/asteroid ephemeris database implemented by JPL’s Solar System Dynamics Gro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extended precision calculations for time and other quantities used by Radio Science investig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lans and Possibilities for Further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E3114-656F-4105-A903-C8E420D159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4960" y="380520"/>
            <a:ext cx="428292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Other Possibilities - 4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693432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more high-level computations, such as instrument footprint cove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a C-Kernel merge utility, analogous to the existing SPKMERGE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lans and Possibilities for Further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EB95A-9C86-4D6C-9EE1-6DDC232DE9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97240" y="380520"/>
            <a:ext cx="41148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do </a:t>
            </a: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You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ggest?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IF solicits suggestions from the user commun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’re a small team and have a lot on our plate already, so can’t promise any particular ac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’re interested in programmatic ideas as well as technical on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uld NAIF promote use of SPICE beyond NASA’s planetary science program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amount of cooperation and interoperability with foreign partners is appropriate and achievabl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l versus informal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scientists and/or with engineer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376200" cy="380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800600" y="3048120"/>
            <a:ext cx="426960" cy="42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lans and Possibilities for Further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45486-D3B5-4712-829F-59FE1440FC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rles Acton</cp:lastModifiedBy>
  <cp:lastPrinted>2001-02-22T07:56:58Z</cp:lastPrinted>
  <dcterms:modified xsi:type="dcterms:W3CDTF">2007-10-12T23:38:14Z</dcterms:modified>
  <cp:revision>60</cp:revision>
  <dc:subject/>
  <dc:title>Preview of Coming Attractions</dc:title>
</cp:coreProperties>
</file>