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359900" cy="709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095480" y="615960"/>
            <a:ext cx="4667040" cy="35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DD2B-AF0F-4CF5-B91D-627BF430F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08120" y="427284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9D84-232C-4A26-9E43-BC988249C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7864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22E4-E16D-4A3E-925A-AEE2F8642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9408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8040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0812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9408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8040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9528-B7FB-4189-85EE-3D5EC82A0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55BF-1B71-437B-B5BF-E5F2E2482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2747-B702-48C3-94EC-CE0BD4939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B6FD-029E-48AC-83CD-0A6702C03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E4EE-2EC0-44AB-B482-B1DAF0988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515680" y="393840"/>
            <a:ext cx="590580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3BE0-ACF8-4466-9193-5364D4883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967E-DB85-4A0D-B591-D5FE0EDFF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864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04BF-3901-48ED-B5B8-98C69F4C7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642A-69CD-43EA-9BA1-DD826F858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03480" y="950760"/>
            <a:ext cx="673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49920" y="1003320"/>
            <a:ext cx="390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920" bIns="259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746760"/>
            <a:ext cx="214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848640"/>
            <a:ext cx="2959200" cy="249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411680" y="6848640"/>
            <a:ext cx="1947960" cy="249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89F840-981E-41D8-9669-FFBBE7F886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34360" y="189000"/>
            <a:ext cx="2280240" cy="925200"/>
            <a:chOff x="-234360" y="189000"/>
            <a:chExt cx="2280240" cy="925200"/>
          </a:xfrm>
        </p:grpSpPr>
        <p:sp>
          <p:nvSpPr>
            <p:cNvPr id="8" name=""/>
            <p:cNvSpPr/>
            <p:nvPr/>
          </p:nvSpPr>
          <p:spPr>
            <a:xfrm flipH="1">
              <a:off x="1028880" y="337680"/>
              <a:ext cx="127800" cy="1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81080" y="478800"/>
              <a:ext cx="1864800" cy="63540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32400" y="578880"/>
              <a:ext cx="3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91520" y="529560"/>
              <a:ext cx="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6400" y="660600"/>
              <a:ext cx="749520" cy="25524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34000" y="379800"/>
              <a:ext cx="2258640" cy="53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2960" y="878400"/>
              <a:ext cx="75960" cy="7668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59400" y="586800"/>
              <a:ext cx="75960" cy="7668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94760" y="249480"/>
              <a:ext cx="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07920" y="383760"/>
              <a:ext cx="378360" cy="4111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94760" y="31464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880" bIns="47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7080" y="189000"/>
              <a:ext cx="6066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US" sz="45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96280" y="189000"/>
              <a:ext cx="7012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US" sz="45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74880" y="2361960"/>
            <a:ext cx="5627520" cy="1138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100" spc="-1" strike="noStrike">
                <a:solidFill>
                  <a:srgbClr val="081d58"/>
                </a:solidFill>
                <a:latin typeface="Arial"/>
              </a:rPr>
              <a:t>An Overview of SPICE</a:t>
            </a:r>
            <a:endParaRPr b="1" lang="en-US" sz="41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240" y="48002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H="1">
            <a:off x="1191600" y="1790640"/>
            <a:ext cx="144756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91600" y="3754440"/>
            <a:ext cx="144756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93760" y="5433840"/>
            <a:ext cx="1447920" cy="7639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62760" y="2021040"/>
            <a:ext cx="752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8320" y="3949560"/>
            <a:ext cx="718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14320" y="5664240"/>
            <a:ext cx="432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20960" y="1600200"/>
            <a:ext cx="538488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 vehicle ephemeris (traject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, satellite, comet and asteroid epheme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generally, position of something relative to some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2080" y="3571920"/>
            <a:ext cx="507996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, satellite, comet and asteroid orientations, sizes,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other similar “constants” such as parameters for gravitational model, atmospheric model or ring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9520" y="5410080"/>
            <a:ext cx="5064120" cy="849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87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 information such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0480">
              <a:lnSpc>
                <a:spcPct val="87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-of-view size, shape, orien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0480">
              <a:lnSpc>
                <a:spcPct val="87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tim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953800" y="429840"/>
            <a:ext cx="5364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1523880"/>
            <a:ext cx="51055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495600"/>
            <a:ext cx="5105520" cy="162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5334120"/>
            <a:ext cx="5105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36BF-0C8F-4D79-918F-389061E794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H="1">
            <a:off x="681840" y="2093760"/>
            <a:ext cx="162900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81120" y="4191120"/>
            <a:ext cx="1628640" cy="76176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82680" y="2316240"/>
            <a:ext cx="56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0440" y="4282920"/>
            <a:ext cx="549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057400"/>
            <a:ext cx="56530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41200" indent="-24120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 platform (e.g. spacecraft) at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generally, orientation of something relative to a specified referenc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124080" y="3962160"/>
            <a:ext cx="6159600" cy="1184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54160" indent="-2541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,” broken into three componen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P:  Science observation pla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Q:  Spacecraft &amp; instrument comm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B:  Experiment “notebooks” and ground data system lo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0080" y="4635360"/>
            <a:ext cx="1281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890800" y="429840"/>
            <a:ext cx="531648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1981080"/>
            <a:ext cx="622116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8400" y="3935520"/>
            <a:ext cx="623088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79400" y="3700440"/>
            <a:ext cx="8098920" cy="2469240"/>
            <a:chOff x="779400" y="3700440"/>
            <a:chExt cx="8098920" cy="2469240"/>
          </a:xfrm>
        </p:grpSpPr>
        <p:grpSp>
          <p:nvGrpSpPr>
            <p:cNvPr id="264" name=""/>
            <p:cNvGrpSpPr/>
            <p:nvPr/>
          </p:nvGrpSpPr>
          <p:grpSpPr>
            <a:xfrm>
              <a:off x="779400" y="3700440"/>
              <a:ext cx="8098920" cy="1652760"/>
              <a:chOff x="779400" y="3700440"/>
              <a:chExt cx="8098920" cy="1652760"/>
            </a:xfrm>
          </p:grpSpPr>
          <p:sp>
            <p:nvSpPr>
              <p:cNvPr id="265" name=""/>
              <p:cNvSpPr/>
              <p:nvPr/>
            </p:nvSpPr>
            <p:spPr>
              <a:xfrm>
                <a:off x="3193200" y="3700440"/>
                <a:ext cx="5685120" cy="165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271320" y="3779280"/>
                <a:ext cx="5607000" cy="15739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6800" y="4094280"/>
                <a:ext cx="1245960" cy="102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79400" y="4093920"/>
                <a:ext cx="1401480" cy="102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284000" y="5747400"/>
              <a:ext cx="3598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960" rIns="9396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The Events kernel idea has not taken hold. After Cassini it will probably disappe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F21C-144A-4A64-8F84-23C5EF4784BB}" type="slidenum">
              <a:t>11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H="1">
            <a:off x="724680" y="5219640"/>
            <a:ext cx="1700280" cy="7603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98320" y="1447920"/>
            <a:ext cx="1702080" cy="76176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98320" y="2681280"/>
            <a:ext cx="170208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98320" y="3886200"/>
            <a:ext cx="170208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96160" y="5284800"/>
            <a:ext cx="170172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647440" y="1417320"/>
            <a:ext cx="5131080" cy="92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287280" indent="-287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365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s of and specification of relationships between reference frames (coordinate system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35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h “fixed” and “dynamic” frames are avail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50760" y="5334120"/>
            <a:ext cx="1244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5320" y="1711440"/>
            <a:ext cx="532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89360" y="2895480"/>
            <a:ext cx="735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13760" y="4087800"/>
            <a:ext cx="955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47800" y="2803680"/>
            <a:ext cx="4648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pseconds Ta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Used for UTC &lt;--&gt; ET  time conve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47800" y="4024440"/>
            <a:ext cx="5410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craft Clock 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Used for SCLK &lt;--&gt; ET  time conve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60840" y="5357880"/>
            <a:ext cx="661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287280" indent="-287280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3e3e"/>
                </a:solidFill>
                <a:latin typeface="Arial"/>
              </a:rPr>
              <a:t>Shape models (DEM and tessellated plates) (DSK)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3e3e"/>
                </a:solidFill>
                <a:latin typeface="Arial"/>
              </a:rPr>
              <a:t>Star (sky) catalog (??K)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7160" y="6838920"/>
            <a:ext cx="8391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C = Universal Time Coordinated      ET = Ephemeris Time     SCLK = Spacecraft Cloc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908440" y="404280"/>
            <a:ext cx="53640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02840" y="6237360"/>
            <a:ext cx="194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under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70040" y="5029200"/>
            <a:ext cx="6715080" cy="15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040" y="3809880"/>
            <a:ext cx="6715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0040" y="2590920"/>
            <a:ext cx="67150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70040" y="1371600"/>
            <a:ext cx="6715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EE20-326A-4970-B333-EE66E443AD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16765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5720" y="1752480"/>
            <a:ext cx="1127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05740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modules us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inary SPICE kernel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ll (binary and text) SPICE kernel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quantities derived from SPICE kern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(“cookbook”)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ummarization or character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programs  (a f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“chronos” time conversion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production programs  (a f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“mkspk” SPK producti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2881080" y="391680"/>
            <a:ext cx="53672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6760" y="2644920"/>
            <a:ext cx="105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R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6400" y="2949480"/>
            <a:ext cx="31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254400"/>
            <a:ext cx="470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1676520"/>
            <a:ext cx="6858000" cy="51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800" y="3594240"/>
            <a:ext cx="93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416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4BF5-7817-4C6B-8577-9BEC37520E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417760" y="1971720"/>
            <a:ext cx="3754440" cy="350676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76600" y="3706920"/>
            <a:ext cx="3190680" cy="16570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0880" y="393840"/>
            <a:ext cx="67755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ing SPICE in Science Planning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9680" y="13953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9680" y="20559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9680" y="27162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680" y="337644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680" y="403704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680" y="469728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9680" y="535788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280" y="1446120"/>
            <a:ext cx="5558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8080" y="2117880"/>
            <a:ext cx="54432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520" y="2765520"/>
            <a:ext cx="36180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840" y="3414600"/>
            <a:ext cx="439560" cy="304920"/>
          </a:xfrm>
          <a:prstGeom prst="rect">
            <a:avLst/>
          </a:prstGeom>
          <a:solidFill>
            <a:srgbClr val="e6d6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1400" y="4079880"/>
            <a:ext cx="4197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6880" y="474984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2200" y="5389560"/>
            <a:ext cx="5385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9680" y="60120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8520" y="6043680"/>
            <a:ext cx="430560" cy="304920"/>
          </a:xfrm>
          <a:prstGeom prst="rect">
            <a:avLst/>
          </a:prstGeom>
          <a:solidFill>
            <a:srgbClr val="e6d6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514600"/>
            <a:ext cx="3200400" cy="1062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59000" y="154764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25480" y="1547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23680" y="225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22240" y="29163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33400" y="3581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831600" y="4221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30160" y="4886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28720" y="55389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25480" y="6207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3040" y="3914640"/>
            <a:ext cx="966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81760" y="2971800"/>
            <a:ext cx="217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Own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88620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9400" y="2030400"/>
            <a:ext cx="322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’s Plann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81680" y="2209680"/>
            <a:ext cx="25783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ur” evalu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rument pointing pla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servation geometry visualiz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alysis of expected communications link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33520" y="6478200"/>
            <a:ext cx="4851000" cy="401760"/>
            <a:chOff x="533520" y="6478200"/>
            <a:chExt cx="4851000" cy="401760"/>
          </a:xfrm>
        </p:grpSpPr>
        <p:sp>
          <p:nvSpPr>
            <p:cNvPr id="334" name=""/>
            <p:cNvSpPr/>
            <p:nvPr/>
          </p:nvSpPr>
          <p:spPr>
            <a:xfrm rot="16200000">
              <a:off x="543600" y="6467760"/>
              <a:ext cx="312840" cy="3333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7920" y="6575040"/>
              <a:ext cx="447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ect kernel types and specific kernels as nee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819520" y="4038480"/>
            <a:ext cx="2886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38360" y="5756400"/>
            <a:ext cx="1014120" cy="710640"/>
            <a:chOff x="1638360" y="5756400"/>
            <a:chExt cx="1014120" cy="710640"/>
          </a:xfrm>
        </p:grpSpPr>
        <p:sp>
          <p:nvSpPr>
            <p:cNvPr id="338" name=""/>
            <p:cNvSpPr/>
            <p:nvPr/>
          </p:nvSpPr>
          <p:spPr>
            <a:xfrm>
              <a:off x="1638360" y="5756400"/>
              <a:ext cx="1014120" cy="710640"/>
            </a:xfrm>
            <a:prstGeom prst="flowChartOnlineStora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95680" y="5780880"/>
              <a:ext cx="7236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V="1">
            <a:off x="2027160" y="4179600"/>
            <a:ext cx="0" cy="15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27160" y="4179960"/>
            <a:ext cx="31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F368-AA69-4B4D-A54C-35690E181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1240" y="393840"/>
            <a:ext cx="681048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ing SPICE in Science Data Analysi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1981080"/>
            <a:ext cx="3632040" cy="350532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12920" y="3863880"/>
            <a:ext cx="3090960" cy="15289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9680" y="13953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9680" y="20559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9680" y="27162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9680" y="337644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9680" y="403704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9680" y="469728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9680" y="535788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446120"/>
            <a:ext cx="55080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4440" y="2117880"/>
            <a:ext cx="53028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080" y="2765520"/>
            <a:ext cx="36180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3120" y="3414600"/>
            <a:ext cx="4413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4079880"/>
            <a:ext cx="4208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360" y="4749840"/>
            <a:ext cx="66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1840" y="5389560"/>
            <a:ext cx="5396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9680" y="60120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7800" y="6043680"/>
            <a:ext cx="43200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84480" y="2516040"/>
            <a:ext cx="3119400" cy="11415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59000" y="154764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25480" y="1547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23680" y="225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22240" y="29163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33400" y="3581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31600" y="4221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30160" y="4886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28720" y="55389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25480" y="6207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3040" y="3786120"/>
            <a:ext cx="42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02440" y="2946240"/>
            <a:ext cx="217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Own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83280" y="4468680"/>
            <a:ext cx="1522440" cy="76212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7040" y="3478320"/>
            <a:ext cx="1498680" cy="76176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440" y="2487600"/>
            <a:ext cx="1511280" cy="76212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94160" y="3497400"/>
            <a:ext cx="12229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960" y="4494240"/>
            <a:ext cx="11149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57520" y="2616120"/>
            <a:ext cx="110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24680" y="2462040"/>
            <a:ext cx="1171800" cy="276084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65800" y="3289320"/>
            <a:ext cx="9165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02320" y="3838680"/>
            <a:ext cx="455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6040" y="2844720"/>
            <a:ext cx="45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53440" y="3879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51640" y="48261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1880" y="5621400"/>
            <a:ext cx="1626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ta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6680" y="2030400"/>
            <a:ext cx="333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’s Geometr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5828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114800"/>
            <a:ext cx="2666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520" y="6478200"/>
            <a:ext cx="4851000" cy="401760"/>
            <a:chOff x="533520" y="6478200"/>
            <a:chExt cx="4851000" cy="401760"/>
          </a:xfrm>
        </p:grpSpPr>
        <p:sp>
          <p:nvSpPr>
            <p:cNvPr id="390" name=""/>
            <p:cNvSpPr/>
            <p:nvPr/>
          </p:nvSpPr>
          <p:spPr>
            <a:xfrm rot="16200000">
              <a:off x="543600" y="6467760"/>
              <a:ext cx="312840" cy="3333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7920" y="6575040"/>
              <a:ext cx="447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ect kernel types and specific kernels as nee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4760" y="5904000"/>
            <a:ext cx="1090800" cy="11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7BE2-EC52-46F9-ACD8-49F705C31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203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-22860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le SPICE kernel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le NAIF Toolkit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cus is on the customer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e is well tested before being released to us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ce released, code functionality is never changed or rem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9340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 NAIF does reserve the right to fix bu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tensive user-oriented documentation is provid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9340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s highly documented sourc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 extensive set of SPICE tutorials is availab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pen book” programming lessons are offered as a part of each NAIF-provided training cla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68520" y="603360"/>
            <a:ext cx="25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2381040" y="379440"/>
            <a:ext cx="653868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B5E8-A783-4109-9FDC-F38134F6544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66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numeric computations use double pr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ncludes built-in exceptio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tches most invalid input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fers a traceback and configurable action upon detection of a proble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you access to most of JPL’s integrated ephemerides for spacecraft and natural bodies (planets, satellites, comets, asteroi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files are sepa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only those you need for a particular applic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files are exten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w data “types” can be added within a famil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w kinds of kernels can be develop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2379600" y="42984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619-FB4E-49E6-843F-B851F8C11B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610480" cy="22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41200" indent="-241200">
              <a:lnSpc>
                <a:spcPct val="88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 applicability, means goo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mission and multidiscip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154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 it over and over again, no matter which NASA mission you’re working 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rowing use of SPICE outside of the U.S. is helping extend the multimission applicability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2379600" y="39492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366B-94CC-49FC-9F03-42E680647D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8520" y="38376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9402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99000"/>
          </a:bodyPr>
          <a:p>
            <a:pPr marL="290520" indent="-290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ICE Toolkit is free to individual u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8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re SPICE system development is funded by NASA's Solar System Exploration Off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ASA flight projects fund NAIF and/or others to adapt and deploy SPICE in support of NASA’s planetary missions and some cooperative miss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stribution of SPICE software is not restricted under U.S. Government regulatio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23220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PICE is classified TSPA (“Technology and Software Publicly Available”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23220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ITAR restrictions on data, training or consul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ercial use of SPICE software is encourage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license fees or other restric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191F-441E-4D78-8A84-9091C347D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09320" y="5181120"/>
            <a:ext cx="5715000" cy="577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1000"/>
              </a:lnSpc>
              <a:spcBef>
                <a:spcPts val="108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PICE deals with these data to support the planning for and analysis of these dat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452680" y="409680"/>
            <a:ext cx="6262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ace Science Data: Two Kin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86400" y="1600200"/>
            <a:ext cx="2895480" cy="2057400"/>
            <a:chOff x="5486400" y="1600200"/>
            <a:chExt cx="2895480" cy="2057400"/>
          </a:xfrm>
        </p:grpSpPr>
        <p:sp>
          <p:nvSpPr>
            <p:cNvPr id="65" name=""/>
            <p:cNvSpPr/>
            <p:nvPr/>
          </p:nvSpPr>
          <p:spPr>
            <a:xfrm>
              <a:off x="5486400" y="1600200"/>
              <a:ext cx="2895480" cy="2057400"/>
            </a:xfrm>
            <a:prstGeom prst="ellipse">
              <a:avLst/>
            </a:prstGeom>
            <a:solidFill>
              <a:srgbClr val="0fb756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7280" y="1981440"/>
              <a:ext cx="21337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str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14400" y="1600200"/>
            <a:ext cx="2895480" cy="1981080"/>
            <a:chOff x="914400" y="1600200"/>
            <a:chExt cx="2895480" cy="1981080"/>
          </a:xfrm>
        </p:grpSpPr>
        <p:sp>
          <p:nvSpPr>
            <p:cNvPr id="68" name=""/>
            <p:cNvSpPr/>
            <p:nvPr/>
          </p:nvSpPr>
          <p:spPr>
            <a:xfrm>
              <a:off x="914400" y="1600200"/>
              <a:ext cx="2895480" cy="1981080"/>
            </a:xfrm>
            <a:prstGeom prst="ellipse">
              <a:avLst/>
            </a:prstGeom>
            <a:solidFill>
              <a:srgbClr val="e6d684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6120" y="2133720"/>
              <a:ext cx="1756440" cy="90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cill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76720" y="3505320"/>
            <a:ext cx="1695240" cy="1998720"/>
            <a:chOff x="3276720" y="3505320"/>
            <a:chExt cx="1695240" cy="1998720"/>
          </a:xfrm>
        </p:grpSpPr>
        <p:sp>
          <p:nvSpPr>
            <p:cNvPr id="71" name=""/>
            <p:cNvSpPr/>
            <p:nvPr/>
          </p:nvSpPr>
          <p:spPr>
            <a:xfrm flipH="1" flipV="1">
              <a:off x="3276720" y="3505320"/>
              <a:ext cx="1233360" cy="1668240"/>
            </a:xfrm>
            <a:prstGeom prst="line">
              <a:avLst/>
            </a:prstGeom>
            <a:ln w="28440">
              <a:solidFill>
                <a:srgbClr val="e6d6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7480" y="5160960"/>
              <a:ext cx="744480" cy="343080"/>
            </a:xfrm>
            <a:prstGeom prst="ellipse">
              <a:avLst/>
            </a:prstGeom>
            <a:noFill/>
            <a:ln w="19080">
              <a:solidFill>
                <a:srgbClr val="e6d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87840" y="3759120"/>
            <a:ext cx="2009880" cy="2158920"/>
            <a:chOff x="5487840" y="3759120"/>
            <a:chExt cx="2009880" cy="2158920"/>
          </a:xfrm>
        </p:grpSpPr>
        <p:sp>
          <p:nvSpPr>
            <p:cNvPr id="74" name=""/>
            <p:cNvSpPr/>
            <p:nvPr/>
          </p:nvSpPr>
          <p:spPr>
            <a:xfrm>
              <a:off x="6075360" y="3759120"/>
              <a:ext cx="1422360" cy="2158920"/>
            </a:xfrm>
            <a:custGeom>
              <a:avLst/>
              <a:gdLst/>
              <a:ahLst/>
              <a:rect l="l" t="t" r="r" b="b"/>
              <a:pathLst>
                <a:path w="896" h="1360">
                  <a:moveTo>
                    <a:pt x="0" y="1248"/>
                  </a:moveTo>
                  <a:cubicBezTo>
                    <a:pt x="40" y="1292"/>
                    <a:pt x="80" y="1336"/>
                    <a:pt x="192" y="1344"/>
                  </a:cubicBezTo>
                  <a:cubicBezTo>
                    <a:pt x="304" y="1352"/>
                    <a:pt x="560" y="1360"/>
                    <a:pt x="672" y="1296"/>
                  </a:cubicBezTo>
                  <a:cubicBezTo>
                    <a:pt x="784" y="1232"/>
                    <a:pt x="832" y="1080"/>
                    <a:pt x="864" y="960"/>
                  </a:cubicBezTo>
                  <a:cubicBezTo>
                    <a:pt x="896" y="840"/>
                    <a:pt x="872" y="688"/>
                    <a:pt x="864" y="576"/>
                  </a:cubicBezTo>
                  <a:cubicBezTo>
                    <a:pt x="856" y="464"/>
                    <a:pt x="840" y="384"/>
                    <a:pt x="816" y="288"/>
                  </a:cubicBezTo>
                  <a:cubicBezTo>
                    <a:pt x="792" y="192"/>
                    <a:pt x="736" y="48"/>
                    <a:pt x="720" y="0"/>
                  </a:cubicBezTo>
                </a:path>
              </a:pathLst>
            </a:custGeom>
            <a:noFill/>
            <a:ln w="28440">
              <a:solidFill>
                <a:srgbClr val="0fb75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7840" y="5432400"/>
              <a:ext cx="735120" cy="343080"/>
            </a:xfrm>
            <a:prstGeom prst="ellipse">
              <a:avLst/>
            </a:prstGeom>
            <a:noFill/>
            <a:ln w="19080">
              <a:solidFill>
                <a:srgbClr val="0fb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FB19-6FED-4017-AD2D-ED9A09303A1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1640" y="1889280"/>
            <a:ext cx="7943760" cy="35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PICE Toolkit has been ported to a wide variety of popular “environments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nvironment is characteriz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ware type (platfor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even selected compilation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IF provides separate, ready-built SPICE Toolkit packages for each supported environ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need to port the Toolkit to a new environment yourself, consult with NAIF sta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325680" y="409320"/>
            <a:ext cx="5011920" cy="45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Supported Platforms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10A2-3C07-4AAD-96DE-6BCD2996364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23880" y="4419720"/>
            <a:ext cx="7696440" cy="17524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7137360" cy="471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 planning, modeling and vis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flight mission evaluation from a science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science observation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 operations engineering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 data analysis, including correlation of results between instruments, and with data obtained from other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rchiving, for future use by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Public outre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20880" y="2666880"/>
            <a:ext cx="0" cy="373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1200" y="1523880"/>
            <a:ext cx="13244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2535120" y="379440"/>
            <a:ext cx="61977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 What Jobs is SPICE Used 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91880" y="5638680"/>
            <a:ext cx="17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original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 SP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086600" y="51814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81680" y="579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A18C-2AF7-4AFF-9501-E1C94B6B40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010280" cy="793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Examples - 1 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Can You Do With SPICE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interesting orbit properties; compare these with those of another design, or with another miss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valuate possibilities for relay link times and dur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dict or evaluate telecommunications link perform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alyze spacecraft orientation histor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termine elevation and rise/set times of sun and tracking sta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location and lighting conditions for a rover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D5B3-F707-49FF-A2A1-BF20F11C20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33440" y="-360"/>
            <a:ext cx="5462640" cy="793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Examples - 2 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Can You Do With SPICE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9055080" cy="54864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ign specific observations to be acqui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observation geometr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needed for science data product labels, to later be used in searching a catalog for science data of interes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observation geometr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needed to analyze some data or to correlate multiple data se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s of “observation geometry”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ghting angles (phase, incidence, emission)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tion (LAT/LON) of instrument footprin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nge and local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l seas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ization, Education and Public Outr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ide geometry used to drive web pages giving interesting parameters such as ranges, velocities, time of day on Ma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ide geometry for animations showing orbiter location and orientation, instrument footprint projected on the surface, and locations of surface assets or natural features of interes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87C6-1146-4CF1-B0FD-5D9751BDA6B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36520" y="380520"/>
            <a:ext cx="7342200" cy="423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“Vehicle” Types Can Be Supported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01280" y="1598760"/>
            <a:ext cx="3900600" cy="358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77000"/>
          </a:bodyPr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ise/Fly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strument calibr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cations rela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o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situ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91040" y="1599840"/>
            <a:ext cx="3895920" cy="283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66000"/>
          </a:bodyPr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ver or balloon rela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cal terrain characteriz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phemerides for observ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7000" y="682308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yet demon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B01C-367F-4075-B880-2E42642904B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62160" y="476280"/>
            <a:ext cx="47340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lobal SPICE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38080" y="1295280"/>
            <a:ext cx="7315200" cy="5351400"/>
            <a:chOff x="838080" y="1295280"/>
            <a:chExt cx="7315200" cy="5351400"/>
          </a:xfrm>
        </p:grpSpPr>
        <p:grpSp>
          <p:nvGrpSpPr>
            <p:cNvPr id="422" name=""/>
            <p:cNvGrpSpPr/>
            <p:nvPr/>
          </p:nvGrpSpPr>
          <p:grpSpPr>
            <a:xfrm>
              <a:off x="838080" y="1599840"/>
              <a:ext cx="7315200" cy="5029200"/>
              <a:chOff x="838080" y="1599840"/>
              <a:chExt cx="7315200" cy="5029200"/>
            </a:xfrm>
          </p:grpSpPr>
          <p:sp>
            <p:nvSpPr>
              <p:cNvPr id="423" name=""/>
              <p:cNvSpPr/>
              <p:nvPr/>
            </p:nvSpPr>
            <p:spPr>
              <a:xfrm>
                <a:off x="838080" y="1599840"/>
                <a:ext cx="1828800" cy="3812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609588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080" y="274284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8080" y="358128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080" y="441936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38080" y="525744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29400" y="159984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29400" y="274284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29400" y="373356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29400" y="472428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29400" y="5790960"/>
                <a:ext cx="1523880" cy="8380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1599840"/>
              <a:ext cx="7315200" cy="5046840"/>
              <a:chOff x="838080" y="1599840"/>
              <a:chExt cx="7315200" cy="504684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1599840"/>
                <a:ext cx="182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UTC to ET mapp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generic” LS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29400" y="159984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T to orbiter on-board clock mapping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”orbiter” SCL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8080" y="60958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Orbiter position relative to the center of Mar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orbiter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29400" y="274284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Orbiter frame orientation relative to J2000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orbiter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38080" y="274284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arth position relative to Solar System barycenter (“planet ephemeri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629400" y="373356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frame orientation relative to local level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rover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8080" y="35812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position relative to the landing site (lander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rover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29400" y="472428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38080" y="441936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(lander) position relative to the Mars center (“landing site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8080" y="525744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rs position relative to the Solar System barycenter (“planet ephemeri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29400" y="579096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Planet body-fixed frame orientation relative to J2000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generic” P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997000" y="2070000"/>
              <a:ext cx="3478320" cy="4565160"/>
              <a:chOff x="2997000" y="2070000"/>
              <a:chExt cx="3478320" cy="4565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3220560" y="3379680"/>
                <a:ext cx="3254760" cy="3255480"/>
                <a:chOff x="3220560" y="3379680"/>
                <a:chExt cx="3254760" cy="3255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565600" y="5833800"/>
                  <a:ext cx="63720" cy="64800"/>
                </a:xfrm>
                <a:custGeom>
                  <a:avLst/>
                  <a:gdLst/>
                  <a:ahLst/>
                  <a:rect l="l" t="t" r="r" b="b"/>
                  <a:pathLst>
                    <a:path w="40" h="41">
                      <a:moveTo>
                        <a:pt x="40" y="20"/>
                      </a:moveTo>
                      <a:lnTo>
                        <a:pt x="40" y="24"/>
                      </a:lnTo>
                      <a:lnTo>
                        <a:pt x="39" y="28"/>
                      </a:lnTo>
                      <a:lnTo>
                        <a:pt x="37" y="32"/>
                      </a:lnTo>
                      <a:lnTo>
                        <a:pt x="34" y="35"/>
                      </a:lnTo>
                      <a:lnTo>
                        <a:pt x="31" y="38"/>
                      </a:lnTo>
                      <a:lnTo>
                        <a:pt x="27" y="40"/>
                      </a:lnTo>
                      <a:lnTo>
                        <a:pt x="23" y="41"/>
                      </a:lnTo>
                      <a:lnTo>
                        <a:pt x="18" y="41"/>
                      </a:lnTo>
                      <a:lnTo>
                        <a:pt x="14" y="40"/>
                      </a:lnTo>
                      <a:lnTo>
                        <a:pt x="10" y="38"/>
                      </a:lnTo>
                      <a:lnTo>
                        <a:pt x="6" y="35"/>
                      </a:lnTo>
                      <a:lnTo>
                        <a:pt x="4" y="32"/>
                      </a:lnTo>
                      <a:lnTo>
                        <a:pt x="2" y="28"/>
                      </a:lnTo>
                      <a:lnTo>
                        <a:pt x="1" y="24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2" y="12"/>
                      </a:lnTo>
                      <a:lnTo>
                        <a:pt x="4" y="9"/>
                      </a:lnTo>
                      <a:lnTo>
                        <a:pt x="6" y="5"/>
                      </a:lnTo>
                      <a:lnTo>
                        <a:pt x="10" y="3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4" y="5"/>
                      </a:lnTo>
                      <a:lnTo>
                        <a:pt x="37" y="9"/>
                      </a:lnTo>
                      <a:lnTo>
                        <a:pt x="39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60920" y="5829120"/>
                  <a:ext cx="63360" cy="64440"/>
                </a:xfrm>
                <a:custGeom>
                  <a:avLst/>
                  <a:gdLst/>
                  <a:ahLst/>
                  <a:rect l="l" t="t" r="r" b="b"/>
                  <a:pathLst>
                    <a:path w="40" h="41">
                      <a:moveTo>
                        <a:pt x="40" y="20"/>
                      </a:moveTo>
                      <a:lnTo>
                        <a:pt x="40" y="24"/>
                      </a:lnTo>
                      <a:lnTo>
                        <a:pt x="39" y="29"/>
                      </a:lnTo>
                      <a:lnTo>
                        <a:pt x="37" y="33"/>
                      </a:lnTo>
                      <a:lnTo>
                        <a:pt x="34" y="35"/>
                      </a:lnTo>
                      <a:lnTo>
                        <a:pt x="31" y="38"/>
                      </a:lnTo>
                      <a:lnTo>
                        <a:pt x="27" y="40"/>
                      </a:lnTo>
                      <a:lnTo>
                        <a:pt x="23" y="41"/>
                      </a:lnTo>
                      <a:lnTo>
                        <a:pt x="19" y="41"/>
                      </a:lnTo>
                      <a:lnTo>
                        <a:pt x="15" y="40"/>
                      </a:lnTo>
                      <a:lnTo>
                        <a:pt x="11" y="38"/>
                      </a:lnTo>
                      <a:lnTo>
                        <a:pt x="7" y="35"/>
                      </a:lnTo>
                      <a:lnTo>
                        <a:pt x="4" y="33"/>
                      </a:lnTo>
                      <a:lnTo>
                        <a:pt x="2" y="29"/>
                      </a:lnTo>
                      <a:lnTo>
                        <a:pt x="1" y="24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2" y="12"/>
                      </a:lnTo>
                      <a:lnTo>
                        <a:pt x="4" y="9"/>
                      </a:lnTo>
                      <a:lnTo>
                        <a:pt x="7" y="5"/>
                      </a:lnTo>
                      <a:lnTo>
                        <a:pt x="11" y="3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4" y="5"/>
                      </a:lnTo>
                      <a:lnTo>
                        <a:pt x="37" y="9"/>
                      </a:lnTo>
                      <a:lnTo>
                        <a:pt x="39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18280" y="3970080"/>
                  <a:ext cx="64800" cy="6480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395520" y="3682800"/>
                  <a:ext cx="3079800" cy="2952360"/>
                </a:xfrm>
                <a:custGeom>
                  <a:avLst/>
                  <a:gdLst/>
                  <a:ahLst/>
                  <a:rect l="l" t="t" r="r" b="b"/>
                  <a:pathLst>
                    <a:path w="1940" h="1860">
                      <a:moveTo>
                        <a:pt x="85" y="1860"/>
                      </a:moveTo>
                      <a:lnTo>
                        <a:pt x="78" y="1840"/>
                      </a:lnTo>
                      <a:lnTo>
                        <a:pt x="72" y="1821"/>
                      </a:lnTo>
                      <a:lnTo>
                        <a:pt x="65" y="1801"/>
                      </a:lnTo>
                      <a:lnTo>
                        <a:pt x="59" y="1781"/>
                      </a:lnTo>
                      <a:lnTo>
                        <a:pt x="53" y="1761"/>
                      </a:lnTo>
                      <a:lnTo>
                        <a:pt x="48" y="1741"/>
                      </a:lnTo>
                      <a:lnTo>
                        <a:pt x="42" y="1721"/>
                      </a:lnTo>
                      <a:lnTo>
                        <a:pt x="38" y="1700"/>
                      </a:lnTo>
                      <a:lnTo>
                        <a:pt x="33" y="1680"/>
                      </a:lnTo>
                      <a:lnTo>
                        <a:pt x="28" y="1660"/>
                      </a:lnTo>
                      <a:lnTo>
                        <a:pt x="24" y="1639"/>
                      </a:lnTo>
                      <a:lnTo>
                        <a:pt x="21" y="1618"/>
                      </a:lnTo>
                      <a:lnTo>
                        <a:pt x="17" y="1598"/>
                      </a:lnTo>
                      <a:lnTo>
                        <a:pt x="14" y="1577"/>
                      </a:lnTo>
                      <a:lnTo>
                        <a:pt x="11" y="1556"/>
                      </a:lnTo>
                      <a:lnTo>
                        <a:pt x="8" y="1535"/>
                      </a:lnTo>
                      <a:lnTo>
                        <a:pt x="6" y="1514"/>
                      </a:lnTo>
                      <a:lnTo>
                        <a:pt x="4" y="1492"/>
                      </a:lnTo>
                      <a:lnTo>
                        <a:pt x="3" y="1471"/>
                      </a:lnTo>
                      <a:lnTo>
                        <a:pt x="2" y="1450"/>
                      </a:lnTo>
                      <a:lnTo>
                        <a:pt x="1" y="1428"/>
                      </a:lnTo>
                      <a:lnTo>
                        <a:pt x="0" y="1406"/>
                      </a:lnTo>
                      <a:lnTo>
                        <a:pt x="0" y="1385"/>
                      </a:lnTo>
                      <a:lnTo>
                        <a:pt x="0" y="1385"/>
                      </a:lnTo>
                      <a:lnTo>
                        <a:pt x="0" y="1366"/>
                      </a:lnTo>
                      <a:lnTo>
                        <a:pt x="1" y="1347"/>
                      </a:lnTo>
                      <a:lnTo>
                        <a:pt x="2" y="1329"/>
                      </a:lnTo>
                      <a:lnTo>
                        <a:pt x="2" y="1310"/>
                      </a:lnTo>
                      <a:lnTo>
                        <a:pt x="4" y="1291"/>
                      </a:lnTo>
                      <a:lnTo>
                        <a:pt x="5" y="1272"/>
                      </a:lnTo>
                      <a:lnTo>
                        <a:pt x="6" y="1254"/>
                      </a:lnTo>
                      <a:lnTo>
                        <a:pt x="8" y="1235"/>
                      </a:lnTo>
                      <a:lnTo>
                        <a:pt x="10" y="1217"/>
                      </a:lnTo>
                      <a:lnTo>
                        <a:pt x="13" y="1198"/>
                      </a:lnTo>
                      <a:lnTo>
                        <a:pt x="15" y="1181"/>
                      </a:lnTo>
                      <a:lnTo>
                        <a:pt x="19" y="1162"/>
                      </a:lnTo>
                      <a:lnTo>
                        <a:pt x="21" y="1144"/>
                      </a:lnTo>
                      <a:lnTo>
                        <a:pt x="25" y="1126"/>
                      </a:lnTo>
                      <a:lnTo>
                        <a:pt x="28" y="1109"/>
                      </a:lnTo>
                      <a:lnTo>
                        <a:pt x="32" y="1091"/>
                      </a:lnTo>
                      <a:lnTo>
                        <a:pt x="36" y="1073"/>
                      </a:lnTo>
                      <a:lnTo>
                        <a:pt x="40" y="1055"/>
                      </a:lnTo>
                      <a:lnTo>
                        <a:pt x="44" y="1038"/>
                      </a:lnTo>
                      <a:lnTo>
                        <a:pt x="49" y="1020"/>
                      </a:lnTo>
                      <a:lnTo>
                        <a:pt x="54" y="1003"/>
                      </a:lnTo>
                      <a:lnTo>
                        <a:pt x="59" y="985"/>
                      </a:lnTo>
                      <a:lnTo>
                        <a:pt x="64" y="968"/>
                      </a:lnTo>
                      <a:lnTo>
                        <a:pt x="70" y="951"/>
                      </a:lnTo>
                      <a:lnTo>
                        <a:pt x="76" y="934"/>
                      </a:lnTo>
                      <a:lnTo>
                        <a:pt x="82" y="917"/>
                      </a:lnTo>
                      <a:lnTo>
                        <a:pt x="88" y="901"/>
                      </a:lnTo>
                      <a:lnTo>
                        <a:pt x="95" y="884"/>
                      </a:lnTo>
                      <a:lnTo>
                        <a:pt x="101" y="867"/>
                      </a:lnTo>
                      <a:lnTo>
                        <a:pt x="108" y="851"/>
                      </a:lnTo>
                      <a:lnTo>
                        <a:pt x="115" y="834"/>
                      </a:lnTo>
                      <a:lnTo>
                        <a:pt x="122" y="818"/>
                      </a:lnTo>
                      <a:lnTo>
                        <a:pt x="129" y="802"/>
                      </a:lnTo>
                      <a:lnTo>
                        <a:pt x="137" y="785"/>
                      </a:lnTo>
                      <a:lnTo>
                        <a:pt x="145" y="770"/>
                      </a:lnTo>
                      <a:lnTo>
                        <a:pt x="153" y="754"/>
                      </a:lnTo>
                      <a:lnTo>
                        <a:pt x="161" y="738"/>
                      </a:lnTo>
                      <a:lnTo>
                        <a:pt x="169" y="722"/>
                      </a:lnTo>
                      <a:lnTo>
                        <a:pt x="179" y="707"/>
                      </a:lnTo>
                      <a:lnTo>
                        <a:pt x="187" y="692"/>
                      </a:lnTo>
                      <a:lnTo>
                        <a:pt x="196" y="677"/>
                      </a:lnTo>
                      <a:lnTo>
                        <a:pt x="205" y="661"/>
                      </a:lnTo>
                      <a:lnTo>
                        <a:pt x="214" y="646"/>
                      </a:lnTo>
                      <a:lnTo>
                        <a:pt x="224" y="631"/>
                      </a:lnTo>
                      <a:lnTo>
                        <a:pt x="234" y="616"/>
                      </a:lnTo>
                      <a:lnTo>
                        <a:pt x="244" y="602"/>
                      </a:lnTo>
                      <a:lnTo>
                        <a:pt x="254" y="587"/>
                      </a:lnTo>
                      <a:lnTo>
                        <a:pt x="264" y="573"/>
                      </a:lnTo>
                      <a:lnTo>
                        <a:pt x="274" y="559"/>
                      </a:lnTo>
                      <a:lnTo>
                        <a:pt x="285" y="545"/>
                      </a:lnTo>
                      <a:lnTo>
                        <a:pt x="296" y="531"/>
                      </a:lnTo>
                      <a:lnTo>
                        <a:pt x="307" y="517"/>
                      </a:lnTo>
                      <a:lnTo>
                        <a:pt x="318" y="504"/>
                      </a:lnTo>
                      <a:lnTo>
                        <a:pt x="330" y="490"/>
                      </a:lnTo>
                      <a:lnTo>
                        <a:pt x="341" y="477"/>
                      </a:lnTo>
                      <a:lnTo>
                        <a:pt x="353" y="463"/>
                      </a:lnTo>
                      <a:lnTo>
                        <a:pt x="365" y="450"/>
                      </a:lnTo>
                      <a:lnTo>
                        <a:pt x="376" y="438"/>
                      </a:lnTo>
                      <a:lnTo>
                        <a:pt x="388" y="425"/>
                      </a:lnTo>
                      <a:lnTo>
                        <a:pt x="400" y="412"/>
                      </a:lnTo>
                      <a:lnTo>
                        <a:pt x="413" y="400"/>
                      </a:lnTo>
                      <a:lnTo>
                        <a:pt x="426" y="387"/>
                      </a:lnTo>
                      <a:lnTo>
                        <a:pt x="438" y="375"/>
                      </a:lnTo>
                      <a:lnTo>
                        <a:pt x="452" y="363"/>
                      </a:lnTo>
                      <a:lnTo>
                        <a:pt x="465" y="351"/>
                      </a:lnTo>
                      <a:lnTo>
                        <a:pt x="478" y="340"/>
                      </a:lnTo>
                      <a:lnTo>
                        <a:pt x="491" y="328"/>
                      </a:lnTo>
                      <a:lnTo>
                        <a:pt x="505" y="317"/>
                      </a:lnTo>
                      <a:lnTo>
                        <a:pt x="519" y="306"/>
                      </a:lnTo>
                      <a:lnTo>
                        <a:pt x="532" y="295"/>
                      </a:lnTo>
                      <a:lnTo>
                        <a:pt x="546" y="284"/>
                      </a:lnTo>
                      <a:lnTo>
                        <a:pt x="561" y="274"/>
                      </a:lnTo>
                      <a:lnTo>
                        <a:pt x="574" y="263"/>
                      </a:lnTo>
                      <a:lnTo>
                        <a:pt x="589" y="253"/>
                      </a:lnTo>
                      <a:lnTo>
                        <a:pt x="603" y="242"/>
                      </a:lnTo>
                      <a:lnTo>
                        <a:pt x="618" y="232"/>
                      </a:lnTo>
                      <a:lnTo>
                        <a:pt x="633" y="223"/>
                      </a:lnTo>
                      <a:lnTo>
                        <a:pt x="648" y="213"/>
                      </a:lnTo>
                      <a:lnTo>
                        <a:pt x="663" y="204"/>
                      </a:lnTo>
                      <a:lnTo>
                        <a:pt x="678" y="195"/>
                      </a:lnTo>
                      <a:lnTo>
                        <a:pt x="693" y="186"/>
                      </a:lnTo>
                      <a:lnTo>
                        <a:pt x="708" y="177"/>
                      </a:lnTo>
                      <a:lnTo>
                        <a:pt x="724" y="169"/>
                      </a:lnTo>
                      <a:lnTo>
                        <a:pt x="739" y="160"/>
                      </a:lnTo>
                      <a:lnTo>
                        <a:pt x="755" y="152"/>
                      </a:lnTo>
                      <a:lnTo>
                        <a:pt x="771" y="144"/>
                      </a:lnTo>
                      <a:lnTo>
                        <a:pt x="787" y="136"/>
                      </a:lnTo>
                      <a:lnTo>
                        <a:pt x="803" y="128"/>
                      </a:lnTo>
                      <a:lnTo>
                        <a:pt x="819" y="121"/>
                      </a:lnTo>
                      <a:lnTo>
                        <a:pt x="835" y="114"/>
                      </a:lnTo>
                      <a:lnTo>
                        <a:pt x="852" y="107"/>
                      </a:lnTo>
                      <a:lnTo>
                        <a:pt x="868" y="100"/>
                      </a:lnTo>
                      <a:lnTo>
                        <a:pt x="885" y="93"/>
                      </a:lnTo>
                      <a:lnTo>
                        <a:pt x="902" y="87"/>
                      </a:lnTo>
                      <a:lnTo>
                        <a:pt x="918" y="80"/>
                      </a:lnTo>
                      <a:lnTo>
                        <a:pt x="936" y="75"/>
                      </a:lnTo>
                      <a:lnTo>
                        <a:pt x="953" y="69"/>
                      </a:lnTo>
                      <a:lnTo>
                        <a:pt x="970" y="64"/>
                      </a:lnTo>
                      <a:lnTo>
                        <a:pt x="987" y="58"/>
                      </a:lnTo>
                      <a:lnTo>
                        <a:pt x="1004" y="53"/>
                      </a:lnTo>
                      <a:lnTo>
                        <a:pt x="1021" y="48"/>
                      </a:lnTo>
                      <a:lnTo>
                        <a:pt x="1039" y="43"/>
                      </a:lnTo>
                      <a:lnTo>
                        <a:pt x="1057" y="39"/>
                      </a:lnTo>
                      <a:lnTo>
                        <a:pt x="1074" y="35"/>
                      </a:lnTo>
                      <a:lnTo>
                        <a:pt x="1092" y="31"/>
                      </a:lnTo>
                      <a:lnTo>
                        <a:pt x="1110" y="27"/>
                      </a:lnTo>
                      <a:lnTo>
                        <a:pt x="1127" y="24"/>
                      </a:lnTo>
                      <a:lnTo>
                        <a:pt x="1146" y="20"/>
                      </a:lnTo>
                      <a:lnTo>
                        <a:pt x="1164" y="18"/>
                      </a:lnTo>
                      <a:lnTo>
                        <a:pt x="1182" y="15"/>
                      </a:lnTo>
                      <a:lnTo>
                        <a:pt x="1200" y="12"/>
                      </a:lnTo>
                      <a:lnTo>
                        <a:pt x="1219" y="10"/>
                      </a:lnTo>
                      <a:lnTo>
                        <a:pt x="1237" y="8"/>
                      </a:lnTo>
                      <a:lnTo>
                        <a:pt x="1255" y="6"/>
                      </a:lnTo>
                      <a:lnTo>
                        <a:pt x="1274" y="4"/>
                      </a:lnTo>
                      <a:lnTo>
                        <a:pt x="1293" y="3"/>
                      </a:lnTo>
                      <a:lnTo>
                        <a:pt x="1311" y="1"/>
                      </a:lnTo>
                      <a:lnTo>
                        <a:pt x="1330" y="1"/>
                      </a:lnTo>
                      <a:lnTo>
                        <a:pt x="1349" y="0"/>
                      </a:lnTo>
                      <a:lnTo>
                        <a:pt x="1368" y="0"/>
                      </a:lnTo>
                      <a:lnTo>
                        <a:pt x="1387" y="0"/>
                      </a:lnTo>
                      <a:lnTo>
                        <a:pt x="1387" y="0"/>
                      </a:lnTo>
                      <a:lnTo>
                        <a:pt x="1407" y="0"/>
                      </a:lnTo>
                      <a:lnTo>
                        <a:pt x="1429" y="0"/>
                      </a:lnTo>
                      <a:lnTo>
                        <a:pt x="1449" y="1"/>
                      </a:lnTo>
                      <a:lnTo>
                        <a:pt x="1470" y="2"/>
                      </a:lnTo>
                      <a:lnTo>
                        <a:pt x="1491" y="4"/>
                      </a:lnTo>
                      <a:lnTo>
                        <a:pt x="1512" y="6"/>
                      </a:lnTo>
                      <a:lnTo>
                        <a:pt x="1532" y="7"/>
                      </a:lnTo>
                      <a:lnTo>
                        <a:pt x="1553" y="10"/>
                      </a:lnTo>
                      <a:lnTo>
                        <a:pt x="1573" y="12"/>
                      </a:lnTo>
                      <a:lnTo>
                        <a:pt x="1593" y="15"/>
                      </a:lnTo>
                      <a:lnTo>
                        <a:pt x="1613" y="18"/>
                      </a:lnTo>
                      <a:lnTo>
                        <a:pt x="1634" y="22"/>
                      </a:lnTo>
                      <a:lnTo>
                        <a:pt x="1653" y="26"/>
                      </a:lnTo>
                      <a:lnTo>
                        <a:pt x="1674" y="29"/>
                      </a:lnTo>
                      <a:lnTo>
                        <a:pt x="1693" y="33"/>
                      </a:lnTo>
                      <a:lnTo>
                        <a:pt x="1713" y="38"/>
                      </a:lnTo>
                      <a:lnTo>
                        <a:pt x="1732" y="43"/>
                      </a:lnTo>
                      <a:lnTo>
                        <a:pt x="1752" y="48"/>
                      </a:lnTo>
                      <a:lnTo>
                        <a:pt x="1771" y="53"/>
                      </a:lnTo>
                      <a:lnTo>
                        <a:pt x="1790" y="60"/>
                      </a:lnTo>
                      <a:lnTo>
                        <a:pt x="1809" y="65"/>
                      </a:lnTo>
                      <a:lnTo>
                        <a:pt x="1828" y="72"/>
                      </a:lnTo>
                      <a:lnTo>
                        <a:pt x="1847" y="79"/>
                      </a:lnTo>
                      <a:lnTo>
                        <a:pt x="1866" y="85"/>
                      </a:lnTo>
                      <a:lnTo>
                        <a:pt x="1885" y="92"/>
                      </a:lnTo>
                      <a:lnTo>
                        <a:pt x="1903" y="99"/>
                      </a:lnTo>
                      <a:lnTo>
                        <a:pt x="1921" y="107"/>
                      </a:lnTo>
                      <a:lnTo>
                        <a:pt x="1940" y="115"/>
                      </a:lnTo>
                      <a:lnTo>
                        <a:pt x="1940" y="115"/>
                      </a:lnTo>
                      <a:lnTo>
                        <a:pt x="1938" y="1856"/>
                      </a:lnTo>
                      <a:lnTo>
                        <a:pt x="85" y="1860"/>
                      </a:lnTo>
                      <a:lnTo>
                        <a:pt x="85" y="1860"/>
                      </a:lnTo>
                      <a:lnTo>
                        <a:pt x="85" y="186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397320" y="3682800"/>
                  <a:ext cx="3078000" cy="2952360"/>
                </a:xfrm>
                <a:custGeom>
                  <a:avLst/>
                  <a:gdLst/>
                  <a:ahLst/>
                  <a:rect l="l" t="t" r="r" b="b"/>
                  <a:pathLst>
                    <a:path w="1939" h="1860">
                      <a:moveTo>
                        <a:pt x="85" y="1860"/>
                      </a:moveTo>
                      <a:lnTo>
                        <a:pt x="78" y="1841"/>
                      </a:lnTo>
                      <a:lnTo>
                        <a:pt x="71" y="1821"/>
                      </a:lnTo>
                      <a:lnTo>
                        <a:pt x="64" y="1802"/>
                      </a:lnTo>
                      <a:lnTo>
                        <a:pt x="58" y="1781"/>
                      </a:lnTo>
                      <a:lnTo>
                        <a:pt x="53" y="1762"/>
                      </a:lnTo>
                      <a:lnTo>
                        <a:pt x="48" y="1742"/>
                      </a:lnTo>
                      <a:lnTo>
                        <a:pt x="42" y="1722"/>
                      </a:lnTo>
                      <a:lnTo>
                        <a:pt x="37" y="1701"/>
                      </a:lnTo>
                      <a:lnTo>
                        <a:pt x="33" y="1681"/>
                      </a:lnTo>
                      <a:lnTo>
                        <a:pt x="28" y="1660"/>
                      </a:lnTo>
                      <a:lnTo>
                        <a:pt x="24" y="1640"/>
                      </a:lnTo>
                      <a:lnTo>
                        <a:pt x="20" y="1619"/>
                      </a:lnTo>
                      <a:lnTo>
                        <a:pt x="16" y="1598"/>
                      </a:lnTo>
                      <a:lnTo>
                        <a:pt x="14" y="1578"/>
                      </a:lnTo>
                      <a:lnTo>
                        <a:pt x="11" y="1556"/>
                      </a:lnTo>
                      <a:lnTo>
                        <a:pt x="8" y="1535"/>
                      </a:lnTo>
                      <a:lnTo>
                        <a:pt x="6" y="1514"/>
                      </a:lnTo>
                      <a:lnTo>
                        <a:pt x="4" y="1493"/>
                      </a:lnTo>
                      <a:lnTo>
                        <a:pt x="3" y="1472"/>
                      </a:lnTo>
                      <a:lnTo>
                        <a:pt x="1" y="1450"/>
                      </a:lnTo>
                      <a:lnTo>
                        <a:pt x="0" y="1429"/>
                      </a:lnTo>
                      <a:lnTo>
                        <a:pt x="0" y="1407"/>
                      </a:lnTo>
                      <a:lnTo>
                        <a:pt x="0" y="1385"/>
                      </a:lnTo>
                      <a:lnTo>
                        <a:pt x="0" y="1367"/>
                      </a:lnTo>
                      <a:lnTo>
                        <a:pt x="0" y="1348"/>
                      </a:lnTo>
                      <a:lnTo>
                        <a:pt x="1" y="1329"/>
                      </a:lnTo>
                      <a:lnTo>
                        <a:pt x="1" y="1310"/>
                      </a:lnTo>
                      <a:lnTo>
                        <a:pt x="3" y="1292"/>
                      </a:lnTo>
                      <a:lnTo>
                        <a:pt x="4" y="1273"/>
                      </a:lnTo>
                      <a:lnTo>
                        <a:pt x="6" y="1254"/>
                      </a:lnTo>
                      <a:lnTo>
                        <a:pt x="8" y="1236"/>
                      </a:lnTo>
                      <a:lnTo>
                        <a:pt x="10" y="1218"/>
                      </a:lnTo>
                      <a:lnTo>
                        <a:pt x="12" y="1199"/>
                      </a:lnTo>
                      <a:lnTo>
                        <a:pt x="15" y="1181"/>
                      </a:lnTo>
                      <a:lnTo>
                        <a:pt x="18" y="1163"/>
                      </a:lnTo>
                      <a:lnTo>
                        <a:pt x="20" y="1145"/>
                      </a:lnTo>
                      <a:lnTo>
                        <a:pt x="24" y="1127"/>
                      </a:lnTo>
                      <a:lnTo>
                        <a:pt x="28" y="1109"/>
                      </a:lnTo>
                      <a:lnTo>
                        <a:pt x="31" y="1091"/>
                      </a:lnTo>
                      <a:lnTo>
                        <a:pt x="35" y="1073"/>
                      </a:lnTo>
                      <a:lnTo>
                        <a:pt x="39" y="1056"/>
                      </a:lnTo>
                      <a:lnTo>
                        <a:pt x="44" y="1038"/>
                      </a:lnTo>
                      <a:lnTo>
                        <a:pt x="49" y="1020"/>
                      </a:lnTo>
                      <a:lnTo>
                        <a:pt x="53" y="1003"/>
                      </a:lnTo>
                      <a:lnTo>
                        <a:pt x="59" y="986"/>
                      </a:lnTo>
                      <a:lnTo>
                        <a:pt x="64" y="969"/>
                      </a:lnTo>
                      <a:lnTo>
                        <a:pt x="70" y="951"/>
                      </a:lnTo>
                      <a:lnTo>
                        <a:pt x="75" y="935"/>
                      </a:lnTo>
                      <a:lnTo>
                        <a:pt x="81" y="918"/>
                      </a:lnTo>
                      <a:lnTo>
                        <a:pt x="87" y="901"/>
                      </a:lnTo>
                      <a:lnTo>
                        <a:pt x="94" y="885"/>
                      </a:lnTo>
                      <a:lnTo>
                        <a:pt x="101" y="868"/>
                      </a:lnTo>
                      <a:lnTo>
                        <a:pt x="107" y="851"/>
                      </a:lnTo>
                      <a:lnTo>
                        <a:pt x="114" y="835"/>
                      </a:lnTo>
                      <a:lnTo>
                        <a:pt x="122" y="818"/>
                      </a:lnTo>
                      <a:lnTo>
                        <a:pt x="129" y="802"/>
                      </a:lnTo>
                      <a:lnTo>
                        <a:pt x="137" y="786"/>
                      </a:lnTo>
                      <a:lnTo>
                        <a:pt x="145" y="770"/>
                      </a:lnTo>
                      <a:lnTo>
                        <a:pt x="153" y="754"/>
                      </a:lnTo>
                      <a:lnTo>
                        <a:pt x="161" y="739"/>
                      </a:lnTo>
                      <a:lnTo>
                        <a:pt x="169" y="723"/>
                      </a:lnTo>
                      <a:lnTo>
                        <a:pt x="178" y="708"/>
                      </a:lnTo>
                      <a:lnTo>
                        <a:pt x="186" y="692"/>
                      </a:lnTo>
                      <a:lnTo>
                        <a:pt x="196" y="677"/>
                      </a:lnTo>
                      <a:lnTo>
                        <a:pt x="205" y="662"/>
                      </a:lnTo>
                      <a:lnTo>
                        <a:pt x="214" y="647"/>
                      </a:lnTo>
                      <a:lnTo>
                        <a:pt x="224" y="632"/>
                      </a:lnTo>
                      <a:lnTo>
                        <a:pt x="234" y="617"/>
                      </a:lnTo>
                      <a:lnTo>
                        <a:pt x="243" y="602"/>
                      </a:lnTo>
                      <a:lnTo>
                        <a:pt x="253" y="588"/>
                      </a:lnTo>
                      <a:lnTo>
                        <a:pt x="264" y="573"/>
                      </a:lnTo>
                      <a:lnTo>
                        <a:pt x="274" y="560"/>
                      </a:lnTo>
                      <a:lnTo>
                        <a:pt x="285" y="545"/>
                      </a:lnTo>
                      <a:lnTo>
                        <a:pt x="296" y="531"/>
                      </a:lnTo>
                      <a:lnTo>
                        <a:pt x="307" y="518"/>
                      </a:lnTo>
                      <a:lnTo>
                        <a:pt x="318" y="504"/>
                      </a:lnTo>
                      <a:lnTo>
                        <a:pt x="329" y="491"/>
                      </a:lnTo>
                      <a:lnTo>
                        <a:pt x="341" y="477"/>
                      </a:lnTo>
                      <a:lnTo>
                        <a:pt x="352" y="464"/>
                      </a:lnTo>
                      <a:lnTo>
                        <a:pt x="364" y="451"/>
                      </a:lnTo>
                      <a:lnTo>
                        <a:pt x="376" y="438"/>
                      </a:lnTo>
                      <a:lnTo>
                        <a:pt x="388" y="425"/>
                      </a:lnTo>
                      <a:lnTo>
                        <a:pt x="400" y="413"/>
                      </a:lnTo>
                      <a:lnTo>
                        <a:pt x="413" y="400"/>
                      </a:lnTo>
                      <a:lnTo>
                        <a:pt x="425" y="388"/>
                      </a:lnTo>
                      <a:lnTo>
                        <a:pt x="438" y="376"/>
                      </a:lnTo>
                      <a:lnTo>
                        <a:pt x="451" y="364"/>
                      </a:lnTo>
                      <a:lnTo>
                        <a:pt x="465" y="352"/>
                      </a:lnTo>
                      <a:lnTo>
                        <a:pt x="477" y="341"/>
                      </a:lnTo>
                      <a:lnTo>
                        <a:pt x="491" y="329"/>
                      </a:lnTo>
                      <a:lnTo>
                        <a:pt x="504" y="318"/>
                      </a:lnTo>
                      <a:lnTo>
                        <a:pt x="518" y="306"/>
                      </a:lnTo>
                      <a:lnTo>
                        <a:pt x="531" y="295"/>
                      </a:lnTo>
                      <a:lnTo>
                        <a:pt x="546" y="285"/>
                      </a:lnTo>
                      <a:lnTo>
                        <a:pt x="560" y="275"/>
                      </a:lnTo>
                      <a:lnTo>
                        <a:pt x="574" y="264"/>
                      </a:lnTo>
                      <a:lnTo>
                        <a:pt x="588" y="254"/>
                      </a:lnTo>
                      <a:lnTo>
                        <a:pt x="603" y="243"/>
                      </a:lnTo>
                      <a:lnTo>
                        <a:pt x="617" y="233"/>
                      </a:lnTo>
                      <a:lnTo>
                        <a:pt x="632" y="224"/>
                      </a:lnTo>
                      <a:lnTo>
                        <a:pt x="647" y="214"/>
                      </a:lnTo>
                      <a:lnTo>
                        <a:pt x="662" y="205"/>
                      </a:lnTo>
                      <a:lnTo>
                        <a:pt x="677" y="196"/>
                      </a:lnTo>
                      <a:lnTo>
                        <a:pt x="693" y="186"/>
                      </a:lnTo>
                      <a:lnTo>
                        <a:pt x="708" y="178"/>
                      </a:lnTo>
                      <a:lnTo>
                        <a:pt x="723" y="169"/>
                      </a:lnTo>
                      <a:lnTo>
                        <a:pt x="739" y="160"/>
                      </a:lnTo>
                      <a:lnTo>
                        <a:pt x="755" y="152"/>
                      </a:lnTo>
                      <a:lnTo>
                        <a:pt x="770" y="144"/>
                      </a:lnTo>
                      <a:lnTo>
                        <a:pt x="787" y="137"/>
                      </a:lnTo>
                      <a:lnTo>
                        <a:pt x="803" y="129"/>
                      </a:lnTo>
                      <a:lnTo>
                        <a:pt x="819" y="121"/>
                      </a:lnTo>
                      <a:lnTo>
                        <a:pt x="835" y="114"/>
                      </a:lnTo>
                      <a:lnTo>
                        <a:pt x="851" y="107"/>
                      </a:lnTo>
                      <a:lnTo>
                        <a:pt x="868" y="101"/>
                      </a:lnTo>
                      <a:lnTo>
                        <a:pt x="884" y="94"/>
                      </a:lnTo>
                      <a:lnTo>
                        <a:pt x="901" y="87"/>
                      </a:lnTo>
                      <a:lnTo>
                        <a:pt x="918" y="81"/>
                      </a:lnTo>
                      <a:lnTo>
                        <a:pt x="935" y="75"/>
                      </a:lnTo>
                      <a:lnTo>
                        <a:pt x="952" y="69"/>
                      </a:lnTo>
                      <a:lnTo>
                        <a:pt x="969" y="64"/>
                      </a:lnTo>
                      <a:lnTo>
                        <a:pt x="986" y="59"/>
                      </a:lnTo>
                      <a:lnTo>
                        <a:pt x="1004" y="54"/>
                      </a:lnTo>
                      <a:lnTo>
                        <a:pt x="1021" y="49"/>
                      </a:lnTo>
                      <a:lnTo>
                        <a:pt x="1038" y="44"/>
                      </a:lnTo>
                      <a:lnTo>
                        <a:pt x="1056" y="40"/>
                      </a:lnTo>
                      <a:lnTo>
                        <a:pt x="1074" y="35"/>
                      </a:lnTo>
                      <a:lnTo>
                        <a:pt x="1092" y="31"/>
                      </a:lnTo>
                      <a:lnTo>
                        <a:pt x="1110" y="28"/>
                      </a:lnTo>
                      <a:lnTo>
                        <a:pt x="1127" y="25"/>
                      </a:lnTo>
                      <a:lnTo>
                        <a:pt x="1145" y="21"/>
                      </a:lnTo>
                      <a:lnTo>
                        <a:pt x="1163" y="18"/>
                      </a:lnTo>
                      <a:lnTo>
                        <a:pt x="1182" y="15"/>
                      </a:lnTo>
                      <a:lnTo>
                        <a:pt x="1200" y="12"/>
                      </a:lnTo>
                      <a:lnTo>
                        <a:pt x="1219" y="11"/>
                      </a:lnTo>
                      <a:lnTo>
                        <a:pt x="1236" y="8"/>
                      </a:lnTo>
                      <a:lnTo>
                        <a:pt x="1255" y="7"/>
                      </a:lnTo>
                      <a:lnTo>
                        <a:pt x="1273" y="5"/>
                      </a:lnTo>
                      <a:lnTo>
                        <a:pt x="1292" y="3"/>
                      </a:lnTo>
                      <a:lnTo>
                        <a:pt x="1311" y="2"/>
                      </a:lnTo>
                      <a:lnTo>
                        <a:pt x="1329" y="1"/>
                      </a:lnTo>
                      <a:lnTo>
                        <a:pt x="1348" y="1"/>
                      </a:lnTo>
                      <a:lnTo>
                        <a:pt x="1367" y="0"/>
                      </a:lnTo>
                      <a:lnTo>
                        <a:pt x="1386" y="0"/>
                      </a:lnTo>
                      <a:lnTo>
                        <a:pt x="1407" y="0"/>
                      </a:lnTo>
                      <a:lnTo>
                        <a:pt x="1428" y="1"/>
                      </a:lnTo>
                      <a:lnTo>
                        <a:pt x="1449" y="2"/>
                      </a:lnTo>
                      <a:lnTo>
                        <a:pt x="1470" y="3"/>
                      </a:lnTo>
                      <a:lnTo>
                        <a:pt x="1490" y="4"/>
                      </a:lnTo>
                      <a:lnTo>
                        <a:pt x="1511" y="6"/>
                      </a:lnTo>
                      <a:lnTo>
                        <a:pt x="1532" y="8"/>
                      </a:lnTo>
                      <a:lnTo>
                        <a:pt x="1552" y="10"/>
                      </a:lnTo>
                      <a:lnTo>
                        <a:pt x="1572" y="12"/>
                      </a:lnTo>
                      <a:lnTo>
                        <a:pt x="1592" y="16"/>
                      </a:lnTo>
                      <a:lnTo>
                        <a:pt x="1613" y="19"/>
                      </a:lnTo>
                      <a:lnTo>
                        <a:pt x="1633" y="22"/>
                      </a:lnTo>
                      <a:lnTo>
                        <a:pt x="1653" y="26"/>
                      </a:lnTo>
                      <a:lnTo>
                        <a:pt x="1673" y="30"/>
                      </a:lnTo>
                      <a:lnTo>
                        <a:pt x="1693" y="34"/>
                      </a:lnTo>
                      <a:lnTo>
                        <a:pt x="1712" y="39"/>
                      </a:lnTo>
                      <a:lnTo>
                        <a:pt x="1732" y="44"/>
                      </a:lnTo>
                      <a:lnTo>
                        <a:pt x="1751" y="49"/>
                      </a:lnTo>
                      <a:lnTo>
                        <a:pt x="1770" y="54"/>
                      </a:lnTo>
                      <a:lnTo>
                        <a:pt x="1790" y="60"/>
                      </a:lnTo>
                      <a:lnTo>
                        <a:pt x="1809" y="66"/>
                      </a:lnTo>
                      <a:lnTo>
                        <a:pt x="1828" y="72"/>
                      </a:lnTo>
                      <a:lnTo>
                        <a:pt x="1847" y="79"/>
                      </a:lnTo>
                      <a:lnTo>
                        <a:pt x="1866" y="86"/>
                      </a:lnTo>
                      <a:lnTo>
                        <a:pt x="1884" y="93"/>
                      </a:lnTo>
                      <a:lnTo>
                        <a:pt x="1903" y="100"/>
                      </a:lnTo>
                      <a:lnTo>
                        <a:pt x="1921" y="107"/>
                      </a:lnTo>
                      <a:lnTo>
                        <a:pt x="1939" y="116"/>
                      </a:lnTo>
                      <a:lnTo>
                        <a:pt x="1938" y="1857"/>
                      </a:lnTo>
                      <a:lnTo>
                        <a:pt x="85" y="186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>
                  <a:off x="5594400" y="5858640"/>
                  <a:ext cx="877680" cy="76356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5597280" y="4006440"/>
                  <a:ext cx="655920" cy="187452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3744720" y="5864040"/>
                  <a:ext cx="1852560" cy="34884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6269040" y="3379680"/>
                  <a:ext cx="203040" cy="57924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3220560" y="6213240"/>
                  <a:ext cx="523800" cy="9648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60680" y="5251320"/>
                  <a:ext cx="674640" cy="1377360"/>
                </a:xfrm>
                <a:custGeom>
                  <a:avLst/>
                  <a:gdLst/>
                  <a:ahLst/>
                  <a:rect l="l" t="t" r="r" b="b"/>
                  <a:pathLst>
                    <a:path w="425" h="868">
                      <a:moveTo>
                        <a:pt x="425" y="868"/>
                      </a:moveTo>
                      <a:lnTo>
                        <a:pt x="407" y="852"/>
                      </a:lnTo>
                      <a:lnTo>
                        <a:pt x="389" y="837"/>
                      </a:lnTo>
                      <a:lnTo>
                        <a:pt x="372" y="821"/>
                      </a:lnTo>
                      <a:lnTo>
                        <a:pt x="355" y="805"/>
                      </a:lnTo>
                      <a:lnTo>
                        <a:pt x="339" y="789"/>
                      </a:lnTo>
                      <a:lnTo>
                        <a:pt x="323" y="773"/>
                      </a:lnTo>
                      <a:lnTo>
                        <a:pt x="306" y="757"/>
                      </a:lnTo>
                      <a:lnTo>
                        <a:pt x="291" y="740"/>
                      </a:lnTo>
                      <a:lnTo>
                        <a:pt x="276" y="724"/>
                      </a:lnTo>
                      <a:lnTo>
                        <a:pt x="261" y="708"/>
                      </a:lnTo>
                      <a:lnTo>
                        <a:pt x="247" y="691"/>
                      </a:lnTo>
                      <a:lnTo>
                        <a:pt x="233" y="675"/>
                      </a:lnTo>
                      <a:lnTo>
                        <a:pt x="219" y="658"/>
                      </a:lnTo>
                      <a:lnTo>
                        <a:pt x="206" y="641"/>
                      </a:lnTo>
                      <a:lnTo>
                        <a:pt x="193" y="625"/>
                      </a:lnTo>
                      <a:lnTo>
                        <a:pt x="180" y="609"/>
                      </a:lnTo>
                      <a:lnTo>
                        <a:pt x="168" y="591"/>
                      </a:lnTo>
                      <a:lnTo>
                        <a:pt x="156" y="575"/>
                      </a:lnTo>
                      <a:lnTo>
                        <a:pt x="145" y="558"/>
                      </a:lnTo>
                      <a:lnTo>
                        <a:pt x="134" y="541"/>
                      </a:lnTo>
                      <a:lnTo>
                        <a:pt x="123" y="524"/>
                      </a:lnTo>
                      <a:lnTo>
                        <a:pt x="113" y="507"/>
                      </a:lnTo>
                      <a:lnTo>
                        <a:pt x="104" y="490"/>
                      </a:lnTo>
                      <a:lnTo>
                        <a:pt x="94" y="473"/>
                      </a:lnTo>
                      <a:lnTo>
                        <a:pt x="86" y="456"/>
                      </a:lnTo>
                      <a:lnTo>
                        <a:pt x="77" y="439"/>
                      </a:lnTo>
                      <a:lnTo>
                        <a:pt x="69" y="422"/>
                      </a:lnTo>
                      <a:lnTo>
                        <a:pt x="61" y="405"/>
                      </a:lnTo>
                      <a:lnTo>
                        <a:pt x="54" y="388"/>
                      </a:lnTo>
                      <a:lnTo>
                        <a:pt x="47" y="372"/>
                      </a:lnTo>
                      <a:lnTo>
                        <a:pt x="41" y="355"/>
                      </a:lnTo>
                      <a:lnTo>
                        <a:pt x="35" y="338"/>
                      </a:lnTo>
                      <a:lnTo>
                        <a:pt x="29" y="321"/>
                      </a:lnTo>
                      <a:lnTo>
                        <a:pt x="25" y="304"/>
                      </a:lnTo>
                      <a:lnTo>
                        <a:pt x="20" y="288"/>
                      </a:lnTo>
                      <a:lnTo>
                        <a:pt x="16" y="271"/>
                      </a:lnTo>
                      <a:lnTo>
                        <a:pt x="13" y="254"/>
                      </a:lnTo>
                      <a:lnTo>
                        <a:pt x="9" y="238"/>
                      </a:lnTo>
                      <a:lnTo>
                        <a:pt x="7" y="221"/>
                      </a:lnTo>
                      <a:lnTo>
                        <a:pt x="5" y="205"/>
                      </a:lnTo>
                      <a:lnTo>
                        <a:pt x="2" y="189"/>
                      </a:lnTo>
                      <a:lnTo>
                        <a:pt x="1" y="172"/>
                      </a:lnTo>
                      <a:lnTo>
                        <a:pt x="1" y="156"/>
                      </a:lnTo>
                      <a:lnTo>
                        <a:pt x="0" y="140"/>
                      </a:lnTo>
                      <a:lnTo>
                        <a:pt x="1" y="124"/>
                      </a:lnTo>
                      <a:lnTo>
                        <a:pt x="1" y="108"/>
                      </a:lnTo>
                      <a:lnTo>
                        <a:pt x="2" y="92"/>
                      </a:lnTo>
                      <a:lnTo>
                        <a:pt x="3" y="77"/>
                      </a:lnTo>
                      <a:lnTo>
                        <a:pt x="6" y="61"/>
                      </a:lnTo>
                      <a:lnTo>
                        <a:pt x="9" y="46"/>
                      </a:lnTo>
                      <a:lnTo>
                        <a:pt x="11" y="31"/>
                      </a:lnTo>
                      <a:lnTo>
                        <a:pt x="15" y="15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218280" y="397008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21" y="1"/>
                      </a:move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5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10"/>
                      </a:lnTo>
                      <a:lnTo>
                        <a:pt x="37" y="11"/>
                      </a:lnTo>
                      <a:lnTo>
                        <a:pt x="37" y="13"/>
                      </a:lnTo>
                      <a:lnTo>
                        <a:pt x="38" y="15"/>
                      </a:lnTo>
                      <a:lnTo>
                        <a:pt x="38" y="16"/>
                      </a:lnTo>
                      <a:lnTo>
                        <a:pt x="39" y="18"/>
                      </a:lnTo>
                      <a:lnTo>
                        <a:pt x="39" y="20"/>
                      </a:lnTo>
                      <a:lnTo>
                        <a:pt x="39" y="22"/>
                      </a:lnTo>
                      <a:lnTo>
                        <a:pt x="38" y="24"/>
                      </a:lnTo>
                      <a:lnTo>
                        <a:pt x="38" y="26"/>
                      </a:lnTo>
                      <a:lnTo>
                        <a:pt x="37" y="27"/>
                      </a:lnTo>
                      <a:lnTo>
                        <a:pt x="37" y="29"/>
                      </a:lnTo>
                      <a:lnTo>
                        <a:pt x="36" y="30"/>
                      </a:lnTo>
                      <a:lnTo>
                        <a:pt x="35" y="32"/>
                      </a:lnTo>
                      <a:lnTo>
                        <a:pt x="34" y="34"/>
                      </a:lnTo>
                      <a:lnTo>
                        <a:pt x="32" y="35"/>
                      </a:lnTo>
                      <a:lnTo>
                        <a:pt x="30" y="36"/>
                      </a:lnTo>
                      <a:lnTo>
                        <a:pt x="29" y="37"/>
                      </a:lnTo>
                      <a:lnTo>
                        <a:pt x="27" y="37"/>
                      </a:lnTo>
                      <a:lnTo>
                        <a:pt x="26" y="38"/>
                      </a:lnTo>
                      <a:lnTo>
                        <a:pt x="24" y="38"/>
                      </a:lnTo>
                      <a:lnTo>
                        <a:pt x="23" y="39"/>
                      </a:lnTo>
                      <a:lnTo>
                        <a:pt x="21" y="39"/>
                      </a:lnTo>
                      <a:lnTo>
                        <a:pt x="18" y="39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7"/>
                      </a:lnTo>
                      <a:lnTo>
                        <a:pt x="12" y="37"/>
                      </a:lnTo>
                      <a:lnTo>
                        <a:pt x="11" y="36"/>
                      </a:lnTo>
                      <a:lnTo>
                        <a:pt x="9" y="35"/>
                      </a:lnTo>
                      <a:lnTo>
                        <a:pt x="7" y="34"/>
                      </a:lnTo>
                      <a:lnTo>
                        <a:pt x="6" y="32"/>
                      </a:lnTo>
                      <a:lnTo>
                        <a:pt x="5" y="30"/>
                      </a:lnTo>
                      <a:lnTo>
                        <a:pt x="4" y="29"/>
                      </a:lnTo>
                      <a:lnTo>
                        <a:pt x="4" y="27"/>
                      </a:lnTo>
                      <a:lnTo>
                        <a:pt x="3" y="26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4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7" y="9"/>
                      </a:lnTo>
                      <a:lnTo>
                        <a:pt x="38" y="11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0" y="16"/>
                      </a:lnTo>
                      <a:lnTo>
                        <a:pt x="41" y="18"/>
                      </a:lnTo>
                      <a:lnTo>
                        <a:pt x="41" y="20"/>
                      </a:lnTo>
                      <a:lnTo>
                        <a:pt x="41" y="22"/>
                      </a:lnTo>
                      <a:lnTo>
                        <a:pt x="40" y="24"/>
                      </a:lnTo>
                      <a:lnTo>
                        <a:pt x="40" y="26"/>
                      </a:lnTo>
                      <a:lnTo>
                        <a:pt x="39" y="28"/>
                      </a:lnTo>
                      <a:lnTo>
                        <a:pt x="38" y="30"/>
                      </a:lnTo>
                      <a:lnTo>
                        <a:pt x="37" y="31"/>
                      </a:lnTo>
                      <a:lnTo>
                        <a:pt x="36" y="33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7"/>
                      </a:lnTo>
                      <a:lnTo>
                        <a:pt x="30" y="38"/>
                      </a:lnTo>
                      <a:lnTo>
                        <a:pt x="28" y="39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3" y="41"/>
                      </a:lnTo>
                      <a:lnTo>
                        <a:pt x="21" y="41"/>
                      </a:lnTo>
                      <a:lnTo>
                        <a:pt x="18" y="41"/>
                      </a:lnTo>
                      <a:lnTo>
                        <a:pt x="16" y="40"/>
                      </a:lnTo>
                      <a:lnTo>
                        <a:pt x="15" y="40"/>
                      </a:lnTo>
                      <a:lnTo>
                        <a:pt x="13" y="39"/>
                      </a:lnTo>
                      <a:lnTo>
                        <a:pt x="11" y="38"/>
                      </a:lnTo>
                      <a:lnTo>
                        <a:pt x="10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30"/>
                      </a:lnTo>
                      <a:lnTo>
                        <a:pt x="2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16280" y="6184440"/>
                  <a:ext cx="65160" cy="6336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16280" y="6184440"/>
                  <a:ext cx="65160" cy="6336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20" y="2"/>
                      </a:move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10"/>
                      </a:lnTo>
                      <a:lnTo>
                        <a:pt x="37" y="11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38" y="17"/>
                      </a:lnTo>
                      <a:lnTo>
                        <a:pt x="39" y="18"/>
                      </a:lnTo>
                      <a:lnTo>
                        <a:pt x="39" y="20"/>
                      </a:lnTo>
                      <a:lnTo>
                        <a:pt x="39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7" y="27"/>
                      </a:lnTo>
                      <a:lnTo>
                        <a:pt x="37" y="29"/>
                      </a:lnTo>
                      <a:lnTo>
                        <a:pt x="36" y="30"/>
                      </a:lnTo>
                      <a:lnTo>
                        <a:pt x="35" y="31"/>
                      </a:lnTo>
                      <a:lnTo>
                        <a:pt x="34" y="33"/>
                      </a:lnTo>
                      <a:lnTo>
                        <a:pt x="32" y="34"/>
                      </a:lnTo>
                      <a:lnTo>
                        <a:pt x="30" y="35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6" y="37"/>
                      </a:lnTo>
                      <a:lnTo>
                        <a:pt x="24" y="37"/>
                      </a:lnTo>
                      <a:lnTo>
                        <a:pt x="22" y="38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6"/>
                      </a:lnTo>
                      <a:lnTo>
                        <a:pt x="11" y="36"/>
                      </a:lnTo>
                      <a:lnTo>
                        <a:pt x="10" y="35"/>
                      </a:lnTo>
                      <a:lnTo>
                        <a:pt x="8" y="34"/>
                      </a:lnTo>
                      <a:lnTo>
                        <a:pt x="7" y="33"/>
                      </a:lnTo>
                      <a:lnTo>
                        <a:pt x="5" y="31"/>
                      </a:lnTo>
                      <a:lnTo>
                        <a:pt x="4" y="30"/>
                      </a:lnTo>
                      <a:lnTo>
                        <a:pt x="4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3" y="3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4"/>
                      </a:lnTo>
                      <a:lnTo>
                        <a:pt x="35" y="6"/>
                      </a:lnTo>
                      <a:lnTo>
                        <a:pt x="36" y="7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0" y="16"/>
                      </a:lnTo>
                      <a:lnTo>
                        <a:pt x="41" y="18"/>
                      </a:lnTo>
                      <a:lnTo>
                        <a:pt x="41" y="20"/>
                      </a:lnTo>
                      <a:lnTo>
                        <a:pt x="41" y="22"/>
                      </a:lnTo>
                      <a:lnTo>
                        <a:pt x="40" y="23"/>
                      </a:lnTo>
                      <a:lnTo>
                        <a:pt x="40" y="26"/>
                      </a:lnTo>
                      <a:lnTo>
                        <a:pt x="39" y="27"/>
                      </a:lnTo>
                      <a:lnTo>
                        <a:pt x="38" y="29"/>
                      </a:lnTo>
                      <a:lnTo>
                        <a:pt x="37" y="31"/>
                      </a:lnTo>
                      <a:lnTo>
                        <a:pt x="36" y="32"/>
                      </a:lnTo>
                      <a:lnTo>
                        <a:pt x="35" y="34"/>
                      </a:lnTo>
                      <a:lnTo>
                        <a:pt x="33" y="35"/>
                      </a:lnTo>
                      <a:lnTo>
                        <a:pt x="31" y="36"/>
                      </a:lnTo>
                      <a:lnTo>
                        <a:pt x="30" y="37"/>
                      </a:lnTo>
                      <a:lnTo>
                        <a:pt x="28" y="38"/>
                      </a:lnTo>
                      <a:lnTo>
                        <a:pt x="26" y="39"/>
                      </a:lnTo>
                      <a:lnTo>
                        <a:pt x="25" y="39"/>
                      </a:lnTo>
                      <a:lnTo>
                        <a:pt x="22" y="40"/>
                      </a:lnTo>
                      <a:lnTo>
                        <a:pt x="20" y="40"/>
                      </a:lnTo>
                      <a:lnTo>
                        <a:pt x="18" y="40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2" y="38"/>
                      </a:lnTo>
                      <a:lnTo>
                        <a:pt x="11" y="37"/>
                      </a:lnTo>
                      <a:lnTo>
                        <a:pt x="9" y="36"/>
                      </a:lnTo>
                      <a:lnTo>
                        <a:pt x="7" y="35"/>
                      </a:lnTo>
                      <a:lnTo>
                        <a:pt x="5" y="34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2" y="29"/>
                      </a:lnTo>
                      <a:lnTo>
                        <a:pt x="1" y="27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8"/>
                      </a:lnTo>
                      <a:lnTo>
                        <a:pt x="4" y="7"/>
                      </a:lnTo>
                      <a:lnTo>
                        <a:pt x="5" y="6"/>
                      </a:lnTo>
                      <a:lnTo>
                        <a:pt x="7" y="4"/>
                      </a:lnTo>
                      <a:lnTo>
                        <a:pt x="9" y="3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200480" y="3978000"/>
                <a:ext cx="1144080" cy="869760"/>
                <a:chOff x="4200480" y="3978000"/>
                <a:chExt cx="1144080" cy="869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460760" y="4312800"/>
                  <a:ext cx="39240" cy="3348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0" y="16"/>
                      </a:moveTo>
                      <a:lnTo>
                        <a:pt x="21" y="0"/>
                      </a:lnTo>
                      <a:lnTo>
                        <a:pt x="25" y="6"/>
                      </a:lnTo>
                      <a:lnTo>
                        <a:pt x="6" y="2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35280" y="4381200"/>
                  <a:ext cx="37800" cy="3024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0" y="15"/>
                      </a:moveTo>
                      <a:lnTo>
                        <a:pt x="20" y="0"/>
                      </a:lnTo>
                      <a:lnTo>
                        <a:pt x="24" y="5"/>
                      </a:lnTo>
                      <a:lnTo>
                        <a:pt x="5" y="1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458960" y="43128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15"/>
                      </a:moveTo>
                      <a:lnTo>
                        <a:pt x="21" y="0"/>
                      </a:lnTo>
                      <a:lnTo>
                        <a:pt x="26" y="5"/>
                      </a:lnTo>
                      <a:lnTo>
                        <a:pt x="7" y="2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33480" y="4379760"/>
                  <a:ext cx="3960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15"/>
                      </a:moveTo>
                      <a:lnTo>
                        <a:pt x="21" y="0"/>
                      </a:lnTo>
                      <a:lnTo>
                        <a:pt x="25" y="5"/>
                      </a:lnTo>
                      <a:lnTo>
                        <a:pt x="6" y="2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917960" y="4252680"/>
                  <a:ext cx="39240" cy="2520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5" y="16"/>
                      </a:move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5" y="9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819320" y="4168440"/>
                  <a:ext cx="10800" cy="4140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7" y="0"/>
                      </a:move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916160" y="4250880"/>
                  <a:ext cx="39240" cy="25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5" y="16"/>
                      </a:move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25" y="9"/>
                      </a:lnTo>
                      <a:lnTo>
                        <a:pt x="25" y="16"/>
                      </a:lnTo>
                      <a:lnTo>
                        <a:pt x="25" y="16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817880" y="4168440"/>
                  <a:ext cx="1224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8" y="0"/>
                      </a:moveTo>
                      <a:lnTo>
                        <a:pt x="7" y="26"/>
                      </a:lnTo>
                      <a:lnTo>
                        <a:pt x="0" y="26"/>
                      </a:lnTo>
                      <a:lnTo>
                        <a:pt x="0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11400" y="4376520"/>
                  <a:ext cx="37800" cy="252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16"/>
                      </a:move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24" y="8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201920" y="4282920"/>
                  <a:ext cx="423360" cy="274680"/>
                </a:xfrm>
                <a:custGeom>
                  <a:avLst/>
                  <a:gdLst/>
                  <a:ahLst/>
                  <a:rect l="l" t="t" r="r" b="b"/>
                  <a:pathLst>
                    <a:path w="267" h="173">
                      <a:moveTo>
                        <a:pt x="0" y="113"/>
                      </a:moveTo>
                      <a:lnTo>
                        <a:pt x="99" y="0"/>
                      </a:lnTo>
                      <a:lnTo>
                        <a:pt x="162" y="21"/>
                      </a:lnTo>
                      <a:lnTo>
                        <a:pt x="226" y="79"/>
                      </a:lnTo>
                      <a:lnTo>
                        <a:pt x="267" y="155"/>
                      </a:lnTo>
                      <a:lnTo>
                        <a:pt x="25" y="173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811400" y="43747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3" y="16"/>
                      </a:move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4" y="9"/>
                      </a:lnTo>
                      <a:lnTo>
                        <a:pt x="23" y="16"/>
                      </a:lnTo>
                      <a:lnTo>
                        <a:pt x="23" y="16"/>
                      </a:lnTo>
                      <a:lnTo>
                        <a:pt x="23" y="1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200480" y="4281120"/>
                  <a:ext cx="423720" cy="274680"/>
                </a:xfrm>
                <a:custGeom>
                  <a:avLst/>
                  <a:gdLst/>
                  <a:ahLst/>
                  <a:rect l="l" t="t" r="r" b="b"/>
                  <a:pathLst>
                    <a:path w="267" h="173">
                      <a:moveTo>
                        <a:pt x="0" y="113"/>
                      </a:moveTo>
                      <a:lnTo>
                        <a:pt x="99" y="0"/>
                      </a:lnTo>
                      <a:lnTo>
                        <a:pt x="162" y="22"/>
                      </a:lnTo>
                      <a:lnTo>
                        <a:pt x="227" y="79"/>
                      </a:lnTo>
                      <a:lnTo>
                        <a:pt x="267" y="156"/>
                      </a:lnTo>
                      <a:lnTo>
                        <a:pt x="25" y="173"/>
                      </a:lnTo>
                      <a:lnTo>
                        <a:pt x="0" y="113"/>
                      </a:lnTo>
                      <a:lnTo>
                        <a:pt x="0" y="113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452480" y="3993840"/>
                  <a:ext cx="531720" cy="222120"/>
                </a:xfrm>
                <a:custGeom>
                  <a:avLst/>
                  <a:gdLst/>
                  <a:ahLst/>
                  <a:rect l="l" t="t" r="r" b="b"/>
                  <a:pathLst>
                    <a:path w="335" h="140">
                      <a:moveTo>
                        <a:pt x="335" y="79"/>
                      </a:moveTo>
                      <a:lnTo>
                        <a:pt x="244" y="119"/>
                      </a:lnTo>
                      <a:lnTo>
                        <a:pt x="87" y="140"/>
                      </a:lnTo>
                      <a:lnTo>
                        <a:pt x="0" y="121"/>
                      </a:lnTo>
                      <a:lnTo>
                        <a:pt x="129" y="5"/>
                      </a:lnTo>
                      <a:lnTo>
                        <a:pt x="225" y="0"/>
                      </a:lnTo>
                      <a:lnTo>
                        <a:pt x="335" y="7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787640" y="4188960"/>
                  <a:ext cx="448920" cy="324000"/>
                </a:xfrm>
                <a:custGeom>
                  <a:avLst/>
                  <a:gdLst/>
                  <a:ahLst/>
                  <a:rect l="l" t="t" r="r" b="b"/>
                  <a:pathLst>
                    <a:path w="283" h="204">
                      <a:moveTo>
                        <a:pt x="25" y="137"/>
                      </a:moveTo>
                      <a:lnTo>
                        <a:pt x="0" y="204"/>
                      </a:lnTo>
                      <a:lnTo>
                        <a:pt x="231" y="175"/>
                      </a:lnTo>
                      <a:lnTo>
                        <a:pt x="283" y="97"/>
                      </a:lnTo>
                      <a:lnTo>
                        <a:pt x="166" y="0"/>
                      </a:lnTo>
                      <a:lnTo>
                        <a:pt x="111" y="34"/>
                      </a:lnTo>
                      <a:lnTo>
                        <a:pt x="25" y="13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51040" y="3992400"/>
                  <a:ext cx="531360" cy="223560"/>
                </a:xfrm>
                <a:custGeom>
                  <a:avLst/>
                  <a:gdLst/>
                  <a:ahLst/>
                  <a:rect l="l" t="t" r="r" b="b"/>
                  <a:pathLst>
                    <a:path w="335" h="141">
                      <a:moveTo>
                        <a:pt x="335" y="80"/>
                      </a:moveTo>
                      <a:lnTo>
                        <a:pt x="244" y="120"/>
                      </a:lnTo>
                      <a:lnTo>
                        <a:pt x="87" y="141"/>
                      </a:lnTo>
                      <a:lnTo>
                        <a:pt x="0" y="122"/>
                      </a:lnTo>
                      <a:lnTo>
                        <a:pt x="129" y="5"/>
                      </a:lnTo>
                      <a:lnTo>
                        <a:pt x="225" y="0"/>
                      </a:lnTo>
                      <a:lnTo>
                        <a:pt x="335" y="80"/>
                      </a:lnTo>
                      <a:lnTo>
                        <a:pt x="335" y="80"/>
                      </a:lnTo>
                      <a:lnTo>
                        <a:pt x="335" y="8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787640" y="4187520"/>
                  <a:ext cx="447120" cy="324000"/>
                </a:xfrm>
                <a:custGeom>
                  <a:avLst/>
                  <a:gdLst/>
                  <a:ahLst/>
                  <a:rect l="l" t="t" r="r" b="b"/>
                  <a:pathLst>
                    <a:path w="282" h="204">
                      <a:moveTo>
                        <a:pt x="24" y="138"/>
                      </a:moveTo>
                      <a:lnTo>
                        <a:pt x="0" y="204"/>
                      </a:lnTo>
                      <a:lnTo>
                        <a:pt x="230" y="176"/>
                      </a:lnTo>
                      <a:lnTo>
                        <a:pt x="282" y="97"/>
                      </a:lnTo>
                      <a:lnTo>
                        <a:pt x="165" y="0"/>
                      </a:lnTo>
                      <a:lnTo>
                        <a:pt x="111" y="34"/>
                      </a:lnTo>
                      <a:lnTo>
                        <a:pt x="24" y="138"/>
                      </a:lnTo>
                      <a:lnTo>
                        <a:pt x="24" y="138"/>
                      </a:lnTo>
                      <a:lnTo>
                        <a:pt x="24" y="13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479480" y="4197240"/>
                  <a:ext cx="463320" cy="201600"/>
                </a:xfrm>
                <a:custGeom>
                  <a:avLst/>
                  <a:gdLst/>
                  <a:ahLst/>
                  <a:rect l="l" t="t" r="r" b="b"/>
                  <a:pathLst>
                    <a:path w="292" h="127">
                      <a:moveTo>
                        <a:pt x="0" y="73"/>
                      </a:moveTo>
                      <a:lnTo>
                        <a:pt x="62" y="126"/>
                      </a:lnTo>
                      <a:lnTo>
                        <a:pt x="210" y="127"/>
                      </a:lnTo>
                      <a:lnTo>
                        <a:pt x="292" y="33"/>
                      </a:lnTo>
                      <a:lnTo>
                        <a:pt x="227" y="0"/>
                      </a:lnTo>
                      <a:lnTo>
                        <a:pt x="68" y="22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616280" y="4419360"/>
                  <a:ext cx="424800" cy="419040"/>
                </a:xfrm>
                <a:custGeom>
                  <a:avLst/>
                  <a:gdLst/>
                  <a:ahLst/>
                  <a:rect l="l" t="t" r="r" b="b"/>
                  <a:pathLst>
                    <a:path w="268" h="264">
                      <a:moveTo>
                        <a:pt x="0" y="226"/>
                      </a:moveTo>
                      <a:lnTo>
                        <a:pt x="113" y="264"/>
                      </a:lnTo>
                      <a:lnTo>
                        <a:pt x="268" y="30"/>
                      </a:lnTo>
                      <a:lnTo>
                        <a:pt x="168" y="0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479480" y="4197240"/>
                  <a:ext cx="461880" cy="199800"/>
                </a:xfrm>
                <a:custGeom>
                  <a:avLst/>
                  <a:gdLst/>
                  <a:ahLst/>
                  <a:rect l="l" t="t" r="r" b="b"/>
                  <a:pathLst>
                    <a:path w="291" h="126">
                      <a:moveTo>
                        <a:pt x="0" y="72"/>
                      </a:moveTo>
                      <a:lnTo>
                        <a:pt x="62" y="126"/>
                      </a:lnTo>
                      <a:lnTo>
                        <a:pt x="209" y="126"/>
                      </a:lnTo>
                      <a:lnTo>
                        <a:pt x="291" y="32"/>
                      </a:lnTo>
                      <a:lnTo>
                        <a:pt x="226" y="0"/>
                      </a:lnTo>
                      <a:lnTo>
                        <a:pt x="67" y="2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614480" y="4419360"/>
                  <a:ext cx="426600" cy="417600"/>
                </a:xfrm>
                <a:custGeom>
                  <a:avLst/>
                  <a:gdLst/>
                  <a:ahLst/>
                  <a:rect l="l" t="t" r="r" b="b"/>
                  <a:pathLst>
                    <a:path w="269" h="263">
                      <a:moveTo>
                        <a:pt x="0" y="226"/>
                      </a:moveTo>
                      <a:lnTo>
                        <a:pt x="113" y="263"/>
                      </a:lnTo>
                      <a:lnTo>
                        <a:pt x="269" y="29"/>
                      </a:lnTo>
                      <a:lnTo>
                        <a:pt x="169" y="0"/>
                      </a:lnTo>
                      <a:lnTo>
                        <a:pt x="0" y="226"/>
                      </a:lnTo>
                      <a:lnTo>
                        <a:pt x="0" y="226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009760" y="4038480"/>
                  <a:ext cx="334800" cy="255240"/>
                </a:xfrm>
                <a:custGeom>
                  <a:avLst/>
                  <a:gdLst/>
                  <a:ahLst/>
                  <a:rect l="l" t="t" r="r" b="b"/>
                  <a:pathLst>
                    <a:path w="211" h="161">
                      <a:moveTo>
                        <a:pt x="0" y="133"/>
                      </a:moveTo>
                      <a:lnTo>
                        <a:pt x="92" y="161"/>
                      </a:lnTo>
                      <a:lnTo>
                        <a:pt x="211" y="16"/>
                      </a:lnTo>
                      <a:lnTo>
                        <a:pt x="109" y="0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06480" y="4147920"/>
                  <a:ext cx="339480" cy="236520"/>
                </a:xfrm>
                <a:custGeom>
                  <a:avLst/>
                  <a:gdLst/>
                  <a:ahLst/>
                  <a:rect l="l" t="t" r="r" b="b"/>
                  <a:pathLst>
                    <a:path w="214" h="149">
                      <a:moveTo>
                        <a:pt x="0" y="58"/>
                      </a:moveTo>
                      <a:lnTo>
                        <a:pt x="18" y="113"/>
                      </a:lnTo>
                      <a:lnTo>
                        <a:pt x="121" y="149"/>
                      </a:lnTo>
                      <a:lnTo>
                        <a:pt x="214" y="59"/>
                      </a:lnTo>
                      <a:lnTo>
                        <a:pt x="182" y="0"/>
                      </a:lnTo>
                      <a:lnTo>
                        <a:pt x="72" y="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009760" y="4038480"/>
                  <a:ext cx="334800" cy="255240"/>
                </a:xfrm>
                <a:custGeom>
                  <a:avLst/>
                  <a:gdLst/>
                  <a:ahLst/>
                  <a:rect l="l" t="t" r="r" b="b"/>
                  <a:pathLst>
                    <a:path w="211" h="161">
                      <a:moveTo>
                        <a:pt x="0" y="133"/>
                      </a:moveTo>
                      <a:lnTo>
                        <a:pt x="91" y="161"/>
                      </a:lnTo>
                      <a:lnTo>
                        <a:pt x="211" y="16"/>
                      </a:lnTo>
                      <a:lnTo>
                        <a:pt x="109" y="0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05040" y="4146120"/>
                  <a:ext cx="339480" cy="238320"/>
                </a:xfrm>
                <a:custGeom>
                  <a:avLst/>
                  <a:gdLst/>
                  <a:ahLst/>
                  <a:rect l="l" t="t" r="r" b="b"/>
                  <a:pathLst>
                    <a:path w="214" h="150">
                      <a:moveTo>
                        <a:pt x="0" y="59"/>
                      </a:moveTo>
                      <a:lnTo>
                        <a:pt x="18" y="113"/>
                      </a:lnTo>
                      <a:lnTo>
                        <a:pt x="122" y="150"/>
                      </a:lnTo>
                      <a:lnTo>
                        <a:pt x="214" y="59"/>
                      </a:lnTo>
                      <a:lnTo>
                        <a:pt x="183" y="0"/>
                      </a:lnTo>
                      <a:lnTo>
                        <a:pt x="73" y="9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41400" y="4017600"/>
                  <a:ext cx="117360" cy="177840"/>
                </a:xfrm>
                <a:custGeom>
                  <a:avLst/>
                  <a:gdLst/>
                  <a:ahLst/>
                  <a:rect l="l" t="t" r="r" b="b"/>
                  <a:pathLst>
                    <a:path w="74" h="112">
                      <a:moveTo>
                        <a:pt x="41" y="112"/>
                      </a:moveTo>
                      <a:lnTo>
                        <a:pt x="0" y="14"/>
                      </a:lnTo>
                      <a:lnTo>
                        <a:pt x="34" y="0"/>
                      </a:lnTo>
                      <a:lnTo>
                        <a:pt x="74" y="99"/>
                      </a:lnTo>
                      <a:lnTo>
                        <a:pt x="70" y="100"/>
                      </a:lnTo>
                      <a:lnTo>
                        <a:pt x="30" y="2"/>
                      </a:lnTo>
                      <a:lnTo>
                        <a:pt x="4" y="12"/>
                      </a:lnTo>
                      <a:lnTo>
                        <a:pt x="45" y="110"/>
                      </a:lnTo>
                      <a:lnTo>
                        <a:pt x="41" y="11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03600" y="3979440"/>
                  <a:ext cx="115200" cy="69840"/>
                </a:xfrm>
                <a:custGeom>
                  <a:avLst/>
                  <a:gdLst/>
                  <a:ahLst/>
                  <a:rect l="l" t="t" r="r" b="b"/>
                  <a:pathLst>
                    <a:path w="73" h="44">
                      <a:moveTo>
                        <a:pt x="0" y="27"/>
                      </a:moveTo>
                      <a:lnTo>
                        <a:pt x="7" y="44"/>
                      </a:lnTo>
                      <a:lnTo>
                        <a:pt x="73" y="17"/>
                      </a:lnTo>
                      <a:lnTo>
                        <a:pt x="66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41400" y="4016160"/>
                  <a:ext cx="11556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41" y="113"/>
                      </a:moveTo>
                      <a:lnTo>
                        <a:pt x="0" y="14"/>
                      </a:lnTo>
                      <a:lnTo>
                        <a:pt x="33" y="0"/>
                      </a:lnTo>
                      <a:lnTo>
                        <a:pt x="73" y="99"/>
                      </a:lnTo>
                      <a:lnTo>
                        <a:pt x="69" y="100"/>
                      </a:lnTo>
                      <a:lnTo>
                        <a:pt x="29" y="2"/>
                      </a:lnTo>
                      <a:lnTo>
                        <a:pt x="4" y="12"/>
                      </a:lnTo>
                      <a:lnTo>
                        <a:pt x="44" y="111"/>
                      </a:lnTo>
                      <a:lnTo>
                        <a:pt x="41" y="113"/>
                      </a:lnTo>
                      <a:lnTo>
                        <a:pt x="41" y="113"/>
                      </a:lnTo>
                      <a:lnTo>
                        <a:pt x="41" y="1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501800" y="3978000"/>
                  <a:ext cx="117000" cy="69840"/>
                </a:xfrm>
                <a:custGeom>
                  <a:avLst/>
                  <a:gdLst/>
                  <a:ahLst/>
                  <a:rect l="l" t="t" r="r" b="b"/>
                  <a:pathLst>
                    <a:path w="74" h="44">
                      <a:moveTo>
                        <a:pt x="0" y="27"/>
                      </a:moveTo>
                      <a:lnTo>
                        <a:pt x="7" y="44"/>
                      </a:lnTo>
                      <a:lnTo>
                        <a:pt x="74" y="17"/>
                      </a:lnTo>
                      <a:lnTo>
                        <a:pt x="66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506480" y="4240080"/>
                  <a:ext cx="191880" cy="144360"/>
                </a:xfrm>
                <a:custGeom>
                  <a:avLst/>
                  <a:gdLst/>
                  <a:ahLst/>
                  <a:rect l="l" t="t" r="r" b="b"/>
                  <a:pathLst>
                    <a:path w="121" h="91">
                      <a:moveTo>
                        <a:pt x="0" y="0"/>
                      </a:moveTo>
                      <a:lnTo>
                        <a:pt x="97" y="11"/>
                      </a:lnTo>
                      <a:lnTo>
                        <a:pt x="121" y="91"/>
                      </a:lnTo>
                      <a:lnTo>
                        <a:pt x="18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660560" y="4146120"/>
                  <a:ext cx="185400" cy="238320"/>
                </a:xfrm>
                <a:custGeom>
                  <a:avLst/>
                  <a:gdLst/>
                  <a:ahLst/>
                  <a:rect l="l" t="t" r="r" b="b"/>
                  <a:pathLst>
                    <a:path w="117" h="150">
                      <a:moveTo>
                        <a:pt x="85" y="0"/>
                      </a:moveTo>
                      <a:lnTo>
                        <a:pt x="117" y="60"/>
                      </a:lnTo>
                      <a:lnTo>
                        <a:pt x="24" y="150"/>
                      </a:lnTo>
                      <a:lnTo>
                        <a:pt x="0" y="6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05040" y="4240080"/>
                  <a:ext cx="193320" cy="144360"/>
                </a:xfrm>
                <a:custGeom>
                  <a:avLst/>
                  <a:gdLst/>
                  <a:ahLst/>
                  <a:rect l="l" t="t" r="r" b="b"/>
                  <a:pathLst>
                    <a:path w="122" h="91">
                      <a:moveTo>
                        <a:pt x="0" y="0"/>
                      </a:moveTo>
                      <a:lnTo>
                        <a:pt x="98" y="10"/>
                      </a:lnTo>
                      <a:lnTo>
                        <a:pt x="122" y="91"/>
                      </a:lnTo>
                      <a:lnTo>
                        <a:pt x="18" y="5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60560" y="4144680"/>
                  <a:ext cx="183960" cy="237960"/>
                </a:xfrm>
                <a:custGeom>
                  <a:avLst/>
                  <a:gdLst/>
                  <a:ahLst/>
                  <a:rect l="l" t="t" r="r" b="b"/>
                  <a:pathLst>
                    <a:path w="116" h="150">
                      <a:moveTo>
                        <a:pt x="84" y="0"/>
                      </a:moveTo>
                      <a:lnTo>
                        <a:pt x="116" y="60"/>
                      </a:lnTo>
                      <a:lnTo>
                        <a:pt x="23" y="150"/>
                      </a:lnTo>
                      <a:lnTo>
                        <a:pt x="0" y="70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627440" y="4003560"/>
                  <a:ext cx="621720" cy="801360"/>
                </a:xfrm>
                <a:custGeom>
                  <a:avLst/>
                  <a:gdLst/>
                  <a:ahLst/>
                  <a:rect l="l" t="t" r="r" b="b"/>
                  <a:pathLst>
                    <a:path w="392" h="505">
                      <a:moveTo>
                        <a:pt x="0" y="501"/>
                      </a:moveTo>
                      <a:lnTo>
                        <a:pt x="179" y="262"/>
                      </a:lnTo>
                      <a:lnTo>
                        <a:pt x="261" y="152"/>
                      </a:lnTo>
                      <a:lnTo>
                        <a:pt x="382" y="0"/>
                      </a:lnTo>
                      <a:lnTo>
                        <a:pt x="392" y="0"/>
                      </a:lnTo>
                      <a:lnTo>
                        <a:pt x="266" y="153"/>
                      </a:lnTo>
                      <a:lnTo>
                        <a:pt x="185" y="266"/>
                      </a:lnTo>
                      <a:lnTo>
                        <a:pt x="7" y="505"/>
                      </a:lnTo>
                      <a:lnTo>
                        <a:pt x="0" y="50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728960" y="4027320"/>
                  <a:ext cx="607680" cy="820440"/>
                </a:xfrm>
                <a:custGeom>
                  <a:avLst/>
                  <a:gdLst/>
                  <a:ahLst/>
                  <a:rect l="l" t="t" r="r" b="b"/>
                  <a:pathLst>
                    <a:path w="383" h="517">
                      <a:moveTo>
                        <a:pt x="0" y="509"/>
                      </a:moveTo>
                      <a:lnTo>
                        <a:pt x="167" y="265"/>
                      </a:lnTo>
                      <a:lnTo>
                        <a:pt x="237" y="170"/>
                      </a:lnTo>
                      <a:lnTo>
                        <a:pt x="373" y="0"/>
                      </a:lnTo>
                      <a:lnTo>
                        <a:pt x="383" y="2"/>
                      </a:lnTo>
                      <a:lnTo>
                        <a:pt x="243" y="172"/>
                      </a:lnTo>
                      <a:lnTo>
                        <a:pt x="173" y="269"/>
                      </a:lnTo>
                      <a:lnTo>
                        <a:pt x="3" y="517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627440" y="4003560"/>
                  <a:ext cx="620280" cy="799920"/>
                </a:xfrm>
                <a:custGeom>
                  <a:avLst/>
                  <a:gdLst/>
                  <a:ahLst/>
                  <a:rect l="l" t="t" r="r" b="b"/>
                  <a:pathLst>
                    <a:path w="391" h="504">
                      <a:moveTo>
                        <a:pt x="0" y="500"/>
                      </a:moveTo>
                      <a:lnTo>
                        <a:pt x="178" y="261"/>
                      </a:lnTo>
                      <a:lnTo>
                        <a:pt x="260" y="151"/>
                      </a:lnTo>
                      <a:lnTo>
                        <a:pt x="382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265" y="153"/>
                      </a:lnTo>
                      <a:lnTo>
                        <a:pt x="185" y="265"/>
                      </a:lnTo>
                      <a:lnTo>
                        <a:pt x="6" y="504"/>
                      </a:lnTo>
                      <a:lnTo>
                        <a:pt x="0" y="500"/>
                      </a:lnTo>
                      <a:lnTo>
                        <a:pt x="0" y="500"/>
                      </a:lnTo>
                      <a:lnTo>
                        <a:pt x="0" y="50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28960" y="4025520"/>
                  <a:ext cx="605880" cy="822240"/>
                </a:xfrm>
                <a:custGeom>
                  <a:avLst/>
                  <a:gdLst/>
                  <a:ahLst/>
                  <a:rect l="l" t="t" r="r" b="b"/>
                  <a:pathLst>
                    <a:path w="382" h="518">
                      <a:moveTo>
                        <a:pt x="0" y="510"/>
                      </a:moveTo>
                      <a:lnTo>
                        <a:pt x="166" y="265"/>
                      </a:lnTo>
                      <a:lnTo>
                        <a:pt x="237" y="171"/>
                      </a:lnTo>
                      <a:lnTo>
                        <a:pt x="372" y="0"/>
                      </a:lnTo>
                      <a:lnTo>
                        <a:pt x="382" y="2"/>
                      </a:lnTo>
                      <a:lnTo>
                        <a:pt x="242" y="172"/>
                      </a:lnTo>
                      <a:lnTo>
                        <a:pt x="173" y="269"/>
                      </a:lnTo>
                      <a:lnTo>
                        <a:pt x="3" y="518"/>
                      </a:lnTo>
                      <a:lnTo>
                        <a:pt x="0" y="510"/>
                      </a:lnTo>
                      <a:lnTo>
                        <a:pt x="0" y="510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2997000" y="3617640"/>
                <a:ext cx="404640" cy="403200"/>
                <a:chOff x="2997000" y="3617640"/>
                <a:chExt cx="404640" cy="4032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997000" y="3617640"/>
                  <a:ext cx="404640" cy="403200"/>
                </a:xfrm>
                <a:custGeom>
                  <a:avLst/>
                  <a:gdLst/>
                  <a:ahLst/>
                  <a:rect l="l" t="t" r="r" b="b"/>
                  <a:pathLst>
                    <a:path w="255" h="254">
                      <a:moveTo>
                        <a:pt x="70" y="55"/>
                      </a:moveTo>
                      <a:lnTo>
                        <a:pt x="54" y="51"/>
                      </a:lnTo>
                      <a:lnTo>
                        <a:pt x="36" y="44"/>
                      </a:lnTo>
                      <a:lnTo>
                        <a:pt x="22" y="37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2"/>
                      </a:lnTo>
                      <a:lnTo>
                        <a:pt x="12" y="32"/>
                      </a:lnTo>
                      <a:lnTo>
                        <a:pt x="22" y="43"/>
                      </a:lnTo>
                      <a:lnTo>
                        <a:pt x="29" y="54"/>
                      </a:lnTo>
                      <a:lnTo>
                        <a:pt x="31" y="70"/>
                      </a:lnTo>
                      <a:lnTo>
                        <a:pt x="23" y="71"/>
                      </a:lnTo>
                      <a:lnTo>
                        <a:pt x="13" y="73"/>
                      </a:lnTo>
                      <a:lnTo>
                        <a:pt x="6" y="75"/>
                      </a:lnTo>
                      <a:lnTo>
                        <a:pt x="4" y="86"/>
                      </a:lnTo>
                      <a:lnTo>
                        <a:pt x="0" y="89"/>
                      </a:lnTo>
                      <a:lnTo>
                        <a:pt x="1" y="89"/>
                      </a:lnTo>
                      <a:lnTo>
                        <a:pt x="13" y="88"/>
                      </a:lnTo>
                      <a:lnTo>
                        <a:pt x="42" y="90"/>
                      </a:lnTo>
                      <a:lnTo>
                        <a:pt x="44" y="90"/>
                      </a:lnTo>
                      <a:lnTo>
                        <a:pt x="44" y="96"/>
                      </a:lnTo>
                      <a:lnTo>
                        <a:pt x="46" y="102"/>
                      </a:lnTo>
                      <a:lnTo>
                        <a:pt x="47" y="108"/>
                      </a:lnTo>
                      <a:lnTo>
                        <a:pt x="36" y="108"/>
                      </a:lnTo>
                      <a:lnTo>
                        <a:pt x="36" y="110"/>
                      </a:lnTo>
                      <a:lnTo>
                        <a:pt x="27" y="121"/>
                      </a:lnTo>
                      <a:lnTo>
                        <a:pt x="16" y="136"/>
                      </a:lnTo>
                      <a:lnTo>
                        <a:pt x="9" y="143"/>
                      </a:lnTo>
                      <a:lnTo>
                        <a:pt x="25" y="146"/>
                      </a:lnTo>
                      <a:lnTo>
                        <a:pt x="41" y="151"/>
                      </a:lnTo>
                      <a:lnTo>
                        <a:pt x="42" y="154"/>
                      </a:lnTo>
                      <a:lnTo>
                        <a:pt x="40" y="167"/>
                      </a:lnTo>
                      <a:lnTo>
                        <a:pt x="36" y="185"/>
                      </a:lnTo>
                      <a:lnTo>
                        <a:pt x="29" y="194"/>
                      </a:lnTo>
                      <a:lnTo>
                        <a:pt x="32" y="196"/>
                      </a:lnTo>
                      <a:lnTo>
                        <a:pt x="39" y="196"/>
                      </a:lnTo>
                      <a:lnTo>
                        <a:pt x="44" y="197"/>
                      </a:lnTo>
                      <a:lnTo>
                        <a:pt x="48" y="192"/>
                      </a:lnTo>
                      <a:lnTo>
                        <a:pt x="57" y="189"/>
                      </a:lnTo>
                      <a:lnTo>
                        <a:pt x="65" y="189"/>
                      </a:lnTo>
                      <a:lnTo>
                        <a:pt x="65" y="204"/>
                      </a:lnTo>
                      <a:lnTo>
                        <a:pt x="69" y="219"/>
                      </a:lnTo>
                      <a:lnTo>
                        <a:pt x="80" y="227"/>
                      </a:lnTo>
                      <a:lnTo>
                        <a:pt x="80" y="222"/>
                      </a:lnTo>
                      <a:lnTo>
                        <a:pt x="88" y="219"/>
                      </a:lnTo>
                      <a:lnTo>
                        <a:pt x="99" y="212"/>
                      </a:lnTo>
                      <a:lnTo>
                        <a:pt x="111" y="210"/>
                      </a:lnTo>
                      <a:lnTo>
                        <a:pt x="112" y="226"/>
                      </a:lnTo>
                      <a:lnTo>
                        <a:pt x="118" y="244"/>
                      </a:lnTo>
                      <a:lnTo>
                        <a:pt x="130" y="252"/>
                      </a:lnTo>
                      <a:lnTo>
                        <a:pt x="133" y="254"/>
                      </a:lnTo>
                      <a:lnTo>
                        <a:pt x="133" y="250"/>
                      </a:lnTo>
                      <a:lnTo>
                        <a:pt x="137" y="232"/>
                      </a:lnTo>
                      <a:lnTo>
                        <a:pt x="153" y="222"/>
                      </a:lnTo>
                      <a:lnTo>
                        <a:pt x="154" y="219"/>
                      </a:lnTo>
                      <a:lnTo>
                        <a:pt x="155" y="219"/>
                      </a:lnTo>
                      <a:lnTo>
                        <a:pt x="156" y="216"/>
                      </a:lnTo>
                      <a:lnTo>
                        <a:pt x="177" y="219"/>
                      </a:lnTo>
                      <a:lnTo>
                        <a:pt x="197" y="225"/>
                      </a:lnTo>
                      <a:lnTo>
                        <a:pt x="215" y="227"/>
                      </a:lnTo>
                      <a:lnTo>
                        <a:pt x="210" y="220"/>
                      </a:lnTo>
                      <a:lnTo>
                        <a:pt x="203" y="210"/>
                      </a:lnTo>
                      <a:lnTo>
                        <a:pt x="197" y="204"/>
                      </a:lnTo>
                      <a:lnTo>
                        <a:pt x="197" y="197"/>
                      </a:lnTo>
                      <a:lnTo>
                        <a:pt x="215" y="197"/>
                      </a:lnTo>
                      <a:lnTo>
                        <a:pt x="232" y="195"/>
                      </a:lnTo>
                      <a:lnTo>
                        <a:pt x="240" y="182"/>
                      </a:lnTo>
                      <a:lnTo>
                        <a:pt x="223" y="179"/>
                      </a:lnTo>
                      <a:lnTo>
                        <a:pt x="207" y="174"/>
                      </a:lnTo>
                      <a:lnTo>
                        <a:pt x="197" y="172"/>
                      </a:lnTo>
                      <a:lnTo>
                        <a:pt x="202" y="171"/>
                      </a:lnTo>
                      <a:lnTo>
                        <a:pt x="209" y="170"/>
                      </a:lnTo>
                      <a:lnTo>
                        <a:pt x="215" y="169"/>
                      </a:lnTo>
                      <a:lnTo>
                        <a:pt x="223" y="157"/>
                      </a:lnTo>
                      <a:lnTo>
                        <a:pt x="241" y="149"/>
                      </a:lnTo>
                      <a:lnTo>
                        <a:pt x="255" y="146"/>
                      </a:lnTo>
                      <a:lnTo>
                        <a:pt x="243" y="144"/>
                      </a:lnTo>
                      <a:lnTo>
                        <a:pt x="226" y="140"/>
                      </a:lnTo>
                      <a:lnTo>
                        <a:pt x="217" y="135"/>
                      </a:lnTo>
                      <a:lnTo>
                        <a:pt x="207" y="135"/>
                      </a:lnTo>
                      <a:lnTo>
                        <a:pt x="216" y="123"/>
                      </a:lnTo>
                      <a:lnTo>
                        <a:pt x="235" y="119"/>
                      </a:lnTo>
                      <a:lnTo>
                        <a:pt x="252" y="119"/>
                      </a:lnTo>
                      <a:lnTo>
                        <a:pt x="248" y="108"/>
                      </a:lnTo>
                      <a:lnTo>
                        <a:pt x="239" y="101"/>
                      </a:lnTo>
                      <a:lnTo>
                        <a:pt x="235" y="96"/>
                      </a:lnTo>
                      <a:lnTo>
                        <a:pt x="207" y="96"/>
                      </a:lnTo>
                      <a:lnTo>
                        <a:pt x="205" y="93"/>
                      </a:lnTo>
                      <a:lnTo>
                        <a:pt x="207" y="79"/>
                      </a:lnTo>
                      <a:lnTo>
                        <a:pt x="212" y="67"/>
                      </a:lnTo>
                      <a:lnTo>
                        <a:pt x="219" y="57"/>
                      </a:lnTo>
                      <a:lnTo>
                        <a:pt x="229" y="57"/>
                      </a:lnTo>
                      <a:lnTo>
                        <a:pt x="229" y="40"/>
                      </a:lnTo>
                      <a:lnTo>
                        <a:pt x="226" y="36"/>
                      </a:lnTo>
                      <a:lnTo>
                        <a:pt x="223" y="32"/>
                      </a:lnTo>
                      <a:lnTo>
                        <a:pt x="221" y="29"/>
                      </a:lnTo>
                      <a:lnTo>
                        <a:pt x="214" y="31"/>
                      </a:lnTo>
                      <a:lnTo>
                        <a:pt x="206" y="35"/>
                      </a:lnTo>
                      <a:lnTo>
                        <a:pt x="199" y="37"/>
                      </a:lnTo>
                      <a:lnTo>
                        <a:pt x="198" y="39"/>
                      </a:lnTo>
                      <a:lnTo>
                        <a:pt x="197" y="40"/>
                      </a:lnTo>
                      <a:lnTo>
                        <a:pt x="197" y="42"/>
                      </a:lnTo>
                      <a:lnTo>
                        <a:pt x="198" y="41"/>
                      </a:lnTo>
                      <a:lnTo>
                        <a:pt x="196" y="40"/>
                      </a:lnTo>
                      <a:lnTo>
                        <a:pt x="191" y="42"/>
                      </a:lnTo>
                      <a:lnTo>
                        <a:pt x="189" y="47"/>
                      </a:lnTo>
                      <a:lnTo>
                        <a:pt x="184" y="48"/>
                      </a:lnTo>
                      <a:lnTo>
                        <a:pt x="179" y="47"/>
                      </a:lnTo>
                      <a:lnTo>
                        <a:pt x="179" y="30"/>
                      </a:lnTo>
                      <a:lnTo>
                        <a:pt x="178" y="11"/>
                      </a:lnTo>
                      <a:lnTo>
                        <a:pt x="167" y="0"/>
                      </a:lnTo>
                      <a:lnTo>
                        <a:pt x="170" y="18"/>
                      </a:lnTo>
                      <a:lnTo>
                        <a:pt x="164" y="28"/>
                      </a:lnTo>
                      <a:lnTo>
                        <a:pt x="151" y="37"/>
                      </a:lnTo>
                      <a:lnTo>
                        <a:pt x="151" y="40"/>
                      </a:lnTo>
                      <a:lnTo>
                        <a:pt x="139" y="32"/>
                      </a:lnTo>
                      <a:lnTo>
                        <a:pt x="119" y="13"/>
                      </a:lnTo>
                      <a:lnTo>
                        <a:pt x="103" y="3"/>
                      </a:lnTo>
                      <a:lnTo>
                        <a:pt x="110" y="10"/>
                      </a:lnTo>
                      <a:lnTo>
                        <a:pt x="123" y="21"/>
                      </a:lnTo>
                      <a:lnTo>
                        <a:pt x="127" y="30"/>
                      </a:lnTo>
                      <a:lnTo>
                        <a:pt x="111" y="29"/>
                      </a:lnTo>
                      <a:lnTo>
                        <a:pt x="101" y="27"/>
                      </a:lnTo>
                      <a:lnTo>
                        <a:pt x="91" y="23"/>
                      </a:lnTo>
                      <a:lnTo>
                        <a:pt x="82" y="21"/>
                      </a:lnTo>
                      <a:lnTo>
                        <a:pt x="83" y="30"/>
                      </a:lnTo>
                      <a:lnTo>
                        <a:pt x="84" y="38"/>
                      </a:lnTo>
                      <a:lnTo>
                        <a:pt x="85" y="47"/>
                      </a:lnTo>
                      <a:lnTo>
                        <a:pt x="80" y="46"/>
                      </a:lnTo>
                      <a:lnTo>
                        <a:pt x="77" y="45"/>
                      </a:lnTo>
                      <a:lnTo>
                        <a:pt x="73" y="44"/>
                      </a:lnTo>
                      <a:lnTo>
                        <a:pt x="70" y="5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97000" y="3617640"/>
                  <a:ext cx="403200" cy="403200"/>
                </a:xfrm>
                <a:custGeom>
                  <a:avLst/>
                  <a:gdLst/>
                  <a:ahLst/>
                  <a:rect l="l" t="t" r="r" b="b"/>
                  <a:pathLst>
                    <a:path w="254" h="254">
                      <a:moveTo>
                        <a:pt x="69" y="54"/>
                      </a:moveTo>
                      <a:lnTo>
                        <a:pt x="53" y="50"/>
                      </a:lnTo>
                      <a:lnTo>
                        <a:pt x="35" y="44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1" y="33"/>
                      </a:lnTo>
                      <a:lnTo>
                        <a:pt x="21" y="33"/>
                      </a:lnTo>
                      <a:lnTo>
                        <a:pt x="19" y="33"/>
                      </a:lnTo>
                      <a:lnTo>
                        <a:pt x="15" y="32"/>
                      </a:lnTo>
                      <a:lnTo>
                        <a:pt x="11" y="31"/>
                      </a:lnTo>
                      <a:lnTo>
                        <a:pt x="11" y="31"/>
                      </a:lnTo>
                      <a:lnTo>
                        <a:pt x="21" y="42"/>
                      </a:lnTo>
                      <a:lnTo>
                        <a:pt x="28" y="53"/>
                      </a:lnTo>
                      <a:lnTo>
                        <a:pt x="31" y="69"/>
                      </a:lnTo>
                      <a:lnTo>
                        <a:pt x="31" y="69"/>
                      </a:lnTo>
                      <a:lnTo>
                        <a:pt x="23" y="71"/>
                      </a:lnTo>
                      <a:lnTo>
                        <a:pt x="13" y="72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3" y="85"/>
                      </a:lnTo>
                      <a:lnTo>
                        <a:pt x="0" y="89"/>
                      </a:lnTo>
                      <a:lnTo>
                        <a:pt x="1" y="88"/>
                      </a:lnTo>
                      <a:lnTo>
                        <a:pt x="12" y="87"/>
                      </a:lnTo>
                      <a:lnTo>
                        <a:pt x="41" y="89"/>
                      </a:lnTo>
                      <a:lnTo>
                        <a:pt x="41" y="89"/>
                      </a:lnTo>
                      <a:lnTo>
                        <a:pt x="44" y="89"/>
                      </a:lnTo>
                      <a:lnTo>
                        <a:pt x="44" y="89"/>
                      </a:lnTo>
                      <a:lnTo>
                        <a:pt x="44" y="96"/>
                      </a:lnTo>
                      <a:lnTo>
                        <a:pt x="46" y="102"/>
                      </a:lnTo>
                      <a:lnTo>
                        <a:pt x="46" y="108"/>
                      </a:lnTo>
                      <a:lnTo>
                        <a:pt x="46" y="108"/>
                      </a:lnTo>
                      <a:lnTo>
                        <a:pt x="36" y="108"/>
                      </a:lnTo>
                      <a:lnTo>
                        <a:pt x="36" y="110"/>
                      </a:lnTo>
                      <a:lnTo>
                        <a:pt x="36" y="110"/>
                      </a:lnTo>
                      <a:lnTo>
                        <a:pt x="26" y="121"/>
                      </a:lnTo>
                      <a:lnTo>
                        <a:pt x="15" y="135"/>
                      </a:lnTo>
                      <a:lnTo>
                        <a:pt x="9" y="143"/>
                      </a:lnTo>
                      <a:lnTo>
                        <a:pt x="9" y="143"/>
                      </a:lnTo>
                      <a:lnTo>
                        <a:pt x="24" y="145"/>
                      </a:lnTo>
                      <a:lnTo>
                        <a:pt x="40" y="150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0" y="166"/>
                      </a:lnTo>
                      <a:lnTo>
                        <a:pt x="35" y="184"/>
                      </a:lnTo>
                      <a:lnTo>
                        <a:pt x="28" y="193"/>
                      </a:lnTo>
                      <a:lnTo>
                        <a:pt x="28" y="193"/>
                      </a:lnTo>
                      <a:lnTo>
                        <a:pt x="32" y="195"/>
                      </a:lnTo>
                      <a:lnTo>
                        <a:pt x="39" y="196"/>
                      </a:lnTo>
                      <a:lnTo>
                        <a:pt x="44" y="196"/>
                      </a:lnTo>
                      <a:lnTo>
                        <a:pt x="44" y="196"/>
                      </a:lnTo>
                      <a:lnTo>
                        <a:pt x="48" y="192"/>
                      </a:lnTo>
                      <a:lnTo>
                        <a:pt x="57" y="189"/>
                      </a:lnTo>
                      <a:lnTo>
                        <a:pt x="65" y="189"/>
                      </a:lnTo>
                      <a:lnTo>
                        <a:pt x="65" y="189"/>
                      </a:lnTo>
                      <a:lnTo>
                        <a:pt x="65" y="203"/>
                      </a:lnTo>
                      <a:lnTo>
                        <a:pt x="69" y="219"/>
                      </a:lnTo>
                      <a:lnTo>
                        <a:pt x="79" y="226"/>
                      </a:lnTo>
                      <a:lnTo>
                        <a:pt x="79" y="226"/>
                      </a:lnTo>
                      <a:lnTo>
                        <a:pt x="79" y="222"/>
                      </a:lnTo>
                      <a:lnTo>
                        <a:pt x="79" y="222"/>
                      </a:lnTo>
                      <a:lnTo>
                        <a:pt x="87" y="218"/>
                      </a:lnTo>
                      <a:lnTo>
                        <a:pt x="98" y="212"/>
                      </a:lnTo>
                      <a:lnTo>
                        <a:pt x="110" y="209"/>
                      </a:lnTo>
                      <a:lnTo>
                        <a:pt x="110" y="209"/>
                      </a:lnTo>
                      <a:lnTo>
                        <a:pt x="111" y="226"/>
                      </a:lnTo>
                      <a:lnTo>
                        <a:pt x="117" y="243"/>
                      </a:lnTo>
                      <a:lnTo>
                        <a:pt x="130" y="252"/>
                      </a:lnTo>
                      <a:lnTo>
                        <a:pt x="130" y="252"/>
                      </a:lnTo>
                      <a:lnTo>
                        <a:pt x="133" y="254"/>
                      </a:lnTo>
                      <a:lnTo>
                        <a:pt x="133" y="254"/>
                      </a:lnTo>
                      <a:lnTo>
                        <a:pt x="132" y="249"/>
                      </a:lnTo>
                      <a:lnTo>
                        <a:pt x="136" y="231"/>
                      </a:lnTo>
                      <a:lnTo>
                        <a:pt x="153" y="222"/>
                      </a:lnTo>
                      <a:lnTo>
                        <a:pt x="153" y="222"/>
                      </a:lnTo>
                      <a:lnTo>
                        <a:pt x="154" y="219"/>
                      </a:lnTo>
                      <a:lnTo>
                        <a:pt x="154" y="219"/>
                      </a:lnTo>
                      <a:lnTo>
                        <a:pt x="156" y="216"/>
                      </a:lnTo>
                      <a:lnTo>
                        <a:pt x="156" y="216"/>
                      </a:lnTo>
                      <a:lnTo>
                        <a:pt x="176" y="219"/>
                      </a:lnTo>
                      <a:lnTo>
                        <a:pt x="197" y="224"/>
                      </a:lnTo>
                      <a:lnTo>
                        <a:pt x="214" y="226"/>
                      </a:lnTo>
                      <a:lnTo>
                        <a:pt x="214" y="226"/>
                      </a:lnTo>
                      <a:lnTo>
                        <a:pt x="209" y="219"/>
                      </a:lnTo>
                      <a:lnTo>
                        <a:pt x="202" y="210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6" y="196"/>
                      </a:lnTo>
                      <a:lnTo>
                        <a:pt x="196" y="196"/>
                      </a:lnTo>
                      <a:lnTo>
                        <a:pt x="214" y="197"/>
                      </a:lnTo>
                      <a:lnTo>
                        <a:pt x="231" y="194"/>
                      </a:lnTo>
                      <a:lnTo>
                        <a:pt x="239" y="181"/>
                      </a:lnTo>
                      <a:lnTo>
                        <a:pt x="239" y="181"/>
                      </a:lnTo>
                      <a:lnTo>
                        <a:pt x="222" y="178"/>
                      </a:lnTo>
                      <a:lnTo>
                        <a:pt x="207" y="174"/>
                      </a:lnTo>
                      <a:lnTo>
                        <a:pt x="196" y="171"/>
                      </a:lnTo>
                      <a:lnTo>
                        <a:pt x="196" y="171"/>
                      </a:lnTo>
                      <a:lnTo>
                        <a:pt x="202" y="170"/>
                      </a:lnTo>
                      <a:lnTo>
                        <a:pt x="208" y="169"/>
                      </a:lnTo>
                      <a:lnTo>
                        <a:pt x="214" y="168"/>
                      </a:lnTo>
                      <a:lnTo>
                        <a:pt x="214" y="168"/>
                      </a:lnTo>
                      <a:lnTo>
                        <a:pt x="222" y="157"/>
                      </a:lnTo>
                      <a:lnTo>
                        <a:pt x="240" y="148"/>
                      </a:lnTo>
                      <a:lnTo>
                        <a:pt x="254" y="145"/>
                      </a:lnTo>
                      <a:lnTo>
                        <a:pt x="254" y="145"/>
                      </a:lnTo>
                      <a:lnTo>
                        <a:pt x="243" y="144"/>
                      </a:lnTo>
                      <a:lnTo>
                        <a:pt x="225" y="140"/>
                      </a:lnTo>
                      <a:lnTo>
                        <a:pt x="217" y="135"/>
                      </a:lnTo>
                      <a:lnTo>
                        <a:pt x="217" y="135"/>
                      </a:lnTo>
                      <a:lnTo>
                        <a:pt x="206" y="135"/>
                      </a:lnTo>
                      <a:lnTo>
                        <a:pt x="206" y="135"/>
                      </a:lnTo>
                      <a:lnTo>
                        <a:pt x="215" y="123"/>
                      </a:lnTo>
                      <a:lnTo>
                        <a:pt x="235" y="119"/>
                      </a:lnTo>
                      <a:lnTo>
                        <a:pt x="252" y="118"/>
                      </a:lnTo>
                      <a:lnTo>
                        <a:pt x="252" y="118"/>
                      </a:lnTo>
                      <a:lnTo>
                        <a:pt x="247" y="107"/>
                      </a:lnTo>
                      <a:lnTo>
                        <a:pt x="239" y="100"/>
                      </a:lnTo>
                      <a:lnTo>
                        <a:pt x="234" y="95"/>
                      </a:lnTo>
                      <a:lnTo>
                        <a:pt x="234" y="95"/>
                      </a:lnTo>
                      <a:lnTo>
                        <a:pt x="206" y="95"/>
                      </a:lnTo>
                      <a:lnTo>
                        <a:pt x="204" y="92"/>
                      </a:lnTo>
                      <a:lnTo>
                        <a:pt x="204" y="92"/>
                      </a:lnTo>
                      <a:lnTo>
                        <a:pt x="206" y="79"/>
                      </a:lnTo>
                      <a:lnTo>
                        <a:pt x="211" y="66"/>
                      </a:lnTo>
                      <a:lnTo>
                        <a:pt x="218" y="57"/>
                      </a:lnTo>
                      <a:lnTo>
                        <a:pt x="218" y="57"/>
                      </a:lnTo>
                      <a:lnTo>
                        <a:pt x="229" y="57"/>
                      </a:lnTo>
                      <a:lnTo>
                        <a:pt x="229" y="39"/>
                      </a:lnTo>
                      <a:lnTo>
                        <a:pt x="229" y="39"/>
                      </a:lnTo>
                      <a:lnTo>
                        <a:pt x="225" y="35"/>
                      </a:lnTo>
                      <a:lnTo>
                        <a:pt x="222" y="32"/>
                      </a:lnTo>
                      <a:lnTo>
                        <a:pt x="221" y="29"/>
                      </a:lnTo>
                      <a:lnTo>
                        <a:pt x="221" y="29"/>
                      </a:lnTo>
                      <a:lnTo>
                        <a:pt x="213" y="30"/>
                      </a:lnTo>
                      <a:lnTo>
                        <a:pt x="205" y="34"/>
                      </a:lnTo>
                      <a:lnTo>
                        <a:pt x="198" y="36"/>
                      </a:lnTo>
                      <a:lnTo>
                        <a:pt x="198" y="36"/>
                      </a:lnTo>
                      <a:lnTo>
                        <a:pt x="198" y="38"/>
                      </a:lnTo>
                      <a:lnTo>
                        <a:pt x="197" y="39"/>
                      </a:lnTo>
                      <a:lnTo>
                        <a:pt x="196" y="41"/>
                      </a:lnTo>
                      <a:lnTo>
                        <a:pt x="196" y="41"/>
                      </a:lnTo>
                      <a:lnTo>
                        <a:pt x="197" y="40"/>
                      </a:lnTo>
                      <a:lnTo>
                        <a:pt x="195" y="39"/>
                      </a:lnTo>
                      <a:lnTo>
                        <a:pt x="191" y="41"/>
                      </a:lnTo>
                      <a:lnTo>
                        <a:pt x="191" y="41"/>
                      </a:lnTo>
                      <a:lnTo>
                        <a:pt x="188" y="46"/>
                      </a:lnTo>
                      <a:lnTo>
                        <a:pt x="183" y="47"/>
                      </a:lnTo>
                      <a:lnTo>
                        <a:pt x="178" y="47"/>
                      </a:lnTo>
                      <a:lnTo>
                        <a:pt x="178" y="47"/>
                      </a:lnTo>
                      <a:lnTo>
                        <a:pt x="179" y="30"/>
                      </a:lnTo>
                      <a:lnTo>
                        <a:pt x="177" y="10"/>
                      </a:lnTo>
                      <a:lnTo>
                        <a:pt x="166" y="0"/>
                      </a:lnTo>
                      <a:lnTo>
                        <a:pt x="166" y="0"/>
                      </a:lnTo>
                      <a:lnTo>
                        <a:pt x="169" y="18"/>
                      </a:lnTo>
                      <a:lnTo>
                        <a:pt x="163" y="28"/>
                      </a:lnTo>
                      <a:lnTo>
                        <a:pt x="150" y="36"/>
                      </a:lnTo>
                      <a:lnTo>
                        <a:pt x="150" y="36"/>
                      </a:lnTo>
                      <a:lnTo>
                        <a:pt x="150" y="39"/>
                      </a:lnTo>
                      <a:lnTo>
                        <a:pt x="150" y="39"/>
                      </a:lnTo>
                      <a:lnTo>
                        <a:pt x="138" y="31"/>
                      </a:lnTo>
                      <a:lnTo>
                        <a:pt x="119" y="13"/>
                      </a:lnTo>
                      <a:lnTo>
                        <a:pt x="102" y="3"/>
                      </a:lnTo>
                      <a:lnTo>
                        <a:pt x="102" y="3"/>
                      </a:lnTo>
                      <a:lnTo>
                        <a:pt x="110" y="9"/>
                      </a:lnTo>
                      <a:lnTo>
                        <a:pt x="122" y="21"/>
                      </a:lnTo>
                      <a:lnTo>
                        <a:pt x="127" y="29"/>
                      </a:lnTo>
                      <a:lnTo>
                        <a:pt x="110" y="29"/>
                      </a:lnTo>
                      <a:lnTo>
                        <a:pt x="110" y="29"/>
                      </a:lnTo>
                      <a:lnTo>
                        <a:pt x="101" y="26"/>
                      </a:lnTo>
                      <a:lnTo>
                        <a:pt x="91" y="23"/>
                      </a:lnTo>
                      <a:lnTo>
                        <a:pt x="81" y="21"/>
                      </a:lnTo>
                      <a:lnTo>
                        <a:pt x="81" y="21"/>
                      </a:lnTo>
                      <a:lnTo>
                        <a:pt x="82" y="29"/>
                      </a:lnTo>
                      <a:lnTo>
                        <a:pt x="84" y="38"/>
                      </a:lnTo>
                      <a:lnTo>
                        <a:pt x="84" y="47"/>
                      </a:lnTo>
                      <a:lnTo>
                        <a:pt x="84" y="47"/>
                      </a:lnTo>
                      <a:lnTo>
                        <a:pt x="80" y="45"/>
                      </a:lnTo>
                      <a:lnTo>
                        <a:pt x="76" y="45"/>
                      </a:lnTo>
                      <a:lnTo>
                        <a:pt x="72" y="44"/>
                      </a:lnTo>
                      <a:lnTo>
                        <a:pt x="72" y="44"/>
                      </a:lnTo>
                      <a:lnTo>
                        <a:pt x="69" y="54"/>
                      </a:lnTo>
                      <a:lnTo>
                        <a:pt x="69" y="54"/>
                      </a:lnTo>
                      <a:lnTo>
                        <a:pt x="69" y="5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095280" y="3715920"/>
                  <a:ext cx="206640" cy="20628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95280" y="3715920"/>
                  <a:ext cx="206640" cy="20628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65" y="2"/>
                      </a:moveTo>
                      <a:lnTo>
                        <a:pt x="72" y="2"/>
                      </a:lnTo>
                      <a:lnTo>
                        <a:pt x="78" y="3"/>
                      </a:lnTo>
                      <a:lnTo>
                        <a:pt x="84" y="5"/>
                      </a:lnTo>
                      <a:lnTo>
                        <a:pt x="90" y="6"/>
                      </a:lnTo>
                      <a:lnTo>
                        <a:pt x="95" y="9"/>
                      </a:lnTo>
                      <a:lnTo>
                        <a:pt x="100" y="12"/>
                      </a:lnTo>
                      <a:lnTo>
                        <a:pt x="105" y="16"/>
                      </a:lnTo>
                      <a:lnTo>
                        <a:pt x="110" y="20"/>
                      </a:lnTo>
                      <a:lnTo>
                        <a:pt x="115" y="25"/>
                      </a:lnTo>
                      <a:lnTo>
                        <a:pt x="118" y="31"/>
                      </a:lnTo>
                      <a:lnTo>
                        <a:pt x="121" y="35"/>
                      </a:lnTo>
                      <a:lnTo>
                        <a:pt x="124" y="41"/>
                      </a:lnTo>
                      <a:lnTo>
                        <a:pt x="126" y="47"/>
                      </a:lnTo>
                      <a:lnTo>
                        <a:pt x="128" y="53"/>
                      </a:lnTo>
                      <a:lnTo>
                        <a:pt x="128" y="59"/>
                      </a:lnTo>
                      <a:lnTo>
                        <a:pt x="129" y="65"/>
                      </a:lnTo>
                      <a:lnTo>
                        <a:pt x="128" y="72"/>
                      </a:lnTo>
                      <a:lnTo>
                        <a:pt x="128" y="78"/>
                      </a:lnTo>
                      <a:lnTo>
                        <a:pt x="126" y="84"/>
                      </a:lnTo>
                      <a:lnTo>
                        <a:pt x="124" y="89"/>
                      </a:lnTo>
                      <a:lnTo>
                        <a:pt x="121" y="95"/>
                      </a:lnTo>
                      <a:lnTo>
                        <a:pt x="118" y="100"/>
                      </a:lnTo>
                      <a:lnTo>
                        <a:pt x="115" y="105"/>
                      </a:lnTo>
                      <a:lnTo>
                        <a:pt x="110" y="110"/>
                      </a:lnTo>
                      <a:lnTo>
                        <a:pt x="105" y="115"/>
                      </a:lnTo>
                      <a:lnTo>
                        <a:pt x="100" y="118"/>
                      </a:lnTo>
                      <a:lnTo>
                        <a:pt x="95" y="121"/>
                      </a:lnTo>
                      <a:lnTo>
                        <a:pt x="90" y="124"/>
                      </a:lnTo>
                      <a:lnTo>
                        <a:pt x="84" y="126"/>
                      </a:lnTo>
                      <a:lnTo>
                        <a:pt x="78" y="127"/>
                      </a:lnTo>
                      <a:lnTo>
                        <a:pt x="72" y="128"/>
                      </a:lnTo>
                      <a:lnTo>
                        <a:pt x="65" y="129"/>
                      </a:lnTo>
                      <a:lnTo>
                        <a:pt x="59" y="128"/>
                      </a:lnTo>
                      <a:lnTo>
                        <a:pt x="53" y="127"/>
                      </a:lnTo>
                      <a:lnTo>
                        <a:pt x="47" y="126"/>
                      </a:lnTo>
                      <a:lnTo>
                        <a:pt x="41" y="124"/>
                      </a:lnTo>
                      <a:lnTo>
                        <a:pt x="35" y="121"/>
                      </a:lnTo>
                      <a:lnTo>
                        <a:pt x="31" y="118"/>
                      </a:lnTo>
                      <a:lnTo>
                        <a:pt x="26" y="115"/>
                      </a:lnTo>
                      <a:lnTo>
                        <a:pt x="20" y="110"/>
                      </a:lnTo>
                      <a:lnTo>
                        <a:pt x="16" y="105"/>
                      </a:lnTo>
                      <a:lnTo>
                        <a:pt x="12" y="100"/>
                      </a:lnTo>
                      <a:lnTo>
                        <a:pt x="10" y="95"/>
                      </a:lnTo>
                      <a:lnTo>
                        <a:pt x="7" y="89"/>
                      </a:lnTo>
                      <a:lnTo>
                        <a:pt x="5" y="84"/>
                      </a:lnTo>
                      <a:lnTo>
                        <a:pt x="3" y="78"/>
                      </a:lnTo>
                      <a:lnTo>
                        <a:pt x="3" y="72"/>
                      </a:lnTo>
                      <a:lnTo>
                        <a:pt x="2" y="65"/>
                      </a:lnTo>
                      <a:lnTo>
                        <a:pt x="3" y="59"/>
                      </a:lnTo>
                      <a:lnTo>
                        <a:pt x="3" y="53"/>
                      </a:lnTo>
                      <a:lnTo>
                        <a:pt x="5" y="47"/>
                      </a:lnTo>
                      <a:lnTo>
                        <a:pt x="7" y="41"/>
                      </a:lnTo>
                      <a:lnTo>
                        <a:pt x="10" y="35"/>
                      </a:lnTo>
                      <a:lnTo>
                        <a:pt x="12" y="31"/>
                      </a:lnTo>
                      <a:lnTo>
                        <a:pt x="16" y="25"/>
                      </a:lnTo>
                      <a:lnTo>
                        <a:pt x="20" y="20"/>
                      </a:lnTo>
                      <a:lnTo>
                        <a:pt x="26" y="16"/>
                      </a:lnTo>
                      <a:lnTo>
                        <a:pt x="31" y="12"/>
                      </a:lnTo>
                      <a:lnTo>
                        <a:pt x="35" y="9"/>
                      </a:lnTo>
                      <a:lnTo>
                        <a:pt x="41" y="6"/>
                      </a:lnTo>
                      <a:lnTo>
                        <a:pt x="47" y="5"/>
                      </a:lnTo>
                      <a:lnTo>
                        <a:pt x="53" y="3"/>
                      </a:lnTo>
                      <a:lnTo>
                        <a:pt x="59" y="2"/>
                      </a:lnTo>
                      <a:lnTo>
                        <a:pt x="65" y="2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9" y="1"/>
                      </a:lnTo>
                      <a:lnTo>
                        <a:pt x="84" y="3"/>
                      </a:lnTo>
                      <a:lnTo>
                        <a:pt x="90" y="5"/>
                      </a:lnTo>
                      <a:lnTo>
                        <a:pt x="96" y="8"/>
                      </a:lnTo>
                      <a:lnTo>
                        <a:pt x="101" y="11"/>
                      </a:lnTo>
                      <a:lnTo>
                        <a:pt x="106" y="14"/>
                      </a:lnTo>
                      <a:lnTo>
                        <a:pt x="111" y="19"/>
                      </a:lnTo>
                      <a:lnTo>
                        <a:pt x="116" y="24"/>
                      </a:lnTo>
                      <a:lnTo>
                        <a:pt x="120" y="29"/>
                      </a:lnTo>
                      <a:lnTo>
                        <a:pt x="123" y="35"/>
                      </a:lnTo>
                      <a:lnTo>
                        <a:pt x="126" y="40"/>
                      </a:lnTo>
                      <a:lnTo>
                        <a:pt x="128" y="46"/>
                      </a:lnTo>
                      <a:lnTo>
                        <a:pt x="129" y="52"/>
                      </a:lnTo>
                      <a:lnTo>
                        <a:pt x="130" y="59"/>
                      </a:lnTo>
                      <a:lnTo>
                        <a:pt x="130" y="65"/>
                      </a:lnTo>
                      <a:lnTo>
                        <a:pt x="130" y="72"/>
                      </a:lnTo>
                      <a:lnTo>
                        <a:pt x="129" y="78"/>
                      </a:lnTo>
                      <a:lnTo>
                        <a:pt x="128" y="84"/>
                      </a:lnTo>
                      <a:lnTo>
                        <a:pt x="126" y="90"/>
                      </a:lnTo>
                      <a:lnTo>
                        <a:pt x="123" y="96"/>
                      </a:lnTo>
                      <a:lnTo>
                        <a:pt x="120" y="101"/>
                      </a:lnTo>
                      <a:lnTo>
                        <a:pt x="116" y="106"/>
                      </a:lnTo>
                      <a:lnTo>
                        <a:pt x="111" y="111"/>
                      </a:lnTo>
                      <a:lnTo>
                        <a:pt x="106" y="116"/>
                      </a:lnTo>
                      <a:lnTo>
                        <a:pt x="101" y="119"/>
                      </a:lnTo>
                      <a:lnTo>
                        <a:pt x="96" y="123"/>
                      </a:lnTo>
                      <a:lnTo>
                        <a:pt x="90" y="126"/>
                      </a:lnTo>
                      <a:lnTo>
                        <a:pt x="84" y="127"/>
                      </a:lnTo>
                      <a:lnTo>
                        <a:pt x="79" y="129"/>
                      </a:lnTo>
                      <a:lnTo>
                        <a:pt x="72" y="130"/>
                      </a:lnTo>
                      <a:lnTo>
                        <a:pt x="65" y="130"/>
                      </a:lnTo>
                      <a:lnTo>
                        <a:pt x="59" y="130"/>
                      </a:lnTo>
                      <a:lnTo>
                        <a:pt x="52" y="129"/>
                      </a:lnTo>
                      <a:lnTo>
                        <a:pt x="46" y="127"/>
                      </a:lnTo>
                      <a:lnTo>
                        <a:pt x="41" y="126"/>
                      </a:lnTo>
                      <a:lnTo>
                        <a:pt x="35" y="123"/>
                      </a:lnTo>
                      <a:lnTo>
                        <a:pt x="30" y="119"/>
                      </a:lnTo>
                      <a:lnTo>
                        <a:pt x="24" y="116"/>
                      </a:lnTo>
                      <a:lnTo>
                        <a:pt x="19" y="111"/>
                      </a:lnTo>
                      <a:lnTo>
                        <a:pt x="15" y="106"/>
                      </a:lnTo>
                      <a:lnTo>
                        <a:pt x="11" y="101"/>
                      </a:lnTo>
                      <a:lnTo>
                        <a:pt x="8" y="96"/>
                      </a:lnTo>
                      <a:lnTo>
                        <a:pt x="5" y="90"/>
                      </a:lnTo>
                      <a:lnTo>
                        <a:pt x="3" y="84"/>
                      </a:lnTo>
                      <a:lnTo>
                        <a:pt x="1" y="78"/>
                      </a:lnTo>
                      <a:lnTo>
                        <a:pt x="1" y="72"/>
                      </a:lnTo>
                      <a:lnTo>
                        <a:pt x="0" y="65"/>
                      </a:lnTo>
                      <a:lnTo>
                        <a:pt x="1" y="59"/>
                      </a:lnTo>
                      <a:lnTo>
                        <a:pt x="1" y="52"/>
                      </a:lnTo>
                      <a:lnTo>
                        <a:pt x="3" y="46"/>
                      </a:lnTo>
                      <a:lnTo>
                        <a:pt x="5" y="40"/>
                      </a:lnTo>
                      <a:lnTo>
                        <a:pt x="8" y="35"/>
                      </a:lnTo>
                      <a:lnTo>
                        <a:pt x="11" y="29"/>
                      </a:lnTo>
                      <a:lnTo>
                        <a:pt x="15" y="24"/>
                      </a:lnTo>
                      <a:lnTo>
                        <a:pt x="19" y="19"/>
                      </a:lnTo>
                      <a:lnTo>
                        <a:pt x="24" y="14"/>
                      </a:lnTo>
                      <a:lnTo>
                        <a:pt x="30" y="11"/>
                      </a:lnTo>
                      <a:lnTo>
                        <a:pt x="35" y="8"/>
                      </a:lnTo>
                      <a:lnTo>
                        <a:pt x="41" y="5"/>
                      </a:lnTo>
                      <a:lnTo>
                        <a:pt x="46" y="3"/>
                      </a:lnTo>
                      <a:lnTo>
                        <a:pt x="52" y="1"/>
                      </a:lnTo>
                      <a:lnTo>
                        <a:pt x="59" y="1"/>
                      </a:lnTo>
                      <a:lnTo>
                        <a:pt x="65" y="0"/>
                      </a:lnTo>
                      <a:lnTo>
                        <a:pt x="65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5099040" y="3562200"/>
                <a:ext cx="425520" cy="395280"/>
                <a:chOff x="5099040" y="3562200"/>
                <a:chExt cx="425520" cy="395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099040" y="3744720"/>
                  <a:ext cx="46080" cy="5580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8"/>
                      </a:moveTo>
                      <a:lnTo>
                        <a:pt x="14" y="0"/>
                      </a:lnTo>
                      <a:lnTo>
                        <a:pt x="0" y="25"/>
                      </a:lnTo>
                      <a:lnTo>
                        <a:pt x="2" y="30"/>
                      </a:lnTo>
                      <a:lnTo>
                        <a:pt x="10" y="35"/>
                      </a:lnTo>
                      <a:lnTo>
                        <a:pt x="15" y="34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099040" y="374328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9"/>
                      </a:moveTo>
                      <a:lnTo>
                        <a:pt x="14" y="0"/>
                      </a:lnTo>
                      <a:lnTo>
                        <a:pt x="0" y="25"/>
                      </a:lnTo>
                      <a:lnTo>
                        <a:pt x="2" y="30"/>
                      </a:lnTo>
                      <a:lnTo>
                        <a:pt x="10" y="35"/>
                      </a:lnTo>
                      <a:lnTo>
                        <a:pt x="15" y="34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137200" y="3565440"/>
                  <a:ext cx="123840" cy="225360"/>
                </a:xfrm>
                <a:custGeom>
                  <a:avLst/>
                  <a:gdLst/>
                  <a:ahLst/>
                  <a:rect l="l" t="t" r="r" b="b"/>
                  <a:pathLst>
                    <a:path w="78" h="142">
                      <a:moveTo>
                        <a:pt x="5" y="142"/>
                      </a:moveTo>
                      <a:lnTo>
                        <a:pt x="78" y="1"/>
                      </a:lnTo>
                      <a:lnTo>
                        <a:pt x="72" y="0"/>
                      </a:lnTo>
                      <a:lnTo>
                        <a:pt x="0" y="139"/>
                      </a:lnTo>
                      <a:lnTo>
                        <a:pt x="5" y="14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403960" y="376560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34" h="68">
                      <a:moveTo>
                        <a:pt x="4" y="68"/>
                      </a:moveTo>
                      <a:lnTo>
                        <a:pt x="34" y="33"/>
                      </a:lnTo>
                      <a:lnTo>
                        <a:pt x="31" y="0"/>
                      </a:lnTo>
                      <a:lnTo>
                        <a:pt x="0" y="24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135760" y="3565440"/>
                  <a:ext cx="125280" cy="223920"/>
                </a:xfrm>
                <a:custGeom>
                  <a:avLst/>
                  <a:gdLst/>
                  <a:ahLst/>
                  <a:rect l="l" t="t" r="r" b="b"/>
                  <a:pathLst>
                    <a:path w="79" h="141">
                      <a:moveTo>
                        <a:pt x="6" y="141"/>
                      </a:moveTo>
                      <a:lnTo>
                        <a:pt x="79" y="0"/>
                      </a:lnTo>
                      <a:lnTo>
                        <a:pt x="72" y="0"/>
                      </a:lnTo>
                      <a:lnTo>
                        <a:pt x="0" y="138"/>
                      </a:lnTo>
                      <a:lnTo>
                        <a:pt x="6" y="141"/>
                      </a:lnTo>
                      <a:lnTo>
                        <a:pt x="6" y="141"/>
                      </a:lnTo>
                      <a:lnTo>
                        <a:pt x="6" y="14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402520" y="376560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34" h="68">
                      <a:moveTo>
                        <a:pt x="4" y="68"/>
                      </a:moveTo>
                      <a:lnTo>
                        <a:pt x="34" y="33"/>
                      </a:lnTo>
                      <a:lnTo>
                        <a:pt x="31" y="0"/>
                      </a:lnTo>
                      <a:lnTo>
                        <a:pt x="0" y="2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418360" y="3824280"/>
                  <a:ext cx="65160" cy="8568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6" y="6"/>
                      </a:moveTo>
                      <a:lnTo>
                        <a:pt x="14" y="16"/>
                      </a:lnTo>
                      <a:lnTo>
                        <a:pt x="6" y="44"/>
                      </a:lnTo>
                      <a:lnTo>
                        <a:pt x="7" y="54"/>
                      </a:lnTo>
                      <a:lnTo>
                        <a:pt x="1" y="54"/>
                      </a:lnTo>
                      <a:lnTo>
                        <a:pt x="0" y="39"/>
                      </a:lnTo>
                      <a:lnTo>
                        <a:pt x="9" y="7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297760" y="387972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8" y="2"/>
                      </a:lnTo>
                      <a:lnTo>
                        <a:pt x="11" y="8"/>
                      </a:lnTo>
                      <a:lnTo>
                        <a:pt x="13" y="17"/>
                      </a:lnTo>
                      <a:lnTo>
                        <a:pt x="13" y="25"/>
                      </a:lnTo>
                      <a:lnTo>
                        <a:pt x="11" y="32"/>
                      </a:lnTo>
                      <a:lnTo>
                        <a:pt x="8" y="34"/>
                      </a:lnTo>
                      <a:lnTo>
                        <a:pt x="4" y="33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416560" y="3822480"/>
                  <a:ext cx="65160" cy="8604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7" y="6"/>
                      </a:moveTo>
                      <a:lnTo>
                        <a:pt x="15" y="17"/>
                      </a:lnTo>
                      <a:lnTo>
                        <a:pt x="7" y="44"/>
                      </a:lnTo>
                      <a:lnTo>
                        <a:pt x="7" y="54"/>
                      </a:lnTo>
                      <a:lnTo>
                        <a:pt x="1" y="54"/>
                      </a:lnTo>
                      <a:lnTo>
                        <a:pt x="0" y="39"/>
                      </a:lnTo>
                      <a:lnTo>
                        <a:pt x="10" y="8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12"/>
                      </a:lnTo>
                      <a:lnTo>
                        <a:pt x="37" y="13"/>
                      </a:ln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7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295960" y="387828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5" y="0"/>
                      </a:moveTo>
                      <a:lnTo>
                        <a:pt x="9" y="3"/>
                      </a:lnTo>
                      <a:lnTo>
                        <a:pt x="12" y="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4" y="26"/>
                      </a:lnTo>
                      <a:lnTo>
                        <a:pt x="12" y="32"/>
                      </a:lnTo>
                      <a:lnTo>
                        <a:pt x="9" y="35"/>
                      </a:lnTo>
                      <a:lnTo>
                        <a:pt x="9" y="35"/>
                      </a:ln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504040" y="383220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2"/>
                      </a:lnTo>
                      <a:lnTo>
                        <a:pt x="12" y="8"/>
                      </a:lnTo>
                      <a:lnTo>
                        <a:pt x="13" y="17"/>
                      </a:lnTo>
                      <a:lnTo>
                        <a:pt x="13" y="25"/>
                      </a:lnTo>
                      <a:lnTo>
                        <a:pt x="12" y="32"/>
                      </a:lnTo>
                      <a:lnTo>
                        <a:pt x="9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472360" y="38336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9" y="34"/>
                      </a:move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2" y="2"/>
                      </a:lnTo>
                      <a:lnTo>
                        <a:pt x="21" y="8"/>
                      </a:lnTo>
                      <a:lnTo>
                        <a:pt x="21" y="17"/>
                      </a:lnTo>
                      <a:lnTo>
                        <a:pt x="22" y="26"/>
                      </a:lnTo>
                      <a:lnTo>
                        <a:pt x="25" y="32"/>
                      </a:lnTo>
                      <a:lnTo>
                        <a:pt x="29" y="33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02600" y="3832200"/>
                  <a:ext cx="21960" cy="5220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6" y="0"/>
                      </a:moveTo>
                      <a:lnTo>
                        <a:pt x="10" y="2"/>
                      </a:lnTo>
                      <a:lnTo>
                        <a:pt x="13" y="7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5" y="32"/>
                      </a:lnTo>
                      <a:lnTo>
                        <a:pt x="2" y="2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9"/>
                      </a:lnTo>
                      <a:lnTo>
                        <a:pt x="3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470560" y="3832200"/>
                  <a:ext cx="4788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5" y="33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3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9"/>
                      </a:lnTo>
                      <a:lnTo>
                        <a:pt x="21" y="18"/>
                      </a:lnTo>
                      <a:lnTo>
                        <a:pt x="21" y="18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465880" y="3876480"/>
                  <a:ext cx="22320" cy="5580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6" y="0"/>
                      </a:move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2"/>
                      </a:lnTo>
                      <a:lnTo>
                        <a:pt x="8" y="35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34200" y="3876480"/>
                  <a:ext cx="47520" cy="5580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2" y="2"/>
                      </a:lnTo>
                      <a:lnTo>
                        <a:pt x="20" y="9"/>
                      </a:lnTo>
                      <a:lnTo>
                        <a:pt x="20" y="18"/>
                      </a:lnTo>
                      <a:lnTo>
                        <a:pt x="22" y="27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465880" y="3876480"/>
                  <a:ext cx="22320" cy="540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5" y="0"/>
                      </a:moveTo>
                      <a:lnTo>
                        <a:pt x="8" y="1"/>
                      </a:lnTo>
                      <a:lnTo>
                        <a:pt x="12" y="8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3" y="25"/>
                      </a:lnTo>
                      <a:lnTo>
                        <a:pt x="11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34200" y="387648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8" y="34"/>
                      </a:moveTo>
                      <a:lnTo>
                        <a:pt x="4" y="32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20" y="8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2" y="26"/>
                      </a:lnTo>
                      <a:lnTo>
                        <a:pt x="25" y="32"/>
                      </a:lnTo>
                      <a:lnTo>
                        <a:pt x="29" y="34"/>
                      </a:lnTo>
                      <a:lnTo>
                        <a:pt x="29" y="34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264280" y="387972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1" y="9"/>
                      </a:lnTo>
                      <a:lnTo>
                        <a:pt x="21" y="18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445360" y="3902040"/>
                  <a:ext cx="22320" cy="540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6" y="0"/>
                      </a:moveTo>
                      <a:lnTo>
                        <a:pt x="9" y="3"/>
                      </a:lnTo>
                      <a:lnTo>
                        <a:pt x="12" y="8"/>
                      </a:lnTo>
                      <a:lnTo>
                        <a:pt x="14" y="17"/>
                      </a:lnTo>
                      <a:lnTo>
                        <a:pt x="14" y="26"/>
                      </a:lnTo>
                      <a:lnTo>
                        <a:pt x="12" y="32"/>
                      </a:lnTo>
                      <a:lnTo>
                        <a:pt x="9" y="34"/>
                      </a:ln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264280" y="387828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3"/>
                      </a:lnTo>
                      <a:lnTo>
                        <a:pt x="20" y="10"/>
                      </a:lnTo>
                      <a:lnTo>
                        <a:pt x="20" y="18"/>
                      </a:lnTo>
                      <a:lnTo>
                        <a:pt x="20" y="18"/>
                      </a:lnTo>
                      <a:lnTo>
                        <a:pt x="23" y="27"/>
                      </a:lnTo>
                      <a:lnTo>
                        <a:pt x="25" y="33"/>
                      </a:lnTo>
                      <a:lnTo>
                        <a:pt x="29" y="35"/>
                      </a:lnTo>
                      <a:lnTo>
                        <a:pt x="29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445360" y="390204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2"/>
                      </a:lnTo>
                      <a:lnTo>
                        <a:pt x="12" y="8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25"/>
                      </a:lnTo>
                      <a:lnTo>
                        <a:pt x="12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413680" y="3902040"/>
                  <a:ext cx="47520" cy="5544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9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9"/>
                      </a:lnTo>
                      <a:lnTo>
                        <a:pt x="20" y="18"/>
                      </a:lnTo>
                      <a:lnTo>
                        <a:pt x="22" y="26"/>
                      </a:lnTo>
                      <a:lnTo>
                        <a:pt x="26" y="33"/>
                      </a:lnTo>
                      <a:lnTo>
                        <a:pt x="30" y="34"/>
                      </a:lnTo>
                      <a:lnTo>
                        <a:pt x="9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270760" y="3894120"/>
                  <a:ext cx="21960" cy="5544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6" y="0"/>
                      </a:move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2"/>
                      </a:lnTo>
                      <a:lnTo>
                        <a:pt x="9" y="35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11880" y="390204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6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3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1" y="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270760" y="389412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1"/>
                      </a:lnTo>
                      <a:lnTo>
                        <a:pt x="12" y="7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25"/>
                      </a:lnTo>
                      <a:lnTo>
                        <a:pt x="12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40520" y="389412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4" y="32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1" y="2"/>
                      </a:lnTo>
                      <a:lnTo>
                        <a:pt x="20" y="9"/>
                      </a:lnTo>
                      <a:lnTo>
                        <a:pt x="20" y="18"/>
                      </a:lnTo>
                      <a:lnTo>
                        <a:pt x="21" y="27"/>
                      </a:lnTo>
                      <a:lnTo>
                        <a:pt x="25" y="32"/>
                      </a:lnTo>
                      <a:lnTo>
                        <a:pt x="29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278680" y="389880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13"/>
                      </a:moveTo>
                      <a:lnTo>
                        <a:pt x="1" y="21"/>
                      </a:lnTo>
                      <a:lnTo>
                        <a:pt x="7" y="21"/>
                      </a:lnTo>
                      <a:lnTo>
                        <a:pt x="16" y="11"/>
                      </a:lnTo>
                      <a:lnTo>
                        <a:pt x="23" y="10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7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239080" y="3892320"/>
                  <a:ext cx="45720" cy="5580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0" y="10"/>
                      </a:lnTo>
                      <a:lnTo>
                        <a:pt x="20" y="18"/>
                      </a:lnTo>
                      <a:lnTo>
                        <a:pt x="20" y="18"/>
                      </a:lnTo>
                      <a:lnTo>
                        <a:pt x="22" y="27"/>
                      </a:lnTo>
                      <a:lnTo>
                        <a:pt x="25" y="33"/>
                      </a:lnTo>
                      <a:lnTo>
                        <a:pt x="29" y="35"/>
                      </a:lnTo>
                      <a:lnTo>
                        <a:pt x="29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78680" y="389736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3"/>
                      </a:moveTo>
                      <a:lnTo>
                        <a:pt x="1" y="22"/>
                      </a:lnTo>
                      <a:lnTo>
                        <a:pt x="7" y="21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2" y="0"/>
                      </a:lnTo>
                      <a:lnTo>
                        <a:pt x="15" y="1"/>
                      </a:lnTo>
                      <a:lnTo>
                        <a:pt x="7" y="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221440" y="3744720"/>
                  <a:ext cx="139680" cy="61920"/>
                </a:xfrm>
                <a:custGeom>
                  <a:avLst/>
                  <a:gdLst/>
                  <a:ahLst/>
                  <a:rect l="l" t="t" r="r" b="b"/>
                  <a:pathLst>
                    <a:path w="88" h="39">
                      <a:moveTo>
                        <a:pt x="0" y="39"/>
                      </a:moveTo>
                      <a:lnTo>
                        <a:pt x="33" y="39"/>
                      </a:lnTo>
                      <a:lnTo>
                        <a:pt x="88" y="0"/>
                      </a:lnTo>
                      <a:lnTo>
                        <a:pt x="60" y="1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123160" y="377676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18" y="23"/>
                      </a:moveTo>
                      <a:lnTo>
                        <a:pt x="0" y="14"/>
                      </a:lnTo>
                      <a:lnTo>
                        <a:pt x="10" y="0"/>
                      </a:lnTo>
                      <a:lnTo>
                        <a:pt x="27" y="9"/>
                      </a:lnTo>
                      <a:lnTo>
                        <a:pt x="18" y="2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20000" y="3743280"/>
                  <a:ext cx="141120" cy="63360"/>
                </a:xfrm>
                <a:custGeom>
                  <a:avLst/>
                  <a:gdLst/>
                  <a:ahLst/>
                  <a:rect l="l" t="t" r="r" b="b"/>
                  <a:pathLst>
                    <a:path w="89" h="40">
                      <a:moveTo>
                        <a:pt x="0" y="40"/>
                      </a:moveTo>
                      <a:lnTo>
                        <a:pt x="34" y="40"/>
                      </a:lnTo>
                      <a:lnTo>
                        <a:pt x="89" y="0"/>
                      </a:lnTo>
                      <a:lnTo>
                        <a:pt x="60" y="2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123160" y="37749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7" y="24"/>
                      </a:moveTo>
                      <a:lnTo>
                        <a:pt x="0" y="14"/>
                      </a:lnTo>
                      <a:lnTo>
                        <a:pt x="9" y="0"/>
                      </a:lnTo>
                      <a:lnTo>
                        <a:pt x="26" y="9"/>
                      </a:lnTo>
                      <a:lnTo>
                        <a:pt x="17" y="24"/>
                      </a:lnTo>
                      <a:lnTo>
                        <a:pt x="17" y="24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104080" y="37638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5"/>
                      </a:moveTo>
                      <a:lnTo>
                        <a:pt x="9" y="0"/>
                      </a:lnTo>
                      <a:lnTo>
                        <a:pt x="22" y="8"/>
                      </a:lnTo>
                      <a:lnTo>
                        <a:pt x="12" y="2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57800" y="356400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02280" y="3763800"/>
                  <a:ext cx="34920" cy="334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14"/>
                      </a:moveTo>
                      <a:lnTo>
                        <a:pt x="9" y="0"/>
                      </a:lnTo>
                      <a:lnTo>
                        <a:pt x="22" y="7"/>
                      </a:lnTo>
                      <a:lnTo>
                        <a:pt x="12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56360" y="356220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254920" y="35640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8" y="11"/>
                      </a:move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265720" y="3575160"/>
                  <a:ext cx="28800" cy="226800"/>
                </a:xfrm>
                <a:custGeom>
                  <a:avLst/>
                  <a:gdLst/>
                  <a:ahLst/>
                  <a:rect l="l" t="t" r="r" b="b"/>
                  <a:pathLst>
                    <a:path w="18" h="143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18" y="142"/>
                      </a:lnTo>
                      <a:lnTo>
                        <a:pt x="12" y="14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253120" y="35622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11"/>
                      </a:move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64280" y="3573360"/>
                  <a:ext cx="30240" cy="227160"/>
                </a:xfrm>
                <a:custGeom>
                  <a:avLst/>
                  <a:gdLst/>
                  <a:ahLst/>
                  <a:rect l="l" t="t" r="r" b="b"/>
                  <a:pathLst>
                    <a:path w="19" h="143">
                      <a:moveTo>
                        <a:pt x="0" y="1"/>
                      </a:moveTo>
                      <a:lnTo>
                        <a:pt x="6" y="0"/>
                      </a:lnTo>
                      <a:lnTo>
                        <a:pt x="19" y="143"/>
                      </a:lnTo>
                      <a:lnTo>
                        <a:pt x="13" y="14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88040" y="3817800"/>
                  <a:ext cx="65160" cy="8568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6" y="6"/>
                      </a:moveTo>
                      <a:lnTo>
                        <a:pt x="14" y="18"/>
                      </a:lnTo>
                      <a:lnTo>
                        <a:pt x="6" y="43"/>
                      </a:lnTo>
                      <a:lnTo>
                        <a:pt x="8" y="54"/>
                      </a:lnTo>
                      <a:lnTo>
                        <a:pt x="2" y="54"/>
                      </a:lnTo>
                      <a:lnTo>
                        <a:pt x="0" y="39"/>
                      </a:lnTo>
                      <a:lnTo>
                        <a:pt x="9" y="7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12"/>
                      </a:lnTo>
                      <a:lnTo>
                        <a:pt x="37" y="12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00640" y="3803760"/>
                  <a:ext cx="109800" cy="7128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4" y="45"/>
                      </a:moveTo>
                      <a:lnTo>
                        <a:pt x="69" y="45"/>
                      </a:lnTo>
                      <a:lnTo>
                        <a:pt x="65" y="0"/>
                      </a:lnTo>
                      <a:lnTo>
                        <a:pt x="0" y="2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288040" y="381636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40" h="55">
                      <a:moveTo>
                        <a:pt x="36" y="6"/>
                      </a:moveTo>
                      <a:lnTo>
                        <a:pt x="14" y="18"/>
                      </a:lnTo>
                      <a:lnTo>
                        <a:pt x="6" y="43"/>
                      </a:lnTo>
                      <a:lnTo>
                        <a:pt x="7" y="54"/>
                      </a:lnTo>
                      <a:lnTo>
                        <a:pt x="1" y="55"/>
                      </a:lnTo>
                      <a:lnTo>
                        <a:pt x="0" y="39"/>
                      </a:lnTo>
                      <a:lnTo>
                        <a:pt x="9" y="8"/>
                      </a:lnTo>
                      <a:lnTo>
                        <a:pt x="35" y="1"/>
                      </a:lnTo>
                      <a:lnTo>
                        <a:pt x="40" y="0"/>
                      </a:lnTo>
                      <a:lnTo>
                        <a:pt x="4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300640" y="3801960"/>
                  <a:ext cx="108000" cy="7164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4" y="45"/>
                      </a:moveTo>
                      <a:lnTo>
                        <a:pt x="68" y="45"/>
                      </a:lnTo>
                      <a:lnTo>
                        <a:pt x="64" y="0"/>
                      </a:lnTo>
                      <a:lnTo>
                        <a:pt x="0" y="3"/>
                      </a:lnTo>
                      <a:lnTo>
                        <a:pt x="4" y="45"/>
                      </a:lnTo>
                      <a:lnTo>
                        <a:pt x="4" y="45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289840" y="3795480"/>
                  <a:ext cx="1728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8" y="3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284800" y="379404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11"/>
                      </a:move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88040" y="379404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4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84800" y="3794040"/>
                  <a:ext cx="158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1"/>
                      </a:move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97760" y="3806640"/>
                  <a:ext cx="1260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2" y="26"/>
                      </a:lnTo>
                      <a:lnTo>
                        <a:pt x="8" y="25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95960" y="3741840"/>
                  <a:ext cx="212760" cy="66600"/>
                </a:xfrm>
                <a:custGeom>
                  <a:avLst/>
                  <a:gdLst/>
                  <a:ahLst/>
                  <a:rect l="l" t="t" r="r" b="b"/>
                  <a:pathLst>
                    <a:path w="134" h="42">
                      <a:moveTo>
                        <a:pt x="54" y="2"/>
                      </a:moveTo>
                      <a:lnTo>
                        <a:pt x="134" y="0"/>
                      </a:lnTo>
                      <a:lnTo>
                        <a:pt x="91" y="40"/>
                      </a:lnTo>
                      <a:lnTo>
                        <a:pt x="0" y="42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95960" y="3806640"/>
                  <a:ext cx="1296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3" y="26"/>
                      </a:lnTo>
                      <a:lnTo>
                        <a:pt x="8" y="25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295960" y="3740040"/>
                  <a:ext cx="211320" cy="666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53" y="3"/>
                      </a:moveTo>
                      <a:lnTo>
                        <a:pt x="133" y="0"/>
                      </a:lnTo>
                      <a:lnTo>
                        <a:pt x="90" y="40"/>
                      </a:lnTo>
                      <a:lnTo>
                        <a:pt x="0" y="42"/>
                      </a:lnTo>
                      <a:lnTo>
                        <a:pt x="53" y="3"/>
                      </a:lnTo>
                      <a:lnTo>
                        <a:pt x="53" y="3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146920" y="379404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132520" y="37861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7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45120" y="37940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1" y="7"/>
                      </a:move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131080" y="37861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1" y="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124160" y="2550960"/>
                <a:ext cx="206280" cy="206280"/>
                <a:chOff x="4124160" y="2550960"/>
                <a:chExt cx="206280" cy="206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124160" y="2550960"/>
                  <a:ext cx="206280" cy="20628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124160" y="2550960"/>
                  <a:ext cx="206280" cy="20628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65" y="2"/>
                      </a:moveTo>
                      <a:lnTo>
                        <a:pt x="72" y="3"/>
                      </a:lnTo>
                      <a:lnTo>
                        <a:pt x="78" y="3"/>
                      </a:lnTo>
                      <a:lnTo>
                        <a:pt x="84" y="5"/>
                      </a:lnTo>
                      <a:lnTo>
                        <a:pt x="90" y="7"/>
                      </a:lnTo>
                      <a:lnTo>
                        <a:pt x="95" y="9"/>
                      </a:lnTo>
                      <a:lnTo>
                        <a:pt x="100" y="12"/>
                      </a:lnTo>
                      <a:lnTo>
                        <a:pt x="105" y="16"/>
                      </a:lnTo>
                      <a:lnTo>
                        <a:pt x="110" y="20"/>
                      </a:lnTo>
                      <a:lnTo>
                        <a:pt x="115" y="26"/>
                      </a:lnTo>
                      <a:lnTo>
                        <a:pt x="118" y="31"/>
                      </a:lnTo>
                      <a:lnTo>
                        <a:pt x="121" y="35"/>
                      </a:lnTo>
                      <a:lnTo>
                        <a:pt x="124" y="41"/>
                      </a:lnTo>
                      <a:lnTo>
                        <a:pt x="126" y="47"/>
                      </a:lnTo>
                      <a:lnTo>
                        <a:pt x="128" y="53"/>
                      </a:lnTo>
                      <a:lnTo>
                        <a:pt x="128" y="59"/>
                      </a:lnTo>
                      <a:lnTo>
                        <a:pt x="129" y="65"/>
                      </a:lnTo>
                      <a:lnTo>
                        <a:pt x="128" y="72"/>
                      </a:lnTo>
                      <a:lnTo>
                        <a:pt x="128" y="78"/>
                      </a:lnTo>
                      <a:lnTo>
                        <a:pt x="126" y="84"/>
                      </a:lnTo>
                      <a:lnTo>
                        <a:pt x="124" y="89"/>
                      </a:lnTo>
                      <a:lnTo>
                        <a:pt x="121" y="95"/>
                      </a:lnTo>
                      <a:lnTo>
                        <a:pt x="118" y="100"/>
                      </a:lnTo>
                      <a:lnTo>
                        <a:pt x="115" y="105"/>
                      </a:lnTo>
                      <a:lnTo>
                        <a:pt x="110" y="110"/>
                      </a:lnTo>
                      <a:lnTo>
                        <a:pt x="105" y="115"/>
                      </a:lnTo>
                      <a:lnTo>
                        <a:pt x="100" y="118"/>
                      </a:lnTo>
                      <a:lnTo>
                        <a:pt x="95" y="121"/>
                      </a:lnTo>
                      <a:lnTo>
                        <a:pt x="90" y="124"/>
                      </a:lnTo>
                      <a:lnTo>
                        <a:pt x="84" y="126"/>
                      </a:lnTo>
                      <a:lnTo>
                        <a:pt x="78" y="128"/>
                      </a:lnTo>
                      <a:lnTo>
                        <a:pt x="72" y="128"/>
                      </a:lnTo>
                      <a:lnTo>
                        <a:pt x="65" y="129"/>
                      </a:lnTo>
                      <a:lnTo>
                        <a:pt x="59" y="128"/>
                      </a:lnTo>
                      <a:lnTo>
                        <a:pt x="53" y="128"/>
                      </a:lnTo>
                      <a:lnTo>
                        <a:pt x="47" y="126"/>
                      </a:lnTo>
                      <a:lnTo>
                        <a:pt x="41" y="124"/>
                      </a:lnTo>
                      <a:lnTo>
                        <a:pt x="35" y="121"/>
                      </a:lnTo>
                      <a:lnTo>
                        <a:pt x="31" y="118"/>
                      </a:lnTo>
                      <a:lnTo>
                        <a:pt x="26" y="115"/>
                      </a:lnTo>
                      <a:lnTo>
                        <a:pt x="20" y="110"/>
                      </a:lnTo>
                      <a:lnTo>
                        <a:pt x="16" y="105"/>
                      </a:lnTo>
                      <a:lnTo>
                        <a:pt x="12" y="100"/>
                      </a:lnTo>
                      <a:lnTo>
                        <a:pt x="10" y="95"/>
                      </a:lnTo>
                      <a:lnTo>
                        <a:pt x="7" y="89"/>
                      </a:lnTo>
                      <a:lnTo>
                        <a:pt x="5" y="84"/>
                      </a:lnTo>
                      <a:lnTo>
                        <a:pt x="3" y="78"/>
                      </a:lnTo>
                      <a:lnTo>
                        <a:pt x="3" y="72"/>
                      </a:lnTo>
                      <a:lnTo>
                        <a:pt x="2" y="65"/>
                      </a:lnTo>
                      <a:lnTo>
                        <a:pt x="3" y="59"/>
                      </a:lnTo>
                      <a:lnTo>
                        <a:pt x="3" y="53"/>
                      </a:lnTo>
                      <a:lnTo>
                        <a:pt x="5" y="47"/>
                      </a:lnTo>
                      <a:lnTo>
                        <a:pt x="7" y="41"/>
                      </a:lnTo>
                      <a:lnTo>
                        <a:pt x="10" y="35"/>
                      </a:lnTo>
                      <a:lnTo>
                        <a:pt x="12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6" y="16"/>
                      </a:lnTo>
                      <a:lnTo>
                        <a:pt x="31" y="12"/>
                      </a:lnTo>
                      <a:lnTo>
                        <a:pt x="35" y="9"/>
                      </a:lnTo>
                      <a:lnTo>
                        <a:pt x="41" y="7"/>
                      </a:lnTo>
                      <a:lnTo>
                        <a:pt x="47" y="5"/>
                      </a:lnTo>
                      <a:lnTo>
                        <a:pt x="53" y="3"/>
                      </a:lnTo>
                      <a:lnTo>
                        <a:pt x="59" y="3"/>
                      </a:lnTo>
                      <a:lnTo>
                        <a:pt x="65" y="2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9" y="1"/>
                      </a:lnTo>
                      <a:lnTo>
                        <a:pt x="84" y="3"/>
                      </a:lnTo>
                      <a:lnTo>
                        <a:pt x="90" y="5"/>
                      </a:lnTo>
                      <a:lnTo>
                        <a:pt x="96" y="8"/>
                      </a:lnTo>
                      <a:lnTo>
                        <a:pt x="101" y="11"/>
                      </a:lnTo>
                      <a:lnTo>
                        <a:pt x="106" y="15"/>
                      </a:lnTo>
                      <a:lnTo>
                        <a:pt x="111" y="19"/>
                      </a:lnTo>
                      <a:lnTo>
                        <a:pt x="116" y="24"/>
                      </a:lnTo>
                      <a:lnTo>
                        <a:pt x="120" y="30"/>
                      </a:lnTo>
                      <a:lnTo>
                        <a:pt x="123" y="35"/>
                      </a:lnTo>
                      <a:lnTo>
                        <a:pt x="126" y="41"/>
                      </a:lnTo>
                      <a:lnTo>
                        <a:pt x="128" y="46"/>
                      </a:lnTo>
                      <a:lnTo>
                        <a:pt x="129" y="52"/>
                      </a:lnTo>
                      <a:lnTo>
                        <a:pt x="130" y="59"/>
                      </a:lnTo>
                      <a:lnTo>
                        <a:pt x="130" y="65"/>
                      </a:lnTo>
                      <a:lnTo>
                        <a:pt x="130" y="72"/>
                      </a:lnTo>
                      <a:lnTo>
                        <a:pt x="129" y="79"/>
                      </a:lnTo>
                      <a:lnTo>
                        <a:pt x="128" y="84"/>
                      </a:lnTo>
                      <a:lnTo>
                        <a:pt x="126" y="90"/>
                      </a:lnTo>
                      <a:lnTo>
                        <a:pt x="123" y="96"/>
                      </a:lnTo>
                      <a:lnTo>
                        <a:pt x="120" y="101"/>
                      </a:lnTo>
                      <a:lnTo>
                        <a:pt x="116" y="106"/>
                      </a:lnTo>
                      <a:lnTo>
                        <a:pt x="111" y="111"/>
                      </a:lnTo>
                      <a:lnTo>
                        <a:pt x="106" y="116"/>
                      </a:lnTo>
                      <a:lnTo>
                        <a:pt x="101" y="119"/>
                      </a:lnTo>
                      <a:lnTo>
                        <a:pt x="96" y="123"/>
                      </a:lnTo>
                      <a:lnTo>
                        <a:pt x="90" y="126"/>
                      </a:lnTo>
                      <a:lnTo>
                        <a:pt x="84" y="128"/>
                      </a:lnTo>
                      <a:lnTo>
                        <a:pt x="79" y="129"/>
                      </a:lnTo>
                      <a:lnTo>
                        <a:pt x="72" y="130"/>
                      </a:lnTo>
                      <a:lnTo>
                        <a:pt x="65" y="130"/>
                      </a:lnTo>
                      <a:lnTo>
                        <a:pt x="59" y="130"/>
                      </a:lnTo>
                      <a:lnTo>
                        <a:pt x="52" y="129"/>
                      </a:lnTo>
                      <a:lnTo>
                        <a:pt x="46" y="128"/>
                      </a:lnTo>
                      <a:lnTo>
                        <a:pt x="41" y="126"/>
                      </a:lnTo>
                      <a:lnTo>
                        <a:pt x="35" y="123"/>
                      </a:lnTo>
                      <a:lnTo>
                        <a:pt x="30" y="119"/>
                      </a:lnTo>
                      <a:lnTo>
                        <a:pt x="24" y="116"/>
                      </a:lnTo>
                      <a:lnTo>
                        <a:pt x="19" y="111"/>
                      </a:lnTo>
                      <a:lnTo>
                        <a:pt x="15" y="106"/>
                      </a:lnTo>
                      <a:lnTo>
                        <a:pt x="11" y="101"/>
                      </a:lnTo>
                      <a:lnTo>
                        <a:pt x="8" y="96"/>
                      </a:lnTo>
                      <a:lnTo>
                        <a:pt x="5" y="90"/>
                      </a:lnTo>
                      <a:lnTo>
                        <a:pt x="3" y="84"/>
                      </a:lnTo>
                      <a:lnTo>
                        <a:pt x="1" y="79"/>
                      </a:lnTo>
                      <a:lnTo>
                        <a:pt x="1" y="72"/>
                      </a:lnTo>
                      <a:lnTo>
                        <a:pt x="0" y="65"/>
                      </a:lnTo>
                      <a:lnTo>
                        <a:pt x="1" y="59"/>
                      </a:lnTo>
                      <a:lnTo>
                        <a:pt x="1" y="52"/>
                      </a:lnTo>
                      <a:lnTo>
                        <a:pt x="3" y="46"/>
                      </a:lnTo>
                      <a:lnTo>
                        <a:pt x="5" y="41"/>
                      </a:lnTo>
                      <a:lnTo>
                        <a:pt x="8" y="35"/>
                      </a:lnTo>
                      <a:lnTo>
                        <a:pt x="11" y="30"/>
                      </a:lnTo>
                      <a:lnTo>
                        <a:pt x="15" y="24"/>
                      </a:lnTo>
                      <a:lnTo>
                        <a:pt x="19" y="19"/>
                      </a:lnTo>
                      <a:lnTo>
                        <a:pt x="24" y="15"/>
                      </a:lnTo>
                      <a:lnTo>
                        <a:pt x="30" y="11"/>
                      </a:lnTo>
                      <a:lnTo>
                        <a:pt x="35" y="8"/>
                      </a:lnTo>
                      <a:lnTo>
                        <a:pt x="41" y="5"/>
                      </a:lnTo>
                      <a:lnTo>
                        <a:pt x="46" y="3"/>
                      </a:lnTo>
                      <a:lnTo>
                        <a:pt x="52" y="1"/>
                      </a:lnTo>
                      <a:lnTo>
                        <a:pt x="59" y="1"/>
                      </a:lnTo>
                      <a:lnTo>
                        <a:pt x="65" y="0"/>
                      </a:lnTo>
                      <a:lnTo>
                        <a:pt x="65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159080" y="2577600"/>
                  <a:ext cx="96840" cy="146160"/>
                </a:xfrm>
                <a:custGeom>
                  <a:avLst/>
                  <a:gdLst/>
                  <a:ahLst/>
                  <a:rect l="l" t="t" r="r" b="b"/>
                  <a:pathLst>
                    <a:path w="61" h="92">
                      <a:moveTo>
                        <a:pt x="7" y="1"/>
                      </a:moveTo>
                      <a:lnTo>
                        <a:pt x="23" y="1"/>
                      </a:lnTo>
                      <a:lnTo>
                        <a:pt x="25" y="3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40" y="7"/>
                      </a:lnTo>
                      <a:lnTo>
                        <a:pt x="51" y="9"/>
                      </a:lnTo>
                      <a:lnTo>
                        <a:pt x="61" y="9"/>
                      </a:lnTo>
                      <a:lnTo>
                        <a:pt x="61" y="13"/>
                      </a:lnTo>
                      <a:lnTo>
                        <a:pt x="57" y="15"/>
                      </a:lnTo>
                      <a:lnTo>
                        <a:pt x="54" y="18"/>
                      </a:lnTo>
                      <a:lnTo>
                        <a:pt x="52" y="22"/>
                      </a:lnTo>
                      <a:lnTo>
                        <a:pt x="50" y="23"/>
                      </a:lnTo>
                      <a:lnTo>
                        <a:pt x="48" y="25"/>
                      </a:lnTo>
                      <a:lnTo>
                        <a:pt x="46" y="26"/>
                      </a:lnTo>
                      <a:lnTo>
                        <a:pt x="40" y="27"/>
                      </a:lnTo>
                      <a:lnTo>
                        <a:pt x="32" y="28"/>
                      </a:lnTo>
                      <a:lnTo>
                        <a:pt x="26" y="29"/>
                      </a:lnTo>
                      <a:lnTo>
                        <a:pt x="25" y="30"/>
                      </a:lnTo>
                      <a:lnTo>
                        <a:pt x="25" y="43"/>
                      </a:lnTo>
                      <a:lnTo>
                        <a:pt x="26" y="44"/>
                      </a:lnTo>
                      <a:lnTo>
                        <a:pt x="39" y="44"/>
                      </a:lnTo>
                      <a:lnTo>
                        <a:pt x="47" y="47"/>
                      </a:lnTo>
                      <a:lnTo>
                        <a:pt x="50" y="58"/>
                      </a:lnTo>
                      <a:lnTo>
                        <a:pt x="49" y="59"/>
                      </a:lnTo>
                      <a:lnTo>
                        <a:pt x="48" y="59"/>
                      </a:lnTo>
                      <a:lnTo>
                        <a:pt x="46" y="60"/>
                      </a:lnTo>
                      <a:lnTo>
                        <a:pt x="45" y="60"/>
                      </a:lnTo>
                      <a:lnTo>
                        <a:pt x="44" y="62"/>
                      </a:lnTo>
                      <a:lnTo>
                        <a:pt x="43" y="63"/>
                      </a:lnTo>
                      <a:lnTo>
                        <a:pt x="43" y="75"/>
                      </a:lnTo>
                      <a:lnTo>
                        <a:pt x="42" y="77"/>
                      </a:lnTo>
                      <a:lnTo>
                        <a:pt x="40" y="77"/>
                      </a:lnTo>
                      <a:lnTo>
                        <a:pt x="39" y="78"/>
                      </a:lnTo>
                      <a:lnTo>
                        <a:pt x="38" y="83"/>
                      </a:lnTo>
                      <a:lnTo>
                        <a:pt x="38" y="87"/>
                      </a:lnTo>
                      <a:lnTo>
                        <a:pt x="38" y="92"/>
                      </a:lnTo>
                      <a:lnTo>
                        <a:pt x="31" y="89"/>
                      </a:lnTo>
                      <a:lnTo>
                        <a:pt x="29" y="83"/>
                      </a:lnTo>
                      <a:lnTo>
                        <a:pt x="26" y="79"/>
                      </a:lnTo>
                      <a:lnTo>
                        <a:pt x="27" y="85"/>
                      </a:lnTo>
                      <a:lnTo>
                        <a:pt x="28" y="82"/>
                      </a:lnTo>
                      <a:lnTo>
                        <a:pt x="26" y="77"/>
                      </a:lnTo>
                      <a:lnTo>
                        <a:pt x="23" y="75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16" y="60"/>
                      </a:lnTo>
                      <a:lnTo>
                        <a:pt x="19" y="63"/>
                      </a:lnTo>
                      <a:lnTo>
                        <a:pt x="16" y="61"/>
                      </a:lnTo>
                      <a:lnTo>
                        <a:pt x="13" y="60"/>
                      </a:lnTo>
                      <a:lnTo>
                        <a:pt x="12" y="59"/>
                      </a:lnTo>
                      <a:lnTo>
                        <a:pt x="11" y="58"/>
                      </a:lnTo>
                      <a:lnTo>
                        <a:pt x="11" y="48"/>
                      </a:lnTo>
                      <a:lnTo>
                        <a:pt x="12" y="48"/>
                      </a:lnTo>
                      <a:lnTo>
                        <a:pt x="14" y="47"/>
                      </a:lnTo>
                      <a:lnTo>
                        <a:pt x="16" y="47"/>
                      </a:lnTo>
                      <a:lnTo>
                        <a:pt x="17" y="45"/>
                      </a:lnTo>
                      <a:lnTo>
                        <a:pt x="17" y="44"/>
                      </a:lnTo>
                      <a:lnTo>
                        <a:pt x="18" y="44"/>
                      </a:lnTo>
                      <a:lnTo>
                        <a:pt x="19" y="43"/>
                      </a:lnTo>
                      <a:lnTo>
                        <a:pt x="19" y="39"/>
                      </a:lnTo>
                      <a:lnTo>
                        <a:pt x="17" y="36"/>
                      </a:lnTo>
                      <a:lnTo>
                        <a:pt x="16" y="30"/>
                      </a:lnTo>
                      <a:lnTo>
                        <a:pt x="16" y="26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3" y="26"/>
                      </a:lnTo>
                      <a:lnTo>
                        <a:pt x="12" y="24"/>
                      </a:lnTo>
                      <a:lnTo>
                        <a:pt x="9" y="23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309920" y="2623680"/>
                  <a:ext cx="18720" cy="76320"/>
                </a:xfrm>
                <a:custGeom>
                  <a:avLst/>
                  <a:gdLst/>
                  <a:ahLst/>
                  <a:rect l="l" t="t" r="r" b="b"/>
                  <a:pathLst>
                    <a:path w="12" h="48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5" y="27"/>
                      </a:lnTo>
                      <a:lnTo>
                        <a:pt x="4" y="38"/>
                      </a:lnTo>
                      <a:lnTo>
                        <a:pt x="3" y="48"/>
                      </a:lnTo>
                      <a:lnTo>
                        <a:pt x="7" y="48"/>
                      </a:lnTo>
                      <a:lnTo>
                        <a:pt x="7" y="46"/>
                      </a:lnTo>
                      <a:lnTo>
                        <a:pt x="7" y="43"/>
                      </a:lnTo>
                      <a:lnTo>
                        <a:pt x="8" y="42"/>
                      </a:lnTo>
                      <a:lnTo>
                        <a:pt x="9" y="42"/>
                      </a:lnTo>
                      <a:lnTo>
                        <a:pt x="9" y="40"/>
                      </a:lnTo>
                      <a:lnTo>
                        <a:pt x="11" y="38"/>
                      </a:lnTo>
                      <a:lnTo>
                        <a:pt x="12" y="38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157280" y="2577600"/>
                  <a:ext cx="98640" cy="144720"/>
                </a:xfrm>
                <a:custGeom>
                  <a:avLst/>
                  <a:gdLst/>
                  <a:ahLst/>
                  <a:rect l="l" t="t" r="r" b="b"/>
                  <a:pathLst>
                    <a:path w="62" h="91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28" y="4"/>
                      </a:lnTo>
                      <a:lnTo>
                        <a:pt x="29" y="5"/>
                      </a:lnTo>
                      <a:lnTo>
                        <a:pt x="29" y="5"/>
                      </a:lnTo>
                      <a:lnTo>
                        <a:pt x="40" y="6"/>
                      </a:lnTo>
                      <a:lnTo>
                        <a:pt x="52" y="8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57" y="14"/>
                      </a:lnTo>
                      <a:lnTo>
                        <a:pt x="54" y="17"/>
                      </a:lnTo>
                      <a:lnTo>
                        <a:pt x="52" y="22"/>
                      </a:lnTo>
                      <a:lnTo>
                        <a:pt x="52" y="22"/>
                      </a:lnTo>
                      <a:lnTo>
                        <a:pt x="51" y="22"/>
                      </a:lnTo>
                      <a:lnTo>
                        <a:pt x="48" y="24"/>
                      </a:lnTo>
                      <a:lnTo>
                        <a:pt x="47" y="25"/>
                      </a:lnTo>
                      <a:lnTo>
                        <a:pt x="47" y="25"/>
                      </a:lnTo>
                      <a:lnTo>
                        <a:pt x="40" y="26"/>
                      </a:lnTo>
                      <a:lnTo>
                        <a:pt x="33" y="28"/>
                      </a:lnTo>
                      <a:lnTo>
                        <a:pt x="26" y="28"/>
                      </a:lnTo>
                      <a:lnTo>
                        <a:pt x="26" y="28"/>
                      </a:lnTo>
                      <a:lnTo>
                        <a:pt x="25" y="29"/>
                      </a:lnTo>
                      <a:lnTo>
                        <a:pt x="25" y="42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40" y="44"/>
                      </a:lnTo>
                      <a:lnTo>
                        <a:pt x="48" y="47"/>
                      </a:lnTo>
                      <a:lnTo>
                        <a:pt x="51" y="57"/>
                      </a:lnTo>
                      <a:lnTo>
                        <a:pt x="51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8" y="59"/>
                      </a:lnTo>
                      <a:lnTo>
                        <a:pt x="47" y="59"/>
                      </a:lnTo>
                      <a:lnTo>
                        <a:pt x="46" y="60"/>
                      </a:lnTo>
                      <a:lnTo>
                        <a:pt x="46" y="60"/>
                      </a:lnTo>
                      <a:lnTo>
                        <a:pt x="44" y="61"/>
                      </a:lnTo>
                      <a:lnTo>
                        <a:pt x="43" y="62"/>
                      </a:lnTo>
                      <a:lnTo>
                        <a:pt x="43" y="75"/>
                      </a:lnTo>
                      <a:lnTo>
                        <a:pt x="42" y="77"/>
                      </a:lnTo>
                      <a:lnTo>
                        <a:pt x="40" y="77"/>
                      </a:lnTo>
                      <a:lnTo>
                        <a:pt x="39" y="78"/>
                      </a:lnTo>
                      <a:lnTo>
                        <a:pt x="39" y="78"/>
                      </a:lnTo>
                      <a:lnTo>
                        <a:pt x="39" y="82"/>
                      </a:lnTo>
                      <a:lnTo>
                        <a:pt x="38" y="87"/>
                      </a:lnTo>
                      <a:lnTo>
                        <a:pt x="38" y="91"/>
                      </a:lnTo>
                      <a:lnTo>
                        <a:pt x="38" y="91"/>
                      </a:lnTo>
                      <a:lnTo>
                        <a:pt x="32" y="89"/>
                      </a:lnTo>
                      <a:lnTo>
                        <a:pt x="29" y="82"/>
                      </a:lnTo>
                      <a:lnTo>
                        <a:pt x="26" y="79"/>
                      </a:lnTo>
                      <a:lnTo>
                        <a:pt x="26" y="79"/>
                      </a:lnTo>
                      <a:lnTo>
                        <a:pt x="28" y="85"/>
                      </a:lnTo>
                      <a:lnTo>
                        <a:pt x="29" y="81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24" y="74"/>
                      </a:lnTo>
                      <a:lnTo>
                        <a:pt x="23" y="68"/>
                      </a:lnTo>
                      <a:lnTo>
                        <a:pt x="23" y="64"/>
                      </a:lnTo>
                      <a:lnTo>
                        <a:pt x="23" y="64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9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60"/>
                      </a:lnTo>
                      <a:lnTo>
                        <a:pt x="12" y="58"/>
                      </a:lnTo>
                      <a:lnTo>
                        <a:pt x="11" y="57"/>
                      </a:lnTo>
                      <a:lnTo>
                        <a:pt x="11" y="48"/>
                      </a:lnTo>
                      <a:lnTo>
                        <a:pt x="11" y="48"/>
                      </a:lnTo>
                      <a:lnTo>
                        <a:pt x="13" y="47"/>
                      </a:lnTo>
                      <a:lnTo>
                        <a:pt x="14" y="47"/>
                      </a:lnTo>
                      <a:lnTo>
                        <a:pt x="16" y="46"/>
                      </a:lnTo>
                      <a:lnTo>
                        <a:pt x="16" y="46"/>
                      </a:lnTo>
                      <a:lnTo>
                        <a:pt x="17" y="45"/>
                      </a:lnTo>
                      <a:lnTo>
                        <a:pt x="17" y="44"/>
                      </a:lnTo>
                      <a:lnTo>
                        <a:pt x="18" y="44"/>
                      </a:lnTo>
                      <a:lnTo>
                        <a:pt x="20" y="42"/>
                      </a:lnTo>
                      <a:lnTo>
                        <a:pt x="20" y="39"/>
                      </a:lnTo>
                      <a:lnTo>
                        <a:pt x="20" y="39"/>
                      </a:lnTo>
                      <a:lnTo>
                        <a:pt x="17" y="36"/>
                      </a:lnTo>
                      <a:lnTo>
                        <a:pt x="16" y="30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32"/>
                      </a:lnTo>
                      <a:lnTo>
                        <a:pt x="15" y="29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2" y="24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308120" y="262224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8"/>
                      </a:lnTo>
                      <a:lnTo>
                        <a:pt x="4" y="39"/>
                      </a:lnTo>
                      <a:lnTo>
                        <a:pt x="4" y="49"/>
                      </a:lnTo>
                      <a:lnTo>
                        <a:pt x="4" y="49"/>
                      </a:lnTo>
                      <a:lnTo>
                        <a:pt x="8" y="49"/>
                      </a:lnTo>
                      <a:lnTo>
                        <a:pt x="8" y="49"/>
                      </a:lnTo>
                      <a:lnTo>
                        <a:pt x="8" y="47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9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11" y="39"/>
                      </a:lnTo>
                      <a:lnTo>
                        <a:pt x="12" y="38"/>
                      </a:lnTo>
                      <a:lnTo>
                        <a:pt x="12" y="38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90840" y="258408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8" y="0"/>
                      </a:move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3" y="15"/>
                      </a:lnTo>
                      <a:lnTo>
                        <a:pt x="16" y="17"/>
                      </a:lnTo>
                      <a:lnTo>
                        <a:pt x="17" y="18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12"/>
                      </a:lnTo>
                      <a:lnTo>
                        <a:pt x="17" y="11"/>
                      </a:lnTo>
                      <a:lnTo>
                        <a:pt x="15" y="10"/>
                      </a:lnTo>
                      <a:lnTo>
                        <a:pt x="13" y="9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235040" y="2571480"/>
                  <a:ext cx="28800" cy="1440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0" y="1"/>
                      </a:move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8" y="9"/>
                      </a:lnTo>
                      <a:lnTo>
                        <a:pt x="18" y="4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290840" y="258264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7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6" y="11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233600" y="256968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11" y="1"/>
                      </a:move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244760" y="2070000"/>
                <a:ext cx="2141280" cy="1884240"/>
                <a:chOff x="4244760" y="2070000"/>
                <a:chExt cx="2141280" cy="18842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244760" y="2479680"/>
                  <a:ext cx="2141280" cy="1474560"/>
                </a:xfrm>
                <a:custGeom>
                  <a:avLst/>
                  <a:gdLst/>
                  <a:ahLst/>
                  <a:rect l="l" t="t" r="r" b="b"/>
                  <a:pathLst>
                    <a:path w="1349" h="929">
                      <a:moveTo>
                        <a:pt x="0" y="929"/>
                      </a:moveTo>
                      <a:lnTo>
                        <a:pt x="8" y="906"/>
                      </a:lnTo>
                      <a:lnTo>
                        <a:pt x="17" y="883"/>
                      </a:lnTo>
                      <a:lnTo>
                        <a:pt x="25" y="860"/>
                      </a:lnTo>
                      <a:lnTo>
                        <a:pt x="33" y="838"/>
                      </a:lnTo>
                      <a:lnTo>
                        <a:pt x="41" y="815"/>
                      </a:lnTo>
                      <a:lnTo>
                        <a:pt x="50" y="793"/>
                      </a:lnTo>
                      <a:lnTo>
                        <a:pt x="59" y="771"/>
                      </a:lnTo>
                      <a:lnTo>
                        <a:pt x="67" y="750"/>
                      </a:lnTo>
                      <a:lnTo>
                        <a:pt x="76" y="729"/>
                      </a:lnTo>
                      <a:lnTo>
                        <a:pt x="85" y="708"/>
                      </a:lnTo>
                      <a:lnTo>
                        <a:pt x="94" y="687"/>
                      </a:lnTo>
                      <a:lnTo>
                        <a:pt x="104" y="666"/>
                      </a:lnTo>
                      <a:lnTo>
                        <a:pt x="113" y="646"/>
                      </a:lnTo>
                      <a:lnTo>
                        <a:pt x="123" y="626"/>
                      </a:lnTo>
                      <a:lnTo>
                        <a:pt x="133" y="606"/>
                      </a:lnTo>
                      <a:lnTo>
                        <a:pt x="143" y="586"/>
                      </a:lnTo>
                      <a:lnTo>
                        <a:pt x="152" y="567"/>
                      </a:lnTo>
                      <a:lnTo>
                        <a:pt x="163" y="548"/>
                      </a:lnTo>
                      <a:lnTo>
                        <a:pt x="173" y="529"/>
                      </a:lnTo>
                      <a:lnTo>
                        <a:pt x="184" y="511"/>
                      </a:lnTo>
                      <a:lnTo>
                        <a:pt x="194" y="493"/>
                      </a:lnTo>
                      <a:lnTo>
                        <a:pt x="204" y="474"/>
                      </a:lnTo>
                      <a:lnTo>
                        <a:pt x="215" y="457"/>
                      </a:lnTo>
                      <a:lnTo>
                        <a:pt x="226" y="439"/>
                      </a:lnTo>
                      <a:lnTo>
                        <a:pt x="237" y="422"/>
                      </a:lnTo>
                      <a:lnTo>
                        <a:pt x="248" y="406"/>
                      </a:lnTo>
                      <a:lnTo>
                        <a:pt x="260" y="389"/>
                      </a:lnTo>
                      <a:lnTo>
                        <a:pt x="271" y="373"/>
                      </a:lnTo>
                      <a:lnTo>
                        <a:pt x="282" y="357"/>
                      </a:lnTo>
                      <a:lnTo>
                        <a:pt x="294" y="341"/>
                      </a:lnTo>
                      <a:lnTo>
                        <a:pt x="305" y="326"/>
                      </a:lnTo>
                      <a:lnTo>
                        <a:pt x="317" y="311"/>
                      </a:lnTo>
                      <a:lnTo>
                        <a:pt x="329" y="296"/>
                      </a:lnTo>
                      <a:lnTo>
                        <a:pt x="341" y="282"/>
                      </a:lnTo>
                      <a:lnTo>
                        <a:pt x="353" y="269"/>
                      </a:lnTo>
                      <a:lnTo>
                        <a:pt x="365" y="254"/>
                      </a:lnTo>
                      <a:lnTo>
                        <a:pt x="377" y="241"/>
                      </a:lnTo>
                      <a:lnTo>
                        <a:pt x="389" y="228"/>
                      </a:lnTo>
                      <a:lnTo>
                        <a:pt x="402" y="215"/>
                      </a:lnTo>
                      <a:lnTo>
                        <a:pt x="415" y="203"/>
                      </a:lnTo>
                      <a:lnTo>
                        <a:pt x="427" y="191"/>
                      </a:lnTo>
                      <a:lnTo>
                        <a:pt x="440" y="179"/>
                      </a:lnTo>
                      <a:lnTo>
                        <a:pt x="453" y="168"/>
                      </a:lnTo>
                      <a:lnTo>
                        <a:pt x="466" y="156"/>
                      </a:lnTo>
                      <a:lnTo>
                        <a:pt x="479" y="146"/>
                      </a:lnTo>
                      <a:lnTo>
                        <a:pt x="492" y="136"/>
                      </a:lnTo>
                      <a:lnTo>
                        <a:pt x="505" y="126"/>
                      </a:lnTo>
                      <a:lnTo>
                        <a:pt x="518" y="116"/>
                      </a:lnTo>
                      <a:lnTo>
                        <a:pt x="532" y="107"/>
                      </a:lnTo>
                      <a:lnTo>
                        <a:pt x="545" y="98"/>
                      </a:lnTo>
                      <a:lnTo>
                        <a:pt x="559" y="89"/>
                      </a:lnTo>
                      <a:lnTo>
                        <a:pt x="572" y="81"/>
                      </a:lnTo>
                      <a:lnTo>
                        <a:pt x="586" y="73"/>
                      </a:lnTo>
                      <a:lnTo>
                        <a:pt x="599" y="66"/>
                      </a:lnTo>
                      <a:lnTo>
                        <a:pt x="613" y="59"/>
                      </a:lnTo>
                      <a:lnTo>
                        <a:pt x="627" y="53"/>
                      </a:lnTo>
                      <a:lnTo>
                        <a:pt x="641" y="46"/>
                      </a:lnTo>
                      <a:lnTo>
                        <a:pt x="655" y="40"/>
                      </a:lnTo>
                      <a:lnTo>
                        <a:pt x="669" y="35"/>
                      </a:lnTo>
                      <a:lnTo>
                        <a:pt x="683" y="30"/>
                      </a:lnTo>
                      <a:lnTo>
                        <a:pt x="697" y="25"/>
                      </a:lnTo>
                      <a:lnTo>
                        <a:pt x="711" y="20"/>
                      </a:lnTo>
                      <a:lnTo>
                        <a:pt x="726" y="16"/>
                      </a:lnTo>
                      <a:lnTo>
                        <a:pt x="740" y="13"/>
                      </a:lnTo>
                      <a:lnTo>
                        <a:pt x="754" y="10"/>
                      </a:lnTo>
                      <a:lnTo>
                        <a:pt x="769" y="7"/>
                      </a:lnTo>
                      <a:lnTo>
                        <a:pt x="783" y="5"/>
                      </a:lnTo>
                      <a:lnTo>
                        <a:pt x="798" y="3"/>
                      </a:lnTo>
                      <a:lnTo>
                        <a:pt x="813" y="1"/>
                      </a:lnTo>
                      <a:lnTo>
                        <a:pt x="828" y="1"/>
                      </a:lnTo>
                      <a:lnTo>
                        <a:pt x="842" y="0"/>
                      </a:lnTo>
                      <a:lnTo>
                        <a:pt x="857" y="0"/>
                      </a:lnTo>
                      <a:lnTo>
                        <a:pt x="875" y="0"/>
                      </a:lnTo>
                      <a:lnTo>
                        <a:pt x="894" y="1"/>
                      </a:lnTo>
                      <a:lnTo>
                        <a:pt x="912" y="2"/>
                      </a:lnTo>
                      <a:lnTo>
                        <a:pt x="930" y="5"/>
                      </a:lnTo>
                      <a:lnTo>
                        <a:pt x="948" y="8"/>
                      </a:lnTo>
                      <a:lnTo>
                        <a:pt x="966" y="11"/>
                      </a:lnTo>
                      <a:lnTo>
                        <a:pt x="984" y="15"/>
                      </a:lnTo>
                      <a:lnTo>
                        <a:pt x="1002" y="20"/>
                      </a:lnTo>
                      <a:lnTo>
                        <a:pt x="1020" y="26"/>
                      </a:lnTo>
                      <a:lnTo>
                        <a:pt x="1037" y="31"/>
                      </a:lnTo>
                      <a:lnTo>
                        <a:pt x="1055" y="38"/>
                      </a:lnTo>
                      <a:lnTo>
                        <a:pt x="1072" y="45"/>
                      </a:lnTo>
                      <a:lnTo>
                        <a:pt x="1090" y="53"/>
                      </a:lnTo>
                      <a:lnTo>
                        <a:pt x="1107" y="61"/>
                      </a:lnTo>
                      <a:lnTo>
                        <a:pt x="1124" y="70"/>
                      </a:lnTo>
                      <a:lnTo>
                        <a:pt x="1140" y="80"/>
                      </a:lnTo>
                      <a:lnTo>
                        <a:pt x="1158" y="90"/>
                      </a:lnTo>
                      <a:lnTo>
                        <a:pt x="1174" y="100"/>
                      </a:lnTo>
                      <a:lnTo>
                        <a:pt x="1191" y="112"/>
                      </a:lnTo>
                      <a:lnTo>
                        <a:pt x="1207" y="123"/>
                      </a:lnTo>
                      <a:lnTo>
                        <a:pt x="1223" y="136"/>
                      </a:lnTo>
                      <a:lnTo>
                        <a:pt x="1240" y="149"/>
                      </a:lnTo>
                      <a:lnTo>
                        <a:pt x="1256" y="163"/>
                      </a:lnTo>
                      <a:lnTo>
                        <a:pt x="1272" y="176"/>
                      </a:lnTo>
                      <a:lnTo>
                        <a:pt x="1288" y="191"/>
                      </a:lnTo>
                      <a:lnTo>
                        <a:pt x="1303" y="206"/>
                      </a:lnTo>
                      <a:lnTo>
                        <a:pt x="1319" y="221"/>
                      </a:lnTo>
                      <a:lnTo>
                        <a:pt x="1334" y="238"/>
                      </a:lnTo>
                      <a:lnTo>
                        <a:pt x="1349" y="254"/>
                      </a:lnTo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5030280" y="2070000"/>
                  <a:ext cx="1071720" cy="838080"/>
                  <a:chOff x="5030280" y="2070000"/>
                  <a:chExt cx="1071720" cy="8380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5709960" y="2506680"/>
                    <a:ext cx="152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25">
                        <a:moveTo>
                          <a:pt x="73" y="125"/>
                        </a:moveTo>
                        <a:lnTo>
                          <a:pt x="50" y="125"/>
                        </a:lnTo>
                        <a:lnTo>
                          <a:pt x="26" y="109"/>
                        </a:lnTo>
                        <a:lnTo>
                          <a:pt x="7" y="80"/>
                        </a:lnTo>
                        <a:lnTo>
                          <a:pt x="0" y="46"/>
                        </a:lnTo>
                        <a:lnTo>
                          <a:pt x="5" y="18"/>
                        </a:lnTo>
                        <a:lnTo>
                          <a:pt x="23" y="0"/>
                        </a:lnTo>
                        <a:lnTo>
                          <a:pt x="46" y="0"/>
                        </a:lnTo>
                        <a:lnTo>
                          <a:pt x="70" y="17"/>
                        </a:lnTo>
                        <a:lnTo>
                          <a:pt x="89" y="46"/>
                        </a:lnTo>
                        <a:lnTo>
                          <a:pt x="96" y="80"/>
                        </a:lnTo>
                        <a:lnTo>
                          <a:pt x="91" y="108"/>
                        </a:lnTo>
                        <a:lnTo>
                          <a:pt x="73" y="12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5229000" y="2131920"/>
                    <a:ext cx="5220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20">
                        <a:moveTo>
                          <a:pt x="310" y="220"/>
                        </a:moveTo>
                        <a:lnTo>
                          <a:pt x="0" y="117"/>
                        </a:lnTo>
                        <a:lnTo>
                          <a:pt x="39" y="0"/>
                        </a:lnTo>
                        <a:lnTo>
                          <a:pt x="329" y="100"/>
                        </a:lnTo>
                        <a:lnTo>
                          <a:pt x="310" y="22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5708160" y="2506680"/>
                    <a:ext cx="1540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74" y="125"/>
                        </a:moveTo>
                        <a:lnTo>
                          <a:pt x="50" y="125"/>
                        </a:lnTo>
                        <a:lnTo>
                          <a:pt x="26" y="108"/>
                        </a:lnTo>
                        <a:lnTo>
                          <a:pt x="7" y="79"/>
                        </a:lnTo>
                        <a:lnTo>
                          <a:pt x="7" y="79"/>
                        </a:lnTo>
                        <a:lnTo>
                          <a:pt x="0" y="45"/>
                        </a:lnTo>
                        <a:lnTo>
                          <a:pt x="6" y="17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7" y="0"/>
                        </a:lnTo>
                        <a:lnTo>
                          <a:pt x="71" y="16"/>
                        </a:lnTo>
                        <a:lnTo>
                          <a:pt x="89" y="45"/>
                        </a:lnTo>
                        <a:lnTo>
                          <a:pt x="89" y="45"/>
                        </a:lnTo>
                        <a:lnTo>
                          <a:pt x="97" y="79"/>
                        </a:lnTo>
                        <a:lnTo>
                          <a:pt x="91" y="108"/>
                        </a:lnTo>
                        <a:lnTo>
                          <a:pt x="74" y="125"/>
                        </a:lnTo>
                        <a:lnTo>
                          <a:pt x="74" y="125"/>
                        </a:lnTo>
                        <a:lnTo>
                          <a:pt x="74" y="12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229000" y="2131920"/>
                    <a:ext cx="52200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19">
                        <a:moveTo>
                          <a:pt x="309" y="219"/>
                        </a:moveTo>
                        <a:lnTo>
                          <a:pt x="0" y="116"/>
                        </a:lnTo>
                        <a:lnTo>
                          <a:pt x="39" y="0"/>
                        </a:lnTo>
                        <a:lnTo>
                          <a:pt x="329" y="99"/>
                        </a:lnTo>
                        <a:lnTo>
                          <a:pt x="309" y="219"/>
                        </a:lnTo>
                        <a:lnTo>
                          <a:pt x="309" y="219"/>
                        </a:lnTo>
                        <a:lnTo>
                          <a:pt x="309" y="21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030280" y="2071440"/>
                    <a:ext cx="25740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5">
                        <a:moveTo>
                          <a:pt x="121" y="155"/>
                        </a:moveTo>
                        <a:lnTo>
                          <a:pt x="0" y="115"/>
                        </a:lnTo>
                        <a:lnTo>
                          <a:pt x="48" y="0"/>
                        </a:lnTo>
                        <a:lnTo>
                          <a:pt x="162" y="37"/>
                        </a:lnTo>
                        <a:lnTo>
                          <a:pt x="162" y="42"/>
                        </a:lnTo>
                        <a:lnTo>
                          <a:pt x="109" y="25"/>
                        </a:lnTo>
                        <a:lnTo>
                          <a:pt x="69" y="132"/>
                        </a:lnTo>
                        <a:lnTo>
                          <a:pt x="124" y="151"/>
                        </a:lnTo>
                        <a:lnTo>
                          <a:pt x="121" y="15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973480" y="2465280"/>
                    <a:ext cx="12852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79">
                        <a:moveTo>
                          <a:pt x="81" y="162"/>
                        </a:moveTo>
                        <a:lnTo>
                          <a:pt x="15" y="0"/>
                        </a:lnTo>
                        <a:lnTo>
                          <a:pt x="0" y="115"/>
                        </a:lnTo>
                        <a:lnTo>
                          <a:pt x="72" y="279"/>
                        </a:lnTo>
                        <a:lnTo>
                          <a:pt x="81" y="162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030280" y="2070000"/>
                    <a:ext cx="25740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5">
                        <a:moveTo>
                          <a:pt x="120" y="155"/>
                        </a:moveTo>
                        <a:lnTo>
                          <a:pt x="0" y="115"/>
                        </a:lnTo>
                        <a:lnTo>
                          <a:pt x="47" y="0"/>
                        </a:lnTo>
                        <a:lnTo>
                          <a:pt x="162" y="38"/>
                        </a:lnTo>
                        <a:lnTo>
                          <a:pt x="161" y="43"/>
                        </a:lnTo>
                        <a:lnTo>
                          <a:pt x="109" y="25"/>
                        </a:lnTo>
                        <a:lnTo>
                          <a:pt x="68" y="133"/>
                        </a:lnTo>
                        <a:lnTo>
                          <a:pt x="123" y="151"/>
                        </a:lnTo>
                        <a:lnTo>
                          <a:pt x="120" y="155"/>
                        </a:lnTo>
                        <a:lnTo>
                          <a:pt x="120" y="155"/>
                        </a:lnTo>
                        <a:lnTo>
                          <a:pt x="120" y="15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973480" y="2463840"/>
                    <a:ext cx="12852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80">
                        <a:moveTo>
                          <a:pt x="81" y="162"/>
                        </a:moveTo>
                        <a:lnTo>
                          <a:pt x="14" y="0"/>
                        </a:lnTo>
                        <a:lnTo>
                          <a:pt x="0" y="116"/>
                        </a:lnTo>
                        <a:lnTo>
                          <a:pt x="72" y="280"/>
                        </a:lnTo>
                        <a:lnTo>
                          <a:pt x="81" y="162"/>
                        </a:lnTo>
                        <a:lnTo>
                          <a:pt x="81" y="162"/>
                        </a:lnTo>
                        <a:lnTo>
                          <a:pt x="81" y="162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795640" y="2328840"/>
                    <a:ext cx="20160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85">
                        <a:moveTo>
                          <a:pt x="127" y="49"/>
                        </a:moveTo>
                        <a:lnTo>
                          <a:pt x="55" y="0"/>
                        </a:lnTo>
                        <a:lnTo>
                          <a:pt x="0" y="38"/>
                        </a:lnTo>
                        <a:lnTo>
                          <a:pt x="74" y="85"/>
                        </a:lnTo>
                        <a:lnTo>
                          <a:pt x="127" y="49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920920" y="23907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6"/>
                        </a:lnTo>
                        <a:lnTo>
                          <a:pt x="32" y="3"/>
                        </a:lnTo>
                        <a:lnTo>
                          <a:pt x="19" y="0"/>
                        </a:lnTo>
                        <a:lnTo>
                          <a:pt x="5" y="5"/>
                        </a:lnTo>
                        <a:lnTo>
                          <a:pt x="0" y="33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793840" y="2327040"/>
                    <a:ext cx="203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6">
                        <a:moveTo>
                          <a:pt x="128" y="50"/>
                        </a:moveTo>
                        <a:lnTo>
                          <a:pt x="55" y="0"/>
                        </a:lnTo>
                        <a:lnTo>
                          <a:pt x="0" y="39"/>
                        </a:lnTo>
                        <a:lnTo>
                          <a:pt x="74" y="86"/>
                        </a:lnTo>
                        <a:lnTo>
                          <a:pt x="128" y="50"/>
                        </a:lnTo>
                        <a:lnTo>
                          <a:pt x="128" y="50"/>
                        </a:lnTo>
                        <a:lnTo>
                          <a:pt x="128" y="5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920920" y="23889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8" y="0"/>
                        </a:lnTo>
                        <a:lnTo>
                          <a:pt x="5" y="6"/>
                        </a:lnTo>
                        <a:lnTo>
                          <a:pt x="0" y="33"/>
                        </a:lnTo>
                        <a:lnTo>
                          <a:pt x="33" y="51"/>
                        </a:lnTo>
                        <a:lnTo>
                          <a:pt x="33" y="51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878080" y="236520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6"/>
                        </a:lnTo>
                        <a:lnTo>
                          <a:pt x="32" y="4"/>
                        </a:lnTo>
                        <a:lnTo>
                          <a:pt x="19" y="0"/>
                        </a:lnTo>
                        <a:lnTo>
                          <a:pt x="5" y="5"/>
                        </a:lnTo>
                        <a:lnTo>
                          <a:pt x="0" y="32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825880" y="2390760"/>
                    <a:ext cx="60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1">
                        <a:moveTo>
                          <a:pt x="32" y="51"/>
                        </a:moveTo>
                        <a:lnTo>
                          <a:pt x="38" y="16"/>
                        </a:lnTo>
                        <a:lnTo>
                          <a:pt x="31" y="3"/>
                        </a:lnTo>
                        <a:lnTo>
                          <a:pt x="18" y="0"/>
                        </a:lnTo>
                        <a:lnTo>
                          <a:pt x="4" y="5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878080" y="23637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2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8" y="0"/>
                        </a:lnTo>
                        <a:lnTo>
                          <a:pt x="5" y="6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824080" y="23889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2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9" y="0"/>
                        </a:lnTo>
                        <a:lnTo>
                          <a:pt x="4" y="6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741640" y="2490840"/>
                    <a:ext cx="2556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96">
                        <a:moveTo>
                          <a:pt x="161" y="48"/>
                        </a:moveTo>
                        <a:lnTo>
                          <a:pt x="74" y="0"/>
                        </a:lnTo>
                        <a:lnTo>
                          <a:pt x="0" y="54"/>
                        </a:lnTo>
                        <a:lnTo>
                          <a:pt x="94" y="96"/>
                        </a:lnTo>
                        <a:lnTo>
                          <a:pt x="161" y="4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741640" y="2398680"/>
                    <a:ext cx="127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12">
                        <a:moveTo>
                          <a:pt x="9" y="56"/>
                        </a:moveTo>
                        <a:lnTo>
                          <a:pt x="80" y="0"/>
                        </a:lnTo>
                        <a:lnTo>
                          <a:pt x="74" y="57"/>
                        </a:lnTo>
                        <a:lnTo>
                          <a:pt x="0" y="112"/>
                        </a:lnTo>
                        <a:lnTo>
                          <a:pt x="9" y="5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5741640" y="2489040"/>
                    <a:ext cx="2556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96">
                        <a:moveTo>
                          <a:pt x="161" y="48"/>
                        </a:moveTo>
                        <a:lnTo>
                          <a:pt x="73" y="0"/>
                        </a:lnTo>
                        <a:lnTo>
                          <a:pt x="0" y="55"/>
                        </a:lnTo>
                        <a:lnTo>
                          <a:pt x="94" y="96"/>
                        </a:lnTo>
                        <a:lnTo>
                          <a:pt x="161" y="48"/>
                        </a:lnTo>
                        <a:lnTo>
                          <a:pt x="161" y="48"/>
                        </a:lnTo>
                        <a:lnTo>
                          <a:pt x="161" y="4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741640" y="2396880"/>
                    <a:ext cx="1252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3">
                        <a:moveTo>
                          <a:pt x="8" y="57"/>
                        </a:moveTo>
                        <a:lnTo>
                          <a:pt x="79" y="0"/>
                        </a:lnTo>
                        <a:lnTo>
                          <a:pt x="73" y="57"/>
                        </a:lnTo>
                        <a:lnTo>
                          <a:pt x="0" y="113"/>
                        </a:lnTo>
                        <a:lnTo>
                          <a:pt x="8" y="57"/>
                        </a:lnTo>
                        <a:lnTo>
                          <a:pt x="8" y="57"/>
                        </a:lnTo>
                        <a:lnTo>
                          <a:pt x="8" y="57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859000" y="2398680"/>
                    <a:ext cx="1414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6">
                        <a:moveTo>
                          <a:pt x="89" y="55"/>
                        </a:moveTo>
                        <a:lnTo>
                          <a:pt x="6" y="0"/>
                        </a:lnTo>
                        <a:lnTo>
                          <a:pt x="0" y="58"/>
                        </a:lnTo>
                        <a:lnTo>
                          <a:pt x="88" y="106"/>
                        </a:lnTo>
                        <a:lnTo>
                          <a:pt x="89" y="5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857560" y="2398680"/>
                    <a:ext cx="1429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05">
                        <a:moveTo>
                          <a:pt x="90" y="54"/>
                        </a:moveTo>
                        <a:lnTo>
                          <a:pt x="6" y="0"/>
                        </a:lnTo>
                        <a:lnTo>
                          <a:pt x="0" y="57"/>
                        </a:lnTo>
                        <a:lnTo>
                          <a:pt x="88" y="105"/>
                        </a:lnTo>
                        <a:lnTo>
                          <a:pt x="90" y="54"/>
                        </a:lnTo>
                        <a:lnTo>
                          <a:pt x="90" y="54"/>
                        </a:lnTo>
                        <a:lnTo>
                          <a:pt x="90" y="54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859000" y="243216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0" y="1"/>
                        </a:moveTo>
                        <a:lnTo>
                          <a:pt x="4" y="6"/>
                        </a:lnTo>
                        <a:lnTo>
                          <a:pt x="6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0" name=""/>
            <p:cNvGrpSpPr/>
            <p:nvPr/>
          </p:nvGrpSpPr>
          <p:grpSpPr>
            <a:xfrm>
              <a:off x="2971800" y="1828440"/>
              <a:ext cx="2936880" cy="1219320"/>
              <a:chOff x="2971800" y="1828440"/>
              <a:chExt cx="2936880" cy="121932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2971800" y="2742840"/>
                <a:ext cx="304560" cy="304920"/>
                <a:chOff x="2971800" y="2742840"/>
                <a:chExt cx="304560" cy="3049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971800" y="2742840"/>
                  <a:ext cx="30456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108240" y="2876400"/>
                  <a:ext cx="88920" cy="889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3108240" y="2800080"/>
                  <a:ext cx="108000" cy="11448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038480" y="1828440"/>
                <a:ext cx="304560" cy="304920"/>
                <a:chOff x="4038480" y="1828440"/>
                <a:chExt cx="304560" cy="3049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038480" y="1828440"/>
                  <a:ext cx="30456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174920" y="1962000"/>
                  <a:ext cx="88920" cy="889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4111560" y="1961640"/>
                  <a:ext cx="91800" cy="1141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5603760" y="1828440"/>
                <a:ext cx="304920" cy="304920"/>
                <a:chOff x="5603760" y="1828440"/>
                <a:chExt cx="304920" cy="3049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603760" y="1828440"/>
                  <a:ext cx="30492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699160" y="1911240"/>
                  <a:ext cx="69840" cy="9180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5740560" y="1885680"/>
                  <a:ext cx="107640" cy="11448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3" name=""/>
            <p:cNvGrpSpPr/>
            <p:nvPr/>
          </p:nvGrpSpPr>
          <p:grpSpPr>
            <a:xfrm>
              <a:off x="3276360" y="1981080"/>
              <a:ext cx="2210040" cy="761400"/>
              <a:chOff x="3276360" y="1981080"/>
              <a:chExt cx="2210040" cy="761400"/>
            </a:xfrm>
          </p:grpSpPr>
          <p:sp>
            <p:nvSpPr>
              <p:cNvPr id="614" name=""/>
              <p:cNvSpPr/>
              <p:nvPr/>
            </p:nvSpPr>
            <p:spPr>
              <a:xfrm flipV="1">
                <a:off x="3276360" y="2133000"/>
                <a:ext cx="685800" cy="609480"/>
              </a:xfrm>
              <a:prstGeom prst="line">
                <a:avLst/>
              </a:prstGeom>
              <a:ln w="19080">
                <a:solidFill>
                  <a:srgbClr val="ff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419360" y="1981080"/>
                <a:ext cx="1067040" cy="0"/>
              </a:xfrm>
              <a:prstGeom prst="line">
                <a:avLst/>
              </a:prstGeom>
              <a:ln w="19080">
                <a:solidFill>
                  <a:srgbClr val="ff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746800" y="1447560"/>
              <a:ext cx="3547080" cy="1160640"/>
              <a:chOff x="2746800" y="1447560"/>
              <a:chExt cx="3547080" cy="1160640"/>
            </a:xfrm>
          </p:grpSpPr>
          <p:sp>
            <p:nvSpPr>
              <p:cNvPr id="617" name=""/>
              <p:cNvSpPr/>
              <p:nvPr/>
            </p:nvSpPr>
            <p:spPr>
              <a:xfrm>
                <a:off x="2746800" y="2209680"/>
                <a:ext cx="81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Ephemeri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Time (E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61560" y="1447560"/>
                <a:ext cx="124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Universal Ti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Coordinated (UTC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85080" y="1447560"/>
                <a:ext cx="110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Orbiter on-bo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clock (SCL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80280" y="2187360"/>
              <a:ext cx="3616920" cy="4104000"/>
              <a:chOff x="2780280" y="2187360"/>
              <a:chExt cx="3616920" cy="4104000"/>
            </a:xfrm>
          </p:grpSpPr>
          <p:sp>
            <p:nvSpPr>
              <p:cNvPr id="621" name=""/>
              <p:cNvSpPr/>
              <p:nvPr/>
            </p:nvSpPr>
            <p:spPr>
              <a:xfrm>
                <a:off x="4923000" y="5829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54960" y="6045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30400" y="52894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23360" y="424152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799520" y="385092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53840" y="376524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9680" y="34668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30040" y="366372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17840" y="329868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80280" y="402264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5160" y="383508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74240" y="3295440"/>
                <a:ext cx="53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472360" y="270180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53400" y="26254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02480" y="28476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06560" y="275868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2200" y="271764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84200" y="218736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895120" y="2361600"/>
              <a:ext cx="3242160" cy="3734280"/>
              <a:chOff x="2895120" y="2361600"/>
              <a:chExt cx="3242160" cy="3734280"/>
            </a:xfrm>
          </p:grpSpPr>
          <p:sp>
            <p:nvSpPr>
              <p:cNvPr id="640" name=""/>
              <p:cNvSpPr/>
              <p:nvPr/>
            </p:nvSpPr>
            <p:spPr>
              <a:xfrm>
                <a:off x="5603760" y="58672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5222880" y="5867280"/>
                <a:ext cx="38088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603760" y="5485680"/>
                <a:ext cx="15228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89360" y="4267080"/>
                <a:ext cx="30492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689360" y="403812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>
                <a:off x="4536720" y="396180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375160" y="365724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994280" y="38098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375160" y="3504600"/>
                <a:ext cx="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00400" y="3809880"/>
                <a:ext cx="30456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2895120" y="380988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3124080" y="3504600"/>
                <a:ext cx="7632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08680" y="25142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5679720" y="25142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08680" y="251424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4232160" y="2361600"/>
                <a:ext cx="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959280" y="2666880"/>
                <a:ext cx="272880" cy="177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32160" y="266688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3162240" y="2482560"/>
              <a:ext cx="2786040" cy="3421080"/>
              <a:chOff x="3162240" y="2482560"/>
              <a:chExt cx="2786040" cy="3421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562360" y="582912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54440" y="42289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37000" y="37652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62240" y="3771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73760" y="2482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97240" y="26319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200400" y="2514240"/>
              <a:ext cx="2708280" cy="3353040"/>
              <a:chOff x="3200400" y="2514240"/>
              <a:chExt cx="2708280" cy="3353040"/>
            </a:xfrm>
          </p:grpSpPr>
          <p:sp>
            <p:nvSpPr>
              <p:cNvPr id="666" name=""/>
              <p:cNvSpPr/>
              <p:nvPr/>
            </p:nvSpPr>
            <p:spPr>
              <a:xfrm>
                <a:off x="3200400" y="3809880"/>
                <a:ext cx="2400120" cy="20476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3200400" y="2666520"/>
                <a:ext cx="1031760" cy="11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4689360" y="4266720"/>
                <a:ext cx="914400" cy="1600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89360" y="3809880"/>
                <a:ext cx="68580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603760" y="2514240"/>
                <a:ext cx="304920" cy="3353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666880" y="1828440"/>
              <a:ext cx="3962520" cy="4495680"/>
              <a:chOff x="2666880" y="1828440"/>
              <a:chExt cx="3962520" cy="4495680"/>
            </a:xfrm>
          </p:grpSpPr>
          <p:sp>
            <p:nvSpPr>
              <p:cNvPr id="672" name=""/>
              <p:cNvSpPr/>
              <p:nvPr/>
            </p:nvSpPr>
            <p:spPr>
              <a:xfrm flipH="1" flipV="1">
                <a:off x="5715000" y="5867280"/>
                <a:ext cx="914400" cy="3045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5181480" y="4495320"/>
                <a:ext cx="1447920" cy="60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5562360" y="3809520"/>
                <a:ext cx="106704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6172200" y="2895120"/>
                <a:ext cx="4572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019560" y="1904760"/>
                <a:ext cx="60984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66880" y="1828440"/>
                <a:ext cx="99072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666880" y="5485680"/>
                <a:ext cx="2895480" cy="8384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666880" y="5409720"/>
                <a:ext cx="22860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66880" y="4724280"/>
                <a:ext cx="228600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66880" y="3885840"/>
                <a:ext cx="2286000" cy="1526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66880" y="3047760"/>
                <a:ext cx="91440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1146960" y="243828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6000" y="243828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84920" y="1295280"/>
              <a:ext cx="117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8000"/>
                  </a:solidFill>
                  <a:latin typeface="Arial"/>
                  <a:ea typeface="ＭＳ Ｐゴシック"/>
                </a:rPr>
                <a:t>Time convers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46240" y="1295280"/>
              <a:ext cx="117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8000"/>
                  </a:solidFill>
                  <a:latin typeface="Arial"/>
                  <a:ea typeface="ＭＳ Ｐゴシック"/>
                </a:rPr>
                <a:t>Time convers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818E-2BAB-47D4-BC2E-FD635B0F3F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63720" y="476280"/>
            <a:ext cx="3492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rbit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90720" y="1371600"/>
            <a:ext cx="7315200" cy="5427360"/>
            <a:chOff x="990720" y="1371600"/>
            <a:chExt cx="7315200" cy="5427360"/>
          </a:xfrm>
        </p:grpSpPr>
        <p:grpSp>
          <p:nvGrpSpPr>
            <p:cNvPr id="689" name=""/>
            <p:cNvGrpSpPr/>
            <p:nvPr/>
          </p:nvGrpSpPr>
          <p:grpSpPr>
            <a:xfrm>
              <a:off x="3507840" y="2025000"/>
              <a:ext cx="2356200" cy="4523040"/>
              <a:chOff x="3507840" y="2025000"/>
              <a:chExt cx="2356200" cy="4523040"/>
            </a:xfrm>
          </p:grpSpPr>
          <p:sp>
            <p:nvSpPr>
              <p:cNvPr id="690" name=""/>
              <p:cNvSpPr/>
              <p:nvPr/>
            </p:nvSpPr>
            <p:spPr>
              <a:xfrm rot="7461000">
                <a:off x="4527720" y="3604320"/>
                <a:ext cx="414360" cy="625680"/>
              </a:xfrm>
              <a:custGeom>
                <a:avLst/>
                <a:gdLst/>
                <a:ahLst/>
                <a:rect l="l" t="t" r="r" b="b"/>
                <a:pathLst>
                  <a:path w="261" h="394">
                    <a:moveTo>
                      <a:pt x="261" y="0"/>
                    </a:moveTo>
                    <a:lnTo>
                      <a:pt x="261" y="260"/>
                    </a:lnTo>
                    <a:lnTo>
                      <a:pt x="0" y="394"/>
                    </a:lnTo>
                    <a:lnTo>
                      <a:pt x="18" y="144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7461000">
                <a:off x="5263560" y="2228760"/>
                <a:ext cx="627120" cy="255600"/>
              </a:xfrm>
              <a:custGeom>
                <a:avLst/>
                <a:gdLst/>
                <a:ahLst/>
                <a:rect l="l" t="t" r="r" b="b"/>
                <a:pathLst>
                  <a:path w="395" h="161">
                    <a:moveTo>
                      <a:pt x="0" y="161"/>
                    </a:moveTo>
                    <a:lnTo>
                      <a:pt x="126" y="152"/>
                    </a:lnTo>
                    <a:lnTo>
                      <a:pt x="395" y="0"/>
                    </a:lnTo>
                    <a:lnTo>
                      <a:pt x="297" y="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7461000">
                <a:off x="4530240" y="3605400"/>
                <a:ext cx="414360" cy="623880"/>
              </a:xfrm>
              <a:custGeom>
                <a:avLst/>
                <a:gdLst/>
                <a:ahLst/>
                <a:rect l="l" t="t" r="r" b="b"/>
                <a:pathLst>
                  <a:path w="261" h="393">
                    <a:moveTo>
                      <a:pt x="261" y="0"/>
                    </a:moveTo>
                    <a:lnTo>
                      <a:pt x="261" y="259"/>
                    </a:lnTo>
                    <a:lnTo>
                      <a:pt x="0" y="393"/>
                    </a:lnTo>
                    <a:lnTo>
                      <a:pt x="18" y="143"/>
                    </a:lnTo>
                    <a:lnTo>
                      <a:pt x="261" y="0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7461000">
                <a:off x="5267880" y="2228040"/>
                <a:ext cx="627120" cy="255600"/>
              </a:xfrm>
              <a:custGeom>
                <a:avLst/>
                <a:gdLst/>
                <a:ahLst/>
                <a:rect l="l" t="t" r="r" b="b"/>
                <a:pathLst>
                  <a:path w="395" h="161">
                    <a:moveTo>
                      <a:pt x="0" y="161"/>
                    </a:moveTo>
                    <a:lnTo>
                      <a:pt x="126" y="153"/>
                    </a:lnTo>
                    <a:lnTo>
                      <a:pt x="395" y="0"/>
                    </a:lnTo>
                    <a:lnTo>
                      <a:pt x="297" y="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7461000">
                <a:off x="5242680" y="2434320"/>
                <a:ext cx="457200" cy="255600"/>
              </a:xfrm>
              <a:custGeom>
                <a:avLst/>
                <a:gdLst/>
                <a:ahLst/>
                <a:rect l="l" t="t" r="r" b="b"/>
                <a:pathLst>
                  <a:path w="288" h="161">
                    <a:moveTo>
                      <a:pt x="0" y="161"/>
                    </a:moveTo>
                    <a:lnTo>
                      <a:pt x="288" y="0"/>
                    </a:lnTo>
                    <a:lnTo>
                      <a:pt x="90" y="8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461000">
                <a:off x="5491080" y="2490480"/>
                <a:ext cx="7164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18" y="18"/>
                    </a:moveTo>
                    <a:lnTo>
                      <a:pt x="45" y="0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7461000">
                <a:off x="5246280" y="2432160"/>
                <a:ext cx="457200" cy="257040"/>
              </a:xfrm>
              <a:custGeom>
                <a:avLst/>
                <a:gdLst/>
                <a:ahLst/>
                <a:rect l="l" t="t" r="r" b="b"/>
                <a:pathLst>
                  <a:path w="288" h="162">
                    <a:moveTo>
                      <a:pt x="0" y="162"/>
                    </a:moveTo>
                    <a:lnTo>
                      <a:pt x="288" y="0"/>
                    </a:lnTo>
                    <a:lnTo>
                      <a:pt x="90" y="81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7461000">
                <a:off x="5495400" y="2489760"/>
                <a:ext cx="7164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18" y="18"/>
                    </a:moveTo>
                    <a:lnTo>
                      <a:pt x="45" y="0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7461000">
                <a:off x="5507640" y="2469240"/>
                <a:ext cx="28440" cy="12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7461000">
                <a:off x="5491800" y="249228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6"/>
                    </a:moveTo>
                    <a:lnTo>
                      <a:pt x="27" y="8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7461000">
                <a:off x="5511240" y="246744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9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7461000">
                <a:off x="5495760" y="24908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27" y="9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461000">
                <a:off x="4637160" y="2754360"/>
                <a:ext cx="1284120" cy="355320"/>
              </a:xfrm>
              <a:custGeom>
                <a:avLst/>
                <a:gdLst/>
                <a:ahLst/>
                <a:rect l="l" t="t" r="r" b="b"/>
                <a:pathLst>
                  <a:path w="809" h="224">
                    <a:moveTo>
                      <a:pt x="0" y="224"/>
                    </a:moveTo>
                    <a:lnTo>
                      <a:pt x="665" y="162"/>
                    </a:lnTo>
                    <a:lnTo>
                      <a:pt x="809" y="45"/>
                    </a:lnTo>
                    <a:lnTo>
                      <a:pt x="764" y="0"/>
                    </a:lnTo>
                    <a:lnTo>
                      <a:pt x="288" y="6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7461000">
                <a:off x="4638960" y="2752920"/>
                <a:ext cx="1285920" cy="355680"/>
              </a:xfrm>
              <a:custGeom>
                <a:avLst/>
                <a:gdLst/>
                <a:ahLst/>
                <a:rect l="l" t="t" r="r" b="b"/>
                <a:pathLst>
                  <a:path w="810" h="224">
                    <a:moveTo>
                      <a:pt x="0" y="224"/>
                    </a:moveTo>
                    <a:lnTo>
                      <a:pt x="666" y="161"/>
                    </a:lnTo>
                    <a:lnTo>
                      <a:pt x="810" y="45"/>
                    </a:lnTo>
                    <a:lnTo>
                      <a:pt x="764" y="0"/>
                    </a:lnTo>
                    <a:lnTo>
                      <a:pt x="288" y="62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452560" y="2687400"/>
                <a:ext cx="57960" cy="13536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5497920" y="2197080"/>
                <a:ext cx="52920" cy="10296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7461000">
                <a:off x="5005440" y="3403080"/>
                <a:ext cx="414360" cy="609480"/>
              </a:xfrm>
              <a:custGeom>
                <a:avLst/>
                <a:gdLst/>
                <a:ahLst/>
                <a:rect l="l" t="t" r="r" b="b"/>
                <a:pathLst>
                  <a:path w="261" h="384">
                    <a:moveTo>
                      <a:pt x="45" y="142"/>
                    </a:moveTo>
                    <a:lnTo>
                      <a:pt x="261" y="0"/>
                    </a:lnTo>
                    <a:lnTo>
                      <a:pt x="252" y="259"/>
                    </a:lnTo>
                    <a:lnTo>
                      <a:pt x="0" y="384"/>
                    </a:lnTo>
                    <a:lnTo>
                      <a:pt x="45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7461000">
                <a:off x="4926240" y="3712680"/>
                <a:ext cx="257040" cy="552600"/>
              </a:xfrm>
              <a:custGeom>
                <a:avLst/>
                <a:gdLst/>
                <a:ahLst/>
                <a:rect l="l" t="t" r="r" b="b"/>
                <a:pathLst>
                  <a:path w="162" h="348">
                    <a:moveTo>
                      <a:pt x="162" y="348"/>
                    </a:moveTo>
                    <a:lnTo>
                      <a:pt x="162" y="116"/>
                    </a:lnTo>
                    <a:lnTo>
                      <a:pt x="9" y="0"/>
                    </a:lnTo>
                    <a:lnTo>
                      <a:pt x="0" y="259"/>
                    </a:lnTo>
                    <a:lnTo>
                      <a:pt x="162" y="34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7461000">
                <a:off x="5009760" y="3401640"/>
                <a:ext cx="414360" cy="609840"/>
              </a:xfrm>
              <a:custGeom>
                <a:avLst/>
                <a:gdLst/>
                <a:ahLst/>
                <a:rect l="l" t="t" r="r" b="b"/>
                <a:pathLst>
                  <a:path w="261" h="384">
                    <a:moveTo>
                      <a:pt x="45" y="143"/>
                    </a:moveTo>
                    <a:lnTo>
                      <a:pt x="261" y="0"/>
                    </a:lnTo>
                    <a:lnTo>
                      <a:pt x="253" y="259"/>
                    </a:lnTo>
                    <a:lnTo>
                      <a:pt x="0" y="384"/>
                    </a:lnTo>
                    <a:lnTo>
                      <a:pt x="45" y="143"/>
                    </a:lnTo>
                    <a:lnTo>
                      <a:pt x="45" y="143"/>
                    </a:lnTo>
                    <a:lnTo>
                      <a:pt x="45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7461000">
                <a:off x="4930560" y="3711600"/>
                <a:ext cx="255600" cy="554040"/>
              </a:xfrm>
              <a:custGeom>
                <a:avLst/>
                <a:gdLst/>
                <a:ahLst/>
                <a:rect l="l" t="t" r="r" b="b"/>
                <a:pathLst>
                  <a:path w="161" h="349">
                    <a:moveTo>
                      <a:pt x="161" y="349"/>
                    </a:moveTo>
                    <a:lnTo>
                      <a:pt x="161" y="116"/>
                    </a:lnTo>
                    <a:lnTo>
                      <a:pt x="8" y="0"/>
                    </a:lnTo>
                    <a:lnTo>
                      <a:pt x="0" y="259"/>
                    </a:lnTo>
                    <a:lnTo>
                      <a:pt x="161" y="349"/>
                    </a:lnTo>
                    <a:lnTo>
                      <a:pt x="161" y="349"/>
                    </a:lnTo>
                    <a:lnTo>
                      <a:pt x="161" y="349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7461000">
                <a:off x="5047560" y="365184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9" y="0"/>
                    </a:moveTo>
                    <a:lnTo>
                      <a:pt x="91" y="14"/>
                    </a:lnTo>
                    <a:lnTo>
                      <a:pt x="95" y="16"/>
                    </a:lnTo>
                    <a:lnTo>
                      <a:pt x="98" y="19"/>
                    </a:lnTo>
                    <a:lnTo>
                      <a:pt x="102" y="23"/>
                    </a:lnTo>
                    <a:lnTo>
                      <a:pt x="104" y="27"/>
                    </a:lnTo>
                    <a:lnTo>
                      <a:pt x="106" y="31"/>
                    </a:lnTo>
                    <a:lnTo>
                      <a:pt x="107" y="34"/>
                    </a:lnTo>
                    <a:lnTo>
                      <a:pt x="108" y="36"/>
                    </a:lnTo>
                    <a:lnTo>
                      <a:pt x="109" y="39"/>
                    </a:lnTo>
                    <a:lnTo>
                      <a:pt x="109" y="41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0" y="54"/>
                    </a:lnTo>
                    <a:lnTo>
                      <a:pt x="110" y="57"/>
                    </a:lnTo>
                    <a:lnTo>
                      <a:pt x="109" y="59"/>
                    </a:lnTo>
                    <a:lnTo>
                      <a:pt x="109" y="62"/>
                    </a:lnTo>
                    <a:lnTo>
                      <a:pt x="108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6" y="73"/>
                    </a:lnTo>
                    <a:lnTo>
                      <a:pt x="105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1" y="82"/>
                    </a:lnTo>
                    <a:lnTo>
                      <a:pt x="99" y="85"/>
                    </a:lnTo>
                    <a:lnTo>
                      <a:pt x="98" y="88"/>
                    </a:lnTo>
                    <a:lnTo>
                      <a:pt x="96" y="90"/>
                    </a:lnTo>
                    <a:lnTo>
                      <a:pt x="94" y="92"/>
                    </a:lnTo>
                    <a:lnTo>
                      <a:pt x="92" y="95"/>
                    </a:lnTo>
                    <a:lnTo>
                      <a:pt x="90" y="97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4" y="103"/>
                    </a:lnTo>
                    <a:lnTo>
                      <a:pt x="82" y="104"/>
                    </a:lnTo>
                    <a:lnTo>
                      <a:pt x="79" y="107"/>
                    </a:lnTo>
                    <a:lnTo>
                      <a:pt x="76" y="108"/>
                    </a:lnTo>
                    <a:lnTo>
                      <a:pt x="72" y="111"/>
                    </a:lnTo>
                    <a:lnTo>
                      <a:pt x="66" y="114"/>
                    </a:lnTo>
                    <a:lnTo>
                      <a:pt x="61" y="116"/>
                    </a:lnTo>
                    <a:lnTo>
                      <a:pt x="56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1" y="118"/>
                    </a:lnTo>
                    <a:lnTo>
                      <a:pt x="36" y="118"/>
                    </a:lnTo>
                    <a:lnTo>
                      <a:pt x="31" y="116"/>
                    </a:lnTo>
                    <a:lnTo>
                      <a:pt x="27" y="115"/>
                    </a:lnTo>
                    <a:lnTo>
                      <a:pt x="23" y="113"/>
                    </a:lnTo>
                    <a:lnTo>
                      <a:pt x="0" y="99"/>
                    </a:lnTo>
                    <a:lnTo>
                      <a:pt x="4" y="101"/>
                    </a:lnTo>
                    <a:lnTo>
                      <a:pt x="9" y="103"/>
                    </a:lnTo>
                    <a:lnTo>
                      <a:pt x="14" y="104"/>
                    </a:lnTo>
                    <a:lnTo>
                      <a:pt x="18" y="104"/>
                    </a:lnTo>
                    <a:lnTo>
                      <a:pt x="23" y="105"/>
                    </a:lnTo>
                    <a:lnTo>
                      <a:pt x="28" y="104"/>
                    </a:lnTo>
                    <a:lnTo>
                      <a:pt x="33" y="104"/>
                    </a:lnTo>
                    <a:lnTo>
                      <a:pt x="38" y="102"/>
                    </a:lnTo>
                    <a:lnTo>
                      <a:pt x="44" y="100"/>
                    </a:lnTo>
                    <a:lnTo>
                      <a:pt x="49" y="97"/>
                    </a:lnTo>
                    <a:lnTo>
                      <a:pt x="54" y="95"/>
                    </a:lnTo>
                    <a:lnTo>
                      <a:pt x="56" y="93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4" y="88"/>
                    </a:lnTo>
                    <a:lnTo>
                      <a:pt x="66" y="85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3" y="77"/>
                    </a:lnTo>
                    <a:lnTo>
                      <a:pt x="75" y="74"/>
                    </a:lnTo>
                    <a:lnTo>
                      <a:pt x="76" y="72"/>
                    </a:lnTo>
                    <a:lnTo>
                      <a:pt x="78" y="69"/>
                    </a:lnTo>
                    <a:lnTo>
                      <a:pt x="80" y="67"/>
                    </a:lnTo>
                    <a:lnTo>
                      <a:pt x="81" y="64"/>
                    </a:lnTo>
                    <a:lnTo>
                      <a:pt x="82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5" y="54"/>
                    </a:lnTo>
                    <a:lnTo>
                      <a:pt x="86" y="51"/>
                    </a:lnTo>
                    <a:lnTo>
                      <a:pt x="86" y="48"/>
                    </a:lnTo>
                    <a:lnTo>
                      <a:pt x="87" y="46"/>
                    </a:lnTo>
                    <a:lnTo>
                      <a:pt x="87" y="43"/>
                    </a:lnTo>
                    <a:lnTo>
                      <a:pt x="87" y="40"/>
                    </a:lnTo>
                    <a:lnTo>
                      <a:pt x="87" y="38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7" y="28"/>
                    </a:lnTo>
                    <a:lnTo>
                      <a:pt x="86" y="25"/>
                    </a:lnTo>
                    <a:lnTo>
                      <a:pt x="86" y="23"/>
                    </a:lnTo>
                    <a:lnTo>
                      <a:pt x="85" y="20"/>
                    </a:lnTo>
                    <a:lnTo>
                      <a:pt x="84" y="18"/>
                    </a:lnTo>
                    <a:lnTo>
                      <a:pt x="82" y="13"/>
                    </a:lnTo>
                    <a:lnTo>
                      <a:pt x="79" y="9"/>
                    </a:lnTo>
                    <a:lnTo>
                      <a:pt x="76" y="6"/>
                    </a:lnTo>
                    <a:lnTo>
                      <a:pt x="72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7461000">
                <a:off x="5051160" y="365220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8" y="0"/>
                    </a:moveTo>
                    <a:lnTo>
                      <a:pt x="91" y="14"/>
                    </a:lnTo>
                    <a:lnTo>
                      <a:pt x="94" y="17"/>
                    </a:lnTo>
                    <a:lnTo>
                      <a:pt x="98" y="19"/>
                    </a:lnTo>
                    <a:lnTo>
                      <a:pt x="101" y="23"/>
                    </a:lnTo>
                    <a:lnTo>
                      <a:pt x="103" y="27"/>
                    </a:lnTo>
                    <a:lnTo>
                      <a:pt x="106" y="32"/>
                    </a:lnTo>
                    <a:lnTo>
                      <a:pt x="107" y="34"/>
                    </a:lnTo>
                    <a:lnTo>
                      <a:pt x="107" y="37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2"/>
                    </a:lnTo>
                    <a:lnTo>
                      <a:pt x="109" y="54"/>
                    </a:lnTo>
                    <a:lnTo>
                      <a:pt x="109" y="57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5" y="73"/>
                    </a:lnTo>
                    <a:lnTo>
                      <a:pt x="104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0" y="83"/>
                    </a:lnTo>
                    <a:lnTo>
                      <a:pt x="99" y="86"/>
                    </a:lnTo>
                    <a:lnTo>
                      <a:pt x="97" y="88"/>
                    </a:lnTo>
                    <a:lnTo>
                      <a:pt x="95" y="90"/>
                    </a:lnTo>
                    <a:lnTo>
                      <a:pt x="93" y="93"/>
                    </a:lnTo>
                    <a:lnTo>
                      <a:pt x="92" y="95"/>
                    </a:lnTo>
                    <a:lnTo>
                      <a:pt x="89" y="97"/>
                    </a:lnTo>
                    <a:lnTo>
                      <a:pt x="87" y="99"/>
                    </a:lnTo>
                    <a:lnTo>
                      <a:pt x="85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9" y="107"/>
                    </a:lnTo>
                    <a:lnTo>
                      <a:pt x="76" y="109"/>
                    </a:lnTo>
                    <a:lnTo>
                      <a:pt x="71" y="112"/>
                    </a:lnTo>
                    <a:lnTo>
                      <a:pt x="65" y="114"/>
                    </a:lnTo>
                    <a:lnTo>
                      <a:pt x="60" y="116"/>
                    </a:lnTo>
                    <a:lnTo>
                      <a:pt x="55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0" y="118"/>
                    </a:lnTo>
                    <a:lnTo>
                      <a:pt x="35" y="118"/>
                    </a:lnTo>
                    <a:lnTo>
                      <a:pt x="31" y="117"/>
                    </a:lnTo>
                    <a:lnTo>
                      <a:pt x="27" y="115"/>
                    </a:lnTo>
                    <a:lnTo>
                      <a:pt x="22" y="113"/>
                    </a:lnTo>
                    <a:lnTo>
                      <a:pt x="0" y="99"/>
                    </a:lnTo>
                    <a:lnTo>
                      <a:pt x="4" y="102"/>
                    </a:lnTo>
                    <a:lnTo>
                      <a:pt x="8" y="103"/>
                    </a:lnTo>
                    <a:lnTo>
                      <a:pt x="13" y="104"/>
                    </a:lnTo>
                    <a:lnTo>
                      <a:pt x="17" y="105"/>
                    </a:lnTo>
                    <a:lnTo>
                      <a:pt x="23" y="105"/>
                    </a:lnTo>
                    <a:lnTo>
                      <a:pt x="27" y="105"/>
                    </a:lnTo>
                    <a:lnTo>
                      <a:pt x="32" y="104"/>
                    </a:lnTo>
                    <a:lnTo>
                      <a:pt x="38" y="102"/>
                    </a:lnTo>
                    <a:lnTo>
                      <a:pt x="43" y="101"/>
                    </a:lnTo>
                    <a:lnTo>
                      <a:pt x="48" y="98"/>
                    </a:lnTo>
                    <a:lnTo>
                      <a:pt x="53" y="95"/>
                    </a:lnTo>
                    <a:lnTo>
                      <a:pt x="55" y="93"/>
                    </a:lnTo>
                    <a:lnTo>
                      <a:pt x="58" y="91"/>
                    </a:lnTo>
                    <a:lnTo>
                      <a:pt x="61" y="90"/>
                    </a:lnTo>
                    <a:lnTo>
                      <a:pt x="63" y="88"/>
                    </a:lnTo>
                    <a:lnTo>
                      <a:pt x="65" y="86"/>
                    </a:lnTo>
                    <a:lnTo>
                      <a:pt x="67" y="83"/>
                    </a:lnTo>
                    <a:lnTo>
                      <a:pt x="69" y="82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5"/>
                    </a:lnTo>
                    <a:lnTo>
                      <a:pt x="76" y="72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80" y="64"/>
                    </a:lnTo>
                    <a:lnTo>
                      <a:pt x="81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4" y="54"/>
                    </a:lnTo>
                    <a:lnTo>
                      <a:pt x="85" y="52"/>
                    </a:lnTo>
                    <a:lnTo>
                      <a:pt x="85" y="49"/>
                    </a:lnTo>
                    <a:lnTo>
                      <a:pt x="86" y="46"/>
                    </a:lnTo>
                    <a:lnTo>
                      <a:pt x="87" y="44"/>
                    </a:lnTo>
                    <a:lnTo>
                      <a:pt x="87" y="41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6" y="28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3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5" y="6"/>
                    </a:lnTo>
                    <a:lnTo>
                      <a:pt x="72" y="3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7461000">
                <a:off x="5047560" y="365184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9" y="0"/>
                    </a:moveTo>
                    <a:lnTo>
                      <a:pt x="91" y="14"/>
                    </a:lnTo>
                    <a:lnTo>
                      <a:pt x="95" y="16"/>
                    </a:lnTo>
                    <a:lnTo>
                      <a:pt x="98" y="19"/>
                    </a:lnTo>
                    <a:lnTo>
                      <a:pt x="102" y="23"/>
                    </a:lnTo>
                    <a:lnTo>
                      <a:pt x="104" y="27"/>
                    </a:lnTo>
                    <a:lnTo>
                      <a:pt x="106" y="31"/>
                    </a:lnTo>
                    <a:lnTo>
                      <a:pt x="107" y="34"/>
                    </a:lnTo>
                    <a:lnTo>
                      <a:pt x="108" y="36"/>
                    </a:lnTo>
                    <a:lnTo>
                      <a:pt x="109" y="39"/>
                    </a:lnTo>
                    <a:lnTo>
                      <a:pt x="109" y="41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0" y="54"/>
                    </a:lnTo>
                    <a:lnTo>
                      <a:pt x="110" y="57"/>
                    </a:lnTo>
                    <a:lnTo>
                      <a:pt x="109" y="59"/>
                    </a:lnTo>
                    <a:lnTo>
                      <a:pt x="109" y="62"/>
                    </a:lnTo>
                    <a:lnTo>
                      <a:pt x="108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6" y="73"/>
                    </a:lnTo>
                    <a:lnTo>
                      <a:pt x="105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1" y="82"/>
                    </a:lnTo>
                    <a:lnTo>
                      <a:pt x="99" y="85"/>
                    </a:lnTo>
                    <a:lnTo>
                      <a:pt x="98" y="88"/>
                    </a:lnTo>
                    <a:lnTo>
                      <a:pt x="96" y="90"/>
                    </a:lnTo>
                    <a:lnTo>
                      <a:pt x="94" y="92"/>
                    </a:lnTo>
                    <a:lnTo>
                      <a:pt x="92" y="95"/>
                    </a:lnTo>
                    <a:lnTo>
                      <a:pt x="90" y="97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4" y="103"/>
                    </a:lnTo>
                    <a:lnTo>
                      <a:pt x="82" y="104"/>
                    </a:lnTo>
                    <a:lnTo>
                      <a:pt x="79" y="107"/>
                    </a:lnTo>
                    <a:lnTo>
                      <a:pt x="76" y="108"/>
                    </a:lnTo>
                    <a:lnTo>
                      <a:pt x="72" y="111"/>
                    </a:lnTo>
                    <a:lnTo>
                      <a:pt x="66" y="114"/>
                    </a:lnTo>
                    <a:lnTo>
                      <a:pt x="61" y="116"/>
                    </a:lnTo>
                    <a:lnTo>
                      <a:pt x="56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1" y="118"/>
                    </a:lnTo>
                    <a:lnTo>
                      <a:pt x="36" y="118"/>
                    </a:lnTo>
                    <a:lnTo>
                      <a:pt x="31" y="116"/>
                    </a:lnTo>
                    <a:lnTo>
                      <a:pt x="27" y="115"/>
                    </a:lnTo>
                    <a:lnTo>
                      <a:pt x="23" y="113"/>
                    </a:lnTo>
                    <a:lnTo>
                      <a:pt x="0" y="99"/>
                    </a:lnTo>
                    <a:lnTo>
                      <a:pt x="4" y="101"/>
                    </a:lnTo>
                    <a:lnTo>
                      <a:pt x="9" y="103"/>
                    </a:lnTo>
                    <a:lnTo>
                      <a:pt x="14" y="104"/>
                    </a:lnTo>
                    <a:lnTo>
                      <a:pt x="18" y="104"/>
                    </a:lnTo>
                    <a:lnTo>
                      <a:pt x="23" y="105"/>
                    </a:lnTo>
                    <a:lnTo>
                      <a:pt x="28" y="104"/>
                    </a:lnTo>
                    <a:lnTo>
                      <a:pt x="33" y="104"/>
                    </a:lnTo>
                    <a:lnTo>
                      <a:pt x="38" y="102"/>
                    </a:lnTo>
                    <a:lnTo>
                      <a:pt x="44" y="100"/>
                    </a:lnTo>
                    <a:lnTo>
                      <a:pt x="49" y="97"/>
                    </a:lnTo>
                    <a:lnTo>
                      <a:pt x="54" y="95"/>
                    </a:lnTo>
                    <a:lnTo>
                      <a:pt x="56" y="93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4" y="88"/>
                    </a:lnTo>
                    <a:lnTo>
                      <a:pt x="66" y="85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3" y="77"/>
                    </a:lnTo>
                    <a:lnTo>
                      <a:pt x="75" y="74"/>
                    </a:lnTo>
                    <a:lnTo>
                      <a:pt x="76" y="72"/>
                    </a:lnTo>
                    <a:lnTo>
                      <a:pt x="78" y="69"/>
                    </a:lnTo>
                    <a:lnTo>
                      <a:pt x="80" y="67"/>
                    </a:lnTo>
                    <a:lnTo>
                      <a:pt x="81" y="64"/>
                    </a:lnTo>
                    <a:lnTo>
                      <a:pt x="82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5" y="54"/>
                    </a:lnTo>
                    <a:lnTo>
                      <a:pt x="86" y="51"/>
                    </a:lnTo>
                    <a:lnTo>
                      <a:pt x="86" y="48"/>
                    </a:lnTo>
                    <a:lnTo>
                      <a:pt x="87" y="46"/>
                    </a:lnTo>
                    <a:lnTo>
                      <a:pt x="87" y="43"/>
                    </a:lnTo>
                    <a:lnTo>
                      <a:pt x="87" y="40"/>
                    </a:lnTo>
                    <a:lnTo>
                      <a:pt x="87" y="38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7" y="28"/>
                    </a:lnTo>
                    <a:lnTo>
                      <a:pt x="86" y="25"/>
                    </a:lnTo>
                    <a:lnTo>
                      <a:pt x="86" y="23"/>
                    </a:lnTo>
                    <a:lnTo>
                      <a:pt x="85" y="20"/>
                    </a:lnTo>
                    <a:lnTo>
                      <a:pt x="84" y="18"/>
                    </a:lnTo>
                    <a:lnTo>
                      <a:pt x="82" y="13"/>
                    </a:lnTo>
                    <a:lnTo>
                      <a:pt x="79" y="9"/>
                    </a:lnTo>
                    <a:lnTo>
                      <a:pt x="76" y="6"/>
                    </a:lnTo>
                    <a:lnTo>
                      <a:pt x="72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461000">
                <a:off x="5081040" y="3638520"/>
                <a:ext cx="168480" cy="17460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34" y="10"/>
                    </a:moveTo>
                    <a:lnTo>
                      <a:pt x="46" y="4"/>
                    </a:lnTo>
                    <a:lnTo>
                      <a:pt x="58" y="1"/>
                    </a:lnTo>
                    <a:lnTo>
                      <a:pt x="69" y="0"/>
                    </a:lnTo>
                    <a:lnTo>
                      <a:pt x="80" y="2"/>
                    </a:lnTo>
                    <a:lnTo>
                      <a:pt x="89" y="6"/>
                    </a:lnTo>
                    <a:lnTo>
                      <a:pt x="97" y="13"/>
                    </a:lnTo>
                    <a:lnTo>
                      <a:pt x="103" y="23"/>
                    </a:lnTo>
                    <a:lnTo>
                      <a:pt x="106" y="33"/>
                    </a:lnTo>
                    <a:lnTo>
                      <a:pt x="106" y="43"/>
                    </a:lnTo>
                    <a:lnTo>
                      <a:pt x="105" y="53"/>
                    </a:lnTo>
                    <a:lnTo>
                      <a:pt x="102" y="64"/>
                    </a:lnTo>
                    <a:lnTo>
                      <a:pt x="97" y="74"/>
                    </a:lnTo>
                    <a:lnTo>
                      <a:pt x="91" y="84"/>
                    </a:lnTo>
                    <a:lnTo>
                      <a:pt x="83" y="93"/>
                    </a:lnTo>
                    <a:lnTo>
                      <a:pt x="73" y="100"/>
                    </a:lnTo>
                    <a:lnTo>
                      <a:pt x="61" y="106"/>
                    </a:lnTo>
                    <a:lnTo>
                      <a:pt x="49" y="109"/>
                    </a:lnTo>
                    <a:lnTo>
                      <a:pt x="38" y="110"/>
                    </a:lnTo>
                    <a:lnTo>
                      <a:pt x="27" y="108"/>
                    </a:lnTo>
                    <a:lnTo>
                      <a:pt x="18" y="103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7"/>
                    </a:lnTo>
                    <a:lnTo>
                      <a:pt x="0" y="67"/>
                    </a:lnTo>
                    <a:lnTo>
                      <a:pt x="2" y="56"/>
                    </a:lnTo>
                    <a:lnTo>
                      <a:pt x="5" y="45"/>
                    </a:lnTo>
                    <a:lnTo>
                      <a:pt x="10" y="35"/>
                    </a:lnTo>
                    <a:lnTo>
                      <a:pt x="16" y="26"/>
                    </a:lnTo>
                    <a:lnTo>
                      <a:pt x="25" y="17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461000">
                <a:off x="5051160" y="365220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8" y="0"/>
                    </a:moveTo>
                    <a:lnTo>
                      <a:pt x="91" y="14"/>
                    </a:lnTo>
                    <a:lnTo>
                      <a:pt x="94" y="17"/>
                    </a:lnTo>
                    <a:lnTo>
                      <a:pt x="98" y="19"/>
                    </a:lnTo>
                    <a:lnTo>
                      <a:pt x="101" y="23"/>
                    </a:lnTo>
                    <a:lnTo>
                      <a:pt x="103" y="27"/>
                    </a:lnTo>
                    <a:lnTo>
                      <a:pt x="106" y="32"/>
                    </a:lnTo>
                    <a:lnTo>
                      <a:pt x="107" y="34"/>
                    </a:lnTo>
                    <a:lnTo>
                      <a:pt x="107" y="37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2"/>
                    </a:lnTo>
                    <a:lnTo>
                      <a:pt x="109" y="54"/>
                    </a:lnTo>
                    <a:lnTo>
                      <a:pt x="109" y="57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5" y="73"/>
                    </a:lnTo>
                    <a:lnTo>
                      <a:pt x="104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0" y="83"/>
                    </a:lnTo>
                    <a:lnTo>
                      <a:pt x="99" y="86"/>
                    </a:lnTo>
                    <a:lnTo>
                      <a:pt x="97" y="88"/>
                    </a:lnTo>
                    <a:lnTo>
                      <a:pt x="95" y="90"/>
                    </a:lnTo>
                    <a:lnTo>
                      <a:pt x="93" y="93"/>
                    </a:lnTo>
                    <a:lnTo>
                      <a:pt x="92" y="95"/>
                    </a:lnTo>
                    <a:lnTo>
                      <a:pt x="89" y="97"/>
                    </a:lnTo>
                    <a:lnTo>
                      <a:pt x="87" y="99"/>
                    </a:lnTo>
                    <a:lnTo>
                      <a:pt x="85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9" y="107"/>
                    </a:lnTo>
                    <a:lnTo>
                      <a:pt x="76" y="109"/>
                    </a:lnTo>
                    <a:lnTo>
                      <a:pt x="71" y="112"/>
                    </a:lnTo>
                    <a:lnTo>
                      <a:pt x="65" y="114"/>
                    </a:lnTo>
                    <a:lnTo>
                      <a:pt x="60" y="116"/>
                    </a:lnTo>
                    <a:lnTo>
                      <a:pt x="55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0" y="118"/>
                    </a:lnTo>
                    <a:lnTo>
                      <a:pt x="35" y="118"/>
                    </a:lnTo>
                    <a:lnTo>
                      <a:pt x="31" y="117"/>
                    </a:lnTo>
                    <a:lnTo>
                      <a:pt x="27" y="115"/>
                    </a:lnTo>
                    <a:lnTo>
                      <a:pt x="22" y="113"/>
                    </a:lnTo>
                    <a:lnTo>
                      <a:pt x="0" y="99"/>
                    </a:lnTo>
                    <a:lnTo>
                      <a:pt x="4" y="102"/>
                    </a:lnTo>
                    <a:lnTo>
                      <a:pt x="8" y="103"/>
                    </a:lnTo>
                    <a:lnTo>
                      <a:pt x="13" y="104"/>
                    </a:lnTo>
                    <a:lnTo>
                      <a:pt x="17" y="105"/>
                    </a:lnTo>
                    <a:lnTo>
                      <a:pt x="23" y="105"/>
                    </a:lnTo>
                    <a:lnTo>
                      <a:pt x="27" y="105"/>
                    </a:lnTo>
                    <a:lnTo>
                      <a:pt x="32" y="104"/>
                    </a:lnTo>
                    <a:lnTo>
                      <a:pt x="38" y="102"/>
                    </a:lnTo>
                    <a:lnTo>
                      <a:pt x="43" y="101"/>
                    </a:lnTo>
                    <a:lnTo>
                      <a:pt x="48" y="98"/>
                    </a:lnTo>
                    <a:lnTo>
                      <a:pt x="53" y="95"/>
                    </a:lnTo>
                    <a:lnTo>
                      <a:pt x="55" y="93"/>
                    </a:lnTo>
                    <a:lnTo>
                      <a:pt x="58" y="91"/>
                    </a:lnTo>
                    <a:lnTo>
                      <a:pt x="61" y="90"/>
                    </a:lnTo>
                    <a:lnTo>
                      <a:pt x="63" y="88"/>
                    </a:lnTo>
                    <a:lnTo>
                      <a:pt x="65" y="86"/>
                    </a:lnTo>
                    <a:lnTo>
                      <a:pt x="67" y="83"/>
                    </a:lnTo>
                    <a:lnTo>
                      <a:pt x="69" y="82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5"/>
                    </a:lnTo>
                    <a:lnTo>
                      <a:pt x="76" y="72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80" y="64"/>
                    </a:lnTo>
                    <a:lnTo>
                      <a:pt x="81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4" y="54"/>
                    </a:lnTo>
                    <a:lnTo>
                      <a:pt x="85" y="52"/>
                    </a:lnTo>
                    <a:lnTo>
                      <a:pt x="85" y="49"/>
                    </a:lnTo>
                    <a:lnTo>
                      <a:pt x="86" y="46"/>
                    </a:lnTo>
                    <a:lnTo>
                      <a:pt x="87" y="44"/>
                    </a:lnTo>
                    <a:lnTo>
                      <a:pt x="87" y="41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6" y="28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3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5" y="6"/>
                    </a:lnTo>
                    <a:lnTo>
                      <a:pt x="72" y="3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7461000">
                <a:off x="5084640" y="3639240"/>
                <a:ext cx="168120" cy="17460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34" y="10"/>
                    </a:moveTo>
                    <a:lnTo>
                      <a:pt x="46" y="4"/>
                    </a:lnTo>
                    <a:lnTo>
                      <a:pt x="57" y="1"/>
                    </a:lnTo>
                    <a:lnTo>
                      <a:pt x="69" y="0"/>
                    </a:lnTo>
                    <a:lnTo>
                      <a:pt x="79" y="2"/>
                    </a:lnTo>
                    <a:lnTo>
                      <a:pt x="88" y="7"/>
                    </a:lnTo>
                    <a:lnTo>
                      <a:pt x="96" y="13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5" y="33"/>
                    </a:lnTo>
                    <a:lnTo>
                      <a:pt x="106" y="43"/>
                    </a:lnTo>
                    <a:lnTo>
                      <a:pt x="104" y="54"/>
                    </a:lnTo>
                    <a:lnTo>
                      <a:pt x="102" y="64"/>
                    </a:lnTo>
                    <a:lnTo>
                      <a:pt x="96" y="74"/>
                    </a:lnTo>
                    <a:lnTo>
                      <a:pt x="90" y="84"/>
                    </a:lnTo>
                    <a:lnTo>
                      <a:pt x="82" y="93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61" y="106"/>
                    </a:lnTo>
                    <a:lnTo>
                      <a:pt x="49" y="110"/>
                    </a:lnTo>
                    <a:lnTo>
                      <a:pt x="37" y="110"/>
                    </a:lnTo>
                    <a:lnTo>
                      <a:pt x="27" y="108"/>
                    </a:lnTo>
                    <a:lnTo>
                      <a:pt x="17" y="103"/>
                    </a:lnTo>
                    <a:lnTo>
                      <a:pt x="9" y="96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1" y="77"/>
                    </a:lnTo>
                    <a:lnTo>
                      <a:pt x="0" y="67"/>
                    </a:lnTo>
                    <a:lnTo>
                      <a:pt x="1" y="56"/>
                    </a:lnTo>
                    <a:lnTo>
                      <a:pt x="4" y="46"/>
                    </a:lnTo>
                    <a:lnTo>
                      <a:pt x="9" y="35"/>
                    </a:lnTo>
                    <a:lnTo>
                      <a:pt x="16" y="26"/>
                    </a:lnTo>
                    <a:lnTo>
                      <a:pt x="24" y="1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7461000">
                <a:off x="5257800" y="376740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9" y="0"/>
                    </a:moveTo>
                    <a:lnTo>
                      <a:pt x="163" y="95"/>
                    </a:lnTo>
                    <a:lnTo>
                      <a:pt x="165" y="96"/>
                    </a:lnTo>
                    <a:lnTo>
                      <a:pt x="166" y="98"/>
                    </a:lnTo>
                    <a:lnTo>
                      <a:pt x="167" y="100"/>
                    </a:lnTo>
                    <a:lnTo>
                      <a:pt x="168" y="103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7" y="116"/>
                    </a:lnTo>
                    <a:lnTo>
                      <a:pt x="166" y="119"/>
                    </a:lnTo>
                    <a:lnTo>
                      <a:pt x="165" y="122"/>
                    </a:lnTo>
                    <a:lnTo>
                      <a:pt x="164" y="125"/>
                    </a:lnTo>
                    <a:lnTo>
                      <a:pt x="162" y="127"/>
                    </a:lnTo>
                    <a:lnTo>
                      <a:pt x="160" y="130"/>
                    </a:lnTo>
                    <a:lnTo>
                      <a:pt x="158" y="133"/>
                    </a:lnTo>
                    <a:lnTo>
                      <a:pt x="156" y="136"/>
                    </a:lnTo>
                    <a:lnTo>
                      <a:pt x="153" y="138"/>
                    </a:lnTo>
                    <a:lnTo>
                      <a:pt x="151" y="141"/>
                    </a:lnTo>
                    <a:lnTo>
                      <a:pt x="148" y="143"/>
                    </a:lnTo>
                    <a:lnTo>
                      <a:pt x="145" y="145"/>
                    </a:lnTo>
                    <a:lnTo>
                      <a:pt x="142" y="146"/>
                    </a:lnTo>
                    <a:lnTo>
                      <a:pt x="140" y="148"/>
                    </a:lnTo>
                    <a:lnTo>
                      <a:pt x="137" y="149"/>
                    </a:lnTo>
                    <a:lnTo>
                      <a:pt x="134" y="150"/>
                    </a:lnTo>
                    <a:lnTo>
                      <a:pt x="131" y="151"/>
                    </a:lnTo>
                    <a:lnTo>
                      <a:pt x="128" y="151"/>
                    </a:lnTo>
                    <a:lnTo>
                      <a:pt x="126" y="152"/>
                    </a:lnTo>
                    <a:lnTo>
                      <a:pt x="123" y="151"/>
                    </a:lnTo>
                    <a:lnTo>
                      <a:pt x="121" y="150"/>
                    </a:lnTo>
                    <a:lnTo>
                      <a:pt x="119" y="150"/>
                    </a:lnTo>
                    <a:lnTo>
                      <a:pt x="117" y="149"/>
                    </a:lnTo>
                    <a:lnTo>
                      <a:pt x="115" y="148"/>
                    </a:lnTo>
                    <a:lnTo>
                      <a:pt x="0" y="53"/>
                    </a:lnTo>
                    <a:lnTo>
                      <a:pt x="2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5"/>
                    </a:lnTo>
                    <a:lnTo>
                      <a:pt x="22" y="54"/>
                    </a:lnTo>
                    <a:lnTo>
                      <a:pt x="25" y="53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1" y="41"/>
                    </a:lnTo>
                    <a:lnTo>
                      <a:pt x="43" y="38"/>
                    </a:lnTo>
                    <a:lnTo>
                      <a:pt x="46" y="35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50" y="27"/>
                    </a:lnTo>
                    <a:lnTo>
                      <a:pt x="52" y="24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4" y="15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3" y="8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7461000">
                <a:off x="5257800" y="376740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9" y="0"/>
                    </a:moveTo>
                    <a:lnTo>
                      <a:pt x="163" y="95"/>
                    </a:lnTo>
                    <a:lnTo>
                      <a:pt x="165" y="96"/>
                    </a:lnTo>
                    <a:lnTo>
                      <a:pt x="166" y="98"/>
                    </a:lnTo>
                    <a:lnTo>
                      <a:pt x="167" y="100"/>
                    </a:lnTo>
                    <a:lnTo>
                      <a:pt x="168" y="103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7" y="116"/>
                    </a:lnTo>
                    <a:lnTo>
                      <a:pt x="166" y="119"/>
                    </a:lnTo>
                    <a:lnTo>
                      <a:pt x="165" y="122"/>
                    </a:lnTo>
                    <a:lnTo>
                      <a:pt x="164" y="125"/>
                    </a:lnTo>
                    <a:lnTo>
                      <a:pt x="162" y="127"/>
                    </a:lnTo>
                    <a:lnTo>
                      <a:pt x="160" y="130"/>
                    </a:lnTo>
                    <a:lnTo>
                      <a:pt x="158" y="133"/>
                    </a:lnTo>
                    <a:lnTo>
                      <a:pt x="156" y="136"/>
                    </a:lnTo>
                    <a:lnTo>
                      <a:pt x="153" y="138"/>
                    </a:lnTo>
                    <a:lnTo>
                      <a:pt x="151" y="141"/>
                    </a:lnTo>
                    <a:lnTo>
                      <a:pt x="148" y="143"/>
                    </a:lnTo>
                    <a:lnTo>
                      <a:pt x="145" y="145"/>
                    </a:lnTo>
                    <a:lnTo>
                      <a:pt x="142" y="146"/>
                    </a:lnTo>
                    <a:lnTo>
                      <a:pt x="140" y="148"/>
                    </a:lnTo>
                    <a:lnTo>
                      <a:pt x="137" y="149"/>
                    </a:lnTo>
                    <a:lnTo>
                      <a:pt x="134" y="150"/>
                    </a:lnTo>
                    <a:lnTo>
                      <a:pt x="131" y="151"/>
                    </a:lnTo>
                    <a:lnTo>
                      <a:pt x="128" y="151"/>
                    </a:lnTo>
                    <a:lnTo>
                      <a:pt x="126" y="152"/>
                    </a:lnTo>
                    <a:lnTo>
                      <a:pt x="123" y="151"/>
                    </a:lnTo>
                    <a:lnTo>
                      <a:pt x="121" y="150"/>
                    </a:lnTo>
                    <a:lnTo>
                      <a:pt x="119" y="150"/>
                    </a:lnTo>
                    <a:lnTo>
                      <a:pt x="117" y="149"/>
                    </a:lnTo>
                    <a:lnTo>
                      <a:pt x="115" y="148"/>
                    </a:lnTo>
                    <a:lnTo>
                      <a:pt x="0" y="53"/>
                    </a:lnTo>
                    <a:lnTo>
                      <a:pt x="2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5"/>
                    </a:lnTo>
                    <a:lnTo>
                      <a:pt x="22" y="54"/>
                    </a:lnTo>
                    <a:lnTo>
                      <a:pt x="25" y="53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1" y="41"/>
                    </a:lnTo>
                    <a:lnTo>
                      <a:pt x="43" y="38"/>
                    </a:lnTo>
                    <a:lnTo>
                      <a:pt x="46" y="35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50" y="27"/>
                    </a:lnTo>
                    <a:lnTo>
                      <a:pt x="52" y="24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4" y="15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3" y="8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7461000">
                <a:off x="5461920" y="38059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13" y="15"/>
                    </a:moveTo>
                    <a:lnTo>
                      <a:pt x="27" y="4"/>
                    </a:lnTo>
                    <a:lnTo>
                      <a:pt x="42" y="0"/>
                    </a:lnTo>
                    <a:lnTo>
                      <a:pt x="54" y="4"/>
                    </a:lnTo>
                    <a:lnTo>
                      <a:pt x="59" y="15"/>
                    </a:lnTo>
                    <a:lnTo>
                      <a:pt x="56" y="30"/>
                    </a:lnTo>
                    <a:lnTo>
                      <a:pt x="46" y="45"/>
                    </a:lnTo>
                    <a:lnTo>
                      <a:pt x="32" y="57"/>
                    </a:lnTo>
                    <a:lnTo>
                      <a:pt x="17" y="61"/>
                    </a:lnTo>
                    <a:lnTo>
                      <a:pt x="5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7461000">
                <a:off x="5261400" y="376776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8" y="0"/>
                    </a:moveTo>
                    <a:lnTo>
                      <a:pt x="163" y="95"/>
                    </a:lnTo>
                    <a:lnTo>
                      <a:pt x="164" y="97"/>
                    </a:lnTo>
                    <a:lnTo>
                      <a:pt x="165" y="98"/>
                    </a:lnTo>
                    <a:lnTo>
                      <a:pt x="167" y="100"/>
                    </a:lnTo>
                    <a:lnTo>
                      <a:pt x="167" y="103"/>
                    </a:lnTo>
                    <a:lnTo>
                      <a:pt x="167" y="105"/>
                    </a:lnTo>
                    <a:lnTo>
                      <a:pt x="168" y="108"/>
                    </a:lnTo>
                    <a:lnTo>
                      <a:pt x="168" y="110"/>
                    </a:lnTo>
                    <a:lnTo>
                      <a:pt x="167" y="113"/>
                    </a:lnTo>
                    <a:lnTo>
                      <a:pt x="167" y="116"/>
                    </a:lnTo>
                    <a:lnTo>
                      <a:pt x="165" y="119"/>
                    </a:lnTo>
                    <a:lnTo>
                      <a:pt x="164" y="122"/>
                    </a:lnTo>
                    <a:lnTo>
                      <a:pt x="163" y="125"/>
                    </a:lnTo>
                    <a:lnTo>
                      <a:pt x="161" y="128"/>
                    </a:lnTo>
                    <a:lnTo>
                      <a:pt x="160" y="131"/>
                    </a:lnTo>
                    <a:lnTo>
                      <a:pt x="157" y="133"/>
                    </a:lnTo>
                    <a:lnTo>
                      <a:pt x="155" y="136"/>
                    </a:lnTo>
                    <a:lnTo>
                      <a:pt x="152" y="139"/>
                    </a:lnTo>
                    <a:lnTo>
                      <a:pt x="150" y="142"/>
                    </a:lnTo>
                    <a:lnTo>
                      <a:pt x="147" y="143"/>
                    </a:lnTo>
                    <a:lnTo>
                      <a:pt x="144" y="146"/>
                    </a:lnTo>
                    <a:lnTo>
                      <a:pt x="141" y="147"/>
                    </a:lnTo>
                    <a:lnTo>
                      <a:pt x="139" y="148"/>
                    </a:lnTo>
                    <a:lnTo>
                      <a:pt x="136" y="150"/>
                    </a:lnTo>
                    <a:lnTo>
                      <a:pt x="133" y="151"/>
                    </a:lnTo>
                    <a:lnTo>
                      <a:pt x="130" y="151"/>
                    </a:lnTo>
                    <a:lnTo>
                      <a:pt x="127" y="151"/>
                    </a:lnTo>
                    <a:lnTo>
                      <a:pt x="125" y="152"/>
                    </a:lnTo>
                    <a:lnTo>
                      <a:pt x="122" y="151"/>
                    </a:lnTo>
                    <a:lnTo>
                      <a:pt x="120" y="151"/>
                    </a:lnTo>
                    <a:lnTo>
                      <a:pt x="118" y="150"/>
                    </a:lnTo>
                    <a:lnTo>
                      <a:pt x="116" y="149"/>
                    </a:lnTo>
                    <a:lnTo>
                      <a:pt x="114" y="1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4" y="55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5"/>
                    </a:lnTo>
                    <a:lnTo>
                      <a:pt x="24" y="53"/>
                    </a:lnTo>
                    <a:lnTo>
                      <a:pt x="27" y="52"/>
                    </a:lnTo>
                    <a:lnTo>
                      <a:pt x="29" y="51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40" y="41"/>
                    </a:lnTo>
                    <a:lnTo>
                      <a:pt x="43" y="39"/>
                    </a:lnTo>
                    <a:lnTo>
                      <a:pt x="45" y="36"/>
                    </a:lnTo>
                    <a:lnTo>
                      <a:pt x="47" y="33"/>
                    </a:lnTo>
                    <a:lnTo>
                      <a:pt x="48" y="30"/>
                    </a:lnTo>
                    <a:lnTo>
                      <a:pt x="50" y="27"/>
                    </a:lnTo>
                    <a:lnTo>
                      <a:pt x="51" y="24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3" y="10"/>
                    </a:lnTo>
                    <a:lnTo>
                      <a:pt x="53" y="8"/>
                    </a:lnTo>
                    <a:lnTo>
                      <a:pt x="52" y="6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163" y="95"/>
                    </a:lnTo>
                    <a:lnTo>
                      <a:pt x="164" y="97"/>
                    </a:lnTo>
                    <a:lnTo>
                      <a:pt x="165" y="98"/>
                    </a:lnTo>
                    <a:lnTo>
                      <a:pt x="167" y="100"/>
                    </a:lnTo>
                    <a:lnTo>
                      <a:pt x="167" y="103"/>
                    </a:lnTo>
                    <a:lnTo>
                      <a:pt x="167" y="105"/>
                    </a:lnTo>
                    <a:lnTo>
                      <a:pt x="168" y="108"/>
                    </a:lnTo>
                    <a:lnTo>
                      <a:pt x="168" y="110"/>
                    </a:lnTo>
                    <a:lnTo>
                      <a:pt x="167" y="113"/>
                    </a:lnTo>
                    <a:lnTo>
                      <a:pt x="167" y="116"/>
                    </a:lnTo>
                    <a:lnTo>
                      <a:pt x="165" y="119"/>
                    </a:lnTo>
                    <a:lnTo>
                      <a:pt x="164" y="122"/>
                    </a:lnTo>
                    <a:lnTo>
                      <a:pt x="163" y="125"/>
                    </a:lnTo>
                    <a:lnTo>
                      <a:pt x="161" y="128"/>
                    </a:lnTo>
                    <a:lnTo>
                      <a:pt x="160" y="131"/>
                    </a:lnTo>
                    <a:lnTo>
                      <a:pt x="157" y="133"/>
                    </a:lnTo>
                    <a:lnTo>
                      <a:pt x="155" y="136"/>
                    </a:lnTo>
                    <a:lnTo>
                      <a:pt x="152" y="139"/>
                    </a:lnTo>
                    <a:lnTo>
                      <a:pt x="150" y="142"/>
                    </a:lnTo>
                    <a:lnTo>
                      <a:pt x="147" y="143"/>
                    </a:lnTo>
                    <a:lnTo>
                      <a:pt x="144" y="146"/>
                    </a:lnTo>
                    <a:lnTo>
                      <a:pt x="141" y="147"/>
                    </a:lnTo>
                    <a:lnTo>
                      <a:pt x="139" y="148"/>
                    </a:lnTo>
                    <a:lnTo>
                      <a:pt x="136" y="150"/>
                    </a:lnTo>
                    <a:lnTo>
                      <a:pt x="133" y="151"/>
                    </a:lnTo>
                    <a:lnTo>
                      <a:pt x="130" y="151"/>
                    </a:lnTo>
                    <a:lnTo>
                      <a:pt x="127" y="151"/>
                    </a:lnTo>
                    <a:lnTo>
                      <a:pt x="125" y="152"/>
                    </a:lnTo>
                    <a:lnTo>
                      <a:pt x="122" y="151"/>
                    </a:lnTo>
                    <a:lnTo>
                      <a:pt x="120" y="151"/>
                    </a:lnTo>
                    <a:lnTo>
                      <a:pt x="118" y="150"/>
                    </a:lnTo>
                    <a:lnTo>
                      <a:pt x="116" y="149"/>
                    </a:lnTo>
                    <a:lnTo>
                      <a:pt x="114" y="1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4" y="55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5"/>
                    </a:lnTo>
                    <a:lnTo>
                      <a:pt x="24" y="53"/>
                    </a:lnTo>
                    <a:lnTo>
                      <a:pt x="27" y="52"/>
                    </a:lnTo>
                    <a:lnTo>
                      <a:pt x="29" y="51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40" y="41"/>
                    </a:lnTo>
                    <a:lnTo>
                      <a:pt x="43" y="39"/>
                    </a:lnTo>
                    <a:lnTo>
                      <a:pt x="45" y="36"/>
                    </a:lnTo>
                    <a:lnTo>
                      <a:pt x="47" y="33"/>
                    </a:lnTo>
                    <a:lnTo>
                      <a:pt x="48" y="30"/>
                    </a:lnTo>
                    <a:lnTo>
                      <a:pt x="50" y="27"/>
                    </a:lnTo>
                    <a:lnTo>
                      <a:pt x="51" y="24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3" y="10"/>
                    </a:lnTo>
                    <a:lnTo>
                      <a:pt x="53" y="8"/>
                    </a:lnTo>
                    <a:lnTo>
                      <a:pt x="52" y="6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7461000">
                <a:off x="5466600" y="380520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13" y="15"/>
                    </a:moveTo>
                    <a:lnTo>
                      <a:pt x="27" y="4"/>
                    </a:lnTo>
                    <a:lnTo>
                      <a:pt x="42" y="0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9" y="15"/>
                    </a:lnTo>
                    <a:lnTo>
                      <a:pt x="56" y="30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32" y="57"/>
                    </a:lnTo>
                    <a:lnTo>
                      <a:pt x="17" y="61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7461000">
                <a:off x="5135040" y="3666960"/>
                <a:ext cx="133200" cy="10188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17" y="0"/>
                    </a:moveTo>
                    <a:lnTo>
                      <a:pt x="81" y="42"/>
                    </a:lnTo>
                    <a:lnTo>
                      <a:pt x="82" y="43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3"/>
                    </a:lnTo>
                    <a:lnTo>
                      <a:pt x="82" y="56"/>
                    </a:lnTo>
                    <a:lnTo>
                      <a:pt x="80" y="57"/>
                    </a:lnTo>
                    <a:lnTo>
                      <a:pt x="78" y="60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7461000">
                <a:off x="5135040" y="3666960"/>
                <a:ext cx="133200" cy="10188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17" y="0"/>
                    </a:moveTo>
                    <a:lnTo>
                      <a:pt x="81" y="42"/>
                    </a:lnTo>
                    <a:lnTo>
                      <a:pt x="82" y="43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3"/>
                    </a:lnTo>
                    <a:lnTo>
                      <a:pt x="82" y="56"/>
                    </a:lnTo>
                    <a:lnTo>
                      <a:pt x="80" y="57"/>
                    </a:lnTo>
                    <a:lnTo>
                      <a:pt x="78" y="60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7461000">
                <a:off x="5243040" y="36752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3" y="6"/>
                    </a:move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1" y="5"/>
                    </a:lnTo>
                    <a:lnTo>
                      <a:pt x="20" y="11"/>
                    </a:lnTo>
                    <a:lnTo>
                      <a:pt x="18" y="17"/>
                    </a:lnTo>
                    <a:lnTo>
                      <a:pt x="12" y="22"/>
                    </a:lnTo>
                    <a:lnTo>
                      <a:pt x="7" y="23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7461000">
                <a:off x="5138280" y="3665160"/>
                <a:ext cx="133560" cy="102960"/>
              </a:xfrm>
              <a:custGeom>
                <a:avLst/>
                <a:gdLst/>
                <a:ahLst/>
                <a:rect l="l" t="t" r="r" b="b"/>
                <a:pathLst>
                  <a:path w="84" h="65">
                    <a:moveTo>
                      <a:pt x="17" y="0"/>
                    </a:moveTo>
                    <a:lnTo>
                      <a:pt x="81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4" y="47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4"/>
                    </a:lnTo>
                    <a:lnTo>
                      <a:pt x="82" y="56"/>
                    </a:lnTo>
                    <a:lnTo>
                      <a:pt x="80" y="58"/>
                    </a:lnTo>
                    <a:lnTo>
                      <a:pt x="79" y="60"/>
                    </a:lnTo>
                    <a:lnTo>
                      <a:pt x="77" y="62"/>
                    </a:lnTo>
                    <a:lnTo>
                      <a:pt x="75" y="63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5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1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4" y="47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4"/>
                    </a:lnTo>
                    <a:lnTo>
                      <a:pt x="82" y="56"/>
                    </a:lnTo>
                    <a:lnTo>
                      <a:pt x="80" y="58"/>
                    </a:lnTo>
                    <a:lnTo>
                      <a:pt x="79" y="60"/>
                    </a:lnTo>
                    <a:lnTo>
                      <a:pt x="77" y="62"/>
                    </a:lnTo>
                    <a:lnTo>
                      <a:pt x="75" y="63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5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7461000">
                <a:off x="5246640" y="36730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3" y="6"/>
                    </a:moveTo>
                    <a:lnTo>
                      <a:pt x="9" y="2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5"/>
                    </a:lnTo>
                    <a:lnTo>
                      <a:pt x="21" y="11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3" y="22"/>
                    </a:lnTo>
                    <a:lnTo>
                      <a:pt x="7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7461000">
                <a:off x="4593240" y="3593520"/>
                <a:ext cx="457200" cy="541440"/>
              </a:xfrm>
              <a:custGeom>
                <a:avLst/>
                <a:gdLst/>
                <a:ahLst/>
                <a:rect l="l" t="t" r="r" b="b"/>
                <a:pathLst>
                  <a:path w="288" h="341">
                    <a:moveTo>
                      <a:pt x="0" y="278"/>
                    </a:moveTo>
                    <a:lnTo>
                      <a:pt x="90" y="341"/>
                    </a:lnTo>
                    <a:lnTo>
                      <a:pt x="288" y="242"/>
                    </a:lnTo>
                    <a:lnTo>
                      <a:pt x="288" y="54"/>
                    </a:lnTo>
                    <a:lnTo>
                      <a:pt x="207" y="0"/>
                    </a:lnTo>
                    <a:lnTo>
                      <a:pt x="207" y="179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7461000">
                <a:off x="4597560" y="3593880"/>
                <a:ext cx="455760" cy="539640"/>
              </a:xfrm>
              <a:custGeom>
                <a:avLst/>
                <a:gdLst/>
                <a:ahLst/>
                <a:rect l="l" t="t" r="r" b="b"/>
                <a:pathLst>
                  <a:path w="287" h="340">
                    <a:moveTo>
                      <a:pt x="0" y="277"/>
                    </a:moveTo>
                    <a:lnTo>
                      <a:pt x="90" y="340"/>
                    </a:lnTo>
                    <a:lnTo>
                      <a:pt x="287" y="241"/>
                    </a:lnTo>
                    <a:lnTo>
                      <a:pt x="287" y="54"/>
                    </a:lnTo>
                    <a:lnTo>
                      <a:pt x="206" y="0"/>
                    </a:lnTo>
                    <a:lnTo>
                      <a:pt x="206" y="179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7461000">
                <a:off x="4788000" y="4019040"/>
                <a:ext cx="114120" cy="114120"/>
              </a:xfrm>
              <a:prstGeom prst="ellipse">
                <a:avLst/>
              </a:prstGeom>
              <a:solidFill>
                <a:srgbClr val="cccccc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7461000">
                <a:off x="4604400" y="4140000"/>
                <a:ext cx="357120" cy="243000"/>
              </a:xfrm>
              <a:custGeom>
                <a:avLst/>
                <a:gdLst/>
                <a:ahLst/>
                <a:rect l="l" t="t" r="r" b="b"/>
                <a:pathLst>
                  <a:path w="225" h="153">
                    <a:moveTo>
                      <a:pt x="0" y="117"/>
                    </a:moveTo>
                    <a:lnTo>
                      <a:pt x="225" y="0"/>
                    </a:lnTo>
                    <a:lnTo>
                      <a:pt x="54" y="15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7461000">
                <a:off x="3584880" y="4723560"/>
                <a:ext cx="1741320" cy="512640"/>
              </a:xfrm>
              <a:custGeom>
                <a:avLst/>
                <a:gdLst/>
                <a:ahLst/>
                <a:rect l="l" t="t" r="r" b="b"/>
                <a:pathLst>
                  <a:path w="1097" h="323">
                    <a:moveTo>
                      <a:pt x="1097" y="144"/>
                    </a:moveTo>
                    <a:lnTo>
                      <a:pt x="0" y="323"/>
                    </a:lnTo>
                    <a:lnTo>
                      <a:pt x="171" y="170"/>
                    </a:lnTo>
                    <a:lnTo>
                      <a:pt x="1097" y="0"/>
                    </a:lnTo>
                    <a:lnTo>
                      <a:pt x="1097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7461000">
                <a:off x="4608000" y="4139640"/>
                <a:ext cx="357120" cy="241200"/>
              </a:xfrm>
              <a:custGeom>
                <a:avLst/>
                <a:gdLst/>
                <a:ahLst/>
                <a:rect l="l" t="t" r="r" b="b"/>
                <a:pathLst>
                  <a:path w="225" h="152">
                    <a:moveTo>
                      <a:pt x="0" y="116"/>
                    </a:moveTo>
                    <a:lnTo>
                      <a:pt x="225" y="0"/>
                    </a:lnTo>
                    <a:lnTo>
                      <a:pt x="54" y="15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7461000">
                <a:off x="3587040" y="4723920"/>
                <a:ext cx="1743120" cy="511200"/>
              </a:xfrm>
              <a:custGeom>
                <a:avLst/>
                <a:gdLst/>
                <a:ahLst/>
                <a:rect l="l" t="t" r="r" b="b"/>
                <a:pathLst>
                  <a:path w="1098" h="322">
                    <a:moveTo>
                      <a:pt x="1098" y="143"/>
                    </a:moveTo>
                    <a:lnTo>
                      <a:pt x="0" y="322"/>
                    </a:lnTo>
                    <a:lnTo>
                      <a:pt x="171" y="170"/>
                    </a:lnTo>
                    <a:lnTo>
                      <a:pt x="1098" y="0"/>
                    </a:lnTo>
                    <a:lnTo>
                      <a:pt x="1098" y="143"/>
                    </a:lnTo>
                    <a:lnTo>
                      <a:pt x="1098" y="143"/>
                    </a:lnTo>
                    <a:lnTo>
                      <a:pt x="1098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7461000">
                <a:off x="3902760" y="57589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45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44" y="4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7461000">
                <a:off x="3596400" y="6136200"/>
                <a:ext cx="485640" cy="270000"/>
              </a:xfrm>
              <a:custGeom>
                <a:avLst/>
                <a:gdLst/>
                <a:ahLst/>
                <a:rect l="l" t="t" r="r" b="b"/>
                <a:pathLst>
                  <a:path w="306" h="170">
                    <a:moveTo>
                      <a:pt x="0" y="27"/>
                    </a:moveTo>
                    <a:lnTo>
                      <a:pt x="225" y="0"/>
                    </a:lnTo>
                    <a:lnTo>
                      <a:pt x="306" y="134"/>
                    </a:lnTo>
                    <a:lnTo>
                      <a:pt x="18" y="17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7461000">
                <a:off x="3905280" y="576000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45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144" y="45"/>
                    </a:lnTo>
                    <a:lnTo>
                      <a:pt x="144" y="45"/>
                    </a:lnTo>
                    <a:lnTo>
                      <a:pt x="144" y="45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7461000">
                <a:off x="3601080" y="6135480"/>
                <a:ext cx="485640" cy="270000"/>
              </a:xfrm>
              <a:custGeom>
                <a:avLst/>
                <a:gdLst/>
                <a:ahLst/>
                <a:rect l="l" t="t" r="r" b="b"/>
                <a:pathLst>
                  <a:path w="306" h="170">
                    <a:moveTo>
                      <a:pt x="0" y="27"/>
                    </a:moveTo>
                    <a:lnTo>
                      <a:pt x="225" y="0"/>
                    </a:lnTo>
                    <a:lnTo>
                      <a:pt x="306" y="135"/>
                    </a:lnTo>
                    <a:lnTo>
                      <a:pt x="18" y="17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057200" y="5843520"/>
                <a:ext cx="121320" cy="27864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853800" y="5715360"/>
                <a:ext cx="137160" cy="30204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7461000">
                <a:off x="3987360" y="593748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8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7461000">
                <a:off x="3931200" y="5967360"/>
                <a:ext cx="50760" cy="144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5" y="0"/>
                    </a:moveTo>
                    <a:lnTo>
                      <a:pt x="0" y="9"/>
                    </a:lnTo>
                    <a:lnTo>
                      <a:pt x="28" y="9"/>
                    </a:lnTo>
                    <a:lnTo>
                      <a:pt x="3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7461000">
                <a:off x="3991680" y="5935680"/>
                <a:ext cx="6480" cy="7164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0"/>
                    </a:moveTo>
                    <a:lnTo>
                      <a:pt x="0" y="8"/>
                    </a:lnTo>
                    <a:lnTo>
                      <a:pt x="0" y="45"/>
                    </a:lnTo>
                    <a:lnTo>
                      <a:pt x="4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7461000">
                <a:off x="3935160" y="596592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4" y="0"/>
                    </a:moveTo>
                    <a:lnTo>
                      <a:pt x="0" y="10"/>
                    </a:lnTo>
                    <a:lnTo>
                      <a:pt x="27" y="10"/>
                    </a:lnTo>
                    <a:lnTo>
                      <a:pt x="3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7461000">
                <a:off x="3987360" y="593748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8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7461000">
                <a:off x="3931200" y="5967360"/>
                <a:ext cx="50760" cy="144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5" y="0"/>
                    </a:moveTo>
                    <a:lnTo>
                      <a:pt x="0" y="9"/>
                    </a:lnTo>
                    <a:lnTo>
                      <a:pt x="28" y="9"/>
                    </a:lnTo>
                    <a:lnTo>
                      <a:pt x="3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7461000">
                <a:off x="3991680" y="5935680"/>
                <a:ext cx="6480" cy="7164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0"/>
                    </a:moveTo>
                    <a:lnTo>
                      <a:pt x="0" y="8"/>
                    </a:lnTo>
                    <a:lnTo>
                      <a:pt x="0" y="45"/>
                    </a:lnTo>
                    <a:lnTo>
                      <a:pt x="4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7461000">
                <a:off x="3935160" y="596592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4" y="0"/>
                    </a:moveTo>
                    <a:lnTo>
                      <a:pt x="0" y="10"/>
                    </a:lnTo>
                    <a:lnTo>
                      <a:pt x="27" y="10"/>
                    </a:lnTo>
                    <a:lnTo>
                      <a:pt x="3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7461000">
                <a:off x="3961800" y="5969880"/>
                <a:ext cx="42840" cy="554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7461000">
                <a:off x="4527000" y="38682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27" y="54"/>
                    </a:lnTo>
                    <a:lnTo>
                      <a:pt x="27" y="0"/>
                    </a:lnTo>
                    <a:lnTo>
                      <a:pt x="0" y="17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7461000">
                <a:off x="3965760" y="5968440"/>
                <a:ext cx="42840" cy="55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0" y="0"/>
                    </a:moveTo>
                    <a:lnTo>
                      <a:pt x="0" y="35"/>
                    </a:lnTo>
                    <a:lnTo>
                      <a:pt x="27" y="35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7461000">
                <a:off x="4531320" y="386712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27" y="54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7461000">
                <a:off x="4063680" y="3858120"/>
                <a:ext cx="443160" cy="299880"/>
              </a:xfrm>
              <a:custGeom>
                <a:avLst/>
                <a:gdLst/>
                <a:ahLst/>
                <a:rect l="l" t="t" r="r" b="b"/>
                <a:pathLst>
                  <a:path w="279" h="189">
                    <a:moveTo>
                      <a:pt x="0" y="19"/>
                    </a:moveTo>
                    <a:lnTo>
                      <a:pt x="279" y="189"/>
                    </a:lnTo>
                    <a:lnTo>
                      <a:pt x="279" y="171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7461000">
                <a:off x="3931920" y="4120200"/>
                <a:ext cx="126720" cy="69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7461000">
                <a:off x="3934800" y="4119840"/>
                <a:ext cx="128520" cy="69840"/>
              </a:xfrm>
              <a:prstGeom prst="rect">
                <a:avLst/>
              </a:prstGeom>
              <a:solidFill>
                <a:srgbClr val="cccccc"/>
              </a:solidFill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7461000">
                <a:off x="3529080" y="3914280"/>
                <a:ext cx="571320" cy="35388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360" y="111"/>
                    </a:moveTo>
                    <a:lnTo>
                      <a:pt x="360" y="118"/>
                    </a:lnTo>
                    <a:lnTo>
                      <a:pt x="359" y="124"/>
                    </a:lnTo>
                    <a:lnTo>
                      <a:pt x="357" y="130"/>
                    </a:lnTo>
                    <a:lnTo>
                      <a:pt x="356" y="137"/>
                    </a:lnTo>
                    <a:lnTo>
                      <a:pt x="353" y="143"/>
                    </a:lnTo>
                    <a:lnTo>
                      <a:pt x="350" y="149"/>
                    </a:lnTo>
                    <a:lnTo>
                      <a:pt x="346" y="155"/>
                    </a:lnTo>
                    <a:lnTo>
                      <a:pt x="342" y="161"/>
                    </a:lnTo>
                    <a:lnTo>
                      <a:pt x="337" y="167"/>
                    </a:lnTo>
                    <a:lnTo>
                      <a:pt x="332" y="172"/>
                    </a:lnTo>
                    <a:lnTo>
                      <a:pt x="325" y="178"/>
                    </a:lnTo>
                    <a:lnTo>
                      <a:pt x="319" y="183"/>
                    </a:lnTo>
                    <a:lnTo>
                      <a:pt x="312" y="187"/>
                    </a:lnTo>
                    <a:lnTo>
                      <a:pt x="305" y="192"/>
                    </a:lnTo>
                    <a:lnTo>
                      <a:pt x="298" y="197"/>
                    </a:lnTo>
                    <a:lnTo>
                      <a:pt x="289" y="201"/>
                    </a:lnTo>
                    <a:lnTo>
                      <a:pt x="281" y="204"/>
                    </a:lnTo>
                    <a:lnTo>
                      <a:pt x="272" y="208"/>
                    </a:lnTo>
                    <a:lnTo>
                      <a:pt x="263" y="211"/>
                    </a:lnTo>
                    <a:lnTo>
                      <a:pt x="254" y="213"/>
                    </a:lnTo>
                    <a:lnTo>
                      <a:pt x="244" y="216"/>
                    </a:lnTo>
                    <a:lnTo>
                      <a:pt x="234" y="218"/>
                    </a:lnTo>
                    <a:lnTo>
                      <a:pt x="224" y="220"/>
                    </a:lnTo>
                    <a:lnTo>
                      <a:pt x="214" y="221"/>
                    </a:lnTo>
                    <a:lnTo>
                      <a:pt x="204" y="223"/>
                    </a:lnTo>
                    <a:lnTo>
                      <a:pt x="193" y="223"/>
                    </a:lnTo>
                    <a:lnTo>
                      <a:pt x="183" y="223"/>
                    </a:lnTo>
                    <a:lnTo>
                      <a:pt x="173" y="223"/>
                    </a:lnTo>
                    <a:lnTo>
                      <a:pt x="162" y="223"/>
                    </a:lnTo>
                    <a:lnTo>
                      <a:pt x="152" y="222"/>
                    </a:lnTo>
                    <a:lnTo>
                      <a:pt x="141" y="221"/>
                    </a:lnTo>
                    <a:lnTo>
                      <a:pt x="132" y="219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3" y="212"/>
                    </a:lnTo>
                    <a:lnTo>
                      <a:pt x="94" y="209"/>
                    </a:lnTo>
                    <a:lnTo>
                      <a:pt x="84" y="206"/>
                    </a:lnTo>
                    <a:lnTo>
                      <a:pt x="76" y="202"/>
                    </a:lnTo>
                    <a:lnTo>
                      <a:pt x="68" y="198"/>
                    </a:lnTo>
                    <a:lnTo>
                      <a:pt x="60" y="194"/>
                    </a:lnTo>
                    <a:lnTo>
                      <a:pt x="52" y="190"/>
                    </a:lnTo>
                    <a:lnTo>
                      <a:pt x="45" y="185"/>
                    </a:lnTo>
                    <a:lnTo>
                      <a:pt x="38" y="181"/>
                    </a:lnTo>
                    <a:lnTo>
                      <a:pt x="33" y="175"/>
                    </a:lnTo>
                    <a:lnTo>
                      <a:pt x="27" y="170"/>
                    </a:lnTo>
                    <a:lnTo>
                      <a:pt x="22" y="164"/>
                    </a:lnTo>
                    <a:lnTo>
                      <a:pt x="17" y="159"/>
                    </a:lnTo>
                    <a:lnTo>
                      <a:pt x="13" y="152"/>
                    </a:lnTo>
                    <a:lnTo>
                      <a:pt x="10" y="147"/>
                    </a:lnTo>
                    <a:lnTo>
                      <a:pt x="7" y="140"/>
                    </a:lnTo>
                    <a:lnTo>
                      <a:pt x="4" y="134"/>
                    </a:lnTo>
                    <a:lnTo>
                      <a:pt x="3" y="128"/>
                    </a:lnTo>
                    <a:lnTo>
                      <a:pt x="1" y="121"/>
                    </a:lnTo>
                    <a:lnTo>
                      <a:pt x="0" y="115"/>
                    </a:lnTo>
                    <a:lnTo>
                      <a:pt x="0" y="108"/>
                    </a:lnTo>
                    <a:lnTo>
                      <a:pt x="1" y="102"/>
                    </a:lnTo>
                    <a:lnTo>
                      <a:pt x="3" y="95"/>
                    </a:lnTo>
                    <a:lnTo>
                      <a:pt x="4" y="89"/>
                    </a:lnTo>
                    <a:lnTo>
                      <a:pt x="7" y="83"/>
                    </a:lnTo>
                    <a:lnTo>
                      <a:pt x="10" y="76"/>
                    </a:lnTo>
                    <a:lnTo>
                      <a:pt x="13" y="71"/>
                    </a:lnTo>
                    <a:lnTo>
                      <a:pt x="17" y="65"/>
                    </a:lnTo>
                    <a:lnTo>
                      <a:pt x="22" y="58"/>
                    </a:lnTo>
                    <a:lnTo>
                      <a:pt x="27" y="53"/>
                    </a:lnTo>
                    <a:lnTo>
                      <a:pt x="33" y="48"/>
                    </a:lnTo>
                    <a:lnTo>
                      <a:pt x="38" y="42"/>
                    </a:lnTo>
                    <a:lnTo>
                      <a:pt x="45" y="38"/>
                    </a:lnTo>
                    <a:lnTo>
                      <a:pt x="52" y="33"/>
                    </a:lnTo>
                    <a:lnTo>
                      <a:pt x="60" y="29"/>
                    </a:lnTo>
                    <a:lnTo>
                      <a:pt x="68" y="25"/>
                    </a:lnTo>
                    <a:lnTo>
                      <a:pt x="76" y="20"/>
                    </a:lnTo>
                    <a:lnTo>
                      <a:pt x="84" y="16"/>
                    </a:lnTo>
                    <a:lnTo>
                      <a:pt x="94" y="14"/>
                    </a:lnTo>
                    <a:lnTo>
                      <a:pt x="103" y="10"/>
                    </a:lnTo>
                    <a:lnTo>
                      <a:pt x="112" y="8"/>
                    </a:lnTo>
                    <a:lnTo>
                      <a:pt x="122" y="6"/>
                    </a:lnTo>
                    <a:lnTo>
                      <a:pt x="132" y="4"/>
                    </a:lnTo>
                    <a:lnTo>
                      <a:pt x="141" y="2"/>
                    </a:lnTo>
                    <a:lnTo>
                      <a:pt x="152" y="1"/>
                    </a:lnTo>
                    <a:lnTo>
                      <a:pt x="162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3" y="0"/>
                    </a:lnTo>
                    <a:lnTo>
                      <a:pt x="204" y="0"/>
                    </a:lnTo>
                    <a:lnTo>
                      <a:pt x="214" y="1"/>
                    </a:lnTo>
                    <a:lnTo>
                      <a:pt x="224" y="3"/>
                    </a:lnTo>
                    <a:lnTo>
                      <a:pt x="234" y="5"/>
                    </a:lnTo>
                    <a:lnTo>
                      <a:pt x="244" y="7"/>
                    </a:lnTo>
                    <a:lnTo>
                      <a:pt x="254" y="9"/>
                    </a:lnTo>
                    <a:lnTo>
                      <a:pt x="263" y="12"/>
                    </a:lnTo>
                    <a:lnTo>
                      <a:pt x="272" y="15"/>
                    </a:lnTo>
                    <a:lnTo>
                      <a:pt x="281" y="19"/>
                    </a:lnTo>
                    <a:lnTo>
                      <a:pt x="289" y="22"/>
                    </a:lnTo>
                    <a:lnTo>
                      <a:pt x="298" y="26"/>
                    </a:lnTo>
                    <a:lnTo>
                      <a:pt x="305" y="31"/>
                    </a:lnTo>
                    <a:lnTo>
                      <a:pt x="312" y="35"/>
                    </a:lnTo>
                    <a:lnTo>
                      <a:pt x="319" y="40"/>
                    </a:lnTo>
                    <a:lnTo>
                      <a:pt x="325" y="45"/>
                    </a:lnTo>
                    <a:lnTo>
                      <a:pt x="332" y="50"/>
                    </a:lnTo>
                    <a:lnTo>
                      <a:pt x="337" y="56"/>
                    </a:lnTo>
                    <a:lnTo>
                      <a:pt x="342" y="61"/>
                    </a:lnTo>
                    <a:lnTo>
                      <a:pt x="346" y="67"/>
                    </a:lnTo>
                    <a:lnTo>
                      <a:pt x="350" y="73"/>
                    </a:lnTo>
                    <a:lnTo>
                      <a:pt x="353" y="80"/>
                    </a:lnTo>
                    <a:lnTo>
                      <a:pt x="356" y="86"/>
                    </a:lnTo>
                    <a:lnTo>
                      <a:pt x="357" y="92"/>
                    </a:lnTo>
                    <a:lnTo>
                      <a:pt x="359" y="98"/>
                    </a:lnTo>
                    <a:lnTo>
                      <a:pt x="360" y="105"/>
                    </a:lnTo>
                    <a:lnTo>
                      <a:pt x="360" y="1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7461000">
                <a:off x="3532680" y="3914640"/>
                <a:ext cx="571320" cy="35424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360" y="112"/>
                    </a:moveTo>
                    <a:lnTo>
                      <a:pt x="359" y="118"/>
                    </a:lnTo>
                    <a:lnTo>
                      <a:pt x="358" y="124"/>
                    </a:lnTo>
                    <a:lnTo>
                      <a:pt x="357" y="131"/>
                    </a:lnTo>
                    <a:lnTo>
                      <a:pt x="355" y="137"/>
                    </a:lnTo>
                    <a:lnTo>
                      <a:pt x="352" y="143"/>
                    </a:lnTo>
                    <a:lnTo>
                      <a:pt x="349" y="150"/>
                    </a:lnTo>
                    <a:lnTo>
                      <a:pt x="345" y="155"/>
                    </a:lnTo>
                    <a:lnTo>
                      <a:pt x="341" y="161"/>
                    </a:lnTo>
                    <a:lnTo>
                      <a:pt x="336" y="167"/>
                    </a:lnTo>
                    <a:lnTo>
                      <a:pt x="331" y="173"/>
                    </a:lnTo>
                    <a:lnTo>
                      <a:pt x="324" y="178"/>
                    </a:lnTo>
                    <a:lnTo>
                      <a:pt x="318" y="183"/>
                    </a:lnTo>
                    <a:lnTo>
                      <a:pt x="311" y="188"/>
                    </a:lnTo>
                    <a:lnTo>
                      <a:pt x="304" y="192"/>
                    </a:lnTo>
                    <a:lnTo>
                      <a:pt x="297" y="197"/>
                    </a:lnTo>
                    <a:lnTo>
                      <a:pt x="288" y="201"/>
                    </a:lnTo>
                    <a:lnTo>
                      <a:pt x="280" y="204"/>
                    </a:lnTo>
                    <a:lnTo>
                      <a:pt x="271" y="208"/>
                    </a:lnTo>
                    <a:lnTo>
                      <a:pt x="262" y="211"/>
                    </a:lnTo>
                    <a:lnTo>
                      <a:pt x="253" y="214"/>
                    </a:lnTo>
                    <a:lnTo>
                      <a:pt x="243" y="216"/>
                    </a:lnTo>
                    <a:lnTo>
                      <a:pt x="233" y="218"/>
                    </a:lnTo>
                    <a:lnTo>
                      <a:pt x="223" y="220"/>
                    </a:lnTo>
                    <a:lnTo>
                      <a:pt x="213" y="222"/>
                    </a:lnTo>
                    <a:lnTo>
                      <a:pt x="203" y="223"/>
                    </a:lnTo>
                    <a:lnTo>
                      <a:pt x="193" y="223"/>
                    </a:lnTo>
                    <a:lnTo>
                      <a:pt x="182" y="223"/>
                    </a:lnTo>
                    <a:lnTo>
                      <a:pt x="172" y="223"/>
                    </a:lnTo>
                    <a:lnTo>
                      <a:pt x="161" y="223"/>
                    </a:lnTo>
                    <a:lnTo>
                      <a:pt x="151" y="222"/>
                    </a:lnTo>
                    <a:lnTo>
                      <a:pt x="141" y="221"/>
                    </a:lnTo>
                    <a:lnTo>
                      <a:pt x="131" y="219"/>
                    </a:lnTo>
                    <a:lnTo>
                      <a:pt x="121" y="218"/>
                    </a:lnTo>
                    <a:lnTo>
                      <a:pt x="111" y="215"/>
                    </a:lnTo>
                    <a:lnTo>
                      <a:pt x="102" y="212"/>
                    </a:lnTo>
                    <a:lnTo>
                      <a:pt x="93" y="210"/>
                    </a:lnTo>
                    <a:lnTo>
                      <a:pt x="84" y="206"/>
                    </a:lnTo>
                    <a:lnTo>
                      <a:pt x="75" y="203"/>
                    </a:lnTo>
                    <a:lnTo>
                      <a:pt x="67" y="199"/>
                    </a:lnTo>
                    <a:lnTo>
                      <a:pt x="59" y="195"/>
                    </a:lnTo>
                    <a:lnTo>
                      <a:pt x="52" y="190"/>
                    </a:lnTo>
                    <a:lnTo>
                      <a:pt x="45" y="185"/>
                    </a:lnTo>
                    <a:lnTo>
                      <a:pt x="38" y="181"/>
                    </a:lnTo>
                    <a:lnTo>
                      <a:pt x="32" y="175"/>
                    </a:lnTo>
                    <a:lnTo>
                      <a:pt x="26" y="170"/>
                    </a:lnTo>
                    <a:lnTo>
                      <a:pt x="21" y="164"/>
                    </a:lnTo>
                    <a:lnTo>
                      <a:pt x="16" y="159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6" y="140"/>
                    </a:lnTo>
                    <a:lnTo>
                      <a:pt x="4" y="134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0" y="115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4" y="89"/>
                    </a:lnTo>
                    <a:lnTo>
                      <a:pt x="6" y="83"/>
                    </a:lnTo>
                    <a:lnTo>
                      <a:pt x="9" y="77"/>
                    </a:lnTo>
                    <a:lnTo>
                      <a:pt x="12" y="71"/>
                    </a:lnTo>
                    <a:lnTo>
                      <a:pt x="16" y="65"/>
                    </a:lnTo>
                    <a:lnTo>
                      <a:pt x="21" y="59"/>
                    </a:lnTo>
                    <a:lnTo>
                      <a:pt x="26" y="54"/>
                    </a:lnTo>
                    <a:lnTo>
                      <a:pt x="32" y="48"/>
                    </a:lnTo>
                    <a:lnTo>
                      <a:pt x="38" y="43"/>
                    </a:lnTo>
                    <a:lnTo>
                      <a:pt x="45" y="38"/>
                    </a:lnTo>
                    <a:lnTo>
                      <a:pt x="52" y="33"/>
                    </a:lnTo>
                    <a:lnTo>
                      <a:pt x="59" y="29"/>
                    </a:lnTo>
                    <a:lnTo>
                      <a:pt x="67" y="25"/>
                    </a:lnTo>
                    <a:lnTo>
                      <a:pt x="75" y="21"/>
                    </a:lnTo>
                    <a:lnTo>
                      <a:pt x="84" y="17"/>
                    </a:lnTo>
                    <a:lnTo>
                      <a:pt x="93" y="14"/>
                    </a:lnTo>
                    <a:lnTo>
                      <a:pt x="102" y="10"/>
                    </a:lnTo>
                    <a:lnTo>
                      <a:pt x="111" y="8"/>
                    </a:lnTo>
                    <a:lnTo>
                      <a:pt x="121" y="6"/>
                    </a:lnTo>
                    <a:lnTo>
                      <a:pt x="131" y="4"/>
                    </a:lnTo>
                    <a:lnTo>
                      <a:pt x="141" y="2"/>
                    </a:lnTo>
                    <a:lnTo>
                      <a:pt x="151" y="1"/>
                    </a:lnTo>
                    <a:lnTo>
                      <a:pt x="161" y="1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3" y="0"/>
                    </a:lnTo>
                    <a:lnTo>
                      <a:pt x="203" y="1"/>
                    </a:lnTo>
                    <a:lnTo>
                      <a:pt x="213" y="2"/>
                    </a:lnTo>
                    <a:lnTo>
                      <a:pt x="223" y="3"/>
                    </a:lnTo>
                    <a:lnTo>
                      <a:pt x="233" y="5"/>
                    </a:lnTo>
                    <a:lnTo>
                      <a:pt x="243" y="7"/>
                    </a:lnTo>
                    <a:lnTo>
                      <a:pt x="253" y="9"/>
                    </a:lnTo>
                    <a:lnTo>
                      <a:pt x="262" y="12"/>
                    </a:lnTo>
                    <a:lnTo>
                      <a:pt x="271" y="15"/>
                    </a:lnTo>
                    <a:lnTo>
                      <a:pt x="280" y="19"/>
                    </a:lnTo>
                    <a:lnTo>
                      <a:pt x="288" y="22"/>
                    </a:lnTo>
                    <a:lnTo>
                      <a:pt x="297" y="27"/>
                    </a:lnTo>
                    <a:lnTo>
                      <a:pt x="304" y="31"/>
                    </a:lnTo>
                    <a:lnTo>
                      <a:pt x="311" y="35"/>
                    </a:lnTo>
                    <a:lnTo>
                      <a:pt x="318" y="40"/>
                    </a:lnTo>
                    <a:lnTo>
                      <a:pt x="324" y="46"/>
                    </a:lnTo>
                    <a:lnTo>
                      <a:pt x="331" y="51"/>
                    </a:lnTo>
                    <a:lnTo>
                      <a:pt x="336" y="56"/>
                    </a:lnTo>
                    <a:lnTo>
                      <a:pt x="341" y="62"/>
                    </a:lnTo>
                    <a:lnTo>
                      <a:pt x="345" y="67"/>
                    </a:lnTo>
                    <a:lnTo>
                      <a:pt x="349" y="74"/>
                    </a:lnTo>
                    <a:lnTo>
                      <a:pt x="352" y="80"/>
                    </a:lnTo>
                    <a:lnTo>
                      <a:pt x="355" y="86"/>
                    </a:lnTo>
                    <a:lnTo>
                      <a:pt x="357" y="92"/>
                    </a:lnTo>
                    <a:lnTo>
                      <a:pt x="358" y="98"/>
                    </a:lnTo>
                    <a:lnTo>
                      <a:pt x="359" y="105"/>
                    </a:lnTo>
                    <a:lnTo>
                      <a:pt x="360" y="112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7461000">
                <a:off x="3792960" y="4011480"/>
                <a:ext cx="100080" cy="254160"/>
              </a:xfrm>
              <a:custGeom>
                <a:avLst/>
                <a:gdLst/>
                <a:ahLst/>
                <a:rect l="l" t="t" r="r" b="b"/>
                <a:pathLst>
                  <a:path w="63" h="160">
                    <a:moveTo>
                      <a:pt x="0" y="0"/>
                    </a:moveTo>
                    <a:lnTo>
                      <a:pt x="45" y="160"/>
                    </a:lnTo>
                    <a:lnTo>
                      <a:pt x="63" y="16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7461000">
                <a:off x="4067280" y="3857400"/>
                <a:ext cx="443160" cy="298440"/>
              </a:xfrm>
              <a:custGeom>
                <a:avLst/>
                <a:gdLst/>
                <a:ahLst/>
                <a:rect l="l" t="t" r="r" b="b"/>
                <a:pathLst>
                  <a:path w="279" h="188">
                    <a:moveTo>
                      <a:pt x="0" y="18"/>
                    </a:moveTo>
                    <a:lnTo>
                      <a:pt x="279" y="188"/>
                    </a:lnTo>
                    <a:lnTo>
                      <a:pt x="279" y="17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7461000">
                <a:off x="3796920" y="4009680"/>
                <a:ext cx="100080" cy="255600"/>
              </a:xfrm>
              <a:custGeom>
                <a:avLst/>
                <a:gdLst/>
                <a:ahLst/>
                <a:rect l="l" t="t" r="r" b="b"/>
                <a:pathLst>
                  <a:path w="63" h="161">
                    <a:moveTo>
                      <a:pt x="0" y="0"/>
                    </a:moveTo>
                    <a:lnTo>
                      <a:pt x="45" y="161"/>
                    </a:lnTo>
                    <a:lnTo>
                      <a:pt x="63" y="16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7461000">
                <a:off x="3649680" y="3939840"/>
                <a:ext cx="243000" cy="56880"/>
              </a:xfrm>
              <a:custGeom>
                <a:avLst/>
                <a:gdLst/>
                <a:ahLst/>
                <a:rect l="l" t="t" r="r" b="b"/>
                <a:pathLst>
                  <a:path w="153" h="36">
                    <a:moveTo>
                      <a:pt x="0" y="27"/>
                    </a:moveTo>
                    <a:lnTo>
                      <a:pt x="144" y="0"/>
                    </a:lnTo>
                    <a:lnTo>
                      <a:pt x="153" y="10"/>
                    </a:lnTo>
                    <a:lnTo>
                      <a:pt x="17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7461000">
                <a:off x="3565080" y="4154760"/>
                <a:ext cx="169560" cy="29880"/>
              </a:xfrm>
              <a:custGeom>
                <a:avLst/>
                <a:gdLst/>
                <a:ahLst/>
                <a:rect l="l" t="t" r="r" b="b"/>
                <a:pathLst>
                  <a:path w="107" h="19">
                    <a:moveTo>
                      <a:pt x="8" y="0"/>
                    </a:moveTo>
                    <a:lnTo>
                      <a:pt x="107" y="10"/>
                    </a:lnTo>
                    <a:lnTo>
                      <a:pt x="99" y="19"/>
                    </a:lnTo>
                    <a:lnTo>
                      <a:pt x="0" y="1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7461000">
                <a:off x="3653640" y="39391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27"/>
                    </a:moveTo>
                    <a:lnTo>
                      <a:pt x="144" y="0"/>
                    </a:lnTo>
                    <a:lnTo>
                      <a:pt x="153" y="9"/>
                    </a:lnTo>
                    <a:lnTo>
                      <a:pt x="18" y="3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7461000">
                <a:off x="3567600" y="4155120"/>
                <a:ext cx="171360" cy="28440"/>
              </a:xfrm>
              <a:custGeom>
                <a:avLst/>
                <a:gdLst/>
                <a:ahLst/>
                <a:rect l="l" t="t" r="r" b="b"/>
                <a:pathLst>
                  <a:path w="108" h="18">
                    <a:moveTo>
                      <a:pt x="8" y="0"/>
                    </a:moveTo>
                    <a:lnTo>
                      <a:pt x="108" y="9"/>
                    </a:lnTo>
                    <a:lnTo>
                      <a:pt x="99" y="18"/>
                    </a:lnTo>
                    <a:lnTo>
                      <a:pt x="0" y="9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7461000">
                <a:off x="3669120" y="40687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54" y="13"/>
                    </a:moveTo>
                    <a:lnTo>
                      <a:pt x="54" y="15"/>
                    </a:lnTo>
                    <a:lnTo>
                      <a:pt x="53" y="17"/>
                    </a:lnTo>
                    <a:lnTo>
                      <a:pt x="52" y="19"/>
                    </a:lnTo>
                    <a:lnTo>
                      <a:pt x="50" y="20"/>
                    </a:lnTo>
                    <a:lnTo>
                      <a:pt x="47" y="22"/>
                    </a:lnTo>
                    <a:lnTo>
                      <a:pt x="45" y="23"/>
                    </a:lnTo>
                    <a:lnTo>
                      <a:pt x="41" y="24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4"/>
                    </a:lnTo>
                    <a:lnTo>
                      <a:pt x="11" y="23"/>
                    </a:lnTo>
                    <a:lnTo>
                      <a:pt x="8" y="22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2" y="7"/>
                    </a:lnTo>
                    <a:lnTo>
                      <a:pt x="53" y="9"/>
                    </a:lnTo>
                    <a:lnTo>
                      <a:pt x="54" y="11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7461000">
                <a:off x="3672360" y="406944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54" y="13"/>
                    </a:moveTo>
                    <a:lnTo>
                      <a:pt x="53" y="16"/>
                    </a:lnTo>
                    <a:lnTo>
                      <a:pt x="53" y="17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2" y="20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1" y="7"/>
                    </a:lnTo>
                    <a:lnTo>
                      <a:pt x="53" y="9"/>
                    </a:lnTo>
                    <a:lnTo>
                      <a:pt x="53" y="12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7461000">
                <a:off x="4607640" y="3620880"/>
                <a:ext cx="228600" cy="227160"/>
              </a:xfrm>
              <a:prstGeom prst="ellipse">
                <a:avLst/>
              </a:prstGeom>
              <a:solidFill>
                <a:srgbClr val="cccccc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7461000">
                <a:off x="4592880" y="3491640"/>
                <a:ext cx="657000" cy="327240"/>
              </a:xfrm>
              <a:custGeom>
                <a:avLst/>
                <a:gdLst/>
                <a:ahLst/>
                <a:rect l="l" t="t" r="r" b="b"/>
                <a:pathLst>
                  <a:path w="414" h="206">
                    <a:moveTo>
                      <a:pt x="162" y="206"/>
                    </a:moveTo>
                    <a:lnTo>
                      <a:pt x="414" y="89"/>
                    </a:lnTo>
                    <a:lnTo>
                      <a:pt x="252" y="0"/>
                    </a:lnTo>
                    <a:lnTo>
                      <a:pt x="0" y="125"/>
                    </a:lnTo>
                    <a:lnTo>
                      <a:pt x="162" y="20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7461000">
                <a:off x="4596840" y="3490920"/>
                <a:ext cx="657360" cy="327240"/>
              </a:xfrm>
              <a:custGeom>
                <a:avLst/>
                <a:gdLst/>
                <a:ahLst/>
                <a:rect l="l" t="t" r="r" b="b"/>
                <a:pathLst>
                  <a:path w="414" h="206">
                    <a:moveTo>
                      <a:pt x="162" y="206"/>
                    </a:moveTo>
                    <a:lnTo>
                      <a:pt x="414" y="90"/>
                    </a:lnTo>
                    <a:lnTo>
                      <a:pt x="253" y="0"/>
                    </a:lnTo>
                    <a:lnTo>
                      <a:pt x="0" y="125"/>
                    </a:lnTo>
                    <a:lnTo>
                      <a:pt x="162" y="206"/>
                    </a:lnTo>
                    <a:lnTo>
                      <a:pt x="162" y="206"/>
                    </a:lnTo>
                    <a:lnTo>
                      <a:pt x="162" y="20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990720" y="1676160"/>
              <a:ext cx="7315200" cy="5105520"/>
              <a:chOff x="990720" y="1676160"/>
              <a:chExt cx="7315200" cy="5105520"/>
            </a:xfrm>
          </p:grpSpPr>
          <p:sp>
            <p:nvSpPr>
              <p:cNvPr id="769" name=""/>
              <p:cNvSpPr/>
              <p:nvPr/>
            </p:nvSpPr>
            <p:spPr>
              <a:xfrm>
                <a:off x="990720" y="5029200"/>
                <a:ext cx="175248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3440" y="2590560"/>
                <a:ext cx="17524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3440" y="167616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990720" y="1676160"/>
                <a:ext cx="17524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90720" y="274320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3440" y="42670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90720" y="6095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3440" y="6095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3440" y="51814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990720" y="3809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3440" y="33526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990720" y="1676160"/>
              <a:ext cx="7315200" cy="5122800"/>
              <a:chOff x="990720" y="1676160"/>
              <a:chExt cx="7315200" cy="5122800"/>
            </a:xfrm>
          </p:grpSpPr>
          <p:sp>
            <p:nvSpPr>
              <p:cNvPr id="781" name=""/>
              <p:cNvSpPr/>
              <p:nvPr/>
            </p:nvSpPr>
            <p:spPr>
              <a:xfrm>
                <a:off x="990720" y="502920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olar array gimbal position relative to spacecraf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3440" y="259056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Camera frame orientation relative to spacecraft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3440" y="167616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pacecraft frame orientation relative to inertial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pacecraft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90720" y="167616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pacecraft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pacecraft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90720" y="274320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gimbal position relative to spacecraf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3440" y="42670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olar array gimbal frame orientation relative to spacecraft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olar array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90720" y="6095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gnetometer position relative to solar array gimbal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53440" y="6095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gnetometer frame orientation relative to solar array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53440" y="51814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gimbal frame orientation relative to spacecraft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antenna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90720" y="3809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phase center location relative to high gain antenna gimbal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53440" y="33526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frame orientation relative to high gain antenna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036960" y="3228840"/>
              <a:ext cx="3109680" cy="3103920"/>
              <a:chOff x="3036960" y="3228840"/>
              <a:chExt cx="3109680" cy="3103920"/>
            </a:xfrm>
          </p:grpSpPr>
          <p:sp>
            <p:nvSpPr>
              <p:cNvPr id="793" name=""/>
              <p:cNvSpPr/>
              <p:nvPr/>
            </p:nvSpPr>
            <p:spPr>
              <a:xfrm>
                <a:off x="4170960" y="55465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50240" y="57909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293720" y="608652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15080" y="363852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33360" y="395928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09720" y="33336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036960" y="367020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583080" y="3483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97080" y="4086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72800" y="453996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63840" y="426060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132440" y="432432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61960" y="434340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22880" y="417492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68840" y="446724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002200" y="346716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94280" y="347976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46520" y="322884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76720" y="3429000"/>
              <a:ext cx="2590920" cy="2743200"/>
              <a:chOff x="3276720" y="3429000"/>
              <a:chExt cx="2590920" cy="2743200"/>
            </a:xfrm>
          </p:grpSpPr>
          <p:sp>
            <p:nvSpPr>
              <p:cNvPr id="812" name=""/>
              <p:cNvSpPr/>
              <p:nvPr/>
            </p:nvSpPr>
            <p:spPr>
              <a:xfrm>
                <a:off x="4038840" y="6019560"/>
                <a:ext cx="30456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3733560" y="586692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038840" y="5638680"/>
                <a:ext cx="15228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486400" y="3733560"/>
                <a:ext cx="38124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486400" y="388620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5486400" y="3504600"/>
                <a:ext cx="7632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353040" y="4038480"/>
                <a:ext cx="30456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3276720" y="3809520"/>
                <a:ext cx="38088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657600" y="365760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733560" y="4190760"/>
                <a:ext cx="30492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38840" y="419076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886200" y="4190760"/>
                <a:ext cx="15264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76920" y="419076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4496040" y="419076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4724280" y="419076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4800600" y="365724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4419720" y="3657240"/>
                <a:ext cx="3808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800600" y="342900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3625920" y="3771720"/>
              <a:ext cx="1909800" cy="2281320"/>
              <a:chOff x="3625920" y="3771720"/>
              <a:chExt cx="1909800" cy="2281320"/>
            </a:xfrm>
          </p:grpSpPr>
          <p:sp>
            <p:nvSpPr>
              <p:cNvPr id="831" name=""/>
              <p:cNvSpPr/>
              <p:nvPr/>
            </p:nvSpPr>
            <p:spPr>
              <a:xfrm>
                <a:off x="4003920" y="5978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61200" y="3841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25920" y="400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06800" y="4152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42000" y="4149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762800" y="3771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657240" y="1828800"/>
              <a:ext cx="1219680" cy="4190760"/>
              <a:chOff x="3657240" y="1828800"/>
              <a:chExt cx="1219680" cy="4190760"/>
            </a:xfrm>
          </p:grpSpPr>
          <p:sp>
            <p:nvSpPr>
              <p:cNvPr id="838" name=""/>
              <p:cNvSpPr/>
              <p:nvPr/>
            </p:nvSpPr>
            <p:spPr>
              <a:xfrm>
                <a:off x="3810240" y="1828800"/>
                <a:ext cx="990360" cy="1981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00600" y="3809880"/>
                <a:ext cx="7632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4038840" y="4190760"/>
                <a:ext cx="838080" cy="1828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4038840" y="3809880"/>
                <a:ext cx="76176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 flipV="1">
                <a:off x="3657240" y="4038120"/>
                <a:ext cx="381240" cy="152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1223280" y="137160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62320" y="137160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2743200" y="1904760"/>
              <a:ext cx="3810240" cy="4571640"/>
              <a:chOff x="2743200" y="1904760"/>
              <a:chExt cx="3810240" cy="4571640"/>
            </a:xfrm>
          </p:grpSpPr>
          <p:sp>
            <p:nvSpPr>
              <p:cNvPr id="846" name=""/>
              <p:cNvSpPr/>
              <p:nvPr/>
            </p:nvSpPr>
            <p:spPr>
              <a:xfrm>
                <a:off x="2743200" y="1904760"/>
                <a:ext cx="129564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743200" y="2971800"/>
                <a:ext cx="1447920" cy="106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743200" y="4190760"/>
                <a:ext cx="1067040" cy="1526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2743200" y="3962160"/>
                <a:ext cx="2057400" cy="1371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2743200" y="5181120"/>
                <a:ext cx="1600200" cy="106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5029200" y="1981080"/>
                <a:ext cx="1524240" cy="1295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5714640" y="2819160"/>
                <a:ext cx="83844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885840" y="3581280"/>
                <a:ext cx="26672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5410080" y="4495320"/>
                <a:ext cx="11430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4114800" y="4647960"/>
                <a:ext cx="2438640" cy="9144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4572000" y="6247800"/>
                <a:ext cx="198144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2980-8601-4C34-802D-3BEC8D6A4FF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675240" y="476280"/>
            <a:ext cx="3490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nd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914400" y="1219320"/>
            <a:ext cx="7315200" cy="5503680"/>
            <a:chOff x="914400" y="1219320"/>
            <a:chExt cx="7315200" cy="5503680"/>
          </a:xfrm>
        </p:grpSpPr>
        <p:grpSp>
          <p:nvGrpSpPr>
            <p:cNvPr id="859" name=""/>
            <p:cNvGrpSpPr/>
            <p:nvPr/>
          </p:nvGrpSpPr>
          <p:grpSpPr>
            <a:xfrm>
              <a:off x="2263680" y="2230920"/>
              <a:ext cx="5033520" cy="3947760"/>
              <a:chOff x="2263680" y="2230920"/>
              <a:chExt cx="5033520" cy="3947760"/>
            </a:xfrm>
          </p:grpSpPr>
          <p:sp>
            <p:nvSpPr>
              <p:cNvPr id="860" name=""/>
              <p:cNvSpPr/>
              <p:nvPr/>
            </p:nvSpPr>
            <p:spPr>
              <a:xfrm>
                <a:off x="3669840" y="3138480"/>
                <a:ext cx="2055600" cy="1227240"/>
              </a:xfrm>
              <a:custGeom>
                <a:avLst/>
                <a:gdLst/>
                <a:ahLst/>
                <a:rect l="l" t="t" r="r" b="b"/>
                <a:pathLst>
                  <a:path w="1295" h="773">
                    <a:moveTo>
                      <a:pt x="323" y="17"/>
                    </a:moveTo>
                    <a:lnTo>
                      <a:pt x="0" y="404"/>
                    </a:lnTo>
                    <a:lnTo>
                      <a:pt x="548" y="773"/>
                    </a:lnTo>
                    <a:lnTo>
                      <a:pt x="1196" y="674"/>
                    </a:lnTo>
                    <a:lnTo>
                      <a:pt x="1295" y="377"/>
                    </a:lnTo>
                    <a:lnTo>
                      <a:pt x="854" y="0"/>
                    </a:lnTo>
                    <a:lnTo>
                      <a:pt x="323" y="1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70280" y="5894640"/>
                <a:ext cx="469440" cy="2840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0"/>
                    </a:moveTo>
                    <a:lnTo>
                      <a:pt x="296" y="97"/>
                    </a:lnTo>
                    <a:lnTo>
                      <a:pt x="294" y="103"/>
                    </a:lnTo>
                    <a:lnTo>
                      <a:pt x="292" y="110"/>
                    </a:lnTo>
                    <a:lnTo>
                      <a:pt x="290" y="117"/>
                    </a:lnTo>
                    <a:lnTo>
                      <a:pt x="286" y="123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1"/>
                    </a:lnTo>
                    <a:lnTo>
                      <a:pt x="263" y="146"/>
                    </a:lnTo>
                    <a:lnTo>
                      <a:pt x="256" y="151"/>
                    </a:lnTo>
                    <a:lnTo>
                      <a:pt x="248" y="156"/>
                    </a:lnTo>
                    <a:lnTo>
                      <a:pt x="239" y="160"/>
                    </a:lnTo>
                    <a:lnTo>
                      <a:pt x="230" y="165"/>
                    </a:lnTo>
                    <a:lnTo>
                      <a:pt x="220" y="168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89" y="175"/>
                    </a:lnTo>
                    <a:lnTo>
                      <a:pt x="178" y="177"/>
                    </a:lnTo>
                    <a:lnTo>
                      <a:pt x="167" y="179"/>
                    </a:lnTo>
                    <a:lnTo>
                      <a:pt x="156" y="179"/>
                    </a:lnTo>
                    <a:lnTo>
                      <a:pt x="145" y="179"/>
                    </a:lnTo>
                    <a:lnTo>
                      <a:pt x="134" y="179"/>
                    </a:lnTo>
                    <a:lnTo>
                      <a:pt x="122" y="178"/>
                    </a:lnTo>
                    <a:lnTo>
                      <a:pt x="112" y="177"/>
                    </a:lnTo>
                    <a:lnTo>
                      <a:pt x="101" y="175"/>
                    </a:lnTo>
                    <a:lnTo>
                      <a:pt x="90" y="173"/>
                    </a:lnTo>
                    <a:lnTo>
                      <a:pt x="80" y="169"/>
                    </a:lnTo>
                    <a:lnTo>
                      <a:pt x="70" y="166"/>
                    </a:lnTo>
                    <a:lnTo>
                      <a:pt x="61" y="163"/>
                    </a:lnTo>
                    <a:lnTo>
                      <a:pt x="52" y="158"/>
                    </a:lnTo>
                    <a:lnTo>
                      <a:pt x="44" y="154"/>
                    </a:lnTo>
                    <a:lnTo>
                      <a:pt x="36" y="149"/>
                    </a:lnTo>
                    <a:lnTo>
                      <a:pt x="29" y="143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6"/>
                    </a:lnTo>
                    <a:lnTo>
                      <a:pt x="8" y="120"/>
                    </a:lnTo>
                    <a:lnTo>
                      <a:pt x="4" y="113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2" y="72"/>
                    </a:lnTo>
                    <a:lnTo>
                      <a:pt x="4" y="66"/>
                    </a:lnTo>
                    <a:lnTo>
                      <a:pt x="8" y="60"/>
                    </a:lnTo>
                    <a:lnTo>
                      <a:pt x="12" y="53"/>
                    </a:lnTo>
                    <a:lnTo>
                      <a:pt x="17" y="47"/>
                    </a:lnTo>
                    <a:lnTo>
                      <a:pt x="23" y="41"/>
                    </a:lnTo>
                    <a:lnTo>
                      <a:pt x="29" y="35"/>
                    </a:lnTo>
                    <a:lnTo>
                      <a:pt x="36" y="30"/>
                    </a:lnTo>
                    <a:lnTo>
                      <a:pt x="44" y="25"/>
                    </a:lnTo>
                    <a:lnTo>
                      <a:pt x="52" y="21"/>
                    </a:lnTo>
                    <a:lnTo>
                      <a:pt x="61" y="17"/>
                    </a:lnTo>
                    <a:lnTo>
                      <a:pt x="70" y="13"/>
                    </a:lnTo>
                    <a:lnTo>
                      <a:pt x="80" y="10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12" y="2"/>
                    </a:lnTo>
                    <a:lnTo>
                      <a:pt x="122" y="1"/>
                    </a:lnTo>
                    <a:lnTo>
                      <a:pt x="134" y="0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7" y="0"/>
                    </a:lnTo>
                    <a:lnTo>
                      <a:pt x="178" y="2"/>
                    </a:lnTo>
                    <a:lnTo>
                      <a:pt x="189" y="3"/>
                    </a:lnTo>
                    <a:lnTo>
                      <a:pt x="200" y="6"/>
                    </a:lnTo>
                    <a:lnTo>
                      <a:pt x="210" y="8"/>
                    </a:lnTo>
                    <a:lnTo>
                      <a:pt x="220" y="11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8"/>
                    </a:lnTo>
                    <a:lnTo>
                      <a:pt x="263" y="33"/>
                    </a:lnTo>
                    <a:lnTo>
                      <a:pt x="270" y="38"/>
                    </a:lnTo>
                    <a:lnTo>
                      <a:pt x="276" y="44"/>
                    </a:lnTo>
                    <a:lnTo>
                      <a:pt x="281" y="50"/>
                    </a:lnTo>
                    <a:lnTo>
                      <a:pt x="286" y="56"/>
                    </a:lnTo>
                    <a:lnTo>
                      <a:pt x="290" y="63"/>
                    </a:lnTo>
                    <a:lnTo>
                      <a:pt x="292" y="69"/>
                    </a:lnTo>
                    <a:lnTo>
                      <a:pt x="294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65600" y="5889960"/>
                <a:ext cx="469440" cy="28548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296" y="90"/>
                    </a:moveTo>
                    <a:lnTo>
                      <a:pt x="296" y="97"/>
                    </a:lnTo>
                    <a:lnTo>
                      <a:pt x="294" y="104"/>
                    </a:lnTo>
                    <a:lnTo>
                      <a:pt x="293" y="110"/>
                    </a:lnTo>
                    <a:lnTo>
                      <a:pt x="290" y="117"/>
                    </a:lnTo>
                    <a:lnTo>
                      <a:pt x="286" y="123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1"/>
                    </a:lnTo>
                    <a:lnTo>
                      <a:pt x="263" y="146"/>
                    </a:lnTo>
                    <a:lnTo>
                      <a:pt x="256" y="151"/>
                    </a:lnTo>
                    <a:lnTo>
                      <a:pt x="248" y="156"/>
                    </a:lnTo>
                    <a:lnTo>
                      <a:pt x="239" y="161"/>
                    </a:lnTo>
                    <a:lnTo>
                      <a:pt x="230" y="165"/>
                    </a:lnTo>
                    <a:lnTo>
                      <a:pt x="221" y="168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89" y="176"/>
                    </a:lnTo>
                    <a:lnTo>
                      <a:pt x="178" y="177"/>
                    </a:lnTo>
                    <a:lnTo>
                      <a:pt x="167" y="179"/>
                    </a:lnTo>
                    <a:lnTo>
                      <a:pt x="156" y="179"/>
                    </a:lnTo>
                    <a:lnTo>
                      <a:pt x="145" y="180"/>
                    </a:lnTo>
                    <a:lnTo>
                      <a:pt x="134" y="179"/>
                    </a:lnTo>
                    <a:lnTo>
                      <a:pt x="123" y="178"/>
                    </a:lnTo>
                    <a:lnTo>
                      <a:pt x="112" y="177"/>
                    </a:lnTo>
                    <a:lnTo>
                      <a:pt x="101" y="175"/>
                    </a:lnTo>
                    <a:lnTo>
                      <a:pt x="90" y="173"/>
                    </a:lnTo>
                    <a:lnTo>
                      <a:pt x="80" y="169"/>
                    </a:lnTo>
                    <a:lnTo>
                      <a:pt x="70" y="166"/>
                    </a:lnTo>
                    <a:lnTo>
                      <a:pt x="61" y="163"/>
                    </a:lnTo>
                    <a:lnTo>
                      <a:pt x="52" y="158"/>
                    </a:lnTo>
                    <a:lnTo>
                      <a:pt x="44" y="154"/>
                    </a:lnTo>
                    <a:lnTo>
                      <a:pt x="36" y="149"/>
                    </a:lnTo>
                    <a:lnTo>
                      <a:pt x="29" y="143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6"/>
                    </a:lnTo>
                    <a:lnTo>
                      <a:pt x="8" y="120"/>
                    </a:lnTo>
                    <a:lnTo>
                      <a:pt x="5" y="113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2" y="72"/>
                    </a:lnTo>
                    <a:lnTo>
                      <a:pt x="5" y="66"/>
                    </a:lnTo>
                    <a:lnTo>
                      <a:pt x="8" y="60"/>
                    </a:lnTo>
                    <a:lnTo>
                      <a:pt x="12" y="53"/>
                    </a:lnTo>
                    <a:lnTo>
                      <a:pt x="17" y="47"/>
                    </a:lnTo>
                    <a:lnTo>
                      <a:pt x="23" y="41"/>
                    </a:lnTo>
                    <a:lnTo>
                      <a:pt x="29" y="36"/>
                    </a:lnTo>
                    <a:lnTo>
                      <a:pt x="36" y="30"/>
                    </a:lnTo>
                    <a:lnTo>
                      <a:pt x="44" y="25"/>
                    </a:lnTo>
                    <a:lnTo>
                      <a:pt x="52" y="21"/>
                    </a:lnTo>
                    <a:lnTo>
                      <a:pt x="61" y="17"/>
                    </a:lnTo>
                    <a:lnTo>
                      <a:pt x="70" y="13"/>
                    </a:lnTo>
                    <a:lnTo>
                      <a:pt x="80" y="10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12" y="2"/>
                    </a:lnTo>
                    <a:lnTo>
                      <a:pt x="123" y="1"/>
                    </a:lnTo>
                    <a:lnTo>
                      <a:pt x="134" y="0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7" y="0"/>
                    </a:lnTo>
                    <a:lnTo>
                      <a:pt x="178" y="2"/>
                    </a:lnTo>
                    <a:lnTo>
                      <a:pt x="189" y="3"/>
                    </a:lnTo>
                    <a:lnTo>
                      <a:pt x="200" y="6"/>
                    </a:lnTo>
                    <a:lnTo>
                      <a:pt x="210" y="9"/>
                    </a:lnTo>
                    <a:lnTo>
                      <a:pt x="221" y="11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8"/>
                    </a:lnTo>
                    <a:lnTo>
                      <a:pt x="263" y="33"/>
                    </a:lnTo>
                    <a:lnTo>
                      <a:pt x="270" y="38"/>
                    </a:lnTo>
                    <a:lnTo>
                      <a:pt x="276" y="44"/>
                    </a:lnTo>
                    <a:lnTo>
                      <a:pt x="281" y="50"/>
                    </a:lnTo>
                    <a:lnTo>
                      <a:pt x="286" y="56"/>
                    </a:lnTo>
                    <a:lnTo>
                      <a:pt x="290" y="63"/>
                    </a:lnTo>
                    <a:lnTo>
                      <a:pt x="293" y="70"/>
                    </a:lnTo>
                    <a:lnTo>
                      <a:pt x="294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53840" y="4523040"/>
                <a:ext cx="471240" cy="285480"/>
              </a:xfrm>
              <a:custGeom>
                <a:avLst/>
                <a:gdLst/>
                <a:ahLst/>
                <a:rect l="l" t="t" r="r" b="b"/>
                <a:pathLst>
                  <a:path w="297" h="180">
                    <a:moveTo>
                      <a:pt x="297" y="90"/>
                    </a:moveTo>
                    <a:lnTo>
                      <a:pt x="297" y="97"/>
                    </a:lnTo>
                    <a:lnTo>
                      <a:pt x="295" y="104"/>
                    </a:lnTo>
                    <a:lnTo>
                      <a:pt x="293" y="110"/>
                    </a:lnTo>
                    <a:lnTo>
                      <a:pt x="290" y="117"/>
                    </a:lnTo>
                    <a:lnTo>
                      <a:pt x="287" y="124"/>
                    </a:lnTo>
                    <a:lnTo>
                      <a:pt x="282" y="129"/>
                    </a:lnTo>
                    <a:lnTo>
                      <a:pt x="276" y="135"/>
                    </a:lnTo>
                    <a:lnTo>
                      <a:pt x="271" y="141"/>
                    </a:lnTo>
                    <a:lnTo>
                      <a:pt x="264" y="147"/>
                    </a:lnTo>
                    <a:lnTo>
                      <a:pt x="257" y="152"/>
                    </a:lnTo>
                    <a:lnTo>
                      <a:pt x="249" y="156"/>
                    </a:lnTo>
                    <a:lnTo>
                      <a:pt x="240" y="161"/>
                    </a:lnTo>
                    <a:lnTo>
                      <a:pt x="231" y="164"/>
                    </a:lnTo>
                    <a:lnTo>
                      <a:pt x="221" y="168"/>
                    </a:lnTo>
                    <a:lnTo>
                      <a:pt x="211" y="171"/>
                    </a:lnTo>
                    <a:lnTo>
                      <a:pt x="201" y="174"/>
                    </a:lnTo>
                    <a:lnTo>
                      <a:pt x="191" y="176"/>
                    </a:lnTo>
                    <a:lnTo>
                      <a:pt x="180" y="178"/>
                    </a:lnTo>
                    <a:lnTo>
                      <a:pt x="169" y="179"/>
                    </a:lnTo>
                    <a:lnTo>
                      <a:pt x="157" y="179"/>
                    </a:lnTo>
                    <a:lnTo>
                      <a:pt x="146" y="180"/>
                    </a:lnTo>
                    <a:lnTo>
                      <a:pt x="135" y="179"/>
                    </a:lnTo>
                    <a:lnTo>
                      <a:pt x="124" y="179"/>
                    </a:lnTo>
                    <a:lnTo>
                      <a:pt x="113" y="177"/>
                    </a:lnTo>
                    <a:lnTo>
                      <a:pt x="102" y="175"/>
                    </a:lnTo>
                    <a:lnTo>
                      <a:pt x="91" y="173"/>
                    </a:lnTo>
                    <a:lnTo>
                      <a:pt x="81" y="170"/>
                    </a:lnTo>
                    <a:lnTo>
                      <a:pt x="71" y="167"/>
                    </a:lnTo>
                    <a:lnTo>
                      <a:pt x="62" y="163"/>
                    </a:lnTo>
                    <a:lnTo>
                      <a:pt x="53" y="159"/>
                    </a:lnTo>
                    <a:lnTo>
                      <a:pt x="45" y="154"/>
                    </a:lnTo>
                    <a:lnTo>
                      <a:pt x="37" y="149"/>
                    </a:lnTo>
                    <a:lnTo>
                      <a:pt x="30" y="144"/>
                    </a:lnTo>
                    <a:lnTo>
                      <a:pt x="24" y="138"/>
                    </a:lnTo>
                    <a:lnTo>
                      <a:pt x="18" y="132"/>
                    </a:lnTo>
                    <a:lnTo>
                      <a:pt x="13" y="126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3" y="107"/>
                    </a:lnTo>
                    <a:lnTo>
                      <a:pt x="2" y="101"/>
                    </a:lnTo>
                    <a:lnTo>
                      <a:pt x="0" y="94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3" y="73"/>
                    </a:lnTo>
                    <a:lnTo>
                      <a:pt x="6" y="67"/>
                    </a:lnTo>
                    <a:lnTo>
                      <a:pt x="9" y="60"/>
                    </a:lnTo>
                    <a:lnTo>
                      <a:pt x="13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7" y="31"/>
                    </a:lnTo>
                    <a:lnTo>
                      <a:pt x="45" y="26"/>
                    </a:lnTo>
                    <a:lnTo>
                      <a:pt x="53" y="22"/>
                    </a:lnTo>
                    <a:lnTo>
                      <a:pt x="62" y="17"/>
                    </a:lnTo>
                    <a:lnTo>
                      <a:pt x="71" y="14"/>
                    </a:lnTo>
                    <a:lnTo>
                      <a:pt x="81" y="10"/>
                    </a:lnTo>
                    <a:lnTo>
                      <a:pt x="91" y="7"/>
                    </a:lnTo>
                    <a:lnTo>
                      <a:pt x="102" y="5"/>
                    </a:lnTo>
                    <a:lnTo>
                      <a:pt x="113" y="3"/>
                    </a:lnTo>
                    <a:lnTo>
                      <a:pt x="124" y="1"/>
                    </a:lnTo>
                    <a:lnTo>
                      <a:pt x="135" y="1"/>
                    </a:lnTo>
                    <a:lnTo>
                      <a:pt x="146" y="0"/>
                    </a:lnTo>
                    <a:lnTo>
                      <a:pt x="157" y="0"/>
                    </a:lnTo>
                    <a:lnTo>
                      <a:pt x="169" y="1"/>
                    </a:lnTo>
                    <a:lnTo>
                      <a:pt x="180" y="2"/>
                    </a:lnTo>
                    <a:lnTo>
                      <a:pt x="191" y="4"/>
                    </a:lnTo>
                    <a:lnTo>
                      <a:pt x="201" y="5"/>
                    </a:lnTo>
                    <a:lnTo>
                      <a:pt x="211" y="9"/>
                    </a:lnTo>
                    <a:lnTo>
                      <a:pt x="221" y="12"/>
                    </a:lnTo>
                    <a:lnTo>
                      <a:pt x="231" y="15"/>
                    </a:lnTo>
                    <a:lnTo>
                      <a:pt x="240" y="19"/>
                    </a:lnTo>
                    <a:lnTo>
                      <a:pt x="249" y="23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1" y="39"/>
                    </a:lnTo>
                    <a:lnTo>
                      <a:pt x="276" y="45"/>
                    </a:lnTo>
                    <a:lnTo>
                      <a:pt x="282" y="50"/>
                    </a:lnTo>
                    <a:lnTo>
                      <a:pt x="287" y="57"/>
                    </a:lnTo>
                    <a:lnTo>
                      <a:pt x="290" y="63"/>
                    </a:lnTo>
                    <a:lnTo>
                      <a:pt x="293" y="69"/>
                    </a:lnTo>
                    <a:lnTo>
                      <a:pt x="295" y="76"/>
                    </a:lnTo>
                    <a:lnTo>
                      <a:pt x="297" y="83"/>
                    </a:lnTo>
                    <a:lnTo>
                      <a:pt x="297" y="9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50960" y="4518360"/>
                <a:ext cx="469440" cy="28548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296" y="90"/>
                    </a:moveTo>
                    <a:lnTo>
                      <a:pt x="296" y="97"/>
                    </a:lnTo>
                    <a:lnTo>
                      <a:pt x="295" y="104"/>
                    </a:lnTo>
                    <a:lnTo>
                      <a:pt x="292" y="110"/>
                    </a:lnTo>
                    <a:lnTo>
                      <a:pt x="289" y="117"/>
                    </a:lnTo>
                    <a:lnTo>
                      <a:pt x="286" y="124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2"/>
                    </a:lnTo>
                    <a:lnTo>
                      <a:pt x="263" y="147"/>
                    </a:lnTo>
                    <a:lnTo>
                      <a:pt x="256" y="152"/>
                    </a:lnTo>
                    <a:lnTo>
                      <a:pt x="248" y="157"/>
                    </a:lnTo>
                    <a:lnTo>
                      <a:pt x="239" y="161"/>
                    </a:lnTo>
                    <a:lnTo>
                      <a:pt x="230" y="165"/>
                    </a:lnTo>
                    <a:lnTo>
                      <a:pt x="220" y="169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90" y="176"/>
                    </a:lnTo>
                    <a:lnTo>
                      <a:pt x="179" y="178"/>
                    </a:lnTo>
                    <a:lnTo>
                      <a:pt x="168" y="179"/>
                    </a:lnTo>
                    <a:lnTo>
                      <a:pt x="156" y="180"/>
                    </a:lnTo>
                    <a:lnTo>
                      <a:pt x="145" y="180"/>
                    </a:lnTo>
                    <a:lnTo>
                      <a:pt x="134" y="180"/>
                    </a:lnTo>
                    <a:lnTo>
                      <a:pt x="123" y="179"/>
                    </a:lnTo>
                    <a:lnTo>
                      <a:pt x="112" y="177"/>
                    </a:lnTo>
                    <a:lnTo>
                      <a:pt x="101" y="176"/>
                    </a:lnTo>
                    <a:lnTo>
                      <a:pt x="91" y="173"/>
                    </a:lnTo>
                    <a:lnTo>
                      <a:pt x="80" y="170"/>
                    </a:lnTo>
                    <a:lnTo>
                      <a:pt x="70" y="167"/>
                    </a:lnTo>
                    <a:lnTo>
                      <a:pt x="61" y="163"/>
                    </a:lnTo>
                    <a:lnTo>
                      <a:pt x="53" y="159"/>
                    </a:lnTo>
                    <a:lnTo>
                      <a:pt x="44" y="154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7"/>
                    </a:lnTo>
                    <a:lnTo>
                      <a:pt x="8" y="120"/>
                    </a:lnTo>
                    <a:lnTo>
                      <a:pt x="5" y="114"/>
                    </a:lnTo>
                    <a:lnTo>
                      <a:pt x="2" y="107"/>
                    </a:lnTo>
                    <a:lnTo>
                      <a:pt x="1" y="101"/>
                    </a:lnTo>
                    <a:lnTo>
                      <a:pt x="0" y="94"/>
                    </a:lnTo>
                    <a:lnTo>
                      <a:pt x="0" y="87"/>
                    </a:lnTo>
                    <a:lnTo>
                      <a:pt x="1" y="80"/>
                    </a:lnTo>
                    <a:lnTo>
                      <a:pt x="2" y="73"/>
                    </a:lnTo>
                    <a:lnTo>
                      <a:pt x="5" y="67"/>
                    </a:lnTo>
                    <a:lnTo>
                      <a:pt x="8" y="60"/>
                    </a:lnTo>
                    <a:lnTo>
                      <a:pt x="12" y="54"/>
                    </a:lnTo>
                    <a:lnTo>
                      <a:pt x="17" y="48"/>
                    </a:lnTo>
                    <a:lnTo>
                      <a:pt x="23" y="42"/>
                    </a:lnTo>
                    <a:lnTo>
                      <a:pt x="30" y="36"/>
                    </a:lnTo>
                    <a:lnTo>
                      <a:pt x="36" y="31"/>
                    </a:lnTo>
                    <a:lnTo>
                      <a:pt x="44" y="26"/>
                    </a:lnTo>
                    <a:lnTo>
                      <a:pt x="53" y="22"/>
                    </a:lnTo>
                    <a:lnTo>
                      <a:pt x="61" y="17"/>
                    </a:lnTo>
                    <a:lnTo>
                      <a:pt x="70" y="14"/>
                    </a:lnTo>
                    <a:lnTo>
                      <a:pt x="80" y="10"/>
                    </a:lnTo>
                    <a:lnTo>
                      <a:pt x="91" y="7"/>
                    </a:lnTo>
                    <a:lnTo>
                      <a:pt x="101" y="5"/>
                    </a:lnTo>
                    <a:lnTo>
                      <a:pt x="112" y="3"/>
                    </a:lnTo>
                    <a:lnTo>
                      <a:pt x="123" y="2"/>
                    </a:lnTo>
                    <a:lnTo>
                      <a:pt x="134" y="1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8" y="1"/>
                    </a:lnTo>
                    <a:lnTo>
                      <a:pt x="179" y="2"/>
                    </a:lnTo>
                    <a:lnTo>
                      <a:pt x="190" y="4"/>
                    </a:lnTo>
                    <a:lnTo>
                      <a:pt x="200" y="6"/>
                    </a:lnTo>
                    <a:lnTo>
                      <a:pt x="210" y="9"/>
                    </a:lnTo>
                    <a:lnTo>
                      <a:pt x="220" y="12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9"/>
                    </a:lnTo>
                    <a:lnTo>
                      <a:pt x="263" y="33"/>
                    </a:lnTo>
                    <a:lnTo>
                      <a:pt x="270" y="39"/>
                    </a:lnTo>
                    <a:lnTo>
                      <a:pt x="276" y="45"/>
                    </a:lnTo>
                    <a:lnTo>
                      <a:pt x="281" y="51"/>
                    </a:lnTo>
                    <a:lnTo>
                      <a:pt x="286" y="57"/>
                    </a:lnTo>
                    <a:lnTo>
                      <a:pt x="289" y="63"/>
                    </a:lnTo>
                    <a:lnTo>
                      <a:pt x="292" y="70"/>
                    </a:lnTo>
                    <a:lnTo>
                      <a:pt x="295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625640" y="5123160"/>
                <a:ext cx="1199880" cy="871560"/>
              </a:xfrm>
              <a:custGeom>
                <a:avLst/>
                <a:gdLst/>
                <a:ahLst/>
                <a:rect l="l" t="t" r="r" b="b"/>
                <a:pathLst>
                  <a:path w="756" h="549">
                    <a:moveTo>
                      <a:pt x="0" y="17"/>
                    </a:moveTo>
                    <a:lnTo>
                      <a:pt x="693" y="549"/>
                    </a:lnTo>
                    <a:lnTo>
                      <a:pt x="756" y="549"/>
                    </a:lnTo>
                    <a:lnTo>
                      <a:pt x="4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665160" y="3133800"/>
                <a:ext cx="2055600" cy="1227240"/>
              </a:xfrm>
              <a:custGeom>
                <a:avLst/>
                <a:gdLst/>
                <a:ahLst/>
                <a:rect l="l" t="t" r="r" b="b"/>
                <a:pathLst>
                  <a:path w="1295" h="773">
                    <a:moveTo>
                      <a:pt x="324" y="18"/>
                    </a:moveTo>
                    <a:lnTo>
                      <a:pt x="0" y="404"/>
                    </a:lnTo>
                    <a:lnTo>
                      <a:pt x="548" y="773"/>
                    </a:lnTo>
                    <a:lnTo>
                      <a:pt x="1196" y="674"/>
                    </a:lnTo>
                    <a:lnTo>
                      <a:pt x="1295" y="377"/>
                    </a:lnTo>
                    <a:lnTo>
                      <a:pt x="854" y="0"/>
                    </a:lnTo>
                    <a:lnTo>
                      <a:pt x="324" y="18"/>
                    </a:lnTo>
                    <a:lnTo>
                      <a:pt x="324" y="18"/>
                    </a:lnTo>
                    <a:lnTo>
                      <a:pt x="324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620960" y="5118120"/>
                <a:ext cx="1199880" cy="871560"/>
              </a:xfrm>
              <a:custGeom>
                <a:avLst/>
                <a:gdLst/>
                <a:ahLst/>
                <a:rect l="l" t="t" r="r" b="b"/>
                <a:pathLst>
                  <a:path w="756" h="549">
                    <a:moveTo>
                      <a:pt x="0" y="18"/>
                    </a:moveTo>
                    <a:lnTo>
                      <a:pt x="693" y="549"/>
                    </a:lnTo>
                    <a:lnTo>
                      <a:pt x="756" y="549"/>
                    </a:lnTo>
                    <a:lnTo>
                      <a:pt x="45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11520" y="4837320"/>
                <a:ext cx="414000" cy="1157400"/>
              </a:xfrm>
              <a:custGeom>
                <a:avLst/>
                <a:gdLst/>
                <a:ahLst/>
                <a:rect l="l" t="t" r="r" b="b"/>
                <a:pathLst>
                  <a:path w="261" h="729">
                    <a:moveTo>
                      <a:pt x="0" y="18"/>
                    </a:moveTo>
                    <a:lnTo>
                      <a:pt x="216" y="729"/>
                    </a:lnTo>
                    <a:lnTo>
                      <a:pt x="261" y="729"/>
                    </a:lnTo>
                    <a:lnTo>
                      <a:pt x="4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40120" y="4751640"/>
                <a:ext cx="213840" cy="1243080"/>
              </a:xfrm>
              <a:custGeom>
                <a:avLst/>
                <a:gdLst/>
                <a:ahLst/>
                <a:rect l="l" t="t" r="r" b="b"/>
                <a:pathLst>
                  <a:path w="135" h="783">
                    <a:moveTo>
                      <a:pt x="0" y="18"/>
                    </a:moveTo>
                    <a:lnTo>
                      <a:pt x="99" y="783"/>
                    </a:lnTo>
                    <a:lnTo>
                      <a:pt x="135" y="783"/>
                    </a:lnTo>
                    <a:lnTo>
                      <a:pt x="4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06840" y="4834080"/>
                <a:ext cx="414000" cy="1155600"/>
              </a:xfrm>
              <a:custGeom>
                <a:avLst/>
                <a:gdLst/>
                <a:ahLst/>
                <a:rect l="l" t="t" r="r" b="b"/>
                <a:pathLst>
                  <a:path w="261" h="728">
                    <a:moveTo>
                      <a:pt x="0" y="17"/>
                    </a:moveTo>
                    <a:lnTo>
                      <a:pt x="216" y="728"/>
                    </a:lnTo>
                    <a:lnTo>
                      <a:pt x="261" y="728"/>
                    </a:lnTo>
                    <a:lnTo>
                      <a:pt x="45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35440" y="4746960"/>
                <a:ext cx="213840" cy="1242720"/>
              </a:xfrm>
              <a:custGeom>
                <a:avLst/>
                <a:gdLst/>
                <a:ahLst/>
                <a:rect l="l" t="t" r="r" b="b"/>
                <a:pathLst>
                  <a:path w="135" h="783">
                    <a:moveTo>
                      <a:pt x="0" y="18"/>
                    </a:moveTo>
                    <a:lnTo>
                      <a:pt x="99" y="783"/>
                    </a:lnTo>
                    <a:lnTo>
                      <a:pt x="135" y="783"/>
                    </a:lnTo>
                    <a:lnTo>
                      <a:pt x="45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268360" y="4508640"/>
                <a:ext cx="1701360" cy="1212840"/>
              </a:xfrm>
              <a:custGeom>
                <a:avLst/>
                <a:gdLst/>
                <a:ahLst/>
                <a:rect l="l" t="t" r="r" b="b"/>
                <a:pathLst>
                  <a:path w="1072" h="764">
                    <a:moveTo>
                      <a:pt x="0" y="404"/>
                    </a:moveTo>
                    <a:lnTo>
                      <a:pt x="397" y="764"/>
                    </a:lnTo>
                    <a:lnTo>
                      <a:pt x="757" y="684"/>
                    </a:lnTo>
                    <a:lnTo>
                      <a:pt x="1072" y="504"/>
                    </a:lnTo>
                    <a:lnTo>
                      <a:pt x="513" y="0"/>
                    </a:lnTo>
                    <a:lnTo>
                      <a:pt x="208" y="162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39920" y="3780000"/>
                <a:ext cx="1399680" cy="1442880"/>
              </a:xfrm>
              <a:custGeom>
                <a:avLst/>
                <a:gdLst/>
                <a:ahLst/>
                <a:rect l="l" t="t" r="r" b="b"/>
                <a:pathLst>
                  <a:path w="882" h="909">
                    <a:moveTo>
                      <a:pt x="0" y="423"/>
                    </a:moveTo>
                    <a:lnTo>
                      <a:pt x="568" y="909"/>
                    </a:lnTo>
                    <a:lnTo>
                      <a:pt x="810" y="558"/>
                    </a:lnTo>
                    <a:lnTo>
                      <a:pt x="882" y="369"/>
                    </a:lnTo>
                    <a:lnTo>
                      <a:pt x="342" y="0"/>
                    </a:lnTo>
                    <a:lnTo>
                      <a:pt x="216" y="90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63680" y="4503960"/>
                <a:ext cx="1701720" cy="1214280"/>
              </a:xfrm>
              <a:custGeom>
                <a:avLst/>
                <a:gdLst/>
                <a:ahLst/>
                <a:rect l="l" t="t" r="r" b="b"/>
                <a:pathLst>
                  <a:path w="1072" h="765">
                    <a:moveTo>
                      <a:pt x="0" y="405"/>
                    </a:moveTo>
                    <a:lnTo>
                      <a:pt x="397" y="765"/>
                    </a:lnTo>
                    <a:lnTo>
                      <a:pt x="757" y="684"/>
                    </a:lnTo>
                    <a:lnTo>
                      <a:pt x="1072" y="504"/>
                    </a:lnTo>
                    <a:lnTo>
                      <a:pt x="514" y="0"/>
                    </a:lnTo>
                    <a:lnTo>
                      <a:pt x="208" y="162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134880" y="3775320"/>
                <a:ext cx="1400040" cy="1442880"/>
              </a:xfrm>
              <a:custGeom>
                <a:avLst/>
                <a:gdLst/>
                <a:ahLst/>
                <a:rect l="l" t="t" r="r" b="b"/>
                <a:pathLst>
                  <a:path w="882" h="909">
                    <a:moveTo>
                      <a:pt x="0" y="423"/>
                    </a:moveTo>
                    <a:lnTo>
                      <a:pt x="568" y="909"/>
                    </a:lnTo>
                    <a:lnTo>
                      <a:pt x="810" y="558"/>
                    </a:lnTo>
                    <a:lnTo>
                      <a:pt x="882" y="369"/>
                    </a:lnTo>
                    <a:lnTo>
                      <a:pt x="342" y="0"/>
                    </a:lnTo>
                    <a:lnTo>
                      <a:pt x="216" y="91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454280" y="2538720"/>
                <a:ext cx="42480" cy="8283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54440" y="2538720"/>
                <a:ext cx="42480" cy="8283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449600" y="2533680"/>
                <a:ext cx="42480" cy="828720"/>
              </a:xfrm>
              <a:custGeom>
                <a:avLst/>
                <a:gdLst/>
                <a:ahLst/>
                <a:rect l="l" t="t" r="r" b="b"/>
                <a:pathLst>
                  <a:path w="27" h="522">
                    <a:moveTo>
                      <a:pt x="0" y="0"/>
                    </a:moveTo>
                    <a:lnTo>
                      <a:pt x="0" y="522"/>
                    </a:lnTo>
                    <a:lnTo>
                      <a:pt x="27" y="52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49400" y="2533680"/>
                <a:ext cx="42480" cy="828720"/>
              </a:xfrm>
              <a:custGeom>
                <a:avLst/>
                <a:gdLst/>
                <a:ahLst/>
                <a:rect l="l" t="t" r="r" b="b"/>
                <a:pathLst>
                  <a:path w="27" h="522">
                    <a:moveTo>
                      <a:pt x="0" y="0"/>
                    </a:moveTo>
                    <a:lnTo>
                      <a:pt x="0" y="522"/>
                    </a:lnTo>
                    <a:lnTo>
                      <a:pt x="27" y="52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54440" y="3210120"/>
                <a:ext cx="1742760" cy="984240"/>
              </a:xfrm>
              <a:custGeom>
                <a:avLst/>
                <a:gdLst/>
                <a:ahLst/>
                <a:rect l="l" t="t" r="r" b="b"/>
                <a:pathLst>
                  <a:path w="1098" h="620">
                    <a:moveTo>
                      <a:pt x="567" y="620"/>
                    </a:moveTo>
                    <a:lnTo>
                      <a:pt x="891" y="521"/>
                    </a:lnTo>
                    <a:lnTo>
                      <a:pt x="1098" y="359"/>
                    </a:lnTo>
                    <a:lnTo>
                      <a:pt x="702" y="0"/>
                    </a:lnTo>
                    <a:lnTo>
                      <a:pt x="369" y="0"/>
                    </a:lnTo>
                    <a:lnTo>
                      <a:pt x="0" y="99"/>
                    </a:lnTo>
                    <a:lnTo>
                      <a:pt x="567" y="62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11120" y="2267280"/>
                <a:ext cx="1171440" cy="957240"/>
              </a:xfrm>
              <a:custGeom>
                <a:avLst/>
                <a:gdLst/>
                <a:ahLst/>
                <a:rect l="l" t="t" r="r" b="b"/>
                <a:pathLst>
                  <a:path w="738" h="603">
                    <a:moveTo>
                      <a:pt x="738" y="585"/>
                    </a:moveTo>
                    <a:lnTo>
                      <a:pt x="18" y="0"/>
                    </a:lnTo>
                    <a:lnTo>
                      <a:pt x="0" y="27"/>
                    </a:lnTo>
                    <a:lnTo>
                      <a:pt x="712" y="603"/>
                    </a:lnTo>
                    <a:lnTo>
                      <a:pt x="738" y="585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49760" y="3205440"/>
                <a:ext cx="1742400" cy="984240"/>
              </a:xfrm>
              <a:custGeom>
                <a:avLst/>
                <a:gdLst/>
                <a:ahLst/>
                <a:rect l="l" t="t" r="r" b="b"/>
                <a:pathLst>
                  <a:path w="1098" h="620">
                    <a:moveTo>
                      <a:pt x="567" y="620"/>
                    </a:moveTo>
                    <a:lnTo>
                      <a:pt x="891" y="522"/>
                    </a:lnTo>
                    <a:lnTo>
                      <a:pt x="1098" y="359"/>
                    </a:lnTo>
                    <a:lnTo>
                      <a:pt x="702" y="0"/>
                    </a:lnTo>
                    <a:lnTo>
                      <a:pt x="369" y="0"/>
                    </a:lnTo>
                    <a:lnTo>
                      <a:pt x="0" y="99"/>
                    </a:lnTo>
                    <a:lnTo>
                      <a:pt x="567" y="620"/>
                    </a:lnTo>
                    <a:lnTo>
                      <a:pt x="567" y="620"/>
                    </a:lnTo>
                    <a:lnTo>
                      <a:pt x="567" y="62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106440" y="2262240"/>
                <a:ext cx="1171080" cy="957240"/>
              </a:xfrm>
              <a:custGeom>
                <a:avLst/>
                <a:gdLst/>
                <a:ahLst/>
                <a:rect l="l" t="t" r="r" b="b"/>
                <a:pathLst>
                  <a:path w="738" h="603">
                    <a:moveTo>
                      <a:pt x="738" y="586"/>
                    </a:moveTo>
                    <a:lnTo>
                      <a:pt x="18" y="0"/>
                    </a:lnTo>
                    <a:lnTo>
                      <a:pt x="0" y="27"/>
                    </a:lnTo>
                    <a:lnTo>
                      <a:pt x="712" y="603"/>
                    </a:lnTo>
                    <a:lnTo>
                      <a:pt x="738" y="586"/>
                    </a:lnTo>
                    <a:lnTo>
                      <a:pt x="738" y="586"/>
                    </a:lnTo>
                    <a:lnTo>
                      <a:pt x="738" y="586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368600" y="2352960"/>
                <a:ext cx="399600" cy="1857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365360" y="2347920"/>
                <a:ext cx="398160" cy="185760"/>
              </a:xfrm>
              <a:custGeom>
                <a:avLst/>
                <a:gdLst/>
                <a:ahLst/>
                <a:rect l="l" t="t" r="r" b="b"/>
                <a:pathLst>
                  <a:path w="251" h="117">
                    <a:moveTo>
                      <a:pt x="0" y="0"/>
                    </a:moveTo>
                    <a:lnTo>
                      <a:pt x="0" y="117"/>
                    </a:lnTo>
                    <a:lnTo>
                      <a:pt x="251" y="117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241520" y="3737160"/>
                <a:ext cx="1512360" cy="1413000"/>
              </a:xfrm>
              <a:custGeom>
                <a:avLst/>
                <a:gdLst/>
                <a:ahLst/>
                <a:rect l="l" t="t" r="r" b="b"/>
                <a:pathLst>
                  <a:path w="953" h="890">
                    <a:moveTo>
                      <a:pt x="0" y="747"/>
                    </a:moveTo>
                    <a:lnTo>
                      <a:pt x="242" y="890"/>
                    </a:lnTo>
                    <a:lnTo>
                      <a:pt x="926" y="639"/>
                    </a:lnTo>
                    <a:lnTo>
                      <a:pt x="953" y="270"/>
                    </a:lnTo>
                    <a:lnTo>
                      <a:pt x="935" y="0"/>
                    </a:lnTo>
                    <a:lnTo>
                      <a:pt x="836" y="297"/>
                    </a:lnTo>
                    <a:lnTo>
                      <a:pt x="188" y="396"/>
                    </a:lnTo>
                    <a:lnTo>
                      <a:pt x="0" y="74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782440" y="4065840"/>
                <a:ext cx="615600" cy="585720"/>
              </a:xfrm>
              <a:custGeom>
                <a:avLst/>
                <a:gdLst/>
                <a:ahLst/>
                <a:rect l="l" t="t" r="r" b="b"/>
                <a:pathLst>
                  <a:path w="388" h="369">
                    <a:moveTo>
                      <a:pt x="388" y="0"/>
                    </a:moveTo>
                    <a:lnTo>
                      <a:pt x="0" y="333"/>
                    </a:lnTo>
                    <a:lnTo>
                      <a:pt x="28" y="369"/>
                    </a:lnTo>
                    <a:lnTo>
                      <a:pt x="306" y="126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36840" y="3732480"/>
                <a:ext cx="1512360" cy="1414440"/>
              </a:xfrm>
              <a:custGeom>
                <a:avLst/>
                <a:gdLst/>
                <a:ahLst/>
                <a:rect l="l" t="t" r="r" b="b"/>
                <a:pathLst>
                  <a:path w="953" h="891">
                    <a:moveTo>
                      <a:pt x="0" y="747"/>
                    </a:moveTo>
                    <a:lnTo>
                      <a:pt x="242" y="891"/>
                    </a:lnTo>
                    <a:lnTo>
                      <a:pt x="926" y="639"/>
                    </a:lnTo>
                    <a:lnTo>
                      <a:pt x="953" y="270"/>
                    </a:lnTo>
                    <a:lnTo>
                      <a:pt x="935" y="0"/>
                    </a:lnTo>
                    <a:lnTo>
                      <a:pt x="836" y="297"/>
                    </a:lnTo>
                    <a:lnTo>
                      <a:pt x="188" y="396"/>
                    </a:lnTo>
                    <a:lnTo>
                      <a:pt x="0" y="747"/>
                    </a:lnTo>
                    <a:lnTo>
                      <a:pt x="0" y="747"/>
                    </a:lnTo>
                    <a:lnTo>
                      <a:pt x="0" y="74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779560" y="4061160"/>
                <a:ext cx="613800" cy="585720"/>
              </a:xfrm>
              <a:custGeom>
                <a:avLst/>
                <a:gdLst/>
                <a:ahLst/>
                <a:rect l="l" t="t" r="r" b="b"/>
                <a:pathLst>
                  <a:path w="387" h="369">
                    <a:moveTo>
                      <a:pt x="387" y="0"/>
                    </a:moveTo>
                    <a:lnTo>
                      <a:pt x="0" y="333"/>
                    </a:lnTo>
                    <a:lnTo>
                      <a:pt x="27" y="369"/>
                    </a:lnTo>
                    <a:lnTo>
                      <a:pt x="306" y="127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39880" y="5023080"/>
                <a:ext cx="185400" cy="31428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40000" y="3138480"/>
                <a:ext cx="1371240" cy="1070280"/>
              </a:xfrm>
              <a:custGeom>
                <a:avLst/>
                <a:gdLst/>
                <a:ahLst/>
                <a:rect l="l" t="t" r="r" b="b"/>
                <a:pathLst>
                  <a:path w="864" h="674">
                    <a:moveTo>
                      <a:pt x="0" y="0"/>
                    </a:moveTo>
                    <a:lnTo>
                      <a:pt x="441" y="377"/>
                    </a:lnTo>
                    <a:lnTo>
                      <a:pt x="864" y="674"/>
                    </a:lnTo>
                    <a:lnTo>
                      <a:pt x="306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435200" y="5018400"/>
                <a:ext cx="185400" cy="31428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0" y="0"/>
                    </a:moveTo>
                    <a:lnTo>
                      <a:pt x="0" y="198"/>
                    </a:lnTo>
                    <a:lnTo>
                      <a:pt x="117" y="198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035320" y="3133800"/>
                <a:ext cx="1371240" cy="1069920"/>
              </a:xfrm>
              <a:custGeom>
                <a:avLst/>
                <a:gdLst/>
                <a:ahLst/>
                <a:rect l="l" t="t" r="r" b="b"/>
                <a:pathLst>
                  <a:path w="864" h="674">
                    <a:moveTo>
                      <a:pt x="0" y="0"/>
                    </a:moveTo>
                    <a:lnTo>
                      <a:pt x="441" y="377"/>
                    </a:lnTo>
                    <a:lnTo>
                      <a:pt x="864" y="674"/>
                    </a:lnTo>
                    <a:lnTo>
                      <a:pt x="306" y="1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11320" y="3943440"/>
                <a:ext cx="442800" cy="538200"/>
              </a:xfrm>
              <a:custGeom>
                <a:avLst/>
                <a:gdLst/>
                <a:ahLst/>
                <a:rect l="l" t="t" r="r" b="b"/>
                <a:pathLst>
                  <a:path w="279" h="339">
                    <a:moveTo>
                      <a:pt x="223" y="10"/>
                    </a:moveTo>
                    <a:lnTo>
                      <a:pt x="237" y="19"/>
                    </a:lnTo>
                    <a:lnTo>
                      <a:pt x="248" y="29"/>
                    </a:lnTo>
                    <a:lnTo>
                      <a:pt x="258" y="42"/>
                    </a:lnTo>
                    <a:lnTo>
                      <a:pt x="265" y="57"/>
                    </a:lnTo>
                    <a:lnTo>
                      <a:pt x="272" y="72"/>
                    </a:lnTo>
                    <a:lnTo>
                      <a:pt x="276" y="89"/>
                    </a:lnTo>
                    <a:lnTo>
                      <a:pt x="278" y="107"/>
                    </a:lnTo>
                    <a:lnTo>
                      <a:pt x="279" y="126"/>
                    </a:lnTo>
                    <a:lnTo>
                      <a:pt x="277" y="146"/>
                    </a:lnTo>
                    <a:lnTo>
                      <a:pt x="273" y="166"/>
                    </a:lnTo>
                    <a:lnTo>
                      <a:pt x="268" y="187"/>
                    </a:lnTo>
                    <a:lnTo>
                      <a:pt x="260" y="207"/>
                    </a:lnTo>
                    <a:lnTo>
                      <a:pt x="250" y="228"/>
                    </a:lnTo>
                    <a:lnTo>
                      <a:pt x="239" y="247"/>
                    </a:lnTo>
                    <a:lnTo>
                      <a:pt x="227" y="265"/>
                    </a:lnTo>
                    <a:lnTo>
                      <a:pt x="212" y="281"/>
                    </a:lnTo>
                    <a:lnTo>
                      <a:pt x="198" y="296"/>
                    </a:lnTo>
                    <a:lnTo>
                      <a:pt x="182" y="308"/>
                    </a:lnTo>
                    <a:lnTo>
                      <a:pt x="166" y="318"/>
                    </a:lnTo>
                    <a:lnTo>
                      <a:pt x="150" y="327"/>
                    </a:lnTo>
                    <a:lnTo>
                      <a:pt x="134" y="333"/>
                    </a:lnTo>
                    <a:lnTo>
                      <a:pt x="117" y="337"/>
                    </a:lnTo>
                    <a:lnTo>
                      <a:pt x="101" y="339"/>
                    </a:lnTo>
                    <a:lnTo>
                      <a:pt x="85" y="338"/>
                    </a:lnTo>
                    <a:lnTo>
                      <a:pt x="70" y="335"/>
                    </a:lnTo>
                    <a:lnTo>
                      <a:pt x="55" y="328"/>
                    </a:lnTo>
                    <a:lnTo>
                      <a:pt x="42" y="320"/>
                    </a:lnTo>
                    <a:lnTo>
                      <a:pt x="30" y="309"/>
                    </a:lnTo>
                    <a:lnTo>
                      <a:pt x="21" y="296"/>
                    </a:lnTo>
                    <a:lnTo>
                      <a:pt x="13" y="282"/>
                    </a:lnTo>
                    <a:lnTo>
                      <a:pt x="7" y="266"/>
                    </a:lnTo>
                    <a:lnTo>
                      <a:pt x="2" y="249"/>
                    </a:lnTo>
                    <a:lnTo>
                      <a:pt x="0" y="231"/>
                    </a:lnTo>
                    <a:lnTo>
                      <a:pt x="0" y="212"/>
                    </a:lnTo>
                    <a:lnTo>
                      <a:pt x="2" y="192"/>
                    </a:lnTo>
                    <a:lnTo>
                      <a:pt x="5" y="172"/>
                    </a:lnTo>
                    <a:lnTo>
                      <a:pt x="11" y="151"/>
                    </a:lnTo>
                    <a:lnTo>
                      <a:pt x="18" y="131"/>
                    </a:lnTo>
                    <a:lnTo>
                      <a:pt x="28" y="110"/>
                    </a:lnTo>
                    <a:lnTo>
                      <a:pt x="39" y="91"/>
                    </a:lnTo>
                    <a:lnTo>
                      <a:pt x="52" y="73"/>
                    </a:lnTo>
                    <a:lnTo>
                      <a:pt x="66" y="57"/>
                    </a:lnTo>
                    <a:lnTo>
                      <a:pt x="81" y="43"/>
                    </a:lnTo>
                    <a:lnTo>
                      <a:pt x="95" y="30"/>
                    </a:lnTo>
                    <a:lnTo>
                      <a:pt x="112" y="20"/>
                    </a:lnTo>
                    <a:lnTo>
                      <a:pt x="128" y="11"/>
                    </a:lnTo>
                    <a:lnTo>
                      <a:pt x="144" y="5"/>
                    </a:lnTo>
                    <a:lnTo>
                      <a:pt x="161" y="1"/>
                    </a:lnTo>
                    <a:lnTo>
                      <a:pt x="177" y="0"/>
                    </a:lnTo>
                    <a:lnTo>
                      <a:pt x="193" y="1"/>
                    </a:lnTo>
                    <a:lnTo>
                      <a:pt x="208" y="4"/>
                    </a:lnTo>
                    <a:lnTo>
                      <a:pt x="223" y="1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897080" y="4179960"/>
                <a:ext cx="171000" cy="185760"/>
              </a:xfrm>
              <a:custGeom>
                <a:avLst/>
                <a:gdLst/>
                <a:ahLst/>
                <a:rect l="l" t="t" r="r" b="b"/>
                <a:pathLst>
                  <a:path w="108" h="117">
                    <a:moveTo>
                      <a:pt x="0" y="0"/>
                    </a:moveTo>
                    <a:lnTo>
                      <a:pt x="54" y="117"/>
                    </a:lnTo>
                    <a:lnTo>
                      <a:pt x="10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06640" y="3938760"/>
                <a:ext cx="442440" cy="538200"/>
              </a:xfrm>
              <a:custGeom>
                <a:avLst/>
                <a:gdLst/>
                <a:ahLst/>
                <a:rect l="l" t="t" r="r" b="b"/>
                <a:pathLst>
                  <a:path w="279" h="339">
                    <a:moveTo>
                      <a:pt x="223" y="10"/>
                    </a:moveTo>
                    <a:lnTo>
                      <a:pt x="237" y="19"/>
                    </a:lnTo>
                    <a:lnTo>
                      <a:pt x="248" y="29"/>
                    </a:lnTo>
                    <a:lnTo>
                      <a:pt x="258" y="42"/>
                    </a:lnTo>
                    <a:lnTo>
                      <a:pt x="266" y="57"/>
                    </a:lnTo>
                    <a:lnTo>
                      <a:pt x="272" y="72"/>
                    </a:lnTo>
                    <a:lnTo>
                      <a:pt x="276" y="89"/>
                    </a:lnTo>
                    <a:lnTo>
                      <a:pt x="278" y="107"/>
                    </a:lnTo>
                    <a:lnTo>
                      <a:pt x="279" y="126"/>
                    </a:lnTo>
                    <a:lnTo>
                      <a:pt x="277" y="147"/>
                    </a:lnTo>
                    <a:lnTo>
                      <a:pt x="274" y="166"/>
                    </a:lnTo>
                    <a:lnTo>
                      <a:pt x="268" y="187"/>
                    </a:lnTo>
                    <a:lnTo>
                      <a:pt x="260" y="208"/>
                    </a:lnTo>
                    <a:lnTo>
                      <a:pt x="251" y="228"/>
                    </a:lnTo>
                    <a:lnTo>
                      <a:pt x="251" y="228"/>
                    </a:lnTo>
                    <a:lnTo>
                      <a:pt x="239" y="247"/>
                    </a:lnTo>
                    <a:lnTo>
                      <a:pt x="227" y="265"/>
                    </a:lnTo>
                    <a:lnTo>
                      <a:pt x="213" y="281"/>
                    </a:lnTo>
                    <a:lnTo>
                      <a:pt x="198" y="296"/>
                    </a:lnTo>
                    <a:lnTo>
                      <a:pt x="183" y="308"/>
                    </a:lnTo>
                    <a:lnTo>
                      <a:pt x="166" y="318"/>
                    </a:lnTo>
                    <a:lnTo>
                      <a:pt x="150" y="327"/>
                    </a:lnTo>
                    <a:lnTo>
                      <a:pt x="134" y="333"/>
                    </a:lnTo>
                    <a:lnTo>
                      <a:pt x="117" y="337"/>
                    </a:lnTo>
                    <a:lnTo>
                      <a:pt x="101" y="339"/>
                    </a:lnTo>
                    <a:lnTo>
                      <a:pt x="85" y="338"/>
                    </a:lnTo>
                    <a:lnTo>
                      <a:pt x="70" y="335"/>
                    </a:lnTo>
                    <a:lnTo>
                      <a:pt x="55" y="328"/>
                    </a:lnTo>
                    <a:lnTo>
                      <a:pt x="55" y="328"/>
                    </a:lnTo>
                    <a:lnTo>
                      <a:pt x="42" y="320"/>
                    </a:lnTo>
                    <a:lnTo>
                      <a:pt x="31" y="309"/>
                    </a:lnTo>
                    <a:lnTo>
                      <a:pt x="21" y="296"/>
                    </a:lnTo>
                    <a:lnTo>
                      <a:pt x="13" y="282"/>
                    </a:lnTo>
                    <a:lnTo>
                      <a:pt x="7" y="266"/>
                    </a:lnTo>
                    <a:lnTo>
                      <a:pt x="2" y="249"/>
                    </a:lnTo>
                    <a:lnTo>
                      <a:pt x="1" y="231"/>
                    </a:lnTo>
                    <a:lnTo>
                      <a:pt x="0" y="212"/>
                    </a:lnTo>
                    <a:lnTo>
                      <a:pt x="2" y="192"/>
                    </a:lnTo>
                    <a:lnTo>
                      <a:pt x="5" y="172"/>
                    </a:lnTo>
                    <a:lnTo>
                      <a:pt x="11" y="151"/>
                    </a:lnTo>
                    <a:lnTo>
                      <a:pt x="18" y="131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39" y="91"/>
                    </a:lnTo>
                    <a:lnTo>
                      <a:pt x="52" y="73"/>
                    </a:lnTo>
                    <a:lnTo>
                      <a:pt x="66" y="57"/>
                    </a:lnTo>
                    <a:lnTo>
                      <a:pt x="81" y="43"/>
                    </a:lnTo>
                    <a:lnTo>
                      <a:pt x="96" y="30"/>
                    </a:lnTo>
                    <a:lnTo>
                      <a:pt x="112" y="20"/>
                    </a:lnTo>
                    <a:lnTo>
                      <a:pt x="128" y="11"/>
                    </a:lnTo>
                    <a:lnTo>
                      <a:pt x="145" y="5"/>
                    </a:lnTo>
                    <a:lnTo>
                      <a:pt x="161" y="1"/>
                    </a:lnTo>
                    <a:lnTo>
                      <a:pt x="177" y="0"/>
                    </a:lnTo>
                    <a:lnTo>
                      <a:pt x="194" y="1"/>
                    </a:lnTo>
                    <a:lnTo>
                      <a:pt x="209" y="4"/>
                    </a:lnTo>
                    <a:lnTo>
                      <a:pt x="223" y="10"/>
                    </a:lnTo>
                    <a:lnTo>
                      <a:pt x="223" y="10"/>
                    </a:lnTo>
                    <a:lnTo>
                      <a:pt x="223" y="1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892400" y="4175280"/>
                <a:ext cx="171000" cy="185760"/>
              </a:xfrm>
              <a:custGeom>
                <a:avLst/>
                <a:gdLst/>
                <a:ahLst/>
                <a:rect l="l" t="t" r="r" b="b"/>
                <a:pathLst>
                  <a:path w="108" h="117">
                    <a:moveTo>
                      <a:pt x="0" y="0"/>
                    </a:moveTo>
                    <a:lnTo>
                      <a:pt x="54" y="117"/>
                    </a:lnTo>
                    <a:lnTo>
                      <a:pt x="108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11440" y="3638880"/>
                <a:ext cx="128160" cy="284040"/>
              </a:xfrm>
              <a:custGeom>
                <a:avLst/>
                <a:gdLst/>
                <a:ahLst/>
                <a:rect l="l" t="t" r="r" b="b"/>
                <a:pathLst>
                  <a:path w="81" h="179">
                    <a:moveTo>
                      <a:pt x="0" y="8"/>
                    </a:moveTo>
                    <a:lnTo>
                      <a:pt x="0" y="179"/>
                    </a:lnTo>
                    <a:lnTo>
                      <a:pt x="81" y="179"/>
                    </a:lnTo>
                    <a:lnTo>
                      <a:pt x="8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982680" y="3495960"/>
                <a:ext cx="471240" cy="269640"/>
              </a:xfrm>
              <a:custGeom>
                <a:avLst/>
                <a:gdLst/>
                <a:ahLst/>
                <a:rect l="l" t="t" r="r" b="b"/>
                <a:pathLst>
                  <a:path w="297" h="170">
                    <a:moveTo>
                      <a:pt x="10" y="80"/>
                    </a:moveTo>
                    <a:lnTo>
                      <a:pt x="109" y="170"/>
                    </a:lnTo>
                    <a:lnTo>
                      <a:pt x="297" y="107"/>
                    </a:lnTo>
                    <a:lnTo>
                      <a:pt x="297" y="18"/>
                    </a:lnTo>
                    <a:lnTo>
                      <a:pt x="109" y="80"/>
                    </a:lnTo>
                    <a:lnTo>
                      <a:pt x="0" y="0"/>
                    </a:lnTo>
                    <a:lnTo>
                      <a:pt x="10" y="8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06760" y="3633840"/>
                <a:ext cx="128160" cy="285840"/>
              </a:xfrm>
              <a:custGeom>
                <a:avLst/>
                <a:gdLst/>
                <a:ahLst/>
                <a:rect l="l" t="t" r="r" b="b"/>
                <a:pathLst>
                  <a:path w="81" h="180">
                    <a:moveTo>
                      <a:pt x="0" y="8"/>
                    </a:moveTo>
                    <a:lnTo>
                      <a:pt x="0" y="180"/>
                    </a:lnTo>
                    <a:lnTo>
                      <a:pt x="81" y="180"/>
                    </a:lnTo>
                    <a:lnTo>
                      <a:pt x="81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978000" y="3490920"/>
                <a:ext cx="471240" cy="270000"/>
              </a:xfrm>
              <a:custGeom>
                <a:avLst/>
                <a:gdLst/>
                <a:ahLst/>
                <a:rect l="l" t="t" r="r" b="b"/>
                <a:pathLst>
                  <a:path w="297" h="170">
                    <a:moveTo>
                      <a:pt x="10" y="80"/>
                    </a:moveTo>
                    <a:lnTo>
                      <a:pt x="109" y="170"/>
                    </a:lnTo>
                    <a:lnTo>
                      <a:pt x="297" y="107"/>
                    </a:lnTo>
                    <a:lnTo>
                      <a:pt x="297" y="18"/>
                    </a:lnTo>
                    <a:lnTo>
                      <a:pt x="109" y="80"/>
                    </a:lnTo>
                    <a:lnTo>
                      <a:pt x="0" y="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982680" y="3410280"/>
                <a:ext cx="471240" cy="212400"/>
              </a:xfrm>
              <a:custGeom>
                <a:avLst/>
                <a:gdLst/>
                <a:ahLst/>
                <a:rect l="l" t="t" r="r" b="b"/>
                <a:pathLst>
                  <a:path w="297" h="134">
                    <a:moveTo>
                      <a:pt x="0" y="54"/>
                    </a:moveTo>
                    <a:lnTo>
                      <a:pt x="198" y="0"/>
                    </a:lnTo>
                    <a:lnTo>
                      <a:pt x="297" y="72"/>
                    </a:lnTo>
                    <a:lnTo>
                      <a:pt x="109" y="1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497200" y="2567160"/>
                <a:ext cx="71280" cy="1612800"/>
              </a:xfrm>
              <a:custGeom>
                <a:avLst/>
                <a:gdLst/>
                <a:ahLst/>
                <a:rect l="l" t="t" r="r" b="b"/>
                <a:pathLst>
                  <a:path w="45" h="1016">
                    <a:moveTo>
                      <a:pt x="0" y="9"/>
                    </a:moveTo>
                    <a:lnTo>
                      <a:pt x="0" y="1016"/>
                    </a:lnTo>
                    <a:lnTo>
                      <a:pt x="45" y="1016"/>
                    </a:lnTo>
                    <a:lnTo>
                      <a:pt x="4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78000" y="3405240"/>
                <a:ext cx="471240" cy="212760"/>
              </a:xfrm>
              <a:custGeom>
                <a:avLst/>
                <a:gdLst/>
                <a:ahLst/>
                <a:rect l="l" t="t" r="r" b="b"/>
                <a:pathLst>
                  <a:path w="297" h="134">
                    <a:moveTo>
                      <a:pt x="0" y="54"/>
                    </a:moveTo>
                    <a:lnTo>
                      <a:pt x="199" y="0"/>
                    </a:lnTo>
                    <a:lnTo>
                      <a:pt x="297" y="72"/>
                    </a:lnTo>
                    <a:lnTo>
                      <a:pt x="109" y="13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2520" y="2562480"/>
                <a:ext cx="70920" cy="1612800"/>
              </a:xfrm>
              <a:custGeom>
                <a:avLst/>
                <a:gdLst/>
                <a:ahLst/>
                <a:rect l="l" t="t" r="r" b="b"/>
                <a:pathLst>
                  <a:path w="45" h="1016">
                    <a:moveTo>
                      <a:pt x="0" y="9"/>
                    </a:moveTo>
                    <a:lnTo>
                      <a:pt x="0" y="1016"/>
                    </a:lnTo>
                    <a:lnTo>
                      <a:pt x="45" y="1016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161800">
                <a:off x="2893680" y="2302200"/>
                <a:ext cx="499680" cy="742680"/>
              </a:xfrm>
              <a:custGeom>
                <a:avLst/>
                <a:gdLst/>
                <a:ahLst/>
                <a:rect l="l" t="t" r="r" b="b"/>
                <a:pathLst>
                  <a:path w="315" h="468">
                    <a:moveTo>
                      <a:pt x="288" y="0"/>
                    </a:moveTo>
                    <a:lnTo>
                      <a:pt x="0" y="450"/>
                    </a:lnTo>
                    <a:lnTo>
                      <a:pt x="27" y="468"/>
                    </a:lnTo>
                    <a:lnTo>
                      <a:pt x="315" y="1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161800">
                <a:off x="2950560" y="3040200"/>
                <a:ext cx="242640" cy="141480"/>
              </a:xfrm>
              <a:custGeom>
                <a:avLst/>
                <a:gdLst/>
                <a:ahLst/>
                <a:rect l="l" t="t" r="r" b="b"/>
                <a:pathLst>
                  <a:path w="153" h="89">
                    <a:moveTo>
                      <a:pt x="0" y="27"/>
                    </a:moveTo>
                    <a:lnTo>
                      <a:pt x="72" y="89"/>
                    </a:lnTo>
                    <a:lnTo>
                      <a:pt x="153" y="63"/>
                    </a:lnTo>
                    <a:lnTo>
                      <a:pt x="72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0161800">
                <a:off x="2887560" y="2300400"/>
                <a:ext cx="499680" cy="743040"/>
              </a:xfrm>
              <a:custGeom>
                <a:avLst/>
                <a:gdLst/>
                <a:ahLst/>
                <a:rect l="l" t="t" r="r" b="b"/>
                <a:pathLst>
                  <a:path w="315" h="468">
                    <a:moveTo>
                      <a:pt x="288" y="0"/>
                    </a:moveTo>
                    <a:lnTo>
                      <a:pt x="0" y="450"/>
                    </a:lnTo>
                    <a:lnTo>
                      <a:pt x="27" y="468"/>
                    </a:lnTo>
                    <a:lnTo>
                      <a:pt x="315" y="18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161800">
                <a:off x="2944440" y="3038760"/>
                <a:ext cx="244080" cy="142920"/>
              </a:xfrm>
              <a:custGeom>
                <a:avLst/>
                <a:gdLst/>
                <a:ahLst/>
                <a:rect l="l" t="t" r="r" b="b"/>
                <a:pathLst>
                  <a:path w="154" h="90">
                    <a:moveTo>
                      <a:pt x="0" y="27"/>
                    </a:moveTo>
                    <a:lnTo>
                      <a:pt x="72" y="90"/>
                    </a:lnTo>
                    <a:lnTo>
                      <a:pt x="154" y="63"/>
                    </a:lnTo>
                    <a:lnTo>
                      <a:pt x="72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161800">
                <a:off x="2977560" y="3078000"/>
                <a:ext cx="242640" cy="185760"/>
              </a:xfrm>
              <a:custGeom>
                <a:avLst/>
                <a:gdLst/>
                <a:ahLst/>
                <a:rect l="l" t="t" r="r" b="b"/>
                <a:pathLst>
                  <a:path w="153" h="117">
                    <a:moveTo>
                      <a:pt x="0" y="0"/>
                    </a:moveTo>
                    <a:lnTo>
                      <a:pt x="0" y="117"/>
                    </a:lnTo>
                    <a:lnTo>
                      <a:pt x="99" y="81"/>
                    </a:lnTo>
                    <a:lnTo>
                      <a:pt x="153" y="36"/>
                    </a:lnTo>
                    <a:lnTo>
                      <a:pt x="72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161800">
                <a:off x="2971080" y="3075120"/>
                <a:ext cx="244080" cy="185760"/>
              </a:xfrm>
              <a:custGeom>
                <a:avLst/>
                <a:gdLst/>
                <a:ahLst/>
                <a:rect l="l" t="t" r="r" b="b"/>
                <a:pathLst>
                  <a:path w="154" h="117">
                    <a:moveTo>
                      <a:pt x="0" y="0"/>
                    </a:moveTo>
                    <a:lnTo>
                      <a:pt x="0" y="117"/>
                    </a:lnTo>
                    <a:lnTo>
                      <a:pt x="99" y="82"/>
                    </a:lnTo>
                    <a:lnTo>
                      <a:pt x="154" y="36"/>
                    </a:lnTo>
                    <a:lnTo>
                      <a:pt x="72" y="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51080" y="588996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914400" y="1447920"/>
              <a:ext cx="7315200" cy="5257800"/>
              <a:chOff x="914400" y="1447920"/>
              <a:chExt cx="7315200" cy="5257800"/>
            </a:xfrm>
          </p:grpSpPr>
          <p:sp>
            <p:nvSpPr>
              <p:cNvPr id="914" name=""/>
              <p:cNvSpPr/>
              <p:nvPr/>
            </p:nvSpPr>
            <p:spPr>
              <a:xfrm>
                <a:off x="6553080" y="312444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553080" y="388620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914400" y="228600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553080" y="4648320"/>
                <a:ext cx="167652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53080" y="601992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914400" y="533412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53080" y="236232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53080" y="1447920"/>
                <a:ext cx="1676520" cy="8380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914400" y="144792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914400" y="396252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14400" y="464832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53080" y="525780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14400" y="312444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914400" y="61722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914400" y="1447920"/>
              <a:ext cx="7315200" cy="5275080"/>
              <a:chOff x="914400" y="1447920"/>
              <a:chExt cx="7315200" cy="5275080"/>
            </a:xfrm>
          </p:grpSpPr>
          <p:sp>
            <p:nvSpPr>
              <p:cNvPr id="929" name=""/>
              <p:cNvSpPr/>
              <p:nvPr/>
            </p:nvSpPr>
            <p:spPr>
              <a:xfrm>
                <a:off x="6553080" y="312444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gimbal frames orientations relative to each other (“arm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553080" y="388620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camera frame orientation relative to last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14400" y="228600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gimbal and camera relative position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553080" y="4648320"/>
                <a:ext cx="1676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er frame orientation  relative to local level frame (“lander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553080" y="601992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Descent camera frame orientation relative to lander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14400" y="533412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Descent camera position relative to land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53080" y="236232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camera head frame orientation relative to lander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ast camera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553080" y="1447920"/>
                <a:ext cx="16765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frame  orientations relative to camera head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914400" y="144792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positions relative to camera h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14400" y="396252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eteo sensor positions relative to lander 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914400" y="464832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er position relative to landing sit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er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553080" y="525780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4400" y="312444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camera head position relative to l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14400" y="617220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ing site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742840" y="2057040"/>
              <a:ext cx="2743560" cy="3582000"/>
              <a:chOff x="2742840" y="2057040"/>
              <a:chExt cx="2743560" cy="3582000"/>
            </a:xfrm>
          </p:grpSpPr>
          <p:sp>
            <p:nvSpPr>
              <p:cNvPr id="944" name=""/>
              <p:cNvSpPr/>
              <p:nvPr/>
            </p:nvSpPr>
            <p:spPr>
              <a:xfrm flipH="1">
                <a:off x="2895120" y="236232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05520" y="5257800"/>
                <a:ext cx="38088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5105520" y="50288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105520" y="525780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114800" y="5181840"/>
                <a:ext cx="38088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4419360" y="4876560"/>
                <a:ext cx="7596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4419360" y="5181840"/>
                <a:ext cx="7596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4724280" y="3657600"/>
                <a:ext cx="38124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4495320" y="350496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724280" y="37339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4191120" y="2895840"/>
                <a:ext cx="75960" cy="30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>
                <a:off x="3885840" y="297144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885840" y="320040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124080" y="236232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200400" y="2362320"/>
                <a:ext cx="38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8120" y="320040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2742840" y="3200400"/>
                <a:ext cx="30492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3048120" y="29714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4724280" y="20570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4724280" y="22096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495320" y="243864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4419720" y="20570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4419720" y="22096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114440" y="243864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572000" y="274320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4572000" y="25142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72000" y="274320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3013200" y="2324160"/>
              <a:ext cx="2589120" cy="2970360"/>
              <a:chOff x="3013200" y="2324160"/>
              <a:chExt cx="2589120" cy="2970360"/>
            </a:xfrm>
          </p:grpSpPr>
          <p:sp>
            <p:nvSpPr>
              <p:cNvPr id="972" name=""/>
              <p:cNvSpPr/>
              <p:nvPr/>
            </p:nvSpPr>
            <p:spPr>
              <a:xfrm>
                <a:off x="5527800" y="34261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21320" y="42260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70600" y="5220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60760" y="51436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689360" y="36957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156200" y="3162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5480" y="23241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13200" y="3162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689360" y="24004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384800" y="24004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2705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539440" y="1870200"/>
              <a:ext cx="3247560" cy="3976920"/>
              <a:chOff x="2539440" y="1870200"/>
              <a:chExt cx="3247560" cy="3976920"/>
            </a:xfrm>
          </p:grpSpPr>
          <p:sp>
            <p:nvSpPr>
              <p:cNvPr id="984" name=""/>
              <p:cNvSpPr/>
              <p:nvPr/>
            </p:nvSpPr>
            <p:spPr>
              <a:xfrm>
                <a:off x="5253840" y="484200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409720" y="537840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929120" y="560088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161600" y="46897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780720" y="51595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05160" y="551520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256640" y="344196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15520" y="351468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88920" y="407988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52800" y="346392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187080" y="282276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539440" y="33116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94200" y="204804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840" y="230832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303800" y="305136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224960" y="187020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23920" y="238788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88800" y="26323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565160" y="18734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047760" y="2362320"/>
              <a:ext cx="2514960" cy="4114440"/>
              <a:chOff x="3047760" y="2362320"/>
              <a:chExt cx="2514960" cy="4114440"/>
            </a:xfrm>
          </p:grpSpPr>
          <p:sp>
            <p:nvSpPr>
              <p:cNvPr id="1004" name=""/>
              <p:cNvSpPr/>
              <p:nvPr/>
            </p:nvSpPr>
            <p:spPr>
              <a:xfrm flipV="1">
                <a:off x="4267080" y="5257440"/>
                <a:ext cx="838440" cy="1219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4723920" y="3733560"/>
                <a:ext cx="381240" cy="1523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495320" y="3733920"/>
                <a:ext cx="228600" cy="1447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4280" y="3733920"/>
                <a:ext cx="838440" cy="533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5562720" y="3504960"/>
                <a:ext cx="0" cy="76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4190760" y="3200400"/>
                <a:ext cx="533160" cy="533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3200400" y="2362320"/>
                <a:ext cx="990720" cy="838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047760" y="2362320"/>
                <a:ext cx="152280" cy="838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4571640" y="2743200"/>
                <a:ext cx="152280" cy="990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>
                <a:off x="4419360" y="2438640"/>
                <a:ext cx="152280" cy="304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4572000" y="2438640"/>
                <a:ext cx="152280" cy="304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1146960" y="121932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86000" y="12193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2438280" y="1752840"/>
              <a:ext cx="4114800" cy="4724280"/>
              <a:chOff x="2438280" y="1752840"/>
              <a:chExt cx="4114800" cy="4724280"/>
            </a:xfrm>
          </p:grpSpPr>
          <p:sp>
            <p:nvSpPr>
              <p:cNvPr id="1018" name=""/>
              <p:cNvSpPr/>
              <p:nvPr/>
            </p:nvSpPr>
            <p:spPr>
              <a:xfrm>
                <a:off x="2438280" y="1752840"/>
                <a:ext cx="1981440" cy="8380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2438280" y="2971800"/>
                <a:ext cx="213372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438280" y="2590920"/>
                <a:ext cx="609840" cy="3049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2438280" y="4038480"/>
                <a:ext cx="304812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2438280" y="4496040"/>
                <a:ext cx="243864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438280" y="4876560"/>
                <a:ext cx="2057400" cy="7621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2438280" y="6019920"/>
                <a:ext cx="205740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257800" y="1752840"/>
                <a:ext cx="129528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5105160" y="2514600"/>
                <a:ext cx="1447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571640" y="5714640"/>
                <a:ext cx="1981080" cy="6858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5562360" y="5105520"/>
                <a:ext cx="99036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4876920" y="4190760"/>
                <a:ext cx="1676160" cy="6858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3429000" y="3581640"/>
                <a:ext cx="312408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4114440" y="3352680"/>
                <a:ext cx="2438280" cy="75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38280" y="2590920"/>
                <a:ext cx="106704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D200-0833-4792-871B-5D5198FA0F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755520" y="523440"/>
            <a:ext cx="328932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ov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914400" y="1447920"/>
            <a:ext cx="7315200" cy="5297400"/>
            <a:chOff x="914400" y="1447920"/>
            <a:chExt cx="7315200" cy="5297400"/>
          </a:xfrm>
        </p:grpSpPr>
        <p:grpSp>
          <p:nvGrpSpPr>
            <p:cNvPr id="1035" name=""/>
            <p:cNvGrpSpPr/>
            <p:nvPr/>
          </p:nvGrpSpPr>
          <p:grpSpPr>
            <a:xfrm>
              <a:off x="3728880" y="1959120"/>
              <a:ext cx="2121120" cy="4054320"/>
              <a:chOff x="3728880" y="1959120"/>
              <a:chExt cx="2121120" cy="405432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4108320" y="5113440"/>
                <a:ext cx="727200" cy="757080"/>
                <a:chOff x="4108320" y="5113440"/>
                <a:chExt cx="727200" cy="757080"/>
              </a:xfrm>
            </p:grpSpPr>
            <p:grpSp>
              <p:nvGrpSpPr>
                <p:cNvPr id="1037" name=""/>
                <p:cNvGrpSpPr/>
                <p:nvPr/>
              </p:nvGrpSpPr>
              <p:grpSpPr>
                <a:xfrm>
                  <a:off x="4264200" y="5456160"/>
                  <a:ext cx="323640" cy="343080"/>
                  <a:chOff x="4264200" y="5456160"/>
                  <a:chExt cx="323640" cy="34308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4457880" y="5470560"/>
                    <a:ext cx="1299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07">
                        <a:moveTo>
                          <a:pt x="82" y="103"/>
                        </a:moveTo>
                        <a:lnTo>
                          <a:pt x="81" y="113"/>
                        </a:lnTo>
                        <a:lnTo>
                          <a:pt x="80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6" y="151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6"/>
                        </a:lnTo>
                        <a:lnTo>
                          <a:pt x="67" y="182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2"/>
                        </a:lnTo>
                        <a:lnTo>
                          <a:pt x="50" y="204"/>
                        </a:lnTo>
                        <a:lnTo>
                          <a:pt x="46" y="206"/>
                        </a:lnTo>
                        <a:lnTo>
                          <a:pt x="42" y="207"/>
                        </a:lnTo>
                        <a:lnTo>
                          <a:pt x="38" y="207"/>
                        </a:lnTo>
                        <a:lnTo>
                          <a:pt x="34" y="205"/>
                        </a:lnTo>
                        <a:lnTo>
                          <a:pt x="30" y="203"/>
                        </a:lnTo>
                        <a:lnTo>
                          <a:pt x="27" y="200"/>
                        </a:lnTo>
                        <a:lnTo>
                          <a:pt x="23" y="196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4" y="179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2" y="128"/>
                        </a:lnTo>
                        <a:lnTo>
                          <a:pt x="1" y="119"/>
                        </a:lnTo>
                        <a:lnTo>
                          <a:pt x="0" y="108"/>
                        </a:lnTo>
                        <a:lnTo>
                          <a:pt x="0" y="98"/>
                        </a:lnTo>
                        <a:lnTo>
                          <a:pt x="1" y="89"/>
                        </a:lnTo>
                        <a:lnTo>
                          <a:pt x="2" y="78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1" y="34"/>
                        </a:lnTo>
                        <a:lnTo>
                          <a:pt x="13" y="28"/>
                        </a:lnTo>
                        <a:lnTo>
                          <a:pt x="16" y="21"/>
                        </a:lnTo>
                        <a:lnTo>
                          <a:pt x="19" y="15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0" y="3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0"/>
                        </a:lnTo>
                        <a:lnTo>
                          <a:pt x="50" y="2"/>
                        </a:lnTo>
                        <a:lnTo>
                          <a:pt x="54" y="5"/>
                        </a:lnTo>
                        <a:lnTo>
                          <a:pt x="57" y="9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0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5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0" y="83"/>
                        </a:lnTo>
                        <a:lnTo>
                          <a:pt x="81" y="93"/>
                        </a:lnTo>
                        <a:lnTo>
                          <a:pt x="82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4457880" y="5468760"/>
                    <a:ext cx="1285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0" y="114"/>
                        </a:lnTo>
                        <a:lnTo>
                          <a:pt x="80" y="124"/>
                        </a:lnTo>
                        <a:lnTo>
                          <a:pt x="79" y="133"/>
                        </a:lnTo>
                        <a:lnTo>
                          <a:pt x="78" y="143"/>
                        </a:lnTo>
                        <a:lnTo>
                          <a:pt x="76" y="152"/>
                        </a:lnTo>
                        <a:lnTo>
                          <a:pt x="74" y="160"/>
                        </a:lnTo>
                        <a:lnTo>
                          <a:pt x="72" y="169"/>
                        </a:lnTo>
                        <a:lnTo>
                          <a:pt x="69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8"/>
                        </a:lnTo>
                        <a:lnTo>
                          <a:pt x="53" y="203"/>
                        </a:lnTo>
                        <a:lnTo>
                          <a:pt x="49" y="205"/>
                        </a:lnTo>
                        <a:lnTo>
                          <a:pt x="45" y="207"/>
                        </a:lnTo>
                        <a:lnTo>
                          <a:pt x="42" y="207"/>
                        </a:lnTo>
                        <a:lnTo>
                          <a:pt x="37" y="207"/>
                        </a:lnTo>
                        <a:lnTo>
                          <a:pt x="34" y="205"/>
                        </a:lnTo>
                        <a:lnTo>
                          <a:pt x="30" y="204"/>
                        </a:lnTo>
                        <a:lnTo>
                          <a:pt x="26" y="200"/>
                        </a:lnTo>
                        <a:lnTo>
                          <a:pt x="23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0" y="173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2" y="139"/>
                        </a:lnTo>
                        <a:lnTo>
                          <a:pt x="1" y="128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2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7" y="43"/>
                        </a:lnTo>
                        <a:lnTo>
                          <a:pt x="10" y="35"/>
                        </a:lnTo>
                        <a:lnTo>
                          <a:pt x="12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3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7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6" y="9"/>
                        </a:lnTo>
                        <a:lnTo>
                          <a:pt x="60" y="13"/>
                        </a:lnTo>
                        <a:lnTo>
                          <a:pt x="64" y="18"/>
                        </a:lnTo>
                        <a:lnTo>
                          <a:pt x="67" y="25"/>
                        </a:lnTo>
                        <a:lnTo>
                          <a:pt x="69" y="31"/>
                        </a:lnTo>
                        <a:lnTo>
                          <a:pt x="72" y="39"/>
                        </a:lnTo>
                        <a:lnTo>
                          <a:pt x="74" y="47"/>
                        </a:lnTo>
                        <a:lnTo>
                          <a:pt x="76" y="56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0" y="84"/>
                        </a:lnTo>
                        <a:lnTo>
                          <a:pt x="80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4265640" y="5456160"/>
                    <a:ext cx="26496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4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8" y="52"/>
                        </a:lnTo>
                        <a:lnTo>
                          <a:pt x="123" y="80"/>
                        </a:lnTo>
                        <a:lnTo>
                          <a:pt x="121" y="113"/>
                        </a:lnTo>
                        <a:lnTo>
                          <a:pt x="124" y="145"/>
                        </a:lnTo>
                        <a:lnTo>
                          <a:pt x="131" y="174"/>
                        </a:lnTo>
                        <a:lnTo>
                          <a:pt x="140" y="196"/>
                        </a:lnTo>
                        <a:lnTo>
                          <a:pt x="153" y="211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4264200" y="5456160"/>
                    <a:ext cx="2649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8" y="186"/>
                        </a:lnTo>
                        <a:lnTo>
                          <a:pt x="8" y="164"/>
                        </a:lnTo>
                        <a:lnTo>
                          <a:pt x="3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3" y="71"/>
                        </a:lnTo>
                        <a:lnTo>
                          <a:pt x="8" y="42"/>
                        </a:lnTo>
                        <a:lnTo>
                          <a:pt x="18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58" y="8"/>
                        </a:lnTo>
                        <a:lnTo>
                          <a:pt x="147" y="14"/>
                        </a:lnTo>
                        <a:lnTo>
                          <a:pt x="137" y="28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2" y="112"/>
                        </a:lnTo>
                        <a:lnTo>
                          <a:pt x="122" y="112"/>
                        </a:lnTo>
                        <a:lnTo>
                          <a:pt x="124" y="145"/>
                        </a:lnTo>
                        <a:lnTo>
                          <a:pt x="131" y="173"/>
                        </a:lnTo>
                        <a:lnTo>
                          <a:pt x="141" y="196"/>
                        </a:lnTo>
                        <a:lnTo>
                          <a:pt x="153" y="210"/>
                        </a:lnTo>
                        <a:lnTo>
                          <a:pt x="167" y="215"/>
                        </a:lnTo>
                        <a:lnTo>
                          <a:pt x="167" y="215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4108320" y="5527800"/>
                  <a:ext cx="322560" cy="342720"/>
                  <a:chOff x="4108320" y="5527800"/>
                  <a:chExt cx="322560" cy="34272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4302000" y="5540400"/>
                    <a:ext cx="1288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4"/>
                        </a:moveTo>
                        <a:lnTo>
                          <a:pt x="81" y="114"/>
                        </a:lnTo>
                        <a:lnTo>
                          <a:pt x="80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6" y="152"/>
                        </a:lnTo>
                        <a:lnTo>
                          <a:pt x="75" y="161"/>
                        </a:lnTo>
                        <a:lnTo>
                          <a:pt x="72" y="169"/>
                        </a:lnTo>
                        <a:lnTo>
                          <a:pt x="70" y="177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7"/>
                        </a:lnTo>
                        <a:lnTo>
                          <a:pt x="41" y="208"/>
                        </a:lnTo>
                        <a:lnTo>
                          <a:pt x="38" y="208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81"/>
                        </a:lnTo>
                        <a:lnTo>
                          <a:pt x="10" y="173"/>
                        </a:lnTo>
                        <a:lnTo>
                          <a:pt x="8" y="165"/>
                        </a:lnTo>
                        <a:lnTo>
                          <a:pt x="6" y="157"/>
                        </a:lnTo>
                        <a:lnTo>
                          <a:pt x="4" y="148"/>
                        </a:lnTo>
                        <a:lnTo>
                          <a:pt x="3" y="139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80"/>
                        </a:lnTo>
                        <a:lnTo>
                          <a:pt x="3" y="70"/>
                        </a:lnTo>
                        <a:lnTo>
                          <a:pt x="4" y="61"/>
                        </a:lnTo>
                        <a:lnTo>
                          <a:pt x="6" y="52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2" y="12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3" y="2"/>
                        </a:lnTo>
                        <a:lnTo>
                          <a:pt x="38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7" y="9"/>
                        </a:lnTo>
                        <a:lnTo>
                          <a:pt x="60" y="14"/>
                        </a:lnTo>
                        <a:lnTo>
                          <a:pt x="64" y="19"/>
                        </a:lnTo>
                        <a:lnTo>
                          <a:pt x="67" y="25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79" y="75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300560" y="55404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4"/>
                        </a:lnTo>
                        <a:lnTo>
                          <a:pt x="80" y="133"/>
                        </a:lnTo>
                        <a:lnTo>
                          <a:pt x="79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1" y="204"/>
                        </a:lnTo>
                        <a:lnTo>
                          <a:pt x="27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4" y="180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1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1" y="88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1" y="35"/>
                        </a:lnTo>
                        <a:lnTo>
                          <a:pt x="14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7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9" y="64"/>
                        </a:lnTo>
                        <a:lnTo>
                          <a:pt x="80" y="74"/>
                        </a:lnTo>
                        <a:lnTo>
                          <a:pt x="81" y="83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10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5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8" y="51"/>
                        </a:lnTo>
                        <a:lnTo>
                          <a:pt x="123" y="80"/>
                        </a:lnTo>
                        <a:lnTo>
                          <a:pt x="122" y="113"/>
                        </a:lnTo>
                        <a:lnTo>
                          <a:pt x="124" y="145"/>
                        </a:lnTo>
                        <a:lnTo>
                          <a:pt x="130" y="174"/>
                        </a:lnTo>
                        <a:lnTo>
                          <a:pt x="140" y="196"/>
                        </a:lnTo>
                        <a:lnTo>
                          <a:pt x="152" y="210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4108320" y="5527800"/>
                    <a:ext cx="2635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16">
                        <a:moveTo>
                          <a:pt x="40" y="206"/>
                        </a:moveTo>
                        <a:lnTo>
                          <a:pt x="27" y="201"/>
                        </a:lnTo>
                        <a:lnTo>
                          <a:pt x="16" y="186"/>
                        </a:lnTo>
                        <a:lnTo>
                          <a:pt x="7" y="164"/>
                        </a:lnTo>
                        <a:lnTo>
                          <a:pt x="1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1" y="70"/>
                        </a:lnTo>
                        <a:lnTo>
                          <a:pt x="7" y="42"/>
                        </a:lnTo>
                        <a:lnTo>
                          <a:pt x="16" y="19"/>
                        </a:lnTo>
                        <a:lnTo>
                          <a:pt x="27" y="5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lnTo>
                          <a:pt x="158" y="8"/>
                        </a:lnTo>
                        <a:lnTo>
                          <a:pt x="158" y="8"/>
                        </a:lnTo>
                        <a:lnTo>
                          <a:pt x="145" y="13"/>
                        </a:lnTo>
                        <a:lnTo>
                          <a:pt x="136" y="28"/>
                        </a:lnTo>
                        <a:lnTo>
                          <a:pt x="128" y="51"/>
                        </a:lnTo>
                        <a:lnTo>
                          <a:pt x="122" y="80"/>
                        </a:lnTo>
                        <a:lnTo>
                          <a:pt x="121" y="113"/>
                        </a:lnTo>
                        <a:lnTo>
                          <a:pt x="121" y="113"/>
                        </a:lnTo>
                        <a:lnTo>
                          <a:pt x="123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6" y="216"/>
                        </a:lnTo>
                        <a:lnTo>
                          <a:pt x="166" y="216"/>
                        </a:lnTo>
                        <a:lnTo>
                          <a:pt x="40" y="206"/>
                        </a:lnTo>
                        <a:lnTo>
                          <a:pt x="40" y="206"/>
                        </a:lnTo>
                        <a:lnTo>
                          <a:pt x="40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4349880" y="5113440"/>
                  <a:ext cx="485640" cy="657000"/>
                  <a:chOff x="4349880" y="5113440"/>
                  <a:chExt cx="485640" cy="657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4349880" y="5584680"/>
                    <a:ext cx="215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0" y="63"/>
                        </a:moveTo>
                        <a:lnTo>
                          <a:pt x="0" y="117"/>
                        </a:lnTo>
                        <a:lnTo>
                          <a:pt x="37" y="117"/>
                        </a:lnTo>
                        <a:lnTo>
                          <a:pt x="91" y="63"/>
                        </a:lnTo>
                        <a:lnTo>
                          <a:pt x="136" y="63"/>
                        </a:lnTo>
                        <a:lnTo>
                          <a:pt x="136" y="0"/>
                        </a:lnTo>
                        <a:lnTo>
                          <a:pt x="100" y="0"/>
                        </a:lnTo>
                        <a:lnTo>
                          <a:pt x="45" y="9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349880" y="5584680"/>
                    <a:ext cx="2156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6">
                        <a:moveTo>
                          <a:pt x="0" y="63"/>
                        </a:moveTo>
                        <a:lnTo>
                          <a:pt x="0" y="116"/>
                        </a:lnTo>
                        <a:lnTo>
                          <a:pt x="36" y="116"/>
                        </a:lnTo>
                        <a:lnTo>
                          <a:pt x="90" y="63"/>
                        </a:lnTo>
                        <a:lnTo>
                          <a:pt x="136" y="63"/>
                        </a:lnTo>
                        <a:lnTo>
                          <a:pt x="136" y="0"/>
                        </a:lnTo>
                        <a:lnTo>
                          <a:pt x="99" y="0"/>
                        </a:lnTo>
                        <a:lnTo>
                          <a:pt x="45" y="9"/>
                        </a:lnTo>
                        <a:lnTo>
                          <a:pt x="0" y="63"/>
                        </a:lnTo>
                        <a:lnTo>
                          <a:pt x="0" y="63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421160" y="5113440"/>
                    <a:ext cx="41436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306">
                        <a:moveTo>
                          <a:pt x="234" y="37"/>
                        </a:moveTo>
                        <a:lnTo>
                          <a:pt x="99" y="91"/>
                        </a:lnTo>
                        <a:lnTo>
                          <a:pt x="37" y="243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1" y="0"/>
                        </a:lnTo>
                        <a:lnTo>
                          <a:pt x="261" y="72"/>
                        </a:lnTo>
                        <a:lnTo>
                          <a:pt x="234" y="72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21160" y="5113440"/>
                    <a:ext cx="41292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233" y="36"/>
                        </a:moveTo>
                        <a:lnTo>
                          <a:pt x="99" y="90"/>
                        </a:lnTo>
                        <a:lnTo>
                          <a:pt x="36" y="243"/>
                        </a:lnTo>
                        <a:lnTo>
                          <a:pt x="36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3" y="0"/>
                        </a:lnTo>
                        <a:lnTo>
                          <a:pt x="260" y="0"/>
                        </a:lnTo>
                        <a:lnTo>
                          <a:pt x="260" y="72"/>
                        </a:lnTo>
                        <a:lnTo>
                          <a:pt x="233" y="72"/>
                        </a:lnTo>
                        <a:lnTo>
                          <a:pt x="233" y="36"/>
                        </a:lnTo>
                        <a:lnTo>
                          <a:pt x="233" y="36"/>
                        </a:lnTo>
                        <a:lnTo>
                          <a:pt x="233" y="3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4064040" y="4670280"/>
                <a:ext cx="1743120" cy="828720"/>
                <a:chOff x="4064040" y="4670280"/>
                <a:chExt cx="1743120" cy="82872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149800" y="4871880"/>
                  <a:ext cx="314280" cy="627120"/>
                </a:xfrm>
                <a:custGeom>
                  <a:avLst/>
                  <a:gdLst/>
                  <a:ahLst/>
                  <a:rect l="l" t="t" r="r" b="b"/>
                  <a:pathLst>
                    <a:path w="198" h="395">
                      <a:moveTo>
                        <a:pt x="0" y="395"/>
                      </a:moveTo>
                      <a:lnTo>
                        <a:pt x="198" y="197"/>
                      </a:lnTo>
                      <a:lnTo>
                        <a:pt x="198" y="0"/>
                      </a:lnTo>
                      <a:lnTo>
                        <a:pt x="0" y="125"/>
                      </a:lnTo>
                      <a:lnTo>
                        <a:pt x="0" y="39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149800" y="4870440"/>
                  <a:ext cx="312840" cy="628560"/>
                </a:xfrm>
                <a:custGeom>
                  <a:avLst/>
                  <a:gdLst/>
                  <a:ahLst/>
                  <a:rect l="l" t="t" r="r" b="b"/>
                  <a:pathLst>
                    <a:path w="197" h="396">
                      <a:moveTo>
                        <a:pt x="0" y="396"/>
                      </a:moveTo>
                      <a:lnTo>
                        <a:pt x="197" y="198"/>
                      </a:lnTo>
                      <a:lnTo>
                        <a:pt x="197" y="0"/>
                      </a:lnTo>
                      <a:lnTo>
                        <a:pt x="0" y="126"/>
                      </a:lnTo>
                      <a:lnTo>
                        <a:pt x="0" y="396"/>
                      </a:lnTo>
                      <a:lnTo>
                        <a:pt x="0" y="396"/>
                      </a:lnTo>
                      <a:lnTo>
                        <a:pt x="0" y="39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65480" y="4672080"/>
                  <a:ext cx="870120" cy="342720"/>
                </a:xfrm>
                <a:custGeom>
                  <a:avLst/>
                  <a:gdLst/>
                  <a:ahLst/>
                  <a:rect l="l" t="t" r="r" b="b"/>
                  <a:pathLst>
                    <a:path w="548" h="216">
                      <a:moveTo>
                        <a:pt x="0" y="198"/>
                      </a:moveTo>
                      <a:lnTo>
                        <a:pt x="198" y="216"/>
                      </a:lnTo>
                      <a:lnTo>
                        <a:pt x="548" y="9"/>
                      </a:lnTo>
                      <a:lnTo>
                        <a:pt x="377" y="0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064040" y="4670280"/>
                  <a:ext cx="869760" cy="343080"/>
                </a:xfrm>
                <a:custGeom>
                  <a:avLst/>
                  <a:gdLst/>
                  <a:ahLst/>
                  <a:rect l="l" t="t" r="r" b="b"/>
                  <a:pathLst>
                    <a:path w="548" h="216">
                      <a:moveTo>
                        <a:pt x="0" y="198"/>
                      </a:moveTo>
                      <a:lnTo>
                        <a:pt x="198" y="216"/>
                      </a:lnTo>
                      <a:lnTo>
                        <a:pt x="548" y="9"/>
                      </a:lnTo>
                      <a:lnTo>
                        <a:pt x="377" y="0"/>
                      </a:lnTo>
                      <a:lnTo>
                        <a:pt x="0" y="198"/>
                      </a:lnTo>
                      <a:lnTo>
                        <a:pt x="0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535640" y="5029200"/>
                  <a:ext cx="612720" cy="469800"/>
                </a:xfrm>
                <a:custGeom>
                  <a:avLst/>
                  <a:gdLst/>
                  <a:ahLst/>
                  <a:rect l="l" t="t" r="r" b="b"/>
                  <a:pathLst>
                    <a:path w="386" h="296">
                      <a:moveTo>
                        <a:pt x="0" y="261"/>
                      </a:moveTo>
                      <a:lnTo>
                        <a:pt x="386" y="296"/>
                      </a:lnTo>
                      <a:lnTo>
                        <a:pt x="386" y="26"/>
                      </a:lnTo>
                      <a:lnTo>
                        <a:pt x="0" y="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533840" y="5027760"/>
                  <a:ext cx="614520" cy="471240"/>
                </a:xfrm>
                <a:custGeom>
                  <a:avLst/>
                  <a:gdLst/>
                  <a:ahLst/>
                  <a:rect l="l" t="t" r="r" b="b"/>
                  <a:pathLst>
                    <a:path w="387" h="297">
                      <a:moveTo>
                        <a:pt x="0" y="261"/>
                      </a:moveTo>
                      <a:lnTo>
                        <a:pt x="387" y="297"/>
                      </a:lnTo>
                      <a:lnTo>
                        <a:pt x="387" y="27"/>
                      </a:lnTo>
                      <a:lnTo>
                        <a:pt x="0" y="0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508640" y="4699080"/>
                  <a:ext cx="1298520" cy="385560"/>
                </a:xfrm>
                <a:custGeom>
                  <a:avLst/>
                  <a:gdLst/>
                  <a:ahLst/>
                  <a:rect l="l" t="t" r="r" b="b"/>
                  <a:pathLst>
                    <a:path w="818" h="243">
                      <a:moveTo>
                        <a:pt x="341" y="0"/>
                      </a:moveTo>
                      <a:lnTo>
                        <a:pt x="818" y="27"/>
                      </a:lnTo>
                      <a:lnTo>
                        <a:pt x="540" y="243"/>
                      </a:lnTo>
                      <a:lnTo>
                        <a:pt x="0" y="208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506840" y="4699080"/>
                  <a:ext cx="1298520" cy="385560"/>
                </a:xfrm>
                <a:custGeom>
                  <a:avLst/>
                  <a:gdLst/>
                  <a:ahLst/>
                  <a:rect l="l" t="t" r="r" b="b"/>
                  <a:pathLst>
                    <a:path w="818" h="243">
                      <a:moveTo>
                        <a:pt x="342" y="0"/>
                      </a:moveTo>
                      <a:lnTo>
                        <a:pt x="818" y="27"/>
                      </a:lnTo>
                      <a:lnTo>
                        <a:pt x="540" y="243"/>
                      </a:lnTo>
                      <a:lnTo>
                        <a:pt x="0" y="207"/>
                      </a:lnTo>
                      <a:lnTo>
                        <a:pt x="342" y="0"/>
                      </a:lnTo>
                      <a:lnTo>
                        <a:pt x="342" y="0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3728880" y="1959120"/>
                <a:ext cx="841680" cy="3311280"/>
                <a:chOff x="3728880" y="1959120"/>
                <a:chExt cx="841680" cy="331128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4444920" y="3630600"/>
                  <a:ext cx="125640" cy="1639800"/>
                  <a:chOff x="4444920" y="3630600"/>
                  <a:chExt cx="125640" cy="163980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4451400" y="3630600"/>
                    <a:ext cx="57240" cy="1355760"/>
                  </a:xfrm>
                  <a:prstGeom prst="rect">
                    <a:avLst/>
                  </a:pr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1400" y="3630600"/>
                    <a:ext cx="55440" cy="13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54">
                        <a:moveTo>
                          <a:pt x="0" y="0"/>
                        </a:moveTo>
                        <a:lnTo>
                          <a:pt x="35" y="0"/>
                        </a:lnTo>
                        <a:lnTo>
                          <a:pt x="35" y="854"/>
                        </a:lnTo>
                        <a:lnTo>
                          <a:pt x="0" y="85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468680" y="4950000"/>
                    <a:ext cx="1000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2" y="24"/>
                        </a:move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20" y="5"/>
                        </a:lnTo>
                        <a:lnTo>
                          <a:pt x="22" y="8"/>
                        </a:lnTo>
                        <a:lnTo>
                          <a:pt x="23" y="12"/>
                        </a:lnTo>
                        <a:lnTo>
                          <a:pt x="24" y="16"/>
                        </a:lnTo>
                        <a:lnTo>
                          <a:pt x="25" y="21"/>
                        </a:lnTo>
                        <a:lnTo>
                          <a:pt x="24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20" y="36"/>
                        </a:lnTo>
                        <a:lnTo>
                          <a:pt x="17" y="39"/>
                        </a:lnTo>
                        <a:lnTo>
                          <a:pt x="14" y="42"/>
                        </a:lnTo>
                        <a:lnTo>
                          <a:pt x="10" y="43"/>
                        </a:lnTo>
                        <a:lnTo>
                          <a:pt x="7" y="43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9" y="66"/>
                        </a:lnTo>
                        <a:lnTo>
                          <a:pt x="42" y="67"/>
                        </a:lnTo>
                        <a:lnTo>
                          <a:pt x="45" y="68"/>
                        </a:lnTo>
                        <a:lnTo>
                          <a:pt x="49" y="67"/>
                        </a:lnTo>
                        <a:lnTo>
                          <a:pt x="52" y="66"/>
                        </a:lnTo>
                        <a:lnTo>
                          <a:pt x="56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2" y="54"/>
                        </a:lnTo>
                        <a:lnTo>
                          <a:pt x="62" y="50"/>
                        </a:lnTo>
                        <a:lnTo>
                          <a:pt x="63" y="45"/>
                        </a:lnTo>
                        <a:lnTo>
                          <a:pt x="62" y="41"/>
                        </a:lnTo>
                        <a:lnTo>
                          <a:pt x="62" y="36"/>
                        </a:lnTo>
                        <a:lnTo>
                          <a:pt x="60" y="32"/>
                        </a:lnTo>
                        <a:lnTo>
                          <a:pt x="58" y="29"/>
                        </a:lnTo>
                        <a:lnTo>
                          <a:pt x="56" y="26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4451400" y="494676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0" y="68"/>
                        </a:moveTo>
                        <a:lnTo>
                          <a:pt x="11" y="44"/>
                        </a:lnTo>
                        <a:lnTo>
                          <a:pt x="8" y="41"/>
                        </a:lnTo>
                        <a:lnTo>
                          <a:pt x="5" y="38"/>
                        </a:lnTo>
                        <a:lnTo>
                          <a:pt x="3" y="36"/>
                        </a:lnTo>
                        <a:lnTo>
                          <a:pt x="1" y="32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3" y="10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1" y="2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5" y="2"/>
                        </a:lnTo>
                        <a:lnTo>
                          <a:pt x="63" y="26"/>
                        </a:lnTo>
                        <a:lnTo>
                          <a:pt x="60" y="25"/>
                        </a:lnTo>
                        <a:lnTo>
                          <a:pt x="56" y="24"/>
                        </a:lnTo>
                        <a:lnTo>
                          <a:pt x="53" y="25"/>
                        </a:lnTo>
                        <a:lnTo>
                          <a:pt x="50" y="26"/>
                        </a:lnTo>
                        <a:lnTo>
                          <a:pt x="46" y="28"/>
                        </a:lnTo>
                        <a:lnTo>
                          <a:pt x="44" y="31"/>
                        </a:lnTo>
                        <a:lnTo>
                          <a:pt x="42" y="34"/>
                        </a:lnTo>
                        <a:lnTo>
                          <a:pt x="39" y="38"/>
                        </a:lnTo>
                        <a:lnTo>
                          <a:pt x="39" y="43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39" y="56"/>
                        </a:lnTo>
                        <a:lnTo>
                          <a:pt x="42" y="60"/>
                        </a:lnTo>
                        <a:lnTo>
                          <a:pt x="44" y="63"/>
                        </a:lnTo>
                        <a:lnTo>
                          <a:pt x="46" y="66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468680" y="4948200"/>
                    <a:ext cx="98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8">
                        <a:moveTo>
                          <a:pt x="52" y="24"/>
                        </a:moveTo>
                        <a:lnTo>
                          <a:pt x="14" y="0"/>
                        </a:lnTo>
                        <a:lnTo>
                          <a:pt x="16" y="2"/>
                        </a:lnTo>
                        <a:lnTo>
                          <a:pt x="19" y="5"/>
                        </a:lnTo>
                        <a:lnTo>
                          <a:pt x="21" y="9"/>
                        </a:lnTo>
                        <a:lnTo>
                          <a:pt x="23" y="12"/>
                        </a:lnTo>
                        <a:lnTo>
                          <a:pt x="23" y="17"/>
                        </a:lnTo>
                        <a:lnTo>
                          <a:pt x="24" y="21"/>
                        </a:lnTo>
                        <a:lnTo>
                          <a:pt x="23" y="26"/>
                        </a:lnTo>
                        <a:lnTo>
                          <a:pt x="23" y="30"/>
                        </a:lnTo>
                        <a:lnTo>
                          <a:pt x="21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4" y="42"/>
                        </a:lnTo>
                        <a:lnTo>
                          <a:pt x="9" y="43"/>
                        </a:lnTo>
                        <a:lnTo>
                          <a:pt x="6" y="44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8" y="66"/>
                        </a:lnTo>
                        <a:lnTo>
                          <a:pt x="41" y="67"/>
                        </a:lnTo>
                        <a:lnTo>
                          <a:pt x="45" y="68"/>
                        </a:lnTo>
                        <a:lnTo>
                          <a:pt x="48" y="67"/>
                        </a:lnTo>
                        <a:lnTo>
                          <a:pt x="52" y="66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1" y="54"/>
                        </a:lnTo>
                        <a:lnTo>
                          <a:pt x="62" y="50"/>
                        </a:lnTo>
                        <a:lnTo>
                          <a:pt x="62" y="46"/>
                        </a:lnTo>
                        <a:lnTo>
                          <a:pt x="62" y="41"/>
                        </a:lnTo>
                        <a:lnTo>
                          <a:pt x="61" y="36"/>
                        </a:lnTo>
                        <a:lnTo>
                          <a:pt x="60" y="33"/>
                        </a:lnTo>
                        <a:lnTo>
                          <a:pt x="58" y="29"/>
                        </a:lnTo>
                        <a:lnTo>
                          <a:pt x="55" y="27"/>
                        </a:lnTo>
                        <a:lnTo>
                          <a:pt x="52" y="24"/>
                        </a:lnTo>
                        <a:lnTo>
                          <a:pt x="52" y="24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451400" y="494496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49" y="68"/>
                        </a:moveTo>
                        <a:lnTo>
                          <a:pt x="11" y="44"/>
                        </a:lnTo>
                        <a:lnTo>
                          <a:pt x="8" y="42"/>
                        </a:lnTo>
                        <a:lnTo>
                          <a:pt x="4" y="39"/>
                        </a:lnTo>
                        <a:lnTo>
                          <a:pt x="2" y="36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2" y="11"/>
                        </a:lnTo>
                        <a:lnTo>
                          <a:pt x="4" y="7"/>
                        </a:lnTo>
                        <a:lnTo>
                          <a:pt x="8" y="4"/>
                        </a:lnTo>
                        <a:lnTo>
                          <a:pt x="11" y="2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20" y="1"/>
                        </a:lnTo>
                        <a:lnTo>
                          <a:pt x="25" y="2"/>
                        </a:lnTo>
                        <a:lnTo>
                          <a:pt x="63" y="26"/>
                        </a:lnTo>
                        <a:lnTo>
                          <a:pt x="59" y="25"/>
                        </a:lnTo>
                        <a:lnTo>
                          <a:pt x="56" y="25"/>
                        </a:lnTo>
                        <a:lnTo>
                          <a:pt x="52" y="25"/>
                        </a:lnTo>
                        <a:lnTo>
                          <a:pt x="49" y="26"/>
                        </a:lnTo>
                        <a:lnTo>
                          <a:pt x="46" y="29"/>
                        </a:lnTo>
                        <a:lnTo>
                          <a:pt x="43" y="31"/>
                        </a:lnTo>
                        <a:lnTo>
                          <a:pt x="41" y="35"/>
                        </a:lnTo>
                        <a:lnTo>
                          <a:pt x="39" y="38"/>
                        </a:lnTo>
                        <a:lnTo>
                          <a:pt x="38" y="43"/>
                        </a:lnTo>
                        <a:lnTo>
                          <a:pt x="38" y="48"/>
                        </a:lnTo>
                        <a:lnTo>
                          <a:pt x="38" y="52"/>
                        </a:lnTo>
                        <a:lnTo>
                          <a:pt x="39" y="56"/>
                        </a:lnTo>
                        <a:lnTo>
                          <a:pt x="41" y="60"/>
                        </a:lnTo>
                        <a:lnTo>
                          <a:pt x="43" y="63"/>
                        </a:lnTo>
                        <a:lnTo>
                          <a:pt x="46" y="66"/>
                        </a:lnTo>
                        <a:lnTo>
                          <a:pt x="49" y="68"/>
                        </a:lnTo>
                        <a:lnTo>
                          <a:pt x="49" y="68"/>
                        </a:lnTo>
                        <a:lnTo>
                          <a:pt x="49" y="6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4513320" y="5022720"/>
                    <a:ext cx="57240" cy="247680"/>
                  </a:xfrm>
                  <a:prstGeom prst="rect">
                    <a:avLst/>
                  </a:pr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4511520" y="5022720"/>
                    <a:ext cx="590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55">
                        <a:moveTo>
                          <a:pt x="0" y="0"/>
                        </a:moveTo>
                        <a:lnTo>
                          <a:pt x="0" y="155"/>
                        </a:lnTo>
                        <a:lnTo>
                          <a:pt x="37" y="155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444920" y="5035680"/>
                    <a:ext cx="11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0" y="6"/>
                        </a:move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21040" y="2187720"/>
                  <a:ext cx="687600" cy="1471320"/>
                  <a:chOff x="3821040" y="2187720"/>
                  <a:chExt cx="687600" cy="147132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22840" y="2187720"/>
                    <a:ext cx="61416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91">
                        <a:moveTo>
                          <a:pt x="0" y="10"/>
                        </a:moveTo>
                        <a:lnTo>
                          <a:pt x="360" y="891"/>
                        </a:lnTo>
                        <a:lnTo>
                          <a:pt x="387" y="864"/>
                        </a:lnTo>
                        <a:lnTo>
                          <a:pt x="36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21040" y="2187720"/>
                    <a:ext cx="614520" cy="14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90">
                        <a:moveTo>
                          <a:pt x="0" y="9"/>
                        </a:moveTo>
                        <a:lnTo>
                          <a:pt x="360" y="890"/>
                        </a:lnTo>
                        <a:lnTo>
                          <a:pt x="387" y="863"/>
                        </a:lnTo>
                        <a:lnTo>
                          <a:pt x="37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408560" y="3551400"/>
                    <a:ext cx="1000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2" y="24"/>
                        </a:moveTo>
                        <a:lnTo>
                          <a:pt x="13" y="0"/>
                        </a:lnTo>
                        <a:lnTo>
                          <a:pt x="16" y="2"/>
                        </a:lnTo>
                        <a:lnTo>
                          <a:pt x="19" y="5"/>
                        </a:lnTo>
                        <a:lnTo>
                          <a:pt x="22" y="9"/>
                        </a:lnTo>
                        <a:lnTo>
                          <a:pt x="23" y="12"/>
                        </a:lnTo>
                        <a:lnTo>
                          <a:pt x="23" y="17"/>
                        </a:lnTo>
                        <a:lnTo>
                          <a:pt x="24" y="21"/>
                        </a:lnTo>
                        <a:lnTo>
                          <a:pt x="23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3" y="42"/>
                        </a:lnTo>
                        <a:lnTo>
                          <a:pt x="9" y="43"/>
                        </a:lnTo>
                        <a:lnTo>
                          <a:pt x="6" y="44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8" y="66"/>
                        </a:lnTo>
                        <a:lnTo>
                          <a:pt x="41" y="67"/>
                        </a:lnTo>
                        <a:lnTo>
                          <a:pt x="45" y="68"/>
                        </a:lnTo>
                        <a:lnTo>
                          <a:pt x="48" y="67"/>
                        </a:lnTo>
                        <a:lnTo>
                          <a:pt x="52" y="66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1" y="55"/>
                        </a:lnTo>
                        <a:lnTo>
                          <a:pt x="62" y="50"/>
                        </a:lnTo>
                        <a:lnTo>
                          <a:pt x="63" y="45"/>
                        </a:lnTo>
                        <a:lnTo>
                          <a:pt x="62" y="41"/>
                        </a:lnTo>
                        <a:lnTo>
                          <a:pt x="61" y="36"/>
                        </a:lnTo>
                        <a:lnTo>
                          <a:pt x="60" y="33"/>
                        </a:lnTo>
                        <a:lnTo>
                          <a:pt x="58" y="29"/>
                        </a:lnTo>
                        <a:lnTo>
                          <a:pt x="55" y="27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406760" y="354960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3" y="25"/>
                        </a:moveTo>
                        <a:lnTo>
                          <a:pt x="14" y="0"/>
                        </a:lnTo>
                        <a:lnTo>
                          <a:pt x="16" y="3"/>
                        </a:lnTo>
                        <a:lnTo>
                          <a:pt x="19" y="6"/>
                        </a:lnTo>
                        <a:lnTo>
                          <a:pt x="22" y="9"/>
                        </a:lnTo>
                        <a:lnTo>
                          <a:pt x="23" y="13"/>
                        </a:lnTo>
                        <a:lnTo>
                          <a:pt x="24" y="17"/>
                        </a:lnTo>
                        <a:lnTo>
                          <a:pt x="25" y="22"/>
                        </a:lnTo>
                        <a:lnTo>
                          <a:pt x="24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4" y="42"/>
                        </a:lnTo>
                        <a:lnTo>
                          <a:pt x="10" y="44"/>
                        </a:lnTo>
                        <a:lnTo>
                          <a:pt x="6" y="44"/>
                        </a:lnTo>
                        <a:lnTo>
                          <a:pt x="3" y="44"/>
                        </a:lnTo>
                        <a:lnTo>
                          <a:pt x="0" y="42"/>
                        </a:lnTo>
                        <a:lnTo>
                          <a:pt x="39" y="67"/>
                        </a:lnTo>
                        <a:lnTo>
                          <a:pt x="42" y="68"/>
                        </a:lnTo>
                        <a:lnTo>
                          <a:pt x="45" y="68"/>
                        </a:lnTo>
                        <a:lnTo>
                          <a:pt x="48" y="68"/>
                        </a:lnTo>
                        <a:lnTo>
                          <a:pt x="53" y="67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9"/>
                        </a:lnTo>
                        <a:lnTo>
                          <a:pt x="62" y="55"/>
                        </a:lnTo>
                        <a:lnTo>
                          <a:pt x="62" y="51"/>
                        </a:lnTo>
                        <a:lnTo>
                          <a:pt x="63" y="46"/>
                        </a:lnTo>
                        <a:lnTo>
                          <a:pt x="62" y="41"/>
                        </a:lnTo>
                        <a:lnTo>
                          <a:pt x="62" y="37"/>
                        </a:lnTo>
                        <a:lnTo>
                          <a:pt x="60" y="33"/>
                        </a:lnTo>
                        <a:lnTo>
                          <a:pt x="58" y="30"/>
                        </a:lnTo>
                        <a:lnTo>
                          <a:pt x="55" y="27"/>
                        </a:lnTo>
                        <a:lnTo>
                          <a:pt x="53" y="25"/>
                        </a:lnTo>
                        <a:lnTo>
                          <a:pt x="53" y="25"/>
                        </a:lnTo>
                        <a:lnTo>
                          <a:pt x="53" y="2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389480" y="3548160"/>
                    <a:ext cx="101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8">
                        <a:moveTo>
                          <a:pt x="50" y="68"/>
                        </a:moveTo>
                        <a:lnTo>
                          <a:pt x="12" y="44"/>
                        </a:lnTo>
                        <a:lnTo>
                          <a:pt x="9" y="42"/>
                        </a:lnTo>
                        <a:lnTo>
                          <a:pt x="6" y="39"/>
                        </a:lnTo>
                        <a:lnTo>
                          <a:pt x="3" y="36"/>
                        </a:lnTo>
                        <a:lnTo>
                          <a:pt x="1" y="32"/>
                        </a:lnTo>
                        <a:lnTo>
                          <a:pt x="1" y="28"/>
                        </a:lnTo>
                        <a:lnTo>
                          <a:pt x="0" y="23"/>
                        </a:lnTo>
                        <a:lnTo>
                          <a:pt x="1" y="19"/>
                        </a:lnTo>
                        <a:lnTo>
                          <a:pt x="1" y="14"/>
                        </a:lnTo>
                        <a:lnTo>
                          <a:pt x="3" y="11"/>
                        </a:lnTo>
                        <a:lnTo>
                          <a:pt x="6" y="7"/>
                        </a:lnTo>
                        <a:lnTo>
                          <a:pt x="9" y="4"/>
                        </a:lnTo>
                        <a:lnTo>
                          <a:pt x="12" y="2"/>
                        </a:lnTo>
                        <a:lnTo>
                          <a:pt x="15" y="1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5" y="2"/>
                        </a:lnTo>
                        <a:lnTo>
                          <a:pt x="64" y="26"/>
                        </a:lnTo>
                        <a:lnTo>
                          <a:pt x="60" y="25"/>
                        </a:lnTo>
                        <a:lnTo>
                          <a:pt x="57" y="24"/>
                        </a:lnTo>
                        <a:lnTo>
                          <a:pt x="53" y="25"/>
                        </a:lnTo>
                        <a:lnTo>
                          <a:pt x="50" y="26"/>
                        </a:lnTo>
                        <a:lnTo>
                          <a:pt x="47" y="29"/>
                        </a:lnTo>
                        <a:lnTo>
                          <a:pt x="44" y="31"/>
                        </a:lnTo>
                        <a:lnTo>
                          <a:pt x="42" y="35"/>
                        </a:lnTo>
                        <a:lnTo>
                          <a:pt x="40" y="38"/>
                        </a:lnTo>
                        <a:lnTo>
                          <a:pt x="39" y="43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40" y="57"/>
                        </a:lnTo>
                        <a:lnTo>
                          <a:pt x="42" y="60"/>
                        </a:lnTo>
                        <a:lnTo>
                          <a:pt x="44" y="63"/>
                        </a:lnTo>
                        <a:lnTo>
                          <a:pt x="47" y="66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389480" y="3548160"/>
                    <a:ext cx="101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8">
                        <a:moveTo>
                          <a:pt x="50" y="68"/>
                        </a:moveTo>
                        <a:lnTo>
                          <a:pt x="11" y="43"/>
                        </a:lnTo>
                        <a:lnTo>
                          <a:pt x="8" y="41"/>
                        </a:lnTo>
                        <a:lnTo>
                          <a:pt x="5" y="38"/>
                        </a:lnTo>
                        <a:lnTo>
                          <a:pt x="2" y="35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2" y="10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1" y="1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64" y="26"/>
                        </a:lnTo>
                        <a:lnTo>
                          <a:pt x="59" y="24"/>
                        </a:lnTo>
                        <a:lnTo>
                          <a:pt x="56" y="24"/>
                        </a:lnTo>
                        <a:lnTo>
                          <a:pt x="53" y="24"/>
                        </a:lnTo>
                        <a:lnTo>
                          <a:pt x="50" y="26"/>
                        </a:lnTo>
                        <a:lnTo>
                          <a:pt x="47" y="28"/>
                        </a:lnTo>
                        <a:lnTo>
                          <a:pt x="43" y="31"/>
                        </a:lnTo>
                        <a:lnTo>
                          <a:pt x="41" y="34"/>
                        </a:lnTo>
                        <a:lnTo>
                          <a:pt x="39" y="38"/>
                        </a:lnTo>
                        <a:lnTo>
                          <a:pt x="39" y="42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39" y="56"/>
                        </a:lnTo>
                        <a:lnTo>
                          <a:pt x="41" y="60"/>
                        </a:lnTo>
                        <a:lnTo>
                          <a:pt x="43" y="62"/>
                        </a:lnTo>
                        <a:lnTo>
                          <a:pt x="47" y="65"/>
                        </a:lnTo>
                        <a:lnTo>
                          <a:pt x="50" y="68"/>
                        </a:lnTo>
                        <a:lnTo>
                          <a:pt x="50" y="68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3728880" y="1959120"/>
                  <a:ext cx="436680" cy="330120"/>
                  <a:chOff x="3728880" y="1959120"/>
                  <a:chExt cx="436680" cy="3301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908520" y="1959120"/>
                    <a:ext cx="25704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08">
                        <a:moveTo>
                          <a:pt x="62" y="208"/>
                        </a:moveTo>
                        <a:lnTo>
                          <a:pt x="162" y="171"/>
                        </a:lnTo>
                        <a:lnTo>
                          <a:pt x="99" y="10"/>
                        </a:lnTo>
                        <a:lnTo>
                          <a:pt x="72" y="0"/>
                        </a:lnTo>
                        <a:lnTo>
                          <a:pt x="18" y="19"/>
                        </a:lnTo>
                        <a:lnTo>
                          <a:pt x="0" y="46"/>
                        </a:lnTo>
                        <a:lnTo>
                          <a:pt x="62" y="20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906720" y="1959120"/>
                    <a:ext cx="2574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07">
                        <a:moveTo>
                          <a:pt x="63" y="207"/>
                        </a:moveTo>
                        <a:lnTo>
                          <a:pt x="162" y="171"/>
                        </a:lnTo>
                        <a:lnTo>
                          <a:pt x="99" y="9"/>
                        </a:lnTo>
                        <a:lnTo>
                          <a:pt x="72" y="0"/>
                        </a:lnTo>
                        <a:lnTo>
                          <a:pt x="18" y="18"/>
                        </a:lnTo>
                        <a:lnTo>
                          <a:pt x="0" y="45"/>
                        </a:lnTo>
                        <a:lnTo>
                          <a:pt x="63" y="207"/>
                        </a:lnTo>
                        <a:lnTo>
                          <a:pt x="63" y="207"/>
                        </a:lnTo>
                        <a:lnTo>
                          <a:pt x="63" y="207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740040" y="2031840"/>
                    <a:ext cx="21600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35">
                        <a:moveTo>
                          <a:pt x="0" y="40"/>
                        </a:moveTo>
                        <a:lnTo>
                          <a:pt x="108" y="0"/>
                        </a:lnTo>
                        <a:lnTo>
                          <a:pt x="136" y="95"/>
                        </a:lnTo>
                        <a:lnTo>
                          <a:pt x="27" y="13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738600" y="2030400"/>
                    <a:ext cx="21744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36">
                        <a:moveTo>
                          <a:pt x="0" y="40"/>
                        </a:moveTo>
                        <a:lnTo>
                          <a:pt x="109" y="0"/>
                        </a:lnTo>
                        <a:lnTo>
                          <a:pt x="137" y="95"/>
                        </a:lnTo>
                        <a:lnTo>
                          <a:pt x="28" y="136"/>
                        </a:lnTo>
                        <a:lnTo>
                          <a:pt x="0" y="40"/>
                        </a:lnTo>
                        <a:lnTo>
                          <a:pt x="0" y="4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911760" y="1989000"/>
                    <a:ext cx="1728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2">
                        <a:moveTo>
                          <a:pt x="83" y="0"/>
                        </a:moveTo>
                        <a:lnTo>
                          <a:pt x="109" y="94"/>
                        </a:lnTo>
                        <a:lnTo>
                          <a:pt x="29" y="122"/>
                        </a:lnTo>
                        <a:lnTo>
                          <a:pt x="0" y="26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911760" y="1987560"/>
                    <a:ext cx="1728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2">
                        <a:moveTo>
                          <a:pt x="82" y="0"/>
                        </a:moveTo>
                        <a:lnTo>
                          <a:pt x="109" y="95"/>
                        </a:lnTo>
                        <a:lnTo>
                          <a:pt x="28" y="122"/>
                        </a:lnTo>
                        <a:lnTo>
                          <a:pt x="0" y="27"/>
                        </a:lnTo>
                        <a:lnTo>
                          <a:pt x="82" y="0"/>
                        </a:lnTo>
                        <a:lnTo>
                          <a:pt x="82" y="0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770280" y="2109960"/>
                    <a:ext cx="475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0">
                        <a:moveTo>
                          <a:pt x="7" y="0"/>
                        </a:moveTo>
                        <a:lnTo>
                          <a:pt x="15" y="1"/>
                        </a:lnTo>
                        <a:lnTo>
                          <a:pt x="22" y="8"/>
                        </a:lnTo>
                        <a:lnTo>
                          <a:pt x="28" y="20"/>
                        </a:lnTo>
                        <a:lnTo>
                          <a:pt x="30" y="34"/>
                        </a:lnTo>
                        <a:lnTo>
                          <a:pt x="29" y="44"/>
                        </a:lnTo>
                        <a:lnTo>
                          <a:pt x="23" y="50"/>
                        </a:lnTo>
                        <a:lnTo>
                          <a:pt x="16" y="49"/>
                        </a:lnTo>
                        <a:lnTo>
                          <a:pt x="8" y="41"/>
                        </a:lnTo>
                        <a:lnTo>
                          <a:pt x="2" y="29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867120" y="2075040"/>
                    <a:ext cx="475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0">
                        <a:moveTo>
                          <a:pt x="7" y="0"/>
                        </a:moveTo>
                        <a:lnTo>
                          <a:pt x="15" y="2"/>
                        </a:lnTo>
                        <a:lnTo>
                          <a:pt x="22" y="8"/>
                        </a:lnTo>
                        <a:lnTo>
                          <a:pt x="28" y="21"/>
                        </a:lnTo>
                        <a:lnTo>
                          <a:pt x="30" y="34"/>
                        </a:lnTo>
                        <a:lnTo>
                          <a:pt x="29" y="44"/>
                        </a:lnTo>
                        <a:lnTo>
                          <a:pt x="23" y="50"/>
                        </a:lnTo>
                        <a:lnTo>
                          <a:pt x="16" y="49"/>
                        </a:lnTo>
                        <a:lnTo>
                          <a:pt x="8" y="41"/>
                        </a:lnTo>
                        <a:lnTo>
                          <a:pt x="3" y="29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68840" y="2108160"/>
                    <a:ext cx="48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7" y="0"/>
                        </a:moveTo>
                        <a:lnTo>
                          <a:pt x="15" y="2"/>
                        </a:lnTo>
                        <a:lnTo>
                          <a:pt x="22" y="9"/>
                        </a:lnTo>
                        <a:lnTo>
                          <a:pt x="28" y="21"/>
                        </a:lnTo>
                        <a:lnTo>
                          <a:pt x="28" y="21"/>
                        </a:lnTo>
                        <a:lnTo>
                          <a:pt x="31" y="34"/>
                        </a:lnTo>
                        <a:lnTo>
                          <a:pt x="29" y="44"/>
                        </a:lnTo>
                        <a:lnTo>
                          <a:pt x="24" y="50"/>
                        </a:lnTo>
                        <a:lnTo>
                          <a:pt x="24" y="50"/>
                        </a:lnTo>
                        <a:lnTo>
                          <a:pt x="16" y="49"/>
                        </a:lnTo>
                        <a:lnTo>
                          <a:pt x="9" y="41"/>
                        </a:lnTo>
                        <a:lnTo>
                          <a:pt x="3" y="30"/>
                        </a:lnTo>
                        <a:lnTo>
                          <a:pt x="3" y="30"/>
                        </a:lnTo>
                        <a:lnTo>
                          <a:pt x="0" y="16"/>
                        </a:lnTo>
                        <a:lnTo>
                          <a:pt x="2" y="6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865680" y="2073240"/>
                    <a:ext cx="48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8" y="0"/>
                        </a:moveTo>
                        <a:lnTo>
                          <a:pt x="15" y="2"/>
                        </a:lnTo>
                        <a:lnTo>
                          <a:pt x="23" y="9"/>
                        </a:lnTo>
                        <a:lnTo>
                          <a:pt x="28" y="22"/>
                        </a:lnTo>
                        <a:lnTo>
                          <a:pt x="28" y="22"/>
                        </a:lnTo>
                        <a:lnTo>
                          <a:pt x="31" y="34"/>
                        </a:lnTo>
                        <a:lnTo>
                          <a:pt x="29" y="45"/>
                        </a:lnTo>
                        <a:lnTo>
                          <a:pt x="24" y="50"/>
                        </a:lnTo>
                        <a:lnTo>
                          <a:pt x="24" y="50"/>
                        </a:lnTo>
                        <a:lnTo>
                          <a:pt x="16" y="49"/>
                        </a:lnTo>
                        <a:lnTo>
                          <a:pt x="9" y="42"/>
                        </a:lnTo>
                        <a:lnTo>
                          <a:pt x="3" y="30"/>
                        </a:lnTo>
                        <a:lnTo>
                          <a:pt x="3" y="30"/>
                        </a:lnTo>
                        <a:lnTo>
                          <a:pt x="0" y="16"/>
                        </a:lnTo>
                        <a:lnTo>
                          <a:pt x="2" y="6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728880" y="2124000"/>
                    <a:ext cx="111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0" y="6"/>
                        </a:moveTo>
                        <a:lnTo>
                          <a:pt x="7" y="6"/>
                        </a:lnTo>
                        <a:lnTo>
                          <a:pt x="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5141880" y="5227560"/>
                <a:ext cx="708120" cy="785880"/>
                <a:chOff x="5141880" y="5227560"/>
                <a:chExt cx="708120" cy="78588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5191200" y="5227560"/>
                  <a:ext cx="415800" cy="486000"/>
                  <a:chOff x="5191200" y="5227560"/>
                  <a:chExt cx="415800" cy="48600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5192640" y="5227560"/>
                    <a:ext cx="414360" cy="4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306">
                        <a:moveTo>
                          <a:pt x="234" y="37"/>
                        </a:moveTo>
                        <a:lnTo>
                          <a:pt x="99" y="91"/>
                        </a:lnTo>
                        <a:lnTo>
                          <a:pt x="37" y="243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1" y="0"/>
                        </a:lnTo>
                        <a:lnTo>
                          <a:pt x="261" y="72"/>
                        </a:lnTo>
                        <a:lnTo>
                          <a:pt x="234" y="72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5191200" y="5227560"/>
                    <a:ext cx="415800" cy="4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306">
                        <a:moveTo>
                          <a:pt x="234" y="36"/>
                        </a:moveTo>
                        <a:lnTo>
                          <a:pt x="99" y="90"/>
                        </a:lnTo>
                        <a:lnTo>
                          <a:pt x="37" y="242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2" y="0"/>
                        </a:lnTo>
                        <a:lnTo>
                          <a:pt x="262" y="72"/>
                        </a:lnTo>
                        <a:lnTo>
                          <a:pt x="234" y="72"/>
                        </a:lnTo>
                        <a:lnTo>
                          <a:pt x="234" y="36"/>
                        </a:lnTo>
                        <a:lnTo>
                          <a:pt x="234" y="36"/>
                        </a:lnTo>
                        <a:lnTo>
                          <a:pt x="234" y="3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5527800" y="5284800"/>
                  <a:ext cx="322200" cy="344520"/>
                  <a:chOff x="5527800" y="5284800"/>
                  <a:chExt cx="322200" cy="34452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5721480" y="52992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80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8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2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0" y="13"/>
                        </a:lnTo>
                        <a:lnTo>
                          <a:pt x="64" y="19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3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1" y="84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721480" y="5299200"/>
                    <a:ext cx="12852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1" y="113"/>
                        </a:lnTo>
                        <a:lnTo>
                          <a:pt x="80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6" y="151"/>
                        </a:lnTo>
                        <a:lnTo>
                          <a:pt x="74" y="160"/>
                        </a:lnTo>
                        <a:lnTo>
                          <a:pt x="72" y="168"/>
                        </a:lnTo>
                        <a:lnTo>
                          <a:pt x="69" y="175"/>
                        </a:lnTo>
                        <a:lnTo>
                          <a:pt x="67" y="182"/>
                        </a:lnTo>
                        <a:lnTo>
                          <a:pt x="63" y="188"/>
                        </a:lnTo>
                        <a:lnTo>
                          <a:pt x="60" y="194"/>
                        </a:lnTo>
                        <a:lnTo>
                          <a:pt x="56" y="198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6"/>
                        </a:lnTo>
                        <a:lnTo>
                          <a:pt x="41" y="207"/>
                        </a:lnTo>
                        <a:lnTo>
                          <a:pt x="37" y="206"/>
                        </a:lnTo>
                        <a:lnTo>
                          <a:pt x="33" y="205"/>
                        </a:lnTo>
                        <a:lnTo>
                          <a:pt x="30" y="203"/>
                        </a:lnTo>
                        <a:lnTo>
                          <a:pt x="26" y="200"/>
                        </a:lnTo>
                        <a:lnTo>
                          <a:pt x="22" y="196"/>
                        </a:lnTo>
                        <a:lnTo>
                          <a:pt x="19" y="191"/>
                        </a:lnTo>
                        <a:lnTo>
                          <a:pt x="15" y="185"/>
                        </a:lnTo>
                        <a:lnTo>
                          <a:pt x="13" y="179"/>
                        </a:lnTo>
                        <a:lnTo>
                          <a:pt x="10" y="172"/>
                        </a:lnTo>
                        <a:lnTo>
                          <a:pt x="7" y="164"/>
                        </a:lnTo>
                        <a:lnTo>
                          <a:pt x="6" y="156"/>
                        </a:lnTo>
                        <a:lnTo>
                          <a:pt x="3" y="147"/>
                        </a:lnTo>
                        <a:lnTo>
                          <a:pt x="2" y="138"/>
                        </a:lnTo>
                        <a:lnTo>
                          <a:pt x="0" y="128"/>
                        </a:lnTo>
                        <a:lnTo>
                          <a:pt x="0" y="118"/>
                        </a:lnTo>
                        <a:lnTo>
                          <a:pt x="0" y="108"/>
                        </a:lnTo>
                        <a:lnTo>
                          <a:pt x="0" y="98"/>
                        </a:lnTo>
                        <a:lnTo>
                          <a:pt x="0" y="88"/>
                        </a:lnTo>
                        <a:lnTo>
                          <a:pt x="0" y="79"/>
                        </a:lnTo>
                        <a:lnTo>
                          <a:pt x="2" y="69"/>
                        </a:lnTo>
                        <a:lnTo>
                          <a:pt x="3" y="60"/>
                        </a:lnTo>
                        <a:lnTo>
                          <a:pt x="5" y="51"/>
                        </a:lnTo>
                        <a:lnTo>
                          <a:pt x="7" y="42"/>
                        </a:lnTo>
                        <a:lnTo>
                          <a:pt x="10" y="35"/>
                        </a:lnTo>
                        <a:lnTo>
                          <a:pt x="13" y="27"/>
                        </a:lnTo>
                        <a:lnTo>
                          <a:pt x="15" y="21"/>
                        </a:lnTo>
                        <a:lnTo>
                          <a:pt x="19" y="15"/>
                        </a:lnTo>
                        <a:lnTo>
                          <a:pt x="22" y="11"/>
                        </a:lnTo>
                        <a:lnTo>
                          <a:pt x="25" y="6"/>
                        </a:lnTo>
                        <a:lnTo>
                          <a:pt x="29" y="3"/>
                        </a:lnTo>
                        <a:lnTo>
                          <a:pt x="33" y="1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5" y="0"/>
                        </a:lnTo>
                        <a:lnTo>
                          <a:pt x="49" y="2"/>
                        </a:lnTo>
                        <a:lnTo>
                          <a:pt x="53" y="5"/>
                        </a:lnTo>
                        <a:lnTo>
                          <a:pt x="56" y="8"/>
                        </a:lnTo>
                        <a:lnTo>
                          <a:pt x="60" y="13"/>
                        </a:lnTo>
                        <a:lnTo>
                          <a:pt x="63" y="18"/>
                        </a:lnTo>
                        <a:lnTo>
                          <a:pt x="67" y="24"/>
                        </a:lnTo>
                        <a:lnTo>
                          <a:pt x="69" y="31"/>
                        </a:lnTo>
                        <a:lnTo>
                          <a:pt x="72" y="38"/>
                        </a:lnTo>
                        <a:lnTo>
                          <a:pt x="74" y="46"/>
                        </a:lnTo>
                        <a:lnTo>
                          <a:pt x="76" y="55"/>
                        </a:lnTo>
                        <a:lnTo>
                          <a:pt x="78" y="64"/>
                        </a:lnTo>
                        <a:lnTo>
                          <a:pt x="79" y="73"/>
                        </a:lnTo>
                        <a:lnTo>
                          <a:pt x="80" y="83"/>
                        </a:lnTo>
                        <a:lnTo>
                          <a:pt x="81" y="93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529240" y="5286240"/>
                    <a:ext cx="26352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16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6"/>
                        </a:lnTo>
                        <a:lnTo>
                          <a:pt x="7" y="164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7" y="42"/>
                        </a:lnTo>
                        <a:lnTo>
                          <a:pt x="16" y="19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6" y="28"/>
                        </a:lnTo>
                        <a:lnTo>
                          <a:pt x="128" y="51"/>
                        </a:lnTo>
                        <a:lnTo>
                          <a:pt x="123" y="80"/>
                        </a:lnTo>
                        <a:lnTo>
                          <a:pt x="121" y="112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6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527800" y="5284800"/>
                    <a:ext cx="2649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6" y="187"/>
                        </a:lnTo>
                        <a:lnTo>
                          <a:pt x="8" y="165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3"/>
                        </a:lnTo>
                        <a:lnTo>
                          <a:pt x="16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58" y="9"/>
                        </a:lnTo>
                        <a:lnTo>
                          <a:pt x="147" y="14"/>
                        </a:lnTo>
                        <a:lnTo>
                          <a:pt x="136" y="29"/>
                        </a:lnTo>
                        <a:lnTo>
                          <a:pt x="128" y="51"/>
                        </a:lnTo>
                        <a:lnTo>
                          <a:pt x="124" y="80"/>
                        </a:lnTo>
                        <a:lnTo>
                          <a:pt x="122" y="113"/>
                        </a:lnTo>
                        <a:lnTo>
                          <a:pt x="122" y="113"/>
                        </a:lnTo>
                        <a:lnTo>
                          <a:pt x="124" y="145"/>
                        </a:lnTo>
                        <a:lnTo>
                          <a:pt x="131" y="173"/>
                        </a:lnTo>
                        <a:lnTo>
                          <a:pt x="140" y="196"/>
                        </a:lnTo>
                        <a:lnTo>
                          <a:pt x="152" y="211"/>
                        </a:lnTo>
                        <a:lnTo>
                          <a:pt x="167" y="216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5278320" y="5527800"/>
                  <a:ext cx="322560" cy="342720"/>
                  <a:chOff x="5278320" y="5527800"/>
                  <a:chExt cx="322560" cy="34272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5472000" y="5540400"/>
                    <a:ext cx="1288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4"/>
                        </a:moveTo>
                        <a:lnTo>
                          <a:pt x="81" y="114"/>
                        </a:lnTo>
                        <a:lnTo>
                          <a:pt x="80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1"/>
                        </a:lnTo>
                        <a:lnTo>
                          <a:pt x="72" y="169"/>
                        </a:lnTo>
                        <a:lnTo>
                          <a:pt x="69" y="177"/>
                        </a:lnTo>
                        <a:lnTo>
                          <a:pt x="66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5" y="207"/>
                        </a:lnTo>
                        <a:lnTo>
                          <a:pt x="41" y="208"/>
                        </a:lnTo>
                        <a:lnTo>
                          <a:pt x="38" y="208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81"/>
                        </a:lnTo>
                        <a:lnTo>
                          <a:pt x="10" y="173"/>
                        </a:lnTo>
                        <a:lnTo>
                          <a:pt x="8" y="165"/>
                        </a:lnTo>
                        <a:lnTo>
                          <a:pt x="5" y="157"/>
                        </a:lnTo>
                        <a:lnTo>
                          <a:pt x="4" y="148"/>
                        </a:lnTo>
                        <a:lnTo>
                          <a:pt x="3" y="139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80"/>
                        </a:lnTo>
                        <a:lnTo>
                          <a:pt x="3" y="70"/>
                        </a:lnTo>
                        <a:lnTo>
                          <a:pt x="4" y="61"/>
                        </a:lnTo>
                        <a:lnTo>
                          <a:pt x="5" y="52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2" y="12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2"/>
                        </a:lnTo>
                        <a:lnTo>
                          <a:pt x="38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7" y="9"/>
                        </a:lnTo>
                        <a:lnTo>
                          <a:pt x="60" y="14"/>
                        </a:lnTo>
                        <a:lnTo>
                          <a:pt x="64" y="19"/>
                        </a:lnTo>
                        <a:lnTo>
                          <a:pt x="66" y="25"/>
                        </a:lnTo>
                        <a:lnTo>
                          <a:pt x="69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80" y="75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470560" y="55404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1" y="204"/>
                        </a:lnTo>
                        <a:lnTo>
                          <a:pt x="27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80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1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1" y="88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7" y="7"/>
                        </a:lnTo>
                        <a:lnTo>
                          <a:pt x="31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8" y="64"/>
                        </a:lnTo>
                        <a:lnTo>
                          <a:pt x="80" y="74"/>
                        </a:lnTo>
                        <a:lnTo>
                          <a:pt x="81" y="83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527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2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5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2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7" y="29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2" y="113"/>
                        </a:lnTo>
                        <a:lnTo>
                          <a:pt x="125" y="145"/>
                        </a:lnTo>
                        <a:lnTo>
                          <a:pt x="131" y="174"/>
                        </a:lnTo>
                        <a:lnTo>
                          <a:pt x="141" y="196"/>
                        </a:lnTo>
                        <a:lnTo>
                          <a:pt x="153" y="210"/>
                        </a:lnTo>
                        <a:lnTo>
                          <a:pt x="167" y="216"/>
                        </a:lnTo>
                        <a:lnTo>
                          <a:pt x="42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527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6"/>
                        </a:lnTo>
                        <a:lnTo>
                          <a:pt x="8" y="164"/>
                        </a:lnTo>
                        <a:lnTo>
                          <a:pt x="2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2" y="70"/>
                        </a:lnTo>
                        <a:lnTo>
                          <a:pt x="8" y="42"/>
                        </a:lnTo>
                        <a:lnTo>
                          <a:pt x="16" y="19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7" y="8"/>
                        </a:lnTo>
                        <a:lnTo>
                          <a:pt x="157" y="8"/>
                        </a:lnTo>
                        <a:lnTo>
                          <a:pt x="146" y="13"/>
                        </a:lnTo>
                        <a:lnTo>
                          <a:pt x="136" y="28"/>
                        </a:lnTo>
                        <a:lnTo>
                          <a:pt x="129" y="51"/>
                        </a:lnTo>
                        <a:lnTo>
                          <a:pt x="123" y="80"/>
                        </a:lnTo>
                        <a:lnTo>
                          <a:pt x="121" y="113"/>
                        </a:lnTo>
                        <a:lnTo>
                          <a:pt x="121" y="113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7" y="216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5141880" y="5670720"/>
                  <a:ext cx="322200" cy="342720"/>
                  <a:chOff x="5141880" y="5670720"/>
                  <a:chExt cx="322200" cy="3427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5335560" y="5684760"/>
                    <a:ext cx="1285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0" y="123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5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1" y="207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0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8"/>
                        </a:lnTo>
                        <a:lnTo>
                          <a:pt x="3" y="138"/>
                        </a:lnTo>
                        <a:lnTo>
                          <a:pt x="1" y="128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2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1"/>
                        </a:lnTo>
                        <a:lnTo>
                          <a:pt x="19" y="15"/>
                        </a:lnTo>
                        <a:lnTo>
                          <a:pt x="22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5"/>
                        </a:lnTo>
                        <a:lnTo>
                          <a:pt x="57" y="9"/>
                        </a:lnTo>
                        <a:lnTo>
                          <a:pt x="60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80" y="74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34120" y="5684760"/>
                    <a:ext cx="12852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6">
                        <a:moveTo>
                          <a:pt x="81" y="103"/>
                        </a:moveTo>
                        <a:lnTo>
                          <a:pt x="81" y="113"/>
                        </a:lnTo>
                        <a:lnTo>
                          <a:pt x="81" y="122"/>
                        </a:lnTo>
                        <a:lnTo>
                          <a:pt x="80" y="133"/>
                        </a:lnTo>
                        <a:lnTo>
                          <a:pt x="79" y="142"/>
                        </a:lnTo>
                        <a:lnTo>
                          <a:pt x="77" y="151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5"/>
                        </a:lnTo>
                        <a:lnTo>
                          <a:pt x="67" y="182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1"/>
                        </a:lnTo>
                        <a:lnTo>
                          <a:pt x="50" y="204"/>
                        </a:lnTo>
                        <a:lnTo>
                          <a:pt x="46" y="206"/>
                        </a:lnTo>
                        <a:lnTo>
                          <a:pt x="42" y="206"/>
                        </a:lnTo>
                        <a:lnTo>
                          <a:pt x="38" y="206"/>
                        </a:lnTo>
                        <a:lnTo>
                          <a:pt x="34" y="205"/>
                        </a:lnTo>
                        <a:lnTo>
                          <a:pt x="31" y="203"/>
                        </a:lnTo>
                        <a:lnTo>
                          <a:pt x="27" y="200"/>
                        </a:lnTo>
                        <a:lnTo>
                          <a:pt x="23" y="196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5"/>
                        </a:lnTo>
                        <a:lnTo>
                          <a:pt x="4" y="147"/>
                        </a:lnTo>
                        <a:lnTo>
                          <a:pt x="3" y="137"/>
                        </a:lnTo>
                        <a:lnTo>
                          <a:pt x="1" y="128"/>
                        </a:lnTo>
                        <a:lnTo>
                          <a:pt x="1" y="118"/>
                        </a:lnTo>
                        <a:lnTo>
                          <a:pt x="0" y="109"/>
                        </a:lnTo>
                        <a:lnTo>
                          <a:pt x="0" y="98"/>
                        </a:lnTo>
                        <a:lnTo>
                          <a:pt x="1" y="88"/>
                        </a:lnTo>
                        <a:lnTo>
                          <a:pt x="1" y="78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0"/>
                        </a:lnTo>
                        <a:lnTo>
                          <a:pt x="8" y="42"/>
                        </a:lnTo>
                        <a:lnTo>
                          <a:pt x="11" y="34"/>
                        </a:lnTo>
                        <a:lnTo>
                          <a:pt x="13" y="27"/>
                        </a:lnTo>
                        <a:lnTo>
                          <a:pt x="16" y="20"/>
                        </a:lnTo>
                        <a:lnTo>
                          <a:pt x="20" y="15"/>
                        </a:lnTo>
                        <a:lnTo>
                          <a:pt x="23" y="10"/>
                        </a:lnTo>
                        <a:lnTo>
                          <a:pt x="27" y="6"/>
                        </a:lnTo>
                        <a:lnTo>
                          <a:pt x="31" y="3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0"/>
                        </a:lnTo>
                        <a:lnTo>
                          <a:pt x="50" y="2"/>
                        </a:lnTo>
                        <a:lnTo>
                          <a:pt x="53" y="4"/>
                        </a:lnTo>
                        <a:lnTo>
                          <a:pt x="57" y="8"/>
                        </a:lnTo>
                        <a:lnTo>
                          <a:pt x="61" y="12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8"/>
                        </a:lnTo>
                        <a:lnTo>
                          <a:pt x="75" y="46"/>
                        </a:lnTo>
                        <a:lnTo>
                          <a:pt x="77" y="55"/>
                        </a:lnTo>
                        <a:lnTo>
                          <a:pt x="79" y="64"/>
                        </a:lnTo>
                        <a:lnTo>
                          <a:pt x="80" y="73"/>
                        </a:lnTo>
                        <a:lnTo>
                          <a:pt x="81" y="83"/>
                        </a:lnTo>
                        <a:lnTo>
                          <a:pt x="81" y="93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141880" y="5672160"/>
                    <a:ext cx="26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2" y="206"/>
                        </a:moveTo>
                        <a:lnTo>
                          <a:pt x="28" y="201"/>
                        </a:lnTo>
                        <a:lnTo>
                          <a:pt x="17" y="186"/>
                        </a:lnTo>
                        <a:lnTo>
                          <a:pt x="8" y="164"/>
                        </a:lnTo>
                        <a:lnTo>
                          <a:pt x="3" y="136"/>
                        </a:lnTo>
                        <a:lnTo>
                          <a:pt x="0" y="103"/>
                        </a:lnTo>
                        <a:lnTo>
                          <a:pt x="3" y="70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2" y="0"/>
                        </a:lnTo>
                        <a:lnTo>
                          <a:pt x="158" y="8"/>
                        </a:lnTo>
                        <a:lnTo>
                          <a:pt x="147" y="13"/>
                        </a:lnTo>
                        <a:lnTo>
                          <a:pt x="137" y="28"/>
                        </a:lnTo>
                        <a:lnTo>
                          <a:pt x="129" y="51"/>
                        </a:lnTo>
                        <a:lnTo>
                          <a:pt x="124" y="79"/>
                        </a:lnTo>
                        <a:lnTo>
                          <a:pt x="122" y="112"/>
                        </a:lnTo>
                        <a:lnTo>
                          <a:pt x="125" y="145"/>
                        </a:lnTo>
                        <a:lnTo>
                          <a:pt x="131" y="173"/>
                        </a:lnTo>
                        <a:lnTo>
                          <a:pt x="141" y="195"/>
                        </a:lnTo>
                        <a:lnTo>
                          <a:pt x="153" y="210"/>
                        </a:lnTo>
                        <a:lnTo>
                          <a:pt x="167" y="215"/>
                        </a:lnTo>
                        <a:lnTo>
                          <a:pt x="42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141880" y="5670720"/>
                    <a:ext cx="26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7"/>
                        </a:lnTo>
                        <a:lnTo>
                          <a:pt x="8" y="164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3"/>
                        </a:lnTo>
                        <a:lnTo>
                          <a:pt x="16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58" y="9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1" y="112"/>
                        </a:lnTo>
                        <a:lnTo>
                          <a:pt x="121" y="112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7" y="215"/>
                        </a:lnTo>
                        <a:lnTo>
                          <a:pt x="167" y="215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0" name=""/>
            <p:cNvGrpSpPr/>
            <p:nvPr/>
          </p:nvGrpSpPr>
          <p:grpSpPr>
            <a:xfrm>
              <a:off x="914400" y="1752480"/>
              <a:ext cx="7315200" cy="4800600"/>
              <a:chOff x="914400" y="1752480"/>
              <a:chExt cx="7315200" cy="4800600"/>
            </a:xfrm>
          </p:grpSpPr>
          <p:sp>
            <p:nvSpPr>
              <p:cNvPr id="1111" name=""/>
              <p:cNvSpPr/>
              <p:nvPr/>
            </p:nvSpPr>
            <p:spPr>
              <a:xfrm>
                <a:off x="6400800" y="58672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00800" y="51055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00800" y="434340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400800" y="342900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00800" y="266688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400800" y="17524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914400" y="60199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914400" y="480060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914400" y="396252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914400" y="32767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914400" y="25909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914400" y="17524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914400" y="5486400"/>
                <a:ext cx="1828800" cy="3808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2743200" y="1981080"/>
              <a:ext cx="3657600" cy="4419720"/>
              <a:chOff x="2743200" y="1981080"/>
              <a:chExt cx="3657600" cy="4419720"/>
            </a:xfrm>
          </p:grpSpPr>
          <p:sp>
            <p:nvSpPr>
              <p:cNvPr id="1125" name=""/>
              <p:cNvSpPr/>
              <p:nvPr/>
            </p:nvSpPr>
            <p:spPr>
              <a:xfrm>
                <a:off x="2743200" y="6324480"/>
                <a:ext cx="68580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743200" y="5638680"/>
                <a:ext cx="1371600" cy="3049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4800240" y="6171840"/>
                <a:ext cx="16002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5410080" y="5334120"/>
                <a:ext cx="990720" cy="75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43200" y="5029200"/>
                <a:ext cx="182880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743200" y="4267080"/>
                <a:ext cx="160020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743200" y="3505320"/>
                <a:ext cx="1600200" cy="60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43200" y="2819520"/>
                <a:ext cx="13716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743200" y="2057400"/>
                <a:ext cx="91440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4648320" y="1981080"/>
                <a:ext cx="175248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5029200" y="2895480"/>
                <a:ext cx="137160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4876560" y="3733920"/>
                <a:ext cx="1523880" cy="1143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952880" y="4572000"/>
                <a:ext cx="1447920" cy="533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3504960" y="1676520"/>
              <a:ext cx="1600560" cy="4952880"/>
              <a:chOff x="3504960" y="1676520"/>
              <a:chExt cx="1600560" cy="4952880"/>
            </a:xfrm>
          </p:grpSpPr>
          <p:sp>
            <p:nvSpPr>
              <p:cNvPr id="1139" name=""/>
              <p:cNvSpPr/>
              <p:nvPr/>
            </p:nvSpPr>
            <p:spPr>
              <a:xfrm flipH="1" flipV="1">
                <a:off x="3504960" y="5943240"/>
                <a:ext cx="22860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733920" y="6172200"/>
                <a:ext cx="38088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33920" y="62485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4800600" y="5486040"/>
                <a:ext cx="30492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flipV="1">
                <a:off x="4419720" y="5715000"/>
                <a:ext cx="38088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4800600" y="533412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4266720" y="502920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4572000" y="46483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72000" y="50292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495680" y="342864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43040" y="3276720"/>
                <a:ext cx="15228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495680" y="36576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3504960" y="213372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 flipV="1">
                <a:off x="3581280" y="1752120"/>
                <a:ext cx="15264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733920" y="2133720"/>
                <a:ext cx="30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3733560" y="20574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3809880" y="1676520"/>
                <a:ext cx="15264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962520" y="2057400"/>
                <a:ext cx="30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4191120" y="4952880"/>
                <a:ext cx="30456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4495680" y="457200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95680" y="495288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699000" y="2019240"/>
              <a:ext cx="1141200" cy="4265640"/>
              <a:chOff x="3699000" y="2019240"/>
              <a:chExt cx="1141200" cy="4265640"/>
            </a:xfrm>
          </p:grpSpPr>
          <p:sp>
            <p:nvSpPr>
              <p:cNvPr id="1161" name=""/>
              <p:cNvSpPr/>
              <p:nvPr/>
            </p:nvSpPr>
            <p:spPr>
              <a:xfrm>
                <a:off x="3699000" y="6210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765680" y="57531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33840" y="50007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457880" y="3622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24360" y="233028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99000" y="210168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27600" y="20192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54640" y="491796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3182760" y="1479600"/>
              <a:ext cx="2193120" cy="5265720"/>
              <a:chOff x="3182760" y="1479600"/>
              <a:chExt cx="2193120" cy="5265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3288240" y="574344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743280" y="6499080"/>
                <a:ext cx="83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(GRAVIT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063320" y="6051600"/>
                <a:ext cx="749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(NORTH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38200" y="53532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2240" y="557856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51280" y="526716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03600" y="446076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05000" y="508968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725720" y="506736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59120" y="375300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28960" y="326376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300560" y="310824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326760" y="15620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182760" y="218448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967920" y="202896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24840" y="147960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205880" y="193356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42040" y="2174760"/>
                <a:ext cx="38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649760" y="487692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227480" y="4410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31920" y="49338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3352680" y="2057040"/>
              <a:ext cx="1447920" cy="4572360"/>
              <a:chOff x="3352680" y="2057040"/>
              <a:chExt cx="1447920" cy="4572360"/>
            </a:xfrm>
          </p:grpSpPr>
          <p:sp>
            <p:nvSpPr>
              <p:cNvPr id="1192" name=""/>
              <p:cNvSpPr/>
              <p:nvPr/>
            </p:nvSpPr>
            <p:spPr>
              <a:xfrm flipV="1">
                <a:off x="3352680" y="6248520"/>
                <a:ext cx="3812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V="1">
                <a:off x="3733920" y="5791320"/>
                <a:ext cx="106668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 flipV="1">
                <a:off x="4571640" y="5028840"/>
                <a:ext cx="228600" cy="76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3962160" y="2362320"/>
                <a:ext cx="533160" cy="1295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3962520" y="2057040"/>
                <a:ext cx="0" cy="304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3733560" y="2133360"/>
                <a:ext cx="228600" cy="228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495680" y="3657600"/>
                <a:ext cx="0" cy="1295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4495680" y="4952880"/>
                <a:ext cx="76320" cy="76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6633720" y="14479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23280" y="144792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914400" y="1752480"/>
              <a:ext cx="7315200" cy="4818240"/>
              <a:chOff x="914400" y="1752480"/>
              <a:chExt cx="7315200" cy="4818240"/>
            </a:xfrm>
          </p:grpSpPr>
          <p:sp>
            <p:nvSpPr>
              <p:cNvPr id="1203" name=""/>
              <p:cNvSpPr/>
              <p:nvPr/>
            </p:nvSpPr>
            <p:spPr>
              <a:xfrm>
                <a:off x="914400" y="17524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center positions relative to end of mas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14400" y="25909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nd of mast position relative to elbow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14400" y="32767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elbow gimbal position relative to shoulder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914400" y="396252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shoulder gimbal position relative to torso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914400" y="480060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torso gimbal position relative to rov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14400" y="5486400"/>
                <a:ext cx="182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position relative to landing site (“rover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914400" y="60199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ing site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400800" y="17524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frames orientation relative to mast elbow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00800" y="26668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elbow frame orientation relative to mast shoulder frame 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800" y="342900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shoulder frame orientation relative to mast torso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400800" y="434340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torso frame orientation relative to rover frame 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00800" y="51055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frame orientation relative to local level frame (“rover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400800" y="58672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rotating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1BFC-39BA-4AA4-8289-C664FB4A78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1280880" y="6553080"/>
            <a:ext cx="66679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P] = partial use of SPICE      [S] = special tools or services provided by NA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340000" y="1562040"/>
            <a:ext cx="5049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576600" y="393840"/>
            <a:ext cx="3789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jor SPICE Use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304920" y="1371600"/>
          <a:ext cx="872496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7249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6D77-7FE9-446E-9CFA-9EF1F180006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3080" y="236520"/>
            <a:ext cx="6627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What are “Ancillary Data?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280" y="1889280"/>
            <a:ext cx="8971200" cy="3155760"/>
          </a:xfrm>
          <a:prstGeom prst="parallelogram">
            <a:avLst>
              <a:gd name="adj" fmla="val -514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12920" y="1623960"/>
            <a:ext cx="7521120" cy="4374000"/>
            <a:chOff x="1312920" y="1623960"/>
            <a:chExt cx="7521120" cy="4374000"/>
          </a:xfrm>
        </p:grpSpPr>
        <p:sp>
          <p:nvSpPr>
            <p:cNvPr id="79" name=""/>
            <p:cNvSpPr/>
            <p:nvPr/>
          </p:nvSpPr>
          <p:spPr>
            <a:xfrm>
              <a:off x="1312920" y="1623960"/>
              <a:ext cx="3047760" cy="3458520"/>
            </a:xfrm>
            <a:custGeom>
              <a:avLst/>
              <a:gdLst/>
              <a:ahLst/>
              <a:rect l="l" t="t" r="r" b="b"/>
              <a:pathLst>
                <a:path w="1875" h="2105">
                  <a:moveTo>
                    <a:pt x="960" y="695"/>
                  </a:moveTo>
                  <a:lnTo>
                    <a:pt x="1006" y="672"/>
                  </a:lnTo>
                  <a:lnTo>
                    <a:pt x="1120" y="765"/>
                  </a:lnTo>
                  <a:lnTo>
                    <a:pt x="1143" y="742"/>
                  </a:lnTo>
                  <a:lnTo>
                    <a:pt x="1052" y="464"/>
                  </a:lnTo>
                  <a:lnTo>
                    <a:pt x="1075" y="441"/>
                  </a:lnTo>
                  <a:lnTo>
                    <a:pt x="1120" y="441"/>
                  </a:lnTo>
                  <a:lnTo>
                    <a:pt x="1152" y="455"/>
                  </a:lnTo>
                  <a:lnTo>
                    <a:pt x="1183" y="468"/>
                  </a:lnTo>
                  <a:lnTo>
                    <a:pt x="1213" y="482"/>
                  </a:lnTo>
                  <a:lnTo>
                    <a:pt x="1243" y="496"/>
                  </a:lnTo>
                  <a:lnTo>
                    <a:pt x="1272" y="511"/>
                  </a:lnTo>
                  <a:lnTo>
                    <a:pt x="1300" y="526"/>
                  </a:lnTo>
                  <a:lnTo>
                    <a:pt x="1327" y="542"/>
                  </a:lnTo>
                  <a:lnTo>
                    <a:pt x="1354" y="557"/>
                  </a:lnTo>
                  <a:lnTo>
                    <a:pt x="1380" y="574"/>
                  </a:lnTo>
                  <a:lnTo>
                    <a:pt x="1406" y="590"/>
                  </a:lnTo>
                  <a:lnTo>
                    <a:pt x="1431" y="607"/>
                  </a:lnTo>
                  <a:lnTo>
                    <a:pt x="1456" y="624"/>
                  </a:lnTo>
                  <a:lnTo>
                    <a:pt x="1479" y="641"/>
                  </a:lnTo>
                  <a:lnTo>
                    <a:pt x="1503" y="659"/>
                  </a:lnTo>
                  <a:lnTo>
                    <a:pt x="1526" y="677"/>
                  </a:lnTo>
                  <a:lnTo>
                    <a:pt x="1549" y="695"/>
                  </a:lnTo>
                  <a:lnTo>
                    <a:pt x="1571" y="714"/>
                  </a:lnTo>
                  <a:lnTo>
                    <a:pt x="1593" y="733"/>
                  </a:lnTo>
                  <a:lnTo>
                    <a:pt x="1615" y="752"/>
                  </a:lnTo>
                  <a:lnTo>
                    <a:pt x="1636" y="771"/>
                  </a:lnTo>
                  <a:lnTo>
                    <a:pt x="1657" y="791"/>
                  </a:lnTo>
                  <a:lnTo>
                    <a:pt x="1678" y="811"/>
                  </a:lnTo>
                  <a:lnTo>
                    <a:pt x="1698" y="830"/>
                  </a:lnTo>
                  <a:lnTo>
                    <a:pt x="1718" y="851"/>
                  </a:lnTo>
                  <a:lnTo>
                    <a:pt x="1738" y="871"/>
                  </a:lnTo>
                  <a:lnTo>
                    <a:pt x="1758" y="892"/>
                  </a:lnTo>
                  <a:lnTo>
                    <a:pt x="1778" y="912"/>
                  </a:lnTo>
                  <a:lnTo>
                    <a:pt x="1797" y="933"/>
                  </a:lnTo>
                  <a:lnTo>
                    <a:pt x="1817" y="954"/>
                  </a:lnTo>
                  <a:lnTo>
                    <a:pt x="1836" y="976"/>
                  </a:lnTo>
                  <a:lnTo>
                    <a:pt x="1855" y="997"/>
                  </a:lnTo>
                  <a:lnTo>
                    <a:pt x="1875" y="1019"/>
                  </a:lnTo>
                  <a:lnTo>
                    <a:pt x="1875" y="1042"/>
                  </a:lnTo>
                  <a:lnTo>
                    <a:pt x="1852" y="1065"/>
                  </a:lnTo>
                  <a:lnTo>
                    <a:pt x="1578" y="1065"/>
                  </a:lnTo>
                  <a:lnTo>
                    <a:pt x="1555" y="1088"/>
                  </a:lnTo>
                  <a:lnTo>
                    <a:pt x="1623" y="1157"/>
                  </a:lnTo>
                  <a:lnTo>
                    <a:pt x="1555" y="1250"/>
                  </a:lnTo>
                  <a:lnTo>
                    <a:pt x="1486" y="1181"/>
                  </a:lnTo>
                  <a:lnTo>
                    <a:pt x="1486" y="1273"/>
                  </a:lnTo>
                  <a:lnTo>
                    <a:pt x="1488" y="1283"/>
                  </a:lnTo>
                  <a:lnTo>
                    <a:pt x="1555" y="1365"/>
                  </a:lnTo>
                  <a:lnTo>
                    <a:pt x="1509" y="1411"/>
                  </a:lnTo>
                  <a:lnTo>
                    <a:pt x="1463" y="1411"/>
                  </a:lnTo>
                  <a:lnTo>
                    <a:pt x="1417" y="1458"/>
                  </a:lnTo>
                  <a:lnTo>
                    <a:pt x="1326" y="1388"/>
                  </a:lnTo>
                  <a:lnTo>
                    <a:pt x="1280" y="1435"/>
                  </a:lnTo>
                  <a:lnTo>
                    <a:pt x="1280" y="1527"/>
                  </a:lnTo>
                  <a:lnTo>
                    <a:pt x="1258" y="1550"/>
                  </a:lnTo>
                  <a:lnTo>
                    <a:pt x="1263" y="1559"/>
                  </a:lnTo>
                  <a:lnTo>
                    <a:pt x="1269" y="1568"/>
                  </a:lnTo>
                  <a:lnTo>
                    <a:pt x="1273" y="1577"/>
                  </a:lnTo>
                  <a:lnTo>
                    <a:pt x="1276" y="1586"/>
                  </a:lnTo>
                  <a:lnTo>
                    <a:pt x="1279" y="1594"/>
                  </a:lnTo>
                  <a:lnTo>
                    <a:pt x="1280" y="1603"/>
                  </a:lnTo>
                  <a:lnTo>
                    <a:pt x="1281" y="1612"/>
                  </a:lnTo>
                  <a:lnTo>
                    <a:pt x="1282" y="1621"/>
                  </a:lnTo>
                  <a:lnTo>
                    <a:pt x="1281" y="1629"/>
                  </a:lnTo>
                  <a:lnTo>
                    <a:pt x="1280" y="1637"/>
                  </a:lnTo>
                  <a:lnTo>
                    <a:pt x="1278" y="1645"/>
                  </a:lnTo>
                  <a:lnTo>
                    <a:pt x="1276" y="1653"/>
                  </a:lnTo>
                  <a:lnTo>
                    <a:pt x="1273" y="1660"/>
                  </a:lnTo>
                  <a:lnTo>
                    <a:pt x="1269" y="1667"/>
                  </a:lnTo>
                  <a:lnTo>
                    <a:pt x="1265" y="1674"/>
                  </a:lnTo>
                  <a:lnTo>
                    <a:pt x="1260" y="1680"/>
                  </a:lnTo>
                  <a:lnTo>
                    <a:pt x="1255" y="1686"/>
                  </a:lnTo>
                  <a:lnTo>
                    <a:pt x="1250" y="1691"/>
                  </a:lnTo>
                  <a:lnTo>
                    <a:pt x="1244" y="1695"/>
                  </a:lnTo>
                  <a:lnTo>
                    <a:pt x="1238" y="1700"/>
                  </a:lnTo>
                  <a:lnTo>
                    <a:pt x="1231" y="1703"/>
                  </a:lnTo>
                  <a:lnTo>
                    <a:pt x="1224" y="1706"/>
                  </a:lnTo>
                  <a:lnTo>
                    <a:pt x="1217" y="1708"/>
                  </a:lnTo>
                  <a:lnTo>
                    <a:pt x="1209" y="1709"/>
                  </a:lnTo>
                  <a:lnTo>
                    <a:pt x="1202" y="1710"/>
                  </a:lnTo>
                  <a:lnTo>
                    <a:pt x="1194" y="1710"/>
                  </a:lnTo>
                  <a:lnTo>
                    <a:pt x="1185" y="1709"/>
                  </a:lnTo>
                  <a:lnTo>
                    <a:pt x="1177" y="1707"/>
                  </a:lnTo>
                  <a:lnTo>
                    <a:pt x="1169" y="1704"/>
                  </a:lnTo>
                  <a:lnTo>
                    <a:pt x="1160" y="1700"/>
                  </a:lnTo>
                  <a:lnTo>
                    <a:pt x="1152" y="1695"/>
                  </a:lnTo>
                  <a:lnTo>
                    <a:pt x="1143" y="1689"/>
                  </a:lnTo>
                  <a:lnTo>
                    <a:pt x="1052" y="1758"/>
                  </a:lnTo>
                  <a:lnTo>
                    <a:pt x="1075" y="1804"/>
                  </a:lnTo>
                  <a:lnTo>
                    <a:pt x="1280" y="1896"/>
                  </a:lnTo>
                  <a:lnTo>
                    <a:pt x="1280" y="1903"/>
                  </a:lnTo>
                  <a:lnTo>
                    <a:pt x="1280" y="1909"/>
                  </a:lnTo>
                  <a:lnTo>
                    <a:pt x="1280" y="1915"/>
                  </a:lnTo>
                  <a:lnTo>
                    <a:pt x="1279" y="1921"/>
                  </a:lnTo>
                  <a:lnTo>
                    <a:pt x="1279" y="1926"/>
                  </a:lnTo>
                  <a:lnTo>
                    <a:pt x="1278" y="1931"/>
                  </a:lnTo>
                  <a:lnTo>
                    <a:pt x="1277" y="1936"/>
                  </a:lnTo>
                  <a:lnTo>
                    <a:pt x="1276" y="1941"/>
                  </a:lnTo>
                  <a:lnTo>
                    <a:pt x="1275" y="1945"/>
                  </a:lnTo>
                  <a:lnTo>
                    <a:pt x="1274" y="1950"/>
                  </a:lnTo>
                  <a:lnTo>
                    <a:pt x="1272" y="1954"/>
                  </a:lnTo>
                  <a:lnTo>
                    <a:pt x="1271" y="1958"/>
                  </a:lnTo>
                  <a:lnTo>
                    <a:pt x="1269" y="1961"/>
                  </a:lnTo>
                  <a:lnTo>
                    <a:pt x="1267" y="1965"/>
                  </a:lnTo>
                  <a:lnTo>
                    <a:pt x="1265" y="1968"/>
                  </a:lnTo>
                  <a:lnTo>
                    <a:pt x="1263" y="1972"/>
                  </a:lnTo>
                  <a:lnTo>
                    <a:pt x="1261" y="1975"/>
                  </a:lnTo>
                  <a:lnTo>
                    <a:pt x="1259" y="1978"/>
                  </a:lnTo>
                  <a:lnTo>
                    <a:pt x="1256" y="1981"/>
                  </a:lnTo>
                  <a:lnTo>
                    <a:pt x="1254" y="1984"/>
                  </a:lnTo>
                  <a:lnTo>
                    <a:pt x="1251" y="1987"/>
                  </a:lnTo>
                  <a:lnTo>
                    <a:pt x="1248" y="1989"/>
                  </a:lnTo>
                  <a:lnTo>
                    <a:pt x="1245" y="1992"/>
                  </a:lnTo>
                  <a:lnTo>
                    <a:pt x="1242" y="1994"/>
                  </a:lnTo>
                  <a:lnTo>
                    <a:pt x="1235" y="1999"/>
                  </a:lnTo>
                  <a:lnTo>
                    <a:pt x="1228" y="2003"/>
                  </a:lnTo>
                  <a:lnTo>
                    <a:pt x="1220" y="2008"/>
                  </a:lnTo>
                  <a:lnTo>
                    <a:pt x="1212" y="2012"/>
                  </a:lnTo>
                  <a:lnTo>
                    <a:pt x="1189" y="1989"/>
                  </a:lnTo>
                  <a:lnTo>
                    <a:pt x="1189" y="1993"/>
                  </a:lnTo>
                  <a:lnTo>
                    <a:pt x="1189" y="1997"/>
                  </a:lnTo>
                  <a:lnTo>
                    <a:pt x="1188" y="2001"/>
                  </a:lnTo>
                  <a:lnTo>
                    <a:pt x="1188" y="2005"/>
                  </a:lnTo>
                  <a:lnTo>
                    <a:pt x="1187" y="2009"/>
                  </a:lnTo>
                  <a:lnTo>
                    <a:pt x="1187" y="2012"/>
                  </a:lnTo>
                  <a:lnTo>
                    <a:pt x="1186" y="2016"/>
                  </a:lnTo>
                  <a:lnTo>
                    <a:pt x="1185" y="2019"/>
                  </a:lnTo>
                  <a:lnTo>
                    <a:pt x="1184" y="2023"/>
                  </a:lnTo>
                  <a:lnTo>
                    <a:pt x="1183" y="2026"/>
                  </a:lnTo>
                  <a:lnTo>
                    <a:pt x="1182" y="2029"/>
                  </a:lnTo>
                  <a:lnTo>
                    <a:pt x="1180" y="2031"/>
                  </a:lnTo>
                  <a:lnTo>
                    <a:pt x="1179" y="2034"/>
                  </a:lnTo>
                  <a:lnTo>
                    <a:pt x="1178" y="2036"/>
                  </a:lnTo>
                  <a:lnTo>
                    <a:pt x="1176" y="2039"/>
                  </a:lnTo>
                  <a:lnTo>
                    <a:pt x="1175" y="2041"/>
                  </a:lnTo>
                  <a:lnTo>
                    <a:pt x="1173" y="2043"/>
                  </a:lnTo>
                  <a:lnTo>
                    <a:pt x="1171" y="2045"/>
                  </a:lnTo>
                  <a:lnTo>
                    <a:pt x="1169" y="2047"/>
                  </a:lnTo>
                  <a:lnTo>
                    <a:pt x="1168" y="2049"/>
                  </a:lnTo>
                  <a:lnTo>
                    <a:pt x="1166" y="2050"/>
                  </a:lnTo>
                  <a:lnTo>
                    <a:pt x="1164" y="2051"/>
                  </a:lnTo>
                  <a:lnTo>
                    <a:pt x="1162" y="2053"/>
                  </a:lnTo>
                  <a:lnTo>
                    <a:pt x="1160" y="2054"/>
                  </a:lnTo>
                  <a:lnTo>
                    <a:pt x="1158" y="2055"/>
                  </a:lnTo>
                  <a:lnTo>
                    <a:pt x="1156" y="2056"/>
                  </a:lnTo>
                  <a:lnTo>
                    <a:pt x="1154" y="2057"/>
                  </a:lnTo>
                  <a:lnTo>
                    <a:pt x="1152" y="2057"/>
                  </a:lnTo>
                  <a:lnTo>
                    <a:pt x="1150" y="2058"/>
                  </a:lnTo>
                  <a:lnTo>
                    <a:pt x="1148" y="2058"/>
                  </a:lnTo>
                  <a:lnTo>
                    <a:pt x="1145" y="2058"/>
                  </a:lnTo>
                  <a:lnTo>
                    <a:pt x="1143" y="2058"/>
                  </a:lnTo>
                  <a:lnTo>
                    <a:pt x="1120" y="2035"/>
                  </a:lnTo>
                  <a:lnTo>
                    <a:pt x="1098" y="2105"/>
                  </a:lnTo>
                  <a:lnTo>
                    <a:pt x="1029" y="2058"/>
                  </a:lnTo>
                  <a:lnTo>
                    <a:pt x="1029" y="1989"/>
                  </a:lnTo>
                  <a:lnTo>
                    <a:pt x="937" y="1850"/>
                  </a:lnTo>
                  <a:lnTo>
                    <a:pt x="893" y="1853"/>
                  </a:lnTo>
                  <a:lnTo>
                    <a:pt x="869" y="1874"/>
                  </a:lnTo>
                  <a:lnTo>
                    <a:pt x="847" y="1872"/>
                  </a:lnTo>
                  <a:lnTo>
                    <a:pt x="777" y="1874"/>
                  </a:lnTo>
                  <a:lnTo>
                    <a:pt x="754" y="1896"/>
                  </a:lnTo>
                  <a:lnTo>
                    <a:pt x="732" y="1896"/>
                  </a:lnTo>
                  <a:lnTo>
                    <a:pt x="686" y="1989"/>
                  </a:lnTo>
                  <a:lnTo>
                    <a:pt x="682" y="1989"/>
                  </a:lnTo>
                  <a:lnTo>
                    <a:pt x="677" y="1989"/>
                  </a:lnTo>
                  <a:lnTo>
                    <a:pt x="674" y="1988"/>
                  </a:lnTo>
                  <a:lnTo>
                    <a:pt x="670" y="1988"/>
                  </a:lnTo>
                  <a:lnTo>
                    <a:pt x="666" y="1987"/>
                  </a:lnTo>
                  <a:lnTo>
                    <a:pt x="663" y="1987"/>
                  </a:lnTo>
                  <a:lnTo>
                    <a:pt x="659" y="1986"/>
                  </a:lnTo>
                  <a:lnTo>
                    <a:pt x="656" y="1985"/>
                  </a:lnTo>
                  <a:lnTo>
                    <a:pt x="653" y="1984"/>
                  </a:lnTo>
                  <a:lnTo>
                    <a:pt x="650" y="1983"/>
                  </a:lnTo>
                  <a:lnTo>
                    <a:pt x="647" y="1982"/>
                  </a:lnTo>
                  <a:lnTo>
                    <a:pt x="644" y="1981"/>
                  </a:lnTo>
                  <a:lnTo>
                    <a:pt x="641" y="1979"/>
                  </a:lnTo>
                  <a:lnTo>
                    <a:pt x="639" y="1978"/>
                  </a:lnTo>
                  <a:lnTo>
                    <a:pt x="637" y="1976"/>
                  </a:lnTo>
                  <a:lnTo>
                    <a:pt x="634" y="1974"/>
                  </a:lnTo>
                  <a:lnTo>
                    <a:pt x="632" y="1973"/>
                  </a:lnTo>
                  <a:lnTo>
                    <a:pt x="630" y="1971"/>
                  </a:lnTo>
                  <a:lnTo>
                    <a:pt x="629" y="1969"/>
                  </a:lnTo>
                  <a:lnTo>
                    <a:pt x="627" y="1968"/>
                  </a:lnTo>
                  <a:lnTo>
                    <a:pt x="625" y="1966"/>
                  </a:lnTo>
                  <a:lnTo>
                    <a:pt x="624" y="1964"/>
                  </a:lnTo>
                  <a:lnTo>
                    <a:pt x="623" y="1962"/>
                  </a:lnTo>
                  <a:lnTo>
                    <a:pt x="622" y="1960"/>
                  </a:lnTo>
                  <a:lnTo>
                    <a:pt x="621" y="1958"/>
                  </a:lnTo>
                  <a:lnTo>
                    <a:pt x="620" y="1956"/>
                  </a:lnTo>
                  <a:lnTo>
                    <a:pt x="619" y="1954"/>
                  </a:lnTo>
                  <a:lnTo>
                    <a:pt x="618" y="1951"/>
                  </a:lnTo>
                  <a:lnTo>
                    <a:pt x="618" y="1949"/>
                  </a:lnTo>
                  <a:lnTo>
                    <a:pt x="617" y="1947"/>
                  </a:lnTo>
                  <a:lnTo>
                    <a:pt x="617" y="1945"/>
                  </a:lnTo>
                  <a:lnTo>
                    <a:pt x="617" y="1943"/>
                  </a:lnTo>
                  <a:lnTo>
                    <a:pt x="686" y="1874"/>
                  </a:lnTo>
                  <a:lnTo>
                    <a:pt x="640" y="1827"/>
                  </a:lnTo>
                  <a:lnTo>
                    <a:pt x="572" y="1920"/>
                  </a:lnTo>
                  <a:lnTo>
                    <a:pt x="569" y="1920"/>
                  </a:lnTo>
                  <a:lnTo>
                    <a:pt x="567" y="1919"/>
                  </a:lnTo>
                  <a:lnTo>
                    <a:pt x="565" y="1919"/>
                  </a:lnTo>
                  <a:lnTo>
                    <a:pt x="563" y="1919"/>
                  </a:lnTo>
                  <a:lnTo>
                    <a:pt x="561" y="1918"/>
                  </a:lnTo>
                  <a:lnTo>
                    <a:pt x="559" y="1917"/>
                  </a:lnTo>
                  <a:lnTo>
                    <a:pt x="557" y="1916"/>
                  </a:lnTo>
                  <a:lnTo>
                    <a:pt x="555" y="1915"/>
                  </a:lnTo>
                  <a:lnTo>
                    <a:pt x="553" y="1914"/>
                  </a:lnTo>
                  <a:lnTo>
                    <a:pt x="551" y="1913"/>
                  </a:lnTo>
                  <a:lnTo>
                    <a:pt x="549" y="1912"/>
                  </a:lnTo>
                  <a:lnTo>
                    <a:pt x="547" y="1910"/>
                  </a:lnTo>
                  <a:lnTo>
                    <a:pt x="545" y="1908"/>
                  </a:lnTo>
                  <a:lnTo>
                    <a:pt x="544" y="1907"/>
                  </a:lnTo>
                  <a:lnTo>
                    <a:pt x="542" y="1905"/>
                  </a:lnTo>
                  <a:lnTo>
                    <a:pt x="540" y="1902"/>
                  </a:lnTo>
                  <a:lnTo>
                    <a:pt x="539" y="1900"/>
                  </a:lnTo>
                  <a:lnTo>
                    <a:pt x="537" y="1898"/>
                  </a:lnTo>
                  <a:lnTo>
                    <a:pt x="536" y="1895"/>
                  </a:lnTo>
                  <a:lnTo>
                    <a:pt x="534" y="1893"/>
                  </a:lnTo>
                  <a:lnTo>
                    <a:pt x="533" y="1890"/>
                  </a:lnTo>
                  <a:lnTo>
                    <a:pt x="532" y="1887"/>
                  </a:lnTo>
                  <a:lnTo>
                    <a:pt x="531" y="1884"/>
                  </a:lnTo>
                  <a:lnTo>
                    <a:pt x="530" y="1881"/>
                  </a:lnTo>
                  <a:lnTo>
                    <a:pt x="529" y="1877"/>
                  </a:lnTo>
                  <a:lnTo>
                    <a:pt x="528" y="1874"/>
                  </a:lnTo>
                  <a:lnTo>
                    <a:pt x="527" y="1870"/>
                  </a:lnTo>
                  <a:lnTo>
                    <a:pt x="527" y="1867"/>
                  </a:lnTo>
                  <a:lnTo>
                    <a:pt x="526" y="1863"/>
                  </a:lnTo>
                  <a:lnTo>
                    <a:pt x="526" y="1859"/>
                  </a:lnTo>
                  <a:lnTo>
                    <a:pt x="526" y="1855"/>
                  </a:lnTo>
                  <a:lnTo>
                    <a:pt x="526" y="1850"/>
                  </a:lnTo>
                  <a:lnTo>
                    <a:pt x="617" y="1781"/>
                  </a:lnTo>
                  <a:lnTo>
                    <a:pt x="595" y="1712"/>
                  </a:lnTo>
                  <a:lnTo>
                    <a:pt x="480" y="1689"/>
                  </a:lnTo>
                  <a:lnTo>
                    <a:pt x="434" y="1666"/>
                  </a:lnTo>
                  <a:lnTo>
                    <a:pt x="434" y="1596"/>
                  </a:lnTo>
                  <a:lnTo>
                    <a:pt x="480" y="1550"/>
                  </a:lnTo>
                  <a:lnTo>
                    <a:pt x="412" y="1504"/>
                  </a:lnTo>
                  <a:lnTo>
                    <a:pt x="366" y="1550"/>
                  </a:lnTo>
                  <a:lnTo>
                    <a:pt x="320" y="1527"/>
                  </a:lnTo>
                  <a:lnTo>
                    <a:pt x="320" y="1458"/>
                  </a:lnTo>
                  <a:lnTo>
                    <a:pt x="366" y="1458"/>
                  </a:lnTo>
                  <a:lnTo>
                    <a:pt x="320" y="1411"/>
                  </a:lnTo>
                  <a:lnTo>
                    <a:pt x="320" y="1407"/>
                  </a:lnTo>
                  <a:lnTo>
                    <a:pt x="320" y="1403"/>
                  </a:lnTo>
                  <a:lnTo>
                    <a:pt x="321" y="1399"/>
                  </a:lnTo>
                  <a:lnTo>
                    <a:pt x="321" y="1395"/>
                  </a:lnTo>
                  <a:lnTo>
                    <a:pt x="322" y="1392"/>
                  </a:lnTo>
                  <a:lnTo>
                    <a:pt x="322" y="1388"/>
                  </a:lnTo>
                  <a:lnTo>
                    <a:pt x="323" y="1385"/>
                  </a:lnTo>
                  <a:lnTo>
                    <a:pt x="324" y="1381"/>
                  </a:lnTo>
                  <a:lnTo>
                    <a:pt x="325" y="1378"/>
                  </a:lnTo>
                  <a:lnTo>
                    <a:pt x="327" y="1375"/>
                  </a:lnTo>
                  <a:lnTo>
                    <a:pt x="328" y="1372"/>
                  </a:lnTo>
                  <a:lnTo>
                    <a:pt x="330" y="1369"/>
                  </a:lnTo>
                  <a:lnTo>
                    <a:pt x="331" y="1367"/>
                  </a:lnTo>
                  <a:lnTo>
                    <a:pt x="333" y="1364"/>
                  </a:lnTo>
                  <a:lnTo>
                    <a:pt x="335" y="1362"/>
                  </a:lnTo>
                  <a:lnTo>
                    <a:pt x="337" y="1359"/>
                  </a:lnTo>
                  <a:lnTo>
                    <a:pt x="339" y="1357"/>
                  </a:lnTo>
                  <a:lnTo>
                    <a:pt x="342" y="1355"/>
                  </a:lnTo>
                  <a:lnTo>
                    <a:pt x="344" y="1354"/>
                  </a:lnTo>
                  <a:lnTo>
                    <a:pt x="347" y="1352"/>
                  </a:lnTo>
                  <a:lnTo>
                    <a:pt x="350" y="1350"/>
                  </a:lnTo>
                  <a:lnTo>
                    <a:pt x="353" y="1349"/>
                  </a:lnTo>
                  <a:lnTo>
                    <a:pt x="356" y="1348"/>
                  </a:lnTo>
                  <a:lnTo>
                    <a:pt x="359" y="1347"/>
                  </a:lnTo>
                  <a:lnTo>
                    <a:pt x="362" y="1346"/>
                  </a:lnTo>
                  <a:lnTo>
                    <a:pt x="365" y="1345"/>
                  </a:lnTo>
                  <a:lnTo>
                    <a:pt x="369" y="1344"/>
                  </a:lnTo>
                  <a:lnTo>
                    <a:pt x="372" y="1343"/>
                  </a:lnTo>
                  <a:lnTo>
                    <a:pt x="376" y="1343"/>
                  </a:lnTo>
                  <a:lnTo>
                    <a:pt x="380" y="1343"/>
                  </a:lnTo>
                  <a:lnTo>
                    <a:pt x="384" y="1342"/>
                  </a:lnTo>
                  <a:lnTo>
                    <a:pt x="389" y="1342"/>
                  </a:lnTo>
                  <a:lnTo>
                    <a:pt x="366" y="1319"/>
                  </a:lnTo>
                  <a:lnTo>
                    <a:pt x="368" y="1315"/>
                  </a:lnTo>
                  <a:lnTo>
                    <a:pt x="370" y="1311"/>
                  </a:lnTo>
                  <a:lnTo>
                    <a:pt x="372" y="1307"/>
                  </a:lnTo>
                  <a:lnTo>
                    <a:pt x="374" y="1304"/>
                  </a:lnTo>
                  <a:lnTo>
                    <a:pt x="377" y="1301"/>
                  </a:lnTo>
                  <a:lnTo>
                    <a:pt x="379" y="1298"/>
                  </a:lnTo>
                  <a:lnTo>
                    <a:pt x="381" y="1295"/>
                  </a:lnTo>
                  <a:lnTo>
                    <a:pt x="383" y="1293"/>
                  </a:lnTo>
                  <a:lnTo>
                    <a:pt x="386" y="1290"/>
                  </a:lnTo>
                  <a:lnTo>
                    <a:pt x="388" y="1288"/>
                  </a:lnTo>
                  <a:lnTo>
                    <a:pt x="390" y="1286"/>
                  </a:lnTo>
                  <a:lnTo>
                    <a:pt x="393" y="1284"/>
                  </a:lnTo>
                  <a:lnTo>
                    <a:pt x="395" y="1283"/>
                  </a:lnTo>
                  <a:lnTo>
                    <a:pt x="398" y="1281"/>
                  </a:lnTo>
                  <a:lnTo>
                    <a:pt x="400" y="1280"/>
                  </a:lnTo>
                  <a:lnTo>
                    <a:pt x="403" y="1279"/>
                  </a:lnTo>
                  <a:lnTo>
                    <a:pt x="406" y="1278"/>
                  </a:lnTo>
                  <a:lnTo>
                    <a:pt x="409" y="1277"/>
                  </a:lnTo>
                  <a:lnTo>
                    <a:pt x="411" y="1276"/>
                  </a:lnTo>
                  <a:lnTo>
                    <a:pt x="414" y="1275"/>
                  </a:lnTo>
                  <a:lnTo>
                    <a:pt x="420" y="1274"/>
                  </a:lnTo>
                  <a:lnTo>
                    <a:pt x="427" y="1274"/>
                  </a:lnTo>
                  <a:lnTo>
                    <a:pt x="434" y="1273"/>
                  </a:lnTo>
                  <a:lnTo>
                    <a:pt x="441" y="1273"/>
                  </a:lnTo>
                  <a:lnTo>
                    <a:pt x="449" y="1273"/>
                  </a:lnTo>
                  <a:lnTo>
                    <a:pt x="457" y="1273"/>
                  </a:lnTo>
                  <a:lnTo>
                    <a:pt x="595" y="1435"/>
                  </a:lnTo>
                  <a:lnTo>
                    <a:pt x="640" y="1388"/>
                  </a:lnTo>
                  <a:lnTo>
                    <a:pt x="640" y="1319"/>
                  </a:lnTo>
                  <a:lnTo>
                    <a:pt x="800" y="1111"/>
                  </a:lnTo>
                  <a:lnTo>
                    <a:pt x="846" y="1111"/>
                  </a:lnTo>
                  <a:lnTo>
                    <a:pt x="823" y="1065"/>
                  </a:lnTo>
                  <a:lnTo>
                    <a:pt x="183" y="1250"/>
                  </a:lnTo>
                  <a:lnTo>
                    <a:pt x="183" y="1227"/>
                  </a:lnTo>
                  <a:lnTo>
                    <a:pt x="823" y="1042"/>
                  </a:lnTo>
                  <a:lnTo>
                    <a:pt x="846" y="973"/>
                  </a:lnTo>
                  <a:lnTo>
                    <a:pt x="480" y="118"/>
                  </a:lnTo>
                  <a:lnTo>
                    <a:pt x="503" y="118"/>
                  </a:lnTo>
                  <a:lnTo>
                    <a:pt x="869" y="973"/>
                  </a:lnTo>
                  <a:lnTo>
                    <a:pt x="800" y="279"/>
                  </a:lnTo>
                  <a:lnTo>
                    <a:pt x="823" y="279"/>
                  </a:lnTo>
                  <a:lnTo>
                    <a:pt x="892" y="950"/>
                  </a:lnTo>
                  <a:lnTo>
                    <a:pt x="960" y="973"/>
                  </a:lnTo>
                  <a:lnTo>
                    <a:pt x="1029" y="880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960" y="6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2160" y="3306240"/>
              <a:ext cx="335520" cy="34272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91" y="0"/>
                  </a:moveTo>
                  <a:lnTo>
                    <a:pt x="0" y="116"/>
                  </a:lnTo>
                  <a:lnTo>
                    <a:pt x="46" y="208"/>
                  </a:lnTo>
                  <a:lnTo>
                    <a:pt x="114" y="208"/>
                  </a:lnTo>
                  <a:lnTo>
                    <a:pt x="206" y="93"/>
                  </a:lnTo>
                  <a:lnTo>
                    <a:pt x="183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9920" y="3406320"/>
              <a:ext cx="410400" cy="380160"/>
            </a:xfrm>
            <a:custGeom>
              <a:avLst/>
              <a:gdLst/>
              <a:ahLst/>
              <a:rect l="l" t="t" r="r" b="b"/>
              <a:pathLst>
                <a:path w="252" h="231">
                  <a:moveTo>
                    <a:pt x="46" y="0"/>
                  </a:moveTo>
                  <a:lnTo>
                    <a:pt x="114" y="70"/>
                  </a:lnTo>
                  <a:lnTo>
                    <a:pt x="252" y="162"/>
                  </a:lnTo>
                  <a:lnTo>
                    <a:pt x="206" y="231"/>
                  </a:lnTo>
                  <a:lnTo>
                    <a:pt x="92" y="116"/>
                  </a:lnTo>
                  <a:lnTo>
                    <a:pt x="23" y="116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7640" y="2049840"/>
              <a:ext cx="1122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cra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05200" y="5679360"/>
              <a:ext cx="745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51880" y="2368440"/>
              <a:ext cx="666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75520" y="1889280"/>
              <a:ext cx="5461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6560" y="4286880"/>
              <a:ext cx="1551240" cy="1582200"/>
            </a:xfrm>
            <a:custGeom>
              <a:avLst/>
              <a:gdLst/>
              <a:ahLst/>
              <a:rect l="l" t="t" r="r" b="b"/>
              <a:pathLst>
                <a:path w="954" h="963">
                  <a:moveTo>
                    <a:pt x="477" y="963"/>
                  </a:moveTo>
                  <a:lnTo>
                    <a:pt x="501" y="962"/>
                  </a:lnTo>
                  <a:lnTo>
                    <a:pt x="526" y="960"/>
                  </a:lnTo>
                  <a:lnTo>
                    <a:pt x="549" y="957"/>
                  </a:lnTo>
                  <a:lnTo>
                    <a:pt x="573" y="953"/>
                  </a:lnTo>
                  <a:lnTo>
                    <a:pt x="596" y="948"/>
                  </a:lnTo>
                  <a:lnTo>
                    <a:pt x="618" y="941"/>
                  </a:lnTo>
                  <a:lnTo>
                    <a:pt x="640" y="934"/>
                  </a:lnTo>
                  <a:lnTo>
                    <a:pt x="662" y="925"/>
                  </a:lnTo>
                  <a:lnTo>
                    <a:pt x="683" y="915"/>
                  </a:lnTo>
                  <a:lnTo>
                    <a:pt x="704" y="904"/>
                  </a:lnTo>
                  <a:lnTo>
                    <a:pt x="724" y="893"/>
                  </a:lnTo>
                  <a:lnTo>
                    <a:pt x="743" y="880"/>
                  </a:lnTo>
                  <a:lnTo>
                    <a:pt x="762" y="867"/>
                  </a:lnTo>
                  <a:lnTo>
                    <a:pt x="780" y="853"/>
                  </a:lnTo>
                  <a:lnTo>
                    <a:pt x="797" y="837"/>
                  </a:lnTo>
                  <a:lnTo>
                    <a:pt x="814" y="821"/>
                  </a:lnTo>
                  <a:lnTo>
                    <a:pt x="829" y="805"/>
                  </a:lnTo>
                  <a:lnTo>
                    <a:pt x="844" y="787"/>
                  </a:lnTo>
                  <a:lnTo>
                    <a:pt x="858" y="769"/>
                  </a:lnTo>
                  <a:lnTo>
                    <a:pt x="872" y="750"/>
                  </a:lnTo>
                  <a:lnTo>
                    <a:pt x="884" y="731"/>
                  </a:lnTo>
                  <a:lnTo>
                    <a:pt x="896" y="710"/>
                  </a:lnTo>
                  <a:lnTo>
                    <a:pt x="906" y="690"/>
                  </a:lnTo>
                  <a:lnTo>
                    <a:pt x="916" y="668"/>
                  </a:lnTo>
                  <a:lnTo>
                    <a:pt x="924" y="647"/>
                  </a:lnTo>
                  <a:lnTo>
                    <a:pt x="932" y="624"/>
                  </a:lnTo>
                  <a:lnTo>
                    <a:pt x="938" y="601"/>
                  </a:lnTo>
                  <a:lnTo>
                    <a:pt x="944" y="578"/>
                  </a:lnTo>
                  <a:lnTo>
                    <a:pt x="948" y="554"/>
                  </a:lnTo>
                  <a:lnTo>
                    <a:pt x="951" y="530"/>
                  </a:lnTo>
                  <a:lnTo>
                    <a:pt x="953" y="506"/>
                  </a:lnTo>
                  <a:lnTo>
                    <a:pt x="954" y="481"/>
                  </a:lnTo>
                  <a:lnTo>
                    <a:pt x="953" y="456"/>
                  </a:lnTo>
                  <a:lnTo>
                    <a:pt x="951" y="432"/>
                  </a:lnTo>
                  <a:lnTo>
                    <a:pt x="948" y="408"/>
                  </a:lnTo>
                  <a:lnTo>
                    <a:pt x="944" y="384"/>
                  </a:lnTo>
                  <a:lnTo>
                    <a:pt x="938" y="361"/>
                  </a:lnTo>
                  <a:lnTo>
                    <a:pt x="932" y="338"/>
                  </a:lnTo>
                  <a:lnTo>
                    <a:pt x="924" y="316"/>
                  </a:lnTo>
                  <a:lnTo>
                    <a:pt x="916" y="294"/>
                  </a:lnTo>
                  <a:lnTo>
                    <a:pt x="906" y="273"/>
                  </a:lnTo>
                  <a:lnTo>
                    <a:pt x="896" y="252"/>
                  </a:lnTo>
                  <a:lnTo>
                    <a:pt x="884" y="232"/>
                  </a:lnTo>
                  <a:lnTo>
                    <a:pt x="872" y="212"/>
                  </a:lnTo>
                  <a:lnTo>
                    <a:pt x="858" y="193"/>
                  </a:lnTo>
                  <a:lnTo>
                    <a:pt x="844" y="175"/>
                  </a:lnTo>
                  <a:lnTo>
                    <a:pt x="829" y="158"/>
                  </a:lnTo>
                  <a:lnTo>
                    <a:pt x="814" y="141"/>
                  </a:lnTo>
                  <a:lnTo>
                    <a:pt x="797" y="125"/>
                  </a:lnTo>
                  <a:lnTo>
                    <a:pt x="780" y="110"/>
                  </a:lnTo>
                  <a:lnTo>
                    <a:pt x="762" y="95"/>
                  </a:lnTo>
                  <a:lnTo>
                    <a:pt x="743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3" y="47"/>
                  </a:lnTo>
                  <a:lnTo>
                    <a:pt x="662" y="38"/>
                  </a:lnTo>
                  <a:lnTo>
                    <a:pt x="640" y="29"/>
                  </a:lnTo>
                  <a:lnTo>
                    <a:pt x="618" y="21"/>
                  </a:lnTo>
                  <a:lnTo>
                    <a:pt x="596" y="15"/>
                  </a:lnTo>
                  <a:lnTo>
                    <a:pt x="573" y="9"/>
                  </a:lnTo>
                  <a:lnTo>
                    <a:pt x="549" y="5"/>
                  </a:lnTo>
                  <a:lnTo>
                    <a:pt x="526" y="2"/>
                  </a:lnTo>
                  <a:lnTo>
                    <a:pt x="501" y="0"/>
                  </a:lnTo>
                  <a:lnTo>
                    <a:pt x="477" y="0"/>
                  </a:lnTo>
                  <a:lnTo>
                    <a:pt x="452" y="0"/>
                  </a:lnTo>
                  <a:lnTo>
                    <a:pt x="428" y="2"/>
                  </a:lnTo>
                  <a:lnTo>
                    <a:pt x="404" y="5"/>
                  </a:lnTo>
                  <a:lnTo>
                    <a:pt x="381" y="9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1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1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5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3"/>
                  </a:lnTo>
                  <a:lnTo>
                    <a:pt x="82" y="212"/>
                  </a:lnTo>
                  <a:lnTo>
                    <a:pt x="69" y="232"/>
                  </a:lnTo>
                  <a:lnTo>
                    <a:pt x="58" y="252"/>
                  </a:lnTo>
                  <a:lnTo>
                    <a:pt x="47" y="273"/>
                  </a:lnTo>
                  <a:lnTo>
                    <a:pt x="38" y="294"/>
                  </a:lnTo>
                  <a:lnTo>
                    <a:pt x="29" y="316"/>
                  </a:lnTo>
                  <a:lnTo>
                    <a:pt x="22" y="338"/>
                  </a:lnTo>
                  <a:lnTo>
                    <a:pt x="15" y="361"/>
                  </a:lnTo>
                  <a:lnTo>
                    <a:pt x="10" y="384"/>
                  </a:lnTo>
                  <a:lnTo>
                    <a:pt x="6" y="408"/>
                  </a:lnTo>
                  <a:lnTo>
                    <a:pt x="3" y="432"/>
                  </a:lnTo>
                  <a:lnTo>
                    <a:pt x="1" y="456"/>
                  </a:lnTo>
                  <a:lnTo>
                    <a:pt x="0" y="481"/>
                  </a:lnTo>
                  <a:lnTo>
                    <a:pt x="1" y="506"/>
                  </a:lnTo>
                  <a:lnTo>
                    <a:pt x="3" y="530"/>
                  </a:lnTo>
                  <a:lnTo>
                    <a:pt x="6" y="554"/>
                  </a:lnTo>
                  <a:lnTo>
                    <a:pt x="10" y="578"/>
                  </a:lnTo>
                  <a:lnTo>
                    <a:pt x="15" y="601"/>
                  </a:lnTo>
                  <a:lnTo>
                    <a:pt x="22" y="624"/>
                  </a:lnTo>
                  <a:lnTo>
                    <a:pt x="29" y="647"/>
                  </a:lnTo>
                  <a:lnTo>
                    <a:pt x="38" y="668"/>
                  </a:lnTo>
                  <a:lnTo>
                    <a:pt x="47" y="690"/>
                  </a:lnTo>
                  <a:lnTo>
                    <a:pt x="58" y="710"/>
                  </a:lnTo>
                  <a:lnTo>
                    <a:pt x="69" y="731"/>
                  </a:lnTo>
                  <a:lnTo>
                    <a:pt x="82" y="750"/>
                  </a:lnTo>
                  <a:lnTo>
                    <a:pt x="95" y="769"/>
                  </a:lnTo>
                  <a:lnTo>
                    <a:pt x="109" y="787"/>
                  </a:lnTo>
                  <a:lnTo>
                    <a:pt x="124" y="805"/>
                  </a:lnTo>
                  <a:lnTo>
                    <a:pt x="140" y="821"/>
                  </a:lnTo>
                  <a:lnTo>
                    <a:pt x="157" y="837"/>
                  </a:lnTo>
                  <a:lnTo>
                    <a:pt x="174" y="853"/>
                  </a:lnTo>
                  <a:lnTo>
                    <a:pt x="192" y="867"/>
                  </a:lnTo>
                  <a:lnTo>
                    <a:pt x="211" y="880"/>
                  </a:lnTo>
                  <a:lnTo>
                    <a:pt x="230" y="893"/>
                  </a:lnTo>
                  <a:lnTo>
                    <a:pt x="250" y="904"/>
                  </a:lnTo>
                  <a:lnTo>
                    <a:pt x="271" y="915"/>
                  </a:lnTo>
                  <a:lnTo>
                    <a:pt x="291" y="925"/>
                  </a:lnTo>
                  <a:lnTo>
                    <a:pt x="313" y="934"/>
                  </a:lnTo>
                  <a:lnTo>
                    <a:pt x="335" y="941"/>
                  </a:lnTo>
                  <a:lnTo>
                    <a:pt x="358" y="948"/>
                  </a:lnTo>
                  <a:lnTo>
                    <a:pt x="381" y="953"/>
                  </a:lnTo>
                  <a:lnTo>
                    <a:pt x="404" y="957"/>
                  </a:lnTo>
                  <a:lnTo>
                    <a:pt x="428" y="960"/>
                  </a:lnTo>
                  <a:lnTo>
                    <a:pt x="452" y="962"/>
                  </a:lnTo>
                  <a:lnTo>
                    <a:pt x="477" y="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61000" y="1889280"/>
              <a:ext cx="616320" cy="629280"/>
            </a:xfrm>
            <a:custGeom>
              <a:avLst/>
              <a:gdLst/>
              <a:ahLst/>
              <a:rect l="l" t="t" r="r" b="b"/>
              <a:pathLst>
                <a:path w="326" h="329">
                  <a:moveTo>
                    <a:pt x="114" y="51"/>
                  </a:moveTo>
                  <a:lnTo>
                    <a:pt x="110" y="50"/>
                  </a:lnTo>
                  <a:lnTo>
                    <a:pt x="106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93" y="47"/>
                  </a:lnTo>
                  <a:lnTo>
                    <a:pt x="89" y="46"/>
                  </a:lnTo>
                  <a:lnTo>
                    <a:pt x="85" y="46"/>
                  </a:lnTo>
                  <a:lnTo>
                    <a:pt x="81" y="46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41"/>
                  </a:lnTo>
                  <a:lnTo>
                    <a:pt x="74" y="39"/>
                  </a:lnTo>
                  <a:lnTo>
                    <a:pt x="68" y="36"/>
                  </a:lnTo>
                  <a:lnTo>
                    <a:pt x="62" y="34"/>
                  </a:lnTo>
                  <a:lnTo>
                    <a:pt x="59" y="33"/>
                  </a:lnTo>
                  <a:lnTo>
                    <a:pt x="56" y="31"/>
                  </a:lnTo>
                  <a:lnTo>
                    <a:pt x="53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7"/>
                  </a:lnTo>
                  <a:lnTo>
                    <a:pt x="43" y="31"/>
                  </a:lnTo>
                  <a:lnTo>
                    <a:pt x="43" y="36"/>
                  </a:lnTo>
                  <a:lnTo>
                    <a:pt x="44" y="41"/>
                  </a:lnTo>
                  <a:lnTo>
                    <a:pt x="45" y="47"/>
                  </a:lnTo>
                  <a:lnTo>
                    <a:pt x="46" y="53"/>
                  </a:lnTo>
                  <a:lnTo>
                    <a:pt x="47" y="59"/>
                  </a:lnTo>
                  <a:lnTo>
                    <a:pt x="49" y="65"/>
                  </a:lnTo>
                  <a:lnTo>
                    <a:pt x="50" y="71"/>
                  </a:lnTo>
                  <a:lnTo>
                    <a:pt x="52" y="76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7" y="85"/>
                  </a:lnTo>
                  <a:lnTo>
                    <a:pt x="58" y="87"/>
                  </a:lnTo>
                  <a:lnTo>
                    <a:pt x="60" y="89"/>
                  </a:lnTo>
                  <a:lnTo>
                    <a:pt x="61" y="91"/>
                  </a:lnTo>
                  <a:lnTo>
                    <a:pt x="63" y="92"/>
                  </a:lnTo>
                  <a:lnTo>
                    <a:pt x="64" y="93"/>
                  </a:lnTo>
                  <a:lnTo>
                    <a:pt x="66" y="94"/>
                  </a:lnTo>
                  <a:lnTo>
                    <a:pt x="66" y="95"/>
                  </a:lnTo>
                  <a:lnTo>
                    <a:pt x="66" y="96"/>
                  </a:lnTo>
                  <a:lnTo>
                    <a:pt x="67" y="97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68" y="100"/>
                  </a:lnTo>
                  <a:lnTo>
                    <a:pt x="68" y="101"/>
                  </a:lnTo>
                  <a:lnTo>
                    <a:pt x="68" y="102"/>
                  </a:lnTo>
                  <a:lnTo>
                    <a:pt x="67" y="103"/>
                  </a:lnTo>
                  <a:lnTo>
                    <a:pt x="66" y="104"/>
                  </a:lnTo>
                  <a:lnTo>
                    <a:pt x="65" y="106"/>
                  </a:lnTo>
                  <a:lnTo>
                    <a:pt x="64" y="107"/>
                  </a:lnTo>
                  <a:lnTo>
                    <a:pt x="63" y="108"/>
                  </a:lnTo>
                  <a:lnTo>
                    <a:pt x="62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58" y="112"/>
                  </a:lnTo>
                  <a:lnTo>
                    <a:pt x="55" y="113"/>
                  </a:lnTo>
                  <a:lnTo>
                    <a:pt x="52" y="114"/>
                  </a:lnTo>
                  <a:lnTo>
                    <a:pt x="49" y="115"/>
                  </a:lnTo>
                  <a:lnTo>
                    <a:pt x="42" y="118"/>
                  </a:lnTo>
                  <a:lnTo>
                    <a:pt x="35" y="121"/>
                  </a:lnTo>
                  <a:lnTo>
                    <a:pt x="28" y="124"/>
                  </a:lnTo>
                  <a:lnTo>
                    <a:pt x="20" y="127"/>
                  </a:lnTo>
                  <a:lnTo>
                    <a:pt x="17" y="128"/>
                  </a:lnTo>
                  <a:lnTo>
                    <a:pt x="13" y="129"/>
                  </a:lnTo>
                  <a:lnTo>
                    <a:pt x="9" y="130"/>
                  </a:lnTo>
                  <a:lnTo>
                    <a:pt x="5" y="130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5" y="133"/>
                  </a:lnTo>
                  <a:lnTo>
                    <a:pt x="4" y="135"/>
                  </a:lnTo>
                  <a:lnTo>
                    <a:pt x="4" y="136"/>
                  </a:lnTo>
                  <a:lnTo>
                    <a:pt x="3" y="138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6" y="141"/>
                  </a:lnTo>
                  <a:lnTo>
                    <a:pt x="12" y="143"/>
                  </a:lnTo>
                  <a:lnTo>
                    <a:pt x="18" y="144"/>
                  </a:lnTo>
                  <a:lnTo>
                    <a:pt x="25" y="146"/>
                  </a:lnTo>
                  <a:lnTo>
                    <a:pt x="32" y="148"/>
                  </a:lnTo>
                  <a:lnTo>
                    <a:pt x="39" y="149"/>
                  </a:lnTo>
                  <a:lnTo>
                    <a:pt x="44" y="150"/>
                  </a:lnTo>
                  <a:lnTo>
                    <a:pt x="48" y="150"/>
                  </a:lnTo>
                  <a:lnTo>
                    <a:pt x="49" y="152"/>
                  </a:lnTo>
                  <a:lnTo>
                    <a:pt x="50" y="153"/>
                  </a:lnTo>
                  <a:lnTo>
                    <a:pt x="50" y="154"/>
                  </a:lnTo>
                  <a:lnTo>
                    <a:pt x="51" y="156"/>
                  </a:lnTo>
                  <a:lnTo>
                    <a:pt x="53" y="158"/>
                  </a:lnTo>
                  <a:lnTo>
                    <a:pt x="56" y="161"/>
                  </a:lnTo>
                  <a:lnTo>
                    <a:pt x="58" y="164"/>
                  </a:lnTo>
                  <a:lnTo>
                    <a:pt x="59" y="167"/>
                  </a:lnTo>
                  <a:lnTo>
                    <a:pt x="60" y="169"/>
                  </a:lnTo>
                  <a:lnTo>
                    <a:pt x="60" y="171"/>
                  </a:lnTo>
                  <a:lnTo>
                    <a:pt x="61" y="173"/>
                  </a:lnTo>
                  <a:lnTo>
                    <a:pt x="61" y="176"/>
                  </a:lnTo>
                  <a:lnTo>
                    <a:pt x="58" y="176"/>
                  </a:lnTo>
                  <a:lnTo>
                    <a:pt x="55" y="177"/>
                  </a:lnTo>
                  <a:lnTo>
                    <a:pt x="52" y="178"/>
                  </a:lnTo>
                  <a:lnTo>
                    <a:pt x="50" y="180"/>
                  </a:lnTo>
                  <a:lnTo>
                    <a:pt x="48" y="182"/>
                  </a:lnTo>
                  <a:lnTo>
                    <a:pt x="45" y="184"/>
                  </a:lnTo>
                  <a:lnTo>
                    <a:pt x="43" y="187"/>
                  </a:lnTo>
                  <a:lnTo>
                    <a:pt x="41" y="190"/>
                  </a:lnTo>
                  <a:lnTo>
                    <a:pt x="40" y="194"/>
                  </a:lnTo>
                  <a:lnTo>
                    <a:pt x="38" y="197"/>
                  </a:lnTo>
                  <a:lnTo>
                    <a:pt x="36" y="201"/>
                  </a:lnTo>
                  <a:lnTo>
                    <a:pt x="35" y="205"/>
                  </a:lnTo>
                  <a:lnTo>
                    <a:pt x="31" y="213"/>
                  </a:lnTo>
                  <a:lnTo>
                    <a:pt x="29" y="222"/>
                  </a:lnTo>
                  <a:lnTo>
                    <a:pt x="26" y="230"/>
                  </a:lnTo>
                  <a:lnTo>
                    <a:pt x="23" y="239"/>
                  </a:lnTo>
                  <a:lnTo>
                    <a:pt x="21" y="242"/>
                  </a:lnTo>
                  <a:lnTo>
                    <a:pt x="20" y="246"/>
                  </a:lnTo>
                  <a:lnTo>
                    <a:pt x="18" y="250"/>
                  </a:lnTo>
                  <a:lnTo>
                    <a:pt x="17" y="253"/>
                  </a:lnTo>
                  <a:lnTo>
                    <a:pt x="15" y="256"/>
                  </a:lnTo>
                  <a:lnTo>
                    <a:pt x="13" y="259"/>
                  </a:lnTo>
                  <a:lnTo>
                    <a:pt x="11" y="261"/>
                  </a:lnTo>
                  <a:lnTo>
                    <a:pt x="9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67"/>
                  </a:lnTo>
                  <a:lnTo>
                    <a:pt x="0" y="268"/>
                  </a:lnTo>
                  <a:lnTo>
                    <a:pt x="6" y="267"/>
                  </a:lnTo>
                  <a:lnTo>
                    <a:pt x="16" y="265"/>
                  </a:lnTo>
                  <a:lnTo>
                    <a:pt x="30" y="262"/>
                  </a:lnTo>
                  <a:lnTo>
                    <a:pt x="45" y="259"/>
                  </a:lnTo>
                  <a:lnTo>
                    <a:pt x="52" y="257"/>
                  </a:lnTo>
                  <a:lnTo>
                    <a:pt x="59" y="255"/>
                  </a:lnTo>
                  <a:lnTo>
                    <a:pt x="66" y="253"/>
                  </a:lnTo>
                  <a:lnTo>
                    <a:pt x="71" y="251"/>
                  </a:lnTo>
                  <a:lnTo>
                    <a:pt x="76" y="250"/>
                  </a:lnTo>
                  <a:lnTo>
                    <a:pt x="80" y="248"/>
                  </a:lnTo>
                  <a:lnTo>
                    <a:pt x="82" y="247"/>
                  </a:lnTo>
                  <a:lnTo>
                    <a:pt x="83" y="246"/>
                  </a:lnTo>
                  <a:lnTo>
                    <a:pt x="83" y="245"/>
                  </a:lnTo>
                  <a:lnTo>
                    <a:pt x="84" y="245"/>
                  </a:lnTo>
                  <a:lnTo>
                    <a:pt x="84" y="245"/>
                  </a:lnTo>
                  <a:lnTo>
                    <a:pt x="85" y="246"/>
                  </a:lnTo>
                  <a:lnTo>
                    <a:pt x="85" y="248"/>
                  </a:lnTo>
                  <a:lnTo>
                    <a:pt x="86" y="249"/>
                  </a:lnTo>
                  <a:lnTo>
                    <a:pt x="87" y="252"/>
                  </a:lnTo>
                  <a:lnTo>
                    <a:pt x="87" y="256"/>
                  </a:lnTo>
                  <a:lnTo>
                    <a:pt x="87" y="261"/>
                  </a:lnTo>
                  <a:lnTo>
                    <a:pt x="88" y="266"/>
                  </a:lnTo>
                  <a:lnTo>
                    <a:pt x="88" y="271"/>
                  </a:lnTo>
                  <a:lnTo>
                    <a:pt x="88" y="277"/>
                  </a:lnTo>
                  <a:lnTo>
                    <a:pt x="87" y="288"/>
                  </a:lnTo>
                  <a:lnTo>
                    <a:pt x="87" y="298"/>
                  </a:lnTo>
                  <a:lnTo>
                    <a:pt x="86" y="308"/>
                  </a:lnTo>
                  <a:lnTo>
                    <a:pt x="86" y="316"/>
                  </a:lnTo>
                  <a:lnTo>
                    <a:pt x="85" y="317"/>
                  </a:lnTo>
                  <a:lnTo>
                    <a:pt x="84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80" y="324"/>
                  </a:lnTo>
                  <a:lnTo>
                    <a:pt x="79" y="326"/>
                  </a:lnTo>
                  <a:lnTo>
                    <a:pt x="79" y="328"/>
                  </a:lnTo>
                  <a:lnTo>
                    <a:pt x="78" y="329"/>
                  </a:lnTo>
                  <a:lnTo>
                    <a:pt x="83" y="324"/>
                  </a:lnTo>
                  <a:lnTo>
                    <a:pt x="88" y="319"/>
                  </a:lnTo>
                  <a:lnTo>
                    <a:pt x="93" y="313"/>
                  </a:lnTo>
                  <a:lnTo>
                    <a:pt x="99" y="307"/>
                  </a:lnTo>
                  <a:lnTo>
                    <a:pt x="102" y="304"/>
                  </a:lnTo>
                  <a:lnTo>
                    <a:pt x="106" y="302"/>
                  </a:lnTo>
                  <a:lnTo>
                    <a:pt x="109" y="299"/>
                  </a:lnTo>
                  <a:lnTo>
                    <a:pt x="112" y="297"/>
                  </a:lnTo>
                  <a:lnTo>
                    <a:pt x="115" y="295"/>
                  </a:lnTo>
                  <a:lnTo>
                    <a:pt x="118" y="294"/>
                  </a:lnTo>
                  <a:lnTo>
                    <a:pt x="120" y="294"/>
                  </a:lnTo>
                  <a:lnTo>
                    <a:pt x="121" y="293"/>
                  </a:lnTo>
                  <a:lnTo>
                    <a:pt x="123" y="293"/>
                  </a:lnTo>
                  <a:lnTo>
                    <a:pt x="124" y="293"/>
                  </a:lnTo>
                  <a:lnTo>
                    <a:pt x="124" y="291"/>
                  </a:lnTo>
                  <a:lnTo>
                    <a:pt x="125" y="289"/>
                  </a:lnTo>
                  <a:lnTo>
                    <a:pt x="125" y="287"/>
                  </a:lnTo>
                  <a:lnTo>
                    <a:pt x="126" y="285"/>
                  </a:lnTo>
                  <a:lnTo>
                    <a:pt x="128" y="280"/>
                  </a:lnTo>
                  <a:lnTo>
                    <a:pt x="130" y="275"/>
                  </a:lnTo>
                  <a:lnTo>
                    <a:pt x="132" y="270"/>
                  </a:lnTo>
                  <a:lnTo>
                    <a:pt x="135" y="265"/>
                  </a:lnTo>
                  <a:lnTo>
                    <a:pt x="135" y="262"/>
                  </a:lnTo>
                  <a:lnTo>
                    <a:pt x="136" y="260"/>
                  </a:lnTo>
                  <a:lnTo>
                    <a:pt x="136" y="257"/>
                  </a:lnTo>
                  <a:lnTo>
                    <a:pt x="137" y="255"/>
                  </a:lnTo>
                  <a:lnTo>
                    <a:pt x="139" y="255"/>
                  </a:lnTo>
                  <a:lnTo>
                    <a:pt x="142" y="255"/>
                  </a:lnTo>
                  <a:lnTo>
                    <a:pt x="143" y="258"/>
                  </a:lnTo>
                  <a:lnTo>
                    <a:pt x="146" y="263"/>
                  </a:lnTo>
                  <a:lnTo>
                    <a:pt x="150" y="270"/>
                  </a:lnTo>
                  <a:lnTo>
                    <a:pt x="155" y="277"/>
                  </a:lnTo>
                  <a:lnTo>
                    <a:pt x="157" y="281"/>
                  </a:lnTo>
                  <a:lnTo>
                    <a:pt x="160" y="284"/>
                  </a:lnTo>
                  <a:lnTo>
                    <a:pt x="162" y="287"/>
                  </a:lnTo>
                  <a:lnTo>
                    <a:pt x="164" y="290"/>
                  </a:lnTo>
                  <a:lnTo>
                    <a:pt x="167" y="292"/>
                  </a:lnTo>
                  <a:lnTo>
                    <a:pt x="169" y="294"/>
                  </a:lnTo>
                  <a:lnTo>
                    <a:pt x="170" y="295"/>
                  </a:lnTo>
                  <a:lnTo>
                    <a:pt x="170" y="295"/>
                  </a:lnTo>
                  <a:lnTo>
                    <a:pt x="171" y="295"/>
                  </a:lnTo>
                  <a:lnTo>
                    <a:pt x="172" y="296"/>
                  </a:lnTo>
                  <a:lnTo>
                    <a:pt x="172" y="300"/>
                  </a:lnTo>
                  <a:lnTo>
                    <a:pt x="172" y="304"/>
                  </a:lnTo>
                  <a:lnTo>
                    <a:pt x="171" y="309"/>
                  </a:lnTo>
                  <a:lnTo>
                    <a:pt x="171" y="313"/>
                  </a:lnTo>
                  <a:lnTo>
                    <a:pt x="170" y="318"/>
                  </a:lnTo>
                  <a:lnTo>
                    <a:pt x="170" y="322"/>
                  </a:lnTo>
                  <a:lnTo>
                    <a:pt x="170" y="326"/>
                  </a:lnTo>
                  <a:lnTo>
                    <a:pt x="169" y="329"/>
                  </a:lnTo>
                  <a:lnTo>
                    <a:pt x="175" y="326"/>
                  </a:lnTo>
                  <a:lnTo>
                    <a:pt x="180" y="323"/>
                  </a:lnTo>
                  <a:lnTo>
                    <a:pt x="185" y="320"/>
                  </a:lnTo>
                  <a:lnTo>
                    <a:pt x="188" y="316"/>
                  </a:lnTo>
                  <a:lnTo>
                    <a:pt x="192" y="313"/>
                  </a:lnTo>
                  <a:lnTo>
                    <a:pt x="195" y="309"/>
                  </a:lnTo>
                  <a:lnTo>
                    <a:pt x="198" y="305"/>
                  </a:lnTo>
                  <a:lnTo>
                    <a:pt x="201" y="301"/>
                  </a:lnTo>
                  <a:lnTo>
                    <a:pt x="203" y="297"/>
                  </a:lnTo>
                  <a:lnTo>
                    <a:pt x="205" y="292"/>
                  </a:lnTo>
                  <a:lnTo>
                    <a:pt x="207" y="288"/>
                  </a:lnTo>
                  <a:lnTo>
                    <a:pt x="208" y="283"/>
                  </a:lnTo>
                  <a:lnTo>
                    <a:pt x="209" y="277"/>
                  </a:lnTo>
                  <a:lnTo>
                    <a:pt x="209" y="272"/>
                  </a:lnTo>
                  <a:lnTo>
                    <a:pt x="210" y="266"/>
                  </a:lnTo>
                  <a:lnTo>
                    <a:pt x="210" y="260"/>
                  </a:lnTo>
                  <a:lnTo>
                    <a:pt x="220" y="250"/>
                  </a:lnTo>
                  <a:lnTo>
                    <a:pt x="223" y="250"/>
                  </a:lnTo>
                  <a:lnTo>
                    <a:pt x="226" y="250"/>
                  </a:lnTo>
                  <a:lnTo>
                    <a:pt x="230" y="251"/>
                  </a:lnTo>
                  <a:lnTo>
                    <a:pt x="234" y="252"/>
                  </a:lnTo>
                  <a:lnTo>
                    <a:pt x="244" y="255"/>
                  </a:lnTo>
                  <a:lnTo>
                    <a:pt x="253" y="258"/>
                  </a:lnTo>
                  <a:lnTo>
                    <a:pt x="263" y="262"/>
                  </a:lnTo>
                  <a:lnTo>
                    <a:pt x="272" y="266"/>
                  </a:lnTo>
                  <a:lnTo>
                    <a:pt x="275" y="268"/>
                  </a:lnTo>
                  <a:lnTo>
                    <a:pt x="279" y="270"/>
                  </a:lnTo>
                  <a:lnTo>
                    <a:pt x="281" y="271"/>
                  </a:lnTo>
                  <a:lnTo>
                    <a:pt x="283" y="273"/>
                  </a:lnTo>
                  <a:lnTo>
                    <a:pt x="283" y="252"/>
                  </a:lnTo>
                  <a:lnTo>
                    <a:pt x="282" y="252"/>
                  </a:lnTo>
                  <a:lnTo>
                    <a:pt x="280" y="251"/>
                  </a:lnTo>
                  <a:lnTo>
                    <a:pt x="278" y="250"/>
                  </a:lnTo>
                  <a:lnTo>
                    <a:pt x="277" y="249"/>
                  </a:lnTo>
                  <a:lnTo>
                    <a:pt x="273" y="245"/>
                  </a:lnTo>
                  <a:lnTo>
                    <a:pt x="269" y="241"/>
                  </a:lnTo>
                  <a:lnTo>
                    <a:pt x="265" y="237"/>
                  </a:lnTo>
                  <a:lnTo>
                    <a:pt x="261" y="233"/>
                  </a:lnTo>
                  <a:lnTo>
                    <a:pt x="259" y="232"/>
                  </a:lnTo>
                  <a:lnTo>
                    <a:pt x="257" y="230"/>
                  </a:lnTo>
                  <a:lnTo>
                    <a:pt x="255" y="230"/>
                  </a:lnTo>
                  <a:lnTo>
                    <a:pt x="253" y="229"/>
                  </a:lnTo>
                  <a:lnTo>
                    <a:pt x="252" y="227"/>
                  </a:lnTo>
                  <a:lnTo>
                    <a:pt x="252" y="225"/>
                  </a:lnTo>
                  <a:lnTo>
                    <a:pt x="251" y="223"/>
                  </a:lnTo>
                  <a:lnTo>
                    <a:pt x="250" y="221"/>
                  </a:lnTo>
                  <a:lnTo>
                    <a:pt x="249" y="219"/>
                  </a:lnTo>
                  <a:lnTo>
                    <a:pt x="249" y="218"/>
                  </a:lnTo>
                  <a:lnTo>
                    <a:pt x="248" y="217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48" y="215"/>
                  </a:lnTo>
                  <a:lnTo>
                    <a:pt x="249" y="213"/>
                  </a:lnTo>
                  <a:lnTo>
                    <a:pt x="249" y="212"/>
                  </a:lnTo>
                  <a:lnTo>
                    <a:pt x="250" y="211"/>
                  </a:lnTo>
                  <a:lnTo>
                    <a:pt x="250" y="210"/>
                  </a:lnTo>
                  <a:lnTo>
                    <a:pt x="250" y="208"/>
                  </a:lnTo>
                  <a:lnTo>
                    <a:pt x="250" y="206"/>
                  </a:lnTo>
                  <a:lnTo>
                    <a:pt x="257" y="206"/>
                  </a:lnTo>
                  <a:lnTo>
                    <a:pt x="265" y="205"/>
                  </a:lnTo>
                  <a:lnTo>
                    <a:pt x="275" y="204"/>
                  </a:lnTo>
                  <a:lnTo>
                    <a:pt x="286" y="202"/>
                  </a:lnTo>
                  <a:lnTo>
                    <a:pt x="296" y="199"/>
                  </a:lnTo>
                  <a:lnTo>
                    <a:pt x="306" y="197"/>
                  </a:lnTo>
                  <a:lnTo>
                    <a:pt x="310" y="195"/>
                  </a:lnTo>
                  <a:lnTo>
                    <a:pt x="314" y="194"/>
                  </a:lnTo>
                  <a:lnTo>
                    <a:pt x="318" y="193"/>
                  </a:lnTo>
                  <a:lnTo>
                    <a:pt x="321" y="191"/>
                  </a:lnTo>
                  <a:lnTo>
                    <a:pt x="321" y="190"/>
                  </a:lnTo>
                  <a:lnTo>
                    <a:pt x="322" y="189"/>
                  </a:lnTo>
                  <a:lnTo>
                    <a:pt x="322" y="187"/>
                  </a:lnTo>
                  <a:lnTo>
                    <a:pt x="323" y="186"/>
                  </a:lnTo>
                  <a:lnTo>
                    <a:pt x="324" y="185"/>
                  </a:lnTo>
                  <a:lnTo>
                    <a:pt x="325" y="183"/>
                  </a:lnTo>
                  <a:lnTo>
                    <a:pt x="326" y="182"/>
                  </a:lnTo>
                  <a:lnTo>
                    <a:pt x="326" y="181"/>
                  </a:lnTo>
                  <a:lnTo>
                    <a:pt x="301" y="181"/>
                  </a:lnTo>
                  <a:lnTo>
                    <a:pt x="299" y="179"/>
                  </a:lnTo>
                  <a:lnTo>
                    <a:pt x="296" y="177"/>
                  </a:lnTo>
                  <a:lnTo>
                    <a:pt x="293" y="175"/>
                  </a:lnTo>
                  <a:lnTo>
                    <a:pt x="289" y="173"/>
                  </a:lnTo>
                  <a:lnTo>
                    <a:pt x="281" y="169"/>
                  </a:lnTo>
                  <a:lnTo>
                    <a:pt x="273" y="165"/>
                  </a:lnTo>
                  <a:lnTo>
                    <a:pt x="264" y="161"/>
                  </a:lnTo>
                  <a:lnTo>
                    <a:pt x="256" y="158"/>
                  </a:lnTo>
                  <a:lnTo>
                    <a:pt x="248" y="155"/>
                  </a:lnTo>
                  <a:lnTo>
                    <a:pt x="243" y="153"/>
                  </a:lnTo>
                  <a:lnTo>
                    <a:pt x="244" y="151"/>
                  </a:lnTo>
                  <a:lnTo>
                    <a:pt x="246" y="149"/>
                  </a:lnTo>
                  <a:lnTo>
                    <a:pt x="247" y="147"/>
                  </a:lnTo>
                  <a:lnTo>
                    <a:pt x="249" y="145"/>
                  </a:lnTo>
                  <a:lnTo>
                    <a:pt x="254" y="141"/>
                  </a:lnTo>
                  <a:lnTo>
                    <a:pt x="259" y="137"/>
                  </a:lnTo>
                  <a:lnTo>
                    <a:pt x="271" y="130"/>
                  </a:lnTo>
                  <a:lnTo>
                    <a:pt x="283" y="122"/>
                  </a:lnTo>
                  <a:lnTo>
                    <a:pt x="289" y="118"/>
                  </a:lnTo>
                  <a:lnTo>
                    <a:pt x="294" y="114"/>
                  </a:lnTo>
                  <a:lnTo>
                    <a:pt x="300" y="110"/>
                  </a:lnTo>
                  <a:lnTo>
                    <a:pt x="304" y="106"/>
                  </a:lnTo>
                  <a:lnTo>
                    <a:pt x="306" y="104"/>
                  </a:lnTo>
                  <a:lnTo>
                    <a:pt x="308" y="102"/>
                  </a:lnTo>
                  <a:lnTo>
                    <a:pt x="310" y="99"/>
                  </a:lnTo>
                  <a:lnTo>
                    <a:pt x="311" y="97"/>
                  </a:lnTo>
                  <a:lnTo>
                    <a:pt x="312" y="95"/>
                  </a:lnTo>
                  <a:lnTo>
                    <a:pt x="313" y="93"/>
                  </a:lnTo>
                  <a:lnTo>
                    <a:pt x="313" y="91"/>
                  </a:lnTo>
                  <a:lnTo>
                    <a:pt x="313" y="89"/>
                  </a:lnTo>
                  <a:lnTo>
                    <a:pt x="311" y="89"/>
                  </a:lnTo>
                  <a:lnTo>
                    <a:pt x="309" y="89"/>
                  </a:lnTo>
                  <a:lnTo>
                    <a:pt x="307" y="90"/>
                  </a:lnTo>
                  <a:lnTo>
                    <a:pt x="304" y="91"/>
                  </a:lnTo>
                  <a:lnTo>
                    <a:pt x="300" y="92"/>
                  </a:lnTo>
                  <a:lnTo>
                    <a:pt x="296" y="94"/>
                  </a:lnTo>
                  <a:lnTo>
                    <a:pt x="292" y="96"/>
                  </a:lnTo>
                  <a:lnTo>
                    <a:pt x="288" y="99"/>
                  </a:lnTo>
                  <a:lnTo>
                    <a:pt x="284" y="100"/>
                  </a:lnTo>
                  <a:lnTo>
                    <a:pt x="281" y="102"/>
                  </a:lnTo>
                  <a:lnTo>
                    <a:pt x="277" y="103"/>
                  </a:lnTo>
                  <a:lnTo>
                    <a:pt x="273" y="104"/>
                  </a:lnTo>
                  <a:lnTo>
                    <a:pt x="270" y="104"/>
                  </a:lnTo>
                  <a:lnTo>
                    <a:pt x="266" y="103"/>
                  </a:lnTo>
                  <a:lnTo>
                    <a:pt x="263" y="103"/>
                  </a:lnTo>
                  <a:lnTo>
                    <a:pt x="260" y="102"/>
                  </a:lnTo>
                  <a:lnTo>
                    <a:pt x="256" y="101"/>
                  </a:lnTo>
                  <a:lnTo>
                    <a:pt x="253" y="99"/>
                  </a:lnTo>
                  <a:lnTo>
                    <a:pt x="247" y="97"/>
                  </a:lnTo>
                  <a:lnTo>
                    <a:pt x="242" y="94"/>
                  </a:lnTo>
                  <a:lnTo>
                    <a:pt x="239" y="93"/>
                  </a:lnTo>
                  <a:lnTo>
                    <a:pt x="236" y="92"/>
                  </a:lnTo>
                  <a:lnTo>
                    <a:pt x="233" y="92"/>
                  </a:lnTo>
                  <a:lnTo>
                    <a:pt x="230" y="91"/>
                  </a:lnTo>
                  <a:lnTo>
                    <a:pt x="229" y="87"/>
                  </a:lnTo>
                  <a:lnTo>
                    <a:pt x="228" y="83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28" y="69"/>
                  </a:lnTo>
                  <a:lnTo>
                    <a:pt x="229" y="64"/>
                  </a:lnTo>
                  <a:lnTo>
                    <a:pt x="230" y="59"/>
                  </a:lnTo>
                  <a:lnTo>
                    <a:pt x="231" y="54"/>
                  </a:lnTo>
                  <a:lnTo>
                    <a:pt x="233" y="44"/>
                  </a:lnTo>
                  <a:lnTo>
                    <a:pt x="235" y="35"/>
                  </a:lnTo>
                  <a:lnTo>
                    <a:pt x="236" y="30"/>
                  </a:lnTo>
                  <a:lnTo>
                    <a:pt x="237" y="25"/>
                  </a:lnTo>
                  <a:lnTo>
                    <a:pt x="238" y="20"/>
                  </a:lnTo>
                  <a:lnTo>
                    <a:pt x="238" y="15"/>
                  </a:lnTo>
                  <a:lnTo>
                    <a:pt x="233" y="10"/>
                  </a:lnTo>
                  <a:lnTo>
                    <a:pt x="217" y="10"/>
                  </a:lnTo>
                  <a:lnTo>
                    <a:pt x="216" y="11"/>
                  </a:lnTo>
                  <a:lnTo>
                    <a:pt x="215" y="13"/>
                  </a:lnTo>
                  <a:lnTo>
                    <a:pt x="214" y="14"/>
                  </a:lnTo>
                  <a:lnTo>
                    <a:pt x="213" y="16"/>
                  </a:lnTo>
                  <a:lnTo>
                    <a:pt x="211" y="20"/>
                  </a:lnTo>
                  <a:lnTo>
                    <a:pt x="210" y="23"/>
                  </a:lnTo>
                  <a:lnTo>
                    <a:pt x="209" y="27"/>
                  </a:lnTo>
                  <a:lnTo>
                    <a:pt x="208" y="31"/>
                  </a:lnTo>
                  <a:lnTo>
                    <a:pt x="208" y="35"/>
                  </a:lnTo>
                  <a:lnTo>
                    <a:pt x="207" y="39"/>
                  </a:lnTo>
                  <a:lnTo>
                    <a:pt x="207" y="43"/>
                  </a:lnTo>
                  <a:lnTo>
                    <a:pt x="206" y="47"/>
                  </a:lnTo>
                  <a:lnTo>
                    <a:pt x="205" y="51"/>
                  </a:lnTo>
                  <a:lnTo>
                    <a:pt x="205" y="55"/>
                  </a:lnTo>
                  <a:lnTo>
                    <a:pt x="203" y="59"/>
                  </a:lnTo>
                  <a:lnTo>
                    <a:pt x="202" y="62"/>
                  </a:lnTo>
                  <a:lnTo>
                    <a:pt x="201" y="64"/>
                  </a:lnTo>
                  <a:lnTo>
                    <a:pt x="200" y="66"/>
                  </a:lnTo>
                  <a:lnTo>
                    <a:pt x="198" y="67"/>
                  </a:lnTo>
                  <a:lnTo>
                    <a:pt x="197" y="69"/>
                  </a:lnTo>
                  <a:lnTo>
                    <a:pt x="195" y="69"/>
                  </a:lnTo>
                  <a:lnTo>
                    <a:pt x="193" y="68"/>
                  </a:lnTo>
                  <a:lnTo>
                    <a:pt x="191" y="67"/>
                  </a:lnTo>
                  <a:lnTo>
                    <a:pt x="188" y="67"/>
                  </a:lnTo>
                  <a:lnTo>
                    <a:pt x="186" y="65"/>
                  </a:lnTo>
                  <a:lnTo>
                    <a:pt x="184" y="64"/>
                  </a:lnTo>
                  <a:lnTo>
                    <a:pt x="182" y="63"/>
                  </a:lnTo>
                  <a:lnTo>
                    <a:pt x="180" y="61"/>
                  </a:lnTo>
                  <a:lnTo>
                    <a:pt x="175" y="57"/>
                  </a:lnTo>
                  <a:lnTo>
                    <a:pt x="171" y="52"/>
                  </a:lnTo>
                  <a:lnTo>
                    <a:pt x="166" y="47"/>
                  </a:lnTo>
                  <a:lnTo>
                    <a:pt x="162" y="42"/>
                  </a:lnTo>
                  <a:lnTo>
                    <a:pt x="158" y="37"/>
                  </a:lnTo>
                  <a:lnTo>
                    <a:pt x="154" y="31"/>
                  </a:lnTo>
                  <a:lnTo>
                    <a:pt x="150" y="26"/>
                  </a:lnTo>
                  <a:lnTo>
                    <a:pt x="146" y="20"/>
                  </a:lnTo>
                  <a:lnTo>
                    <a:pt x="139" y="10"/>
                  </a:lnTo>
                  <a:lnTo>
                    <a:pt x="134" y="2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27" y="10"/>
                  </a:lnTo>
                  <a:lnTo>
                    <a:pt x="127" y="16"/>
                  </a:lnTo>
                  <a:lnTo>
                    <a:pt x="127" y="23"/>
                  </a:lnTo>
                  <a:lnTo>
                    <a:pt x="127" y="29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6" y="41"/>
                  </a:lnTo>
                  <a:lnTo>
                    <a:pt x="125" y="43"/>
                  </a:lnTo>
                  <a:lnTo>
                    <a:pt x="124" y="46"/>
                  </a:lnTo>
                  <a:lnTo>
                    <a:pt x="122" y="46"/>
                  </a:lnTo>
                  <a:lnTo>
                    <a:pt x="121" y="47"/>
                  </a:lnTo>
                  <a:lnTo>
                    <a:pt x="121" y="48"/>
                  </a:lnTo>
                  <a:lnTo>
                    <a:pt x="120" y="50"/>
                  </a:lnTo>
                  <a:lnTo>
                    <a:pt x="119" y="51"/>
                  </a:lnTo>
                  <a:lnTo>
                    <a:pt x="118" y="52"/>
                  </a:lnTo>
                  <a:lnTo>
                    <a:pt x="117" y="52"/>
                  </a:lnTo>
                  <a:lnTo>
                    <a:pt x="117" y="52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5" y="52"/>
                  </a:lnTo>
                  <a:lnTo>
                    <a:pt x="114" y="51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dfc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56920" y="1938240"/>
              <a:ext cx="468720" cy="474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824200">
              <a:off x="4994640" y="1911240"/>
              <a:ext cx="78840" cy="155880"/>
            </a:xfrm>
            <a:prstGeom prst="triangle">
              <a:avLst>
                <a:gd name="adj" fmla="val 5000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-360" bIns="-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23280" y="1860120"/>
              <a:ext cx="168480" cy="1702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8"/>
                  </a:moveTo>
                  <a:cubicBezTo>
                    <a:pt x="16" y="4"/>
                    <a:pt x="32" y="0"/>
                    <a:pt x="48" y="8"/>
                  </a:cubicBezTo>
                  <a:cubicBezTo>
                    <a:pt x="64" y="16"/>
                    <a:pt x="88" y="40"/>
                    <a:pt x="96" y="56"/>
                  </a:cubicBezTo>
                  <a:cubicBezTo>
                    <a:pt x="104" y="72"/>
                    <a:pt x="96" y="96"/>
                    <a:pt x="96" y="1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0960" y="2518920"/>
              <a:ext cx="2323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ar System Baryc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48320" y="2841480"/>
            <a:ext cx="187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040" y="3720960"/>
            <a:ext cx="3441960" cy="3178440"/>
            <a:chOff x="32040" y="3720960"/>
            <a:chExt cx="3441960" cy="3178440"/>
          </a:xfrm>
        </p:grpSpPr>
        <p:graphicFrame>
          <p:nvGraphicFramePr>
            <p:cNvPr id="94" name=""/>
            <p:cNvGraphicFramePr/>
            <p:nvPr/>
          </p:nvGraphicFramePr>
          <p:xfrm>
            <a:off x="532080" y="5364360"/>
            <a:ext cx="1100880" cy="11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2080" y="5364360"/>
                      <a:ext cx="1100880" cy="11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382680" y="6468480"/>
              <a:ext cx="13590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Co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u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2249280" y="5285160"/>
            <a:ext cx="848520" cy="1166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49280" y="5285160"/>
                      <a:ext cx="848520" cy="11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1942920" y="6468480"/>
              <a:ext cx="15310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s of Comm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40" y="3720960"/>
              <a:ext cx="680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919191"/>
                  </a:solidFill>
                  <a:latin typeface="Arial"/>
                  <a:ea typeface="ＭＳ Ｐゴシック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-3600" y="1558800"/>
            <a:ext cx="9210960" cy="2226600"/>
            <a:chOff x="-3600" y="1558800"/>
            <a:chExt cx="9210960" cy="2226600"/>
          </a:xfrm>
        </p:grpSpPr>
        <p:grpSp>
          <p:nvGrpSpPr>
            <p:cNvPr id="102" name=""/>
            <p:cNvGrpSpPr/>
            <p:nvPr/>
          </p:nvGrpSpPr>
          <p:grpSpPr>
            <a:xfrm>
              <a:off x="8872560" y="1558800"/>
              <a:ext cx="313920" cy="558000"/>
              <a:chOff x="8872560" y="1558800"/>
              <a:chExt cx="313920" cy="55800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9050400" y="1903680"/>
                <a:ext cx="127080" cy="2131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8872560" y="1897920"/>
                <a:ext cx="304920" cy="504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9178560" y="1558800"/>
                <a:ext cx="7920" cy="34560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713240" y="3155760"/>
              <a:ext cx="109836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Instru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82160" y="3313080"/>
              <a:ext cx="435240" cy="472320"/>
              <a:chOff x="2882160" y="3313080"/>
              <a:chExt cx="435240" cy="472320"/>
            </a:xfrm>
          </p:grpSpPr>
          <p:sp>
            <p:nvSpPr>
              <p:cNvPr id="108" name=""/>
              <p:cNvSpPr/>
              <p:nvPr/>
            </p:nvSpPr>
            <p:spPr>
              <a:xfrm>
                <a:off x="3038400" y="3549240"/>
                <a:ext cx="279000" cy="20664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882160" y="3549240"/>
                <a:ext cx="155880" cy="23616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959560" y="3313080"/>
                <a:ext cx="78120" cy="23616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950720" y="1851840"/>
              <a:ext cx="375120" cy="351000"/>
              <a:chOff x="4950720" y="1851840"/>
              <a:chExt cx="375120" cy="351000"/>
            </a:xfrm>
          </p:grpSpPr>
          <p:sp>
            <p:nvSpPr>
              <p:cNvPr id="112" name=""/>
              <p:cNvSpPr/>
              <p:nvPr/>
            </p:nvSpPr>
            <p:spPr>
              <a:xfrm>
                <a:off x="5098320" y="2027520"/>
                <a:ext cx="227520" cy="1620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4950720" y="2027520"/>
                <a:ext cx="147600" cy="1753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53600" y="1851840"/>
                <a:ext cx="144360" cy="1753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52880" y="1580040"/>
              <a:ext cx="740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09000" y="2052720"/>
              <a:ext cx="1098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EME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(J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3600" y="2208600"/>
              <a:ext cx="1701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ＭＳ Ｐゴシック"/>
                </a:rPr>
                <a:t>Reference f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0" y="1390680"/>
            <a:ext cx="8721360" cy="3742560"/>
            <a:chOff x="0" y="1390680"/>
            <a:chExt cx="8721360" cy="3742560"/>
          </a:xfrm>
        </p:grpSpPr>
        <p:sp>
          <p:nvSpPr>
            <p:cNvPr id="119" name=""/>
            <p:cNvSpPr/>
            <p:nvPr/>
          </p:nvSpPr>
          <p:spPr>
            <a:xfrm>
              <a:off x="7785720" y="4576680"/>
              <a:ext cx="93564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e8665b"/>
                  </a:solidFill>
                  <a:latin typeface="Arial"/>
                </a:rPr>
                <a:t>and size/sha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pl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0560" y="1390680"/>
              <a:ext cx="935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e8665b"/>
                  </a:solidFill>
                  <a:latin typeface="Arial"/>
                </a:rPr>
                <a:t>and size/sha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Ear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3076560"/>
              <a:ext cx="1481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5530c"/>
                  </a:solidFill>
                  <a:latin typeface="Arial"/>
                  <a:ea typeface="ＭＳ Ｐゴシック"/>
                </a:rPr>
                <a:t>Sizes/sha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2160" y="1260360"/>
            <a:ext cx="8592480" cy="3961440"/>
            <a:chOff x="-2160" y="1260360"/>
            <a:chExt cx="8592480" cy="3961440"/>
          </a:xfrm>
        </p:grpSpPr>
        <p:sp>
          <p:nvSpPr>
            <p:cNvPr id="123" name=""/>
            <p:cNvSpPr/>
            <p:nvPr/>
          </p:nvSpPr>
          <p:spPr>
            <a:xfrm>
              <a:off x="1468080" y="3958560"/>
              <a:ext cx="930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f spacec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450160" y="3903480"/>
              <a:ext cx="417600" cy="496080"/>
              <a:chOff x="2450160" y="3903480"/>
              <a:chExt cx="417600" cy="496080"/>
            </a:xfrm>
          </p:grpSpPr>
          <p:sp>
            <p:nvSpPr>
              <p:cNvPr id="125" name=""/>
              <p:cNvSpPr/>
              <p:nvPr/>
            </p:nvSpPr>
            <p:spPr>
              <a:xfrm>
                <a:off x="2698200" y="4113720"/>
                <a:ext cx="169560" cy="285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450160" y="4113360"/>
                <a:ext cx="247680" cy="1022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698200" y="3903480"/>
                <a:ext cx="133200" cy="2102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771240" y="4747320"/>
              <a:ext cx="467640" cy="474480"/>
              <a:chOff x="6771240" y="4747320"/>
              <a:chExt cx="467640" cy="474480"/>
            </a:xfrm>
          </p:grpSpPr>
          <p:sp>
            <p:nvSpPr>
              <p:cNvPr id="129" name=""/>
              <p:cNvSpPr/>
              <p:nvPr/>
            </p:nvSpPr>
            <p:spPr>
              <a:xfrm>
                <a:off x="6987240" y="5062680"/>
                <a:ext cx="251640" cy="78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771240" y="5062680"/>
                <a:ext cx="215640" cy="159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6849360" y="4747320"/>
                <a:ext cx="137520" cy="3153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164920" y="1986480"/>
              <a:ext cx="280080" cy="314640"/>
              <a:chOff x="5164920" y="1986480"/>
              <a:chExt cx="280080" cy="31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5289480" y="2143440"/>
                <a:ext cx="155520" cy="15768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164920" y="2143440"/>
                <a:ext cx="124560" cy="9828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47160" bIns="47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289480" y="1986480"/>
                <a:ext cx="77760" cy="15696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-2160" y="2773800"/>
              <a:ext cx="1255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ＭＳ Ｐゴシック"/>
                </a:rPr>
                <a:t>Orien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70560" y="1260360"/>
              <a:ext cx="7675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67720" y="4410720"/>
              <a:ext cx="822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1938240"/>
            <a:ext cx="7007040" cy="3076200"/>
            <a:chOff x="0" y="1938240"/>
            <a:chExt cx="7007040" cy="3076200"/>
          </a:xfrm>
        </p:grpSpPr>
        <p:sp>
          <p:nvSpPr>
            <p:cNvPr id="140" name=""/>
            <p:cNvSpPr/>
            <p:nvPr/>
          </p:nvSpPr>
          <p:spPr>
            <a:xfrm flipV="1">
              <a:off x="3185280" y="2648520"/>
              <a:ext cx="3821760" cy="86688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07880" y="3515400"/>
              <a:ext cx="3844080" cy="149904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84360" y="2671200"/>
              <a:ext cx="19440" cy="233172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3400" y="3358440"/>
              <a:ext cx="24976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Relative posi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of spacecraft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solar system bod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07880" y="1938240"/>
              <a:ext cx="1792800" cy="157716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292000" y="2129760"/>
              <a:ext cx="1682640" cy="50652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113080" y="2005200"/>
              <a:ext cx="178200" cy="12456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497320"/>
              <a:ext cx="12477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43c04a"/>
                  </a:solidFill>
                  <a:latin typeface="Arial"/>
                  <a:ea typeface="ＭＳ Ｐゴシック"/>
                </a:rPr>
                <a:t>Pos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859440" y="2198880"/>
              <a:ext cx="105480" cy="42624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360" y="3390840"/>
            <a:ext cx="6781680" cy="2878560"/>
            <a:chOff x="-360" y="3390840"/>
            <a:chExt cx="6781680" cy="2878560"/>
          </a:xfrm>
        </p:grpSpPr>
        <p:sp>
          <p:nvSpPr>
            <p:cNvPr id="150" name=""/>
            <p:cNvSpPr/>
            <p:nvPr/>
          </p:nvSpPr>
          <p:spPr>
            <a:xfrm>
              <a:off x="5442120" y="5563440"/>
              <a:ext cx="9349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Pointing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Instru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field-of-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3640" y="5346720"/>
              <a:ext cx="337680" cy="381240"/>
            </a:xfrm>
            <a:custGeom>
              <a:avLst/>
              <a:gdLst/>
              <a:ahLst/>
              <a:rect l="l" t="t" r="r" b="b"/>
              <a:pathLst>
                <a:path w="208" h="232">
                  <a:moveTo>
                    <a:pt x="48" y="16"/>
                  </a:moveTo>
                  <a:cubicBezTo>
                    <a:pt x="16" y="32"/>
                    <a:pt x="0" y="128"/>
                    <a:pt x="0" y="160"/>
                  </a:cubicBezTo>
                  <a:cubicBezTo>
                    <a:pt x="0" y="192"/>
                    <a:pt x="24" y="200"/>
                    <a:pt x="48" y="208"/>
                  </a:cubicBezTo>
                  <a:cubicBezTo>
                    <a:pt x="72" y="216"/>
                    <a:pt x="120" y="232"/>
                    <a:pt x="144" y="208"/>
                  </a:cubicBezTo>
                  <a:cubicBezTo>
                    <a:pt x="168" y="184"/>
                    <a:pt x="208" y="96"/>
                    <a:pt x="192" y="64"/>
                  </a:cubicBezTo>
                  <a:cubicBezTo>
                    <a:pt x="176" y="32"/>
                    <a:pt x="80" y="0"/>
                    <a:pt x="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3160" y="3794760"/>
              <a:ext cx="3120120" cy="181476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3160" y="3715920"/>
              <a:ext cx="3197880" cy="165672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3160" y="3715920"/>
              <a:ext cx="3431880" cy="173556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3160" y="3715920"/>
              <a:ext cx="3354120" cy="197208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360" y="3390840"/>
              <a:ext cx="9061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f30ce"/>
                  </a:solidFill>
                  <a:latin typeface="Arial"/>
                  <a:ea typeface="ＭＳ Ｐゴシック"/>
                </a:rPr>
                <a:t>Po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7C22-8033-4E37-A2B0-889610A1D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433240" y="380520"/>
            <a:ext cx="6535800" cy="423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Building Blocks for Your Application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offers the “SPICE” ancillary information system as a set of blocks for building tools that can help execute a multimission, international space exploration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594560" cy="297828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1143000" y="5867280"/>
            <a:ext cx="753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SPI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the ancillary information system that NAIF builds and often oper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AI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the JPL entity responsible for development and deployment of SP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AIF Node of the P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one responsibility of the NAIF Group--archiving and providing long-term access to SPICE data for the worldwide science commun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6656-671C-4662-A8C8-FE2E95981298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7440" y="417600"/>
            <a:ext cx="531792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are “Ancillary Data”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2577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illary data” are those that help scientists and engineers determi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spacecraft was loc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he spacecraft and its instruments were oriented (poin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location, size, shape and orientation of the target being obser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events were occurring on the spacecraft or ground that might affect interpretation of science observ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above we’ve used past tense, but doing the same functions for future times is equally applicab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309B-5EC8-46BF-A5F4-9D167DFE2B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0760" y="393840"/>
            <a:ext cx="6740640" cy="820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900" spc="-1" strike="noStrike">
                <a:solidFill>
                  <a:srgbClr val="081d58"/>
                </a:solidFill>
                <a:latin typeface="Arial"/>
              </a:rPr>
              <a:t>From Where do Ancillary Data Come?</a:t>
            </a:r>
            <a:endParaRPr b="1" lang="en-US" sz="29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43760" cy="274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spacec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mission control c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spacecraft and instrument bui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scient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800600"/>
            <a:ext cx="73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ICE is used to organize and package these data in useful, stable packages–what we call “kernels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kernels are made available to scientists and engineers, along with NAIF Toolkit software, to help in the planning and analysis of science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AF8A-B4B4-4446-AF66-E994D1C0C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6120" y="393840"/>
            <a:ext cx="2644920" cy="4892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Why SPICE?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2516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observation geometry and events is an important el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the design of space missions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the selection of observations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d in analysis of the science data returned from the instruments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ven, extens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reus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 for producing and using ancillary data reduces cost and risk, and can help scientists and engineers achieve more substantive, accurate and timely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F97B-2B30-48DF-831C-4C942A954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44320" y="1412640"/>
            <a:ext cx="8458200" cy="5649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457200" indent="-457200">
              <a:lnSpc>
                <a:spcPct val="88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rincipal SPICE system components ar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Data fi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ften called “kernels” or “kernel fil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oftw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known as the SPICE Toolkit, consisting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subroutine librar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umber of programs (executab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are “meaty” appl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are “simple” utilities focused on kernel 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ew “cookbook”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 examples of using SPICE toolkit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Guides for program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antial source code documentation for all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d explicitly for those who will use Toolkit subroutines to make their own application progra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reference documents for major families of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ermuted inde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uto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Programming less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uilt around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tips, data, and NAIF’s solution code and numeric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88000"/>
              </a:lnSpc>
              <a:spcBef>
                <a:spcPts val="850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711160" y="429840"/>
            <a:ext cx="55004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mpon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2484-3B6D-4BAD-AB56-6944085D44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08400" y="1733400"/>
            <a:ext cx="1117440" cy="6606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8400" y="2647800"/>
            <a:ext cx="1117440" cy="6588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8400" y="3562200"/>
            <a:ext cx="1117440" cy="6606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08400" y="4475160"/>
            <a:ext cx="1117440" cy="66024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08400" y="5389560"/>
            <a:ext cx="1117440" cy="66024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4600" y="188424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7200" y="280044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2560" y="3713040"/>
            <a:ext cx="2127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9920" y="462924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5760" y="555480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7400" y="1835280"/>
            <a:ext cx="1584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e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2736720"/>
            <a:ext cx="99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6320" y="3738600"/>
            <a:ext cx="1569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66320" y="4576680"/>
            <a:ext cx="1279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5567400"/>
            <a:ext cx="10587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120" y="6546960"/>
            <a:ext cx="6172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Coined by Dr. Hugh Kieffer, USGS Astrogeology Branch, Flagstaff 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5960" y="442440"/>
            <a:ext cx="6289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nesis of the SPICE Acronym*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2FE2-9680-4920-BE55-09B086CE96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62480" y="628560"/>
            <a:ext cx="2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2680" y="442440"/>
            <a:ext cx="57672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gical versus Physical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89040"/>
            <a:ext cx="1244520" cy="55260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8960" y="2363760"/>
            <a:ext cx="1244520" cy="55080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8960" y="4746600"/>
            <a:ext cx="1244520" cy="55404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6219720"/>
            <a:ext cx="1168560" cy="61128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8960" y="3174840"/>
            <a:ext cx="1244520" cy="55116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8960" y="3971880"/>
            <a:ext cx="1244520" cy="55404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18000" y="4711680"/>
            <a:ext cx="1384200" cy="609480"/>
          </a:xfrm>
          <a:custGeom>
            <a:avLst/>
            <a:gdLst/>
            <a:ahLst/>
            <a:rect l="l" t="t" r="r" b="b"/>
            <a:pathLst>
              <a:path w="872" h="384">
                <a:moveTo>
                  <a:pt x="144" y="383"/>
                </a:moveTo>
                <a:lnTo>
                  <a:pt x="89" y="363"/>
                </a:lnTo>
                <a:lnTo>
                  <a:pt x="44" y="328"/>
                </a:lnTo>
                <a:lnTo>
                  <a:pt x="15" y="264"/>
                </a:lnTo>
                <a:lnTo>
                  <a:pt x="5" y="229"/>
                </a:lnTo>
                <a:lnTo>
                  <a:pt x="0" y="189"/>
                </a:lnTo>
                <a:lnTo>
                  <a:pt x="5" y="154"/>
                </a:lnTo>
                <a:lnTo>
                  <a:pt x="15" y="119"/>
                </a:lnTo>
                <a:lnTo>
                  <a:pt x="44" y="50"/>
                </a:lnTo>
                <a:lnTo>
                  <a:pt x="89" y="20"/>
                </a:lnTo>
                <a:lnTo>
                  <a:pt x="114" y="5"/>
                </a:lnTo>
                <a:lnTo>
                  <a:pt x="144" y="0"/>
                </a:lnTo>
                <a:lnTo>
                  <a:pt x="871" y="0"/>
                </a:lnTo>
                <a:lnTo>
                  <a:pt x="841" y="5"/>
                </a:lnTo>
                <a:lnTo>
                  <a:pt x="816" y="20"/>
                </a:lnTo>
                <a:lnTo>
                  <a:pt x="771" y="50"/>
                </a:lnTo>
                <a:lnTo>
                  <a:pt x="751" y="84"/>
                </a:lnTo>
                <a:lnTo>
                  <a:pt x="737" y="119"/>
                </a:lnTo>
                <a:lnTo>
                  <a:pt x="732" y="154"/>
                </a:lnTo>
                <a:lnTo>
                  <a:pt x="727" y="189"/>
                </a:lnTo>
                <a:lnTo>
                  <a:pt x="732" y="229"/>
                </a:lnTo>
                <a:lnTo>
                  <a:pt x="737" y="264"/>
                </a:lnTo>
                <a:lnTo>
                  <a:pt x="751" y="298"/>
                </a:lnTo>
                <a:lnTo>
                  <a:pt x="771" y="328"/>
                </a:lnTo>
                <a:lnTo>
                  <a:pt x="816" y="363"/>
                </a:lnTo>
                <a:lnTo>
                  <a:pt x="871" y="383"/>
                </a:lnTo>
                <a:lnTo>
                  <a:pt x="144" y="383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360" y="3940200"/>
            <a:ext cx="1389240" cy="615960"/>
          </a:xfrm>
          <a:custGeom>
            <a:avLst/>
            <a:gdLst/>
            <a:ahLst/>
            <a:rect l="l" t="t" r="r" b="b"/>
            <a:pathLst>
              <a:path w="875" h="388">
                <a:moveTo>
                  <a:pt x="149" y="387"/>
                </a:moveTo>
                <a:lnTo>
                  <a:pt x="119" y="379"/>
                </a:lnTo>
                <a:lnTo>
                  <a:pt x="94" y="366"/>
                </a:lnTo>
                <a:lnTo>
                  <a:pt x="45" y="328"/>
                </a:lnTo>
                <a:lnTo>
                  <a:pt x="15" y="265"/>
                </a:lnTo>
                <a:lnTo>
                  <a:pt x="0" y="194"/>
                </a:lnTo>
                <a:lnTo>
                  <a:pt x="15" y="122"/>
                </a:lnTo>
                <a:lnTo>
                  <a:pt x="45" y="55"/>
                </a:lnTo>
                <a:lnTo>
                  <a:pt x="94" y="21"/>
                </a:lnTo>
                <a:lnTo>
                  <a:pt x="119" y="9"/>
                </a:lnTo>
                <a:lnTo>
                  <a:pt x="149" y="0"/>
                </a:lnTo>
                <a:lnTo>
                  <a:pt x="874" y="0"/>
                </a:lnTo>
                <a:lnTo>
                  <a:pt x="844" y="9"/>
                </a:lnTo>
                <a:lnTo>
                  <a:pt x="819" y="21"/>
                </a:lnTo>
                <a:lnTo>
                  <a:pt x="770" y="55"/>
                </a:lnTo>
                <a:lnTo>
                  <a:pt x="740" y="122"/>
                </a:lnTo>
                <a:lnTo>
                  <a:pt x="735" y="156"/>
                </a:lnTo>
                <a:lnTo>
                  <a:pt x="730" y="194"/>
                </a:lnTo>
                <a:lnTo>
                  <a:pt x="735" y="231"/>
                </a:lnTo>
                <a:lnTo>
                  <a:pt x="740" y="265"/>
                </a:lnTo>
                <a:lnTo>
                  <a:pt x="770" y="328"/>
                </a:lnTo>
                <a:lnTo>
                  <a:pt x="819" y="366"/>
                </a:lnTo>
                <a:lnTo>
                  <a:pt x="844" y="379"/>
                </a:lnTo>
                <a:lnTo>
                  <a:pt x="874" y="387"/>
                </a:lnTo>
                <a:lnTo>
                  <a:pt x="149" y="387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70560" y="5870520"/>
            <a:ext cx="649080" cy="27936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7040" y="5665680"/>
            <a:ext cx="653760" cy="23040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77040" y="5432400"/>
            <a:ext cx="653760" cy="23004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1000" y="3143160"/>
            <a:ext cx="1385640" cy="611280"/>
          </a:xfrm>
          <a:custGeom>
            <a:avLst/>
            <a:gdLst/>
            <a:ahLst/>
            <a:rect l="l" t="t" r="r" b="b"/>
            <a:pathLst>
              <a:path w="873" h="385">
                <a:moveTo>
                  <a:pt x="144" y="384"/>
                </a:moveTo>
                <a:lnTo>
                  <a:pt x="119" y="377"/>
                </a:lnTo>
                <a:lnTo>
                  <a:pt x="94" y="364"/>
                </a:lnTo>
                <a:lnTo>
                  <a:pt x="70" y="347"/>
                </a:lnTo>
                <a:lnTo>
                  <a:pt x="45" y="326"/>
                </a:lnTo>
                <a:lnTo>
                  <a:pt x="30" y="296"/>
                </a:lnTo>
                <a:lnTo>
                  <a:pt x="15" y="265"/>
                </a:lnTo>
                <a:lnTo>
                  <a:pt x="0" y="190"/>
                </a:lnTo>
                <a:lnTo>
                  <a:pt x="15" y="119"/>
                </a:lnTo>
                <a:lnTo>
                  <a:pt x="45" y="55"/>
                </a:lnTo>
                <a:lnTo>
                  <a:pt x="70" y="34"/>
                </a:lnTo>
                <a:lnTo>
                  <a:pt x="94" y="17"/>
                </a:lnTo>
                <a:lnTo>
                  <a:pt x="119" y="7"/>
                </a:lnTo>
                <a:lnTo>
                  <a:pt x="144" y="0"/>
                </a:lnTo>
                <a:lnTo>
                  <a:pt x="872" y="0"/>
                </a:lnTo>
                <a:lnTo>
                  <a:pt x="842" y="7"/>
                </a:lnTo>
                <a:lnTo>
                  <a:pt x="818" y="17"/>
                </a:lnTo>
                <a:lnTo>
                  <a:pt x="793" y="34"/>
                </a:lnTo>
                <a:lnTo>
                  <a:pt x="768" y="55"/>
                </a:lnTo>
                <a:lnTo>
                  <a:pt x="738" y="119"/>
                </a:lnTo>
                <a:lnTo>
                  <a:pt x="733" y="153"/>
                </a:lnTo>
                <a:lnTo>
                  <a:pt x="728" y="190"/>
                </a:lnTo>
                <a:lnTo>
                  <a:pt x="733" y="228"/>
                </a:lnTo>
                <a:lnTo>
                  <a:pt x="738" y="265"/>
                </a:lnTo>
                <a:lnTo>
                  <a:pt x="753" y="296"/>
                </a:lnTo>
                <a:lnTo>
                  <a:pt x="768" y="326"/>
                </a:lnTo>
                <a:lnTo>
                  <a:pt x="793" y="347"/>
                </a:lnTo>
                <a:lnTo>
                  <a:pt x="818" y="364"/>
                </a:lnTo>
                <a:lnTo>
                  <a:pt x="842" y="377"/>
                </a:lnTo>
                <a:lnTo>
                  <a:pt x="872" y="384"/>
                </a:lnTo>
                <a:lnTo>
                  <a:pt x="144" y="384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2338560"/>
            <a:ext cx="1382760" cy="615600"/>
          </a:xfrm>
          <a:custGeom>
            <a:avLst/>
            <a:gdLst/>
            <a:ahLst/>
            <a:rect l="l" t="t" r="r" b="b"/>
            <a:pathLst>
              <a:path w="871" h="387">
                <a:moveTo>
                  <a:pt x="144" y="386"/>
                </a:moveTo>
                <a:lnTo>
                  <a:pt x="114" y="378"/>
                </a:lnTo>
                <a:lnTo>
                  <a:pt x="89" y="365"/>
                </a:lnTo>
                <a:lnTo>
                  <a:pt x="65" y="350"/>
                </a:lnTo>
                <a:lnTo>
                  <a:pt x="40" y="329"/>
                </a:lnTo>
                <a:lnTo>
                  <a:pt x="25" y="298"/>
                </a:lnTo>
                <a:lnTo>
                  <a:pt x="15" y="264"/>
                </a:lnTo>
                <a:lnTo>
                  <a:pt x="5" y="231"/>
                </a:lnTo>
                <a:lnTo>
                  <a:pt x="0" y="192"/>
                </a:lnTo>
                <a:lnTo>
                  <a:pt x="5" y="156"/>
                </a:lnTo>
                <a:lnTo>
                  <a:pt x="15" y="119"/>
                </a:lnTo>
                <a:lnTo>
                  <a:pt x="40" y="55"/>
                </a:lnTo>
                <a:lnTo>
                  <a:pt x="65" y="37"/>
                </a:lnTo>
                <a:lnTo>
                  <a:pt x="89" y="21"/>
                </a:lnTo>
                <a:lnTo>
                  <a:pt x="114" y="8"/>
                </a:lnTo>
                <a:lnTo>
                  <a:pt x="144" y="0"/>
                </a:lnTo>
                <a:lnTo>
                  <a:pt x="870" y="0"/>
                </a:lnTo>
                <a:lnTo>
                  <a:pt x="840" y="8"/>
                </a:lnTo>
                <a:lnTo>
                  <a:pt x="816" y="21"/>
                </a:lnTo>
                <a:lnTo>
                  <a:pt x="791" y="37"/>
                </a:lnTo>
                <a:lnTo>
                  <a:pt x="766" y="55"/>
                </a:lnTo>
                <a:lnTo>
                  <a:pt x="737" y="119"/>
                </a:lnTo>
                <a:lnTo>
                  <a:pt x="722" y="192"/>
                </a:lnTo>
                <a:lnTo>
                  <a:pt x="737" y="264"/>
                </a:lnTo>
                <a:lnTo>
                  <a:pt x="751" y="298"/>
                </a:lnTo>
                <a:lnTo>
                  <a:pt x="766" y="329"/>
                </a:lnTo>
                <a:lnTo>
                  <a:pt x="791" y="350"/>
                </a:lnTo>
                <a:lnTo>
                  <a:pt x="816" y="365"/>
                </a:lnTo>
                <a:lnTo>
                  <a:pt x="840" y="378"/>
                </a:lnTo>
                <a:lnTo>
                  <a:pt x="870" y="386"/>
                </a:lnTo>
                <a:lnTo>
                  <a:pt x="144" y="386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7240" y="1574640"/>
            <a:ext cx="1385640" cy="611280"/>
          </a:xfrm>
          <a:custGeom>
            <a:avLst/>
            <a:gdLst/>
            <a:ahLst/>
            <a:rect l="l" t="t" r="r" b="b"/>
            <a:pathLst>
              <a:path w="873" h="385">
                <a:moveTo>
                  <a:pt x="143" y="384"/>
                </a:moveTo>
                <a:lnTo>
                  <a:pt x="118" y="377"/>
                </a:lnTo>
                <a:lnTo>
                  <a:pt x="93" y="366"/>
                </a:lnTo>
                <a:lnTo>
                  <a:pt x="69" y="350"/>
                </a:lnTo>
                <a:lnTo>
                  <a:pt x="44" y="330"/>
                </a:lnTo>
                <a:lnTo>
                  <a:pt x="29" y="299"/>
                </a:lnTo>
                <a:lnTo>
                  <a:pt x="15" y="264"/>
                </a:lnTo>
                <a:lnTo>
                  <a:pt x="5" y="230"/>
                </a:lnTo>
                <a:lnTo>
                  <a:pt x="0" y="191"/>
                </a:lnTo>
                <a:lnTo>
                  <a:pt x="15" y="120"/>
                </a:lnTo>
                <a:lnTo>
                  <a:pt x="44" y="55"/>
                </a:lnTo>
                <a:lnTo>
                  <a:pt x="69" y="37"/>
                </a:lnTo>
                <a:lnTo>
                  <a:pt x="93" y="20"/>
                </a:lnTo>
                <a:lnTo>
                  <a:pt x="118" y="8"/>
                </a:lnTo>
                <a:lnTo>
                  <a:pt x="143" y="0"/>
                </a:lnTo>
                <a:lnTo>
                  <a:pt x="872" y="0"/>
                </a:lnTo>
                <a:lnTo>
                  <a:pt x="842" y="8"/>
                </a:lnTo>
                <a:lnTo>
                  <a:pt x="818" y="20"/>
                </a:lnTo>
                <a:lnTo>
                  <a:pt x="793" y="37"/>
                </a:lnTo>
                <a:lnTo>
                  <a:pt x="769" y="55"/>
                </a:lnTo>
                <a:lnTo>
                  <a:pt x="739" y="120"/>
                </a:lnTo>
                <a:lnTo>
                  <a:pt x="724" y="191"/>
                </a:lnTo>
                <a:lnTo>
                  <a:pt x="729" y="230"/>
                </a:lnTo>
                <a:lnTo>
                  <a:pt x="739" y="264"/>
                </a:lnTo>
                <a:lnTo>
                  <a:pt x="754" y="299"/>
                </a:lnTo>
                <a:lnTo>
                  <a:pt x="769" y="330"/>
                </a:lnTo>
                <a:lnTo>
                  <a:pt x="793" y="350"/>
                </a:lnTo>
                <a:lnTo>
                  <a:pt x="818" y="366"/>
                </a:lnTo>
                <a:lnTo>
                  <a:pt x="842" y="377"/>
                </a:lnTo>
                <a:lnTo>
                  <a:pt x="872" y="384"/>
                </a:lnTo>
                <a:lnTo>
                  <a:pt x="143" y="384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040" y="1252440"/>
            <a:ext cx="1511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8080" y="1263600"/>
            <a:ext cx="1636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ysic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6280" y="1933560"/>
            <a:ext cx="90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7080" y="27194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29600" y="3503520"/>
            <a:ext cx="91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9760" y="4316400"/>
            <a:ext cx="119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-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8280" y="5091120"/>
            <a:ext cx="62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187164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11120" y="165564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7480" y="244944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200" y="3222720"/>
            <a:ext cx="205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85200" y="4008600"/>
            <a:ext cx="336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477216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32080" y="268128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5840" y="345744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5840" y="425448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43240" y="501660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54400" y="2022120"/>
            <a:ext cx="101124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36760" y="6558120"/>
            <a:ext cx="961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37240" y="6566040"/>
            <a:ext cx="76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8240" y="6400800"/>
            <a:ext cx="17902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6040" y="1711440"/>
            <a:ext cx="7264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3680" y="2496960"/>
            <a:ext cx="6944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6040" y="3290760"/>
            <a:ext cx="417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70800" y="4102200"/>
            <a:ext cx="54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2920" y="4770360"/>
            <a:ext cx="7966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 ES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49280" y="6270480"/>
            <a:ext cx="31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3840" y="5403960"/>
            <a:ext cx="7300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3080" y="1614600"/>
            <a:ext cx="2040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vehicle or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rajectory (epheme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91640" y="2451240"/>
            <a:ext cx="165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body si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and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93440" y="3216240"/>
            <a:ext cx="2116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 field-of-view 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and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92000" y="3978360"/>
            <a:ext cx="2247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tion of space vehicl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rticulating structure 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560" y="4632480"/>
            <a:ext cx="25329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ience Plan  (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of events  (ES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perimenter’s Notebook (EN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92720" y="5386320"/>
            <a:ext cx="227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rame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91280" y="5622840"/>
            <a:ext cx="180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pseconds ta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2360" y="5911920"/>
            <a:ext cx="2110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craft clock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95960" y="6340320"/>
            <a:ext cx="2473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 libraries, some application and utility programs, software doc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27360" y="5495760"/>
            <a:ext cx="1389240" cy="615960"/>
          </a:xfrm>
          <a:custGeom>
            <a:avLst/>
            <a:gdLst/>
            <a:ahLst/>
            <a:rect l="l" t="t" r="r" b="b"/>
            <a:pathLst>
              <a:path w="875" h="388">
                <a:moveTo>
                  <a:pt x="145" y="387"/>
                </a:moveTo>
                <a:lnTo>
                  <a:pt x="120" y="381"/>
                </a:lnTo>
                <a:lnTo>
                  <a:pt x="95" y="370"/>
                </a:lnTo>
                <a:lnTo>
                  <a:pt x="45" y="329"/>
                </a:lnTo>
                <a:lnTo>
                  <a:pt x="15" y="266"/>
                </a:lnTo>
                <a:lnTo>
                  <a:pt x="0" y="191"/>
                </a:lnTo>
                <a:lnTo>
                  <a:pt x="15" y="121"/>
                </a:lnTo>
                <a:lnTo>
                  <a:pt x="45" y="58"/>
                </a:lnTo>
                <a:lnTo>
                  <a:pt x="95" y="23"/>
                </a:lnTo>
                <a:lnTo>
                  <a:pt x="120" y="6"/>
                </a:lnTo>
                <a:lnTo>
                  <a:pt x="145" y="0"/>
                </a:lnTo>
                <a:lnTo>
                  <a:pt x="874" y="0"/>
                </a:lnTo>
                <a:lnTo>
                  <a:pt x="844" y="6"/>
                </a:lnTo>
                <a:lnTo>
                  <a:pt x="819" y="23"/>
                </a:lnTo>
                <a:lnTo>
                  <a:pt x="774" y="58"/>
                </a:lnTo>
                <a:lnTo>
                  <a:pt x="744" y="121"/>
                </a:lnTo>
                <a:lnTo>
                  <a:pt x="734" y="156"/>
                </a:lnTo>
                <a:lnTo>
                  <a:pt x="729" y="191"/>
                </a:lnTo>
                <a:lnTo>
                  <a:pt x="734" y="231"/>
                </a:lnTo>
                <a:lnTo>
                  <a:pt x="744" y="266"/>
                </a:lnTo>
                <a:lnTo>
                  <a:pt x="774" y="329"/>
                </a:lnTo>
                <a:lnTo>
                  <a:pt x="819" y="370"/>
                </a:lnTo>
                <a:lnTo>
                  <a:pt x="844" y="381"/>
                </a:lnTo>
                <a:lnTo>
                  <a:pt x="874" y="387"/>
                </a:lnTo>
                <a:lnTo>
                  <a:pt x="145" y="387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41800" y="5343480"/>
            <a:ext cx="387360" cy="890640"/>
          </a:xfrm>
          <a:custGeom>
            <a:avLst/>
            <a:gdLst/>
            <a:ahLst/>
            <a:rect l="l" t="t" r="r" b="b"/>
            <a:pathLst>
              <a:path w="244" h="561">
                <a:moveTo>
                  <a:pt x="243" y="0"/>
                </a:moveTo>
                <a:lnTo>
                  <a:pt x="200" y="6"/>
                </a:lnTo>
                <a:lnTo>
                  <a:pt x="162" y="12"/>
                </a:lnTo>
                <a:lnTo>
                  <a:pt x="135" y="29"/>
                </a:lnTo>
                <a:lnTo>
                  <a:pt x="124" y="47"/>
                </a:lnTo>
                <a:lnTo>
                  <a:pt x="124" y="230"/>
                </a:lnTo>
                <a:lnTo>
                  <a:pt x="113" y="248"/>
                </a:lnTo>
                <a:lnTo>
                  <a:pt x="86" y="265"/>
                </a:lnTo>
                <a:lnTo>
                  <a:pt x="48" y="271"/>
                </a:lnTo>
                <a:lnTo>
                  <a:pt x="0" y="277"/>
                </a:lnTo>
                <a:lnTo>
                  <a:pt x="48" y="283"/>
                </a:lnTo>
                <a:lnTo>
                  <a:pt x="86" y="295"/>
                </a:lnTo>
                <a:lnTo>
                  <a:pt x="113" y="306"/>
                </a:lnTo>
                <a:lnTo>
                  <a:pt x="124" y="324"/>
                </a:lnTo>
                <a:lnTo>
                  <a:pt x="124" y="513"/>
                </a:lnTo>
                <a:lnTo>
                  <a:pt x="135" y="531"/>
                </a:lnTo>
                <a:lnTo>
                  <a:pt x="162" y="548"/>
                </a:lnTo>
                <a:lnTo>
                  <a:pt x="200" y="554"/>
                </a:lnTo>
                <a:lnTo>
                  <a:pt x="243" y="5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3120" y="5630760"/>
            <a:ext cx="1067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16240" y="1270080"/>
            <a:ext cx="9885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4156-3D2D-4D82-8355-56656402A9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10-14T16:51:39Z</cp:lastPrinted>
  <dcterms:modified xsi:type="dcterms:W3CDTF">2007-10-14T16:55:23Z</dcterms:modified>
  <cp:revision>217</cp:revision>
  <dc:subject/>
  <dc:title>An Overview of SPICE  </dc:title>
</cp:coreProperties>
</file>