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52360" y="698400"/>
            <a:ext cx="455328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8296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8296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B2384-F6FE-4B91-8D3A-E28420381E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01A07-582B-4C54-8D8E-688388DBE0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30856-E6FE-48E6-887C-8018400EE8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B57C4-2B05-425B-92ED-E24098EF87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616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79F90-D2EE-4E25-AD1D-88E6671485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57A1B-2A9F-4F6E-A6F0-4C08F8462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5E341-A9C4-4D3B-853F-E0DEED93B7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4D9D2-6CCD-4C28-B48A-2E66F62B79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616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61BF8-DE44-48C1-A73F-7836AFB9FD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4B77C-155C-42A3-8FF8-C030002C5D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DCB2C-2F19-40C8-B3D6-EA4A55EAC1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AE1C2-9F8F-4D44-B4E4-9EC53B6CD4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575E-66BD-4765-9A1F-5F64979180E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66960" y="2364840"/>
            <a:ext cx="7238880" cy="52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Motivation for Developing SPICE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1980720"/>
            <a:ext cx="7772400" cy="388008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24840" bIns="24840" anchor="t">
            <a:normAutofit/>
          </a:bodyPr>
          <a:p>
            <a:pPr marL="228600" indent="-228600">
              <a:lnSpc>
                <a:spcPct val="107000"/>
              </a:lnSpc>
              <a:spcBef>
                <a:spcPts val="28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tists said they would like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107000"/>
              </a:lnSpc>
              <a:spcBef>
                <a:spcPts val="214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common tools and methods throughout a project’s lifecycle, and for all proje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107000"/>
              </a:lnSpc>
              <a:spcBef>
                <a:spcPts val="214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stand the calculations and transformations used to produce observation geometry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107000"/>
              </a:lnSpc>
              <a:spcBef>
                <a:spcPts val="214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 the ability to revise the fundamental data and software tools used to produce their own observation geometry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107000"/>
              </a:lnSpc>
              <a:spcBef>
                <a:spcPts val="214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able to produce geometry calculations themselves, whenever and however they w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589120" y="380520"/>
            <a:ext cx="55231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Why Did NAIF Build SPICE?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tivation for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94A2E-5FC0-4137-B01D-61E41E05511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8920" y="1523880"/>
            <a:ext cx="1206360" cy="838440"/>
          </a:xfrm>
          <a:prstGeom prst="flowChartMagneticDisk">
            <a:avLst/>
          </a:prstGeom>
          <a:solidFill>
            <a:srgbClr val="7db8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5040" y="1819440"/>
            <a:ext cx="11606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j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280" y="2521080"/>
            <a:ext cx="1252800" cy="1145880"/>
          </a:xfrm>
          <a:prstGeom prst="flowChartMagneticDisk">
            <a:avLst/>
          </a:prstGeom>
          <a:solidFill>
            <a:srgbClr val="7db8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1160" y="2876400"/>
            <a:ext cx="1259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/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360" y="3833640"/>
            <a:ext cx="1252800" cy="1146240"/>
          </a:xfrm>
          <a:prstGeom prst="flowChartMagneticDisk">
            <a:avLst/>
          </a:prstGeom>
          <a:solidFill>
            <a:srgbClr val="7db8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1720" y="4189320"/>
            <a:ext cx="12855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1760" y="5226120"/>
            <a:ext cx="1219320" cy="685800"/>
          </a:xfrm>
          <a:prstGeom prst="flowChartPunchedCard">
            <a:avLst/>
          </a:prstGeom>
          <a:solidFill>
            <a:srgbClr val="7db8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5299200"/>
            <a:ext cx="14558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3048120"/>
            <a:ext cx="1295280" cy="2514600"/>
          </a:xfrm>
          <a:prstGeom prst="flowChartProcess">
            <a:avLst/>
          </a:prstGeom>
          <a:solidFill>
            <a:srgbClr val="f5fe4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828800" y="3200400"/>
            <a:ext cx="1447920" cy="1066680"/>
            <a:chOff x="1828800" y="3200400"/>
            <a:chExt cx="1447920" cy="1066680"/>
          </a:xfrm>
        </p:grpSpPr>
        <p:sp>
          <p:nvSpPr>
            <p:cNvPr id="129" name=""/>
            <p:cNvSpPr/>
            <p:nvPr/>
          </p:nvSpPr>
          <p:spPr>
            <a:xfrm>
              <a:off x="1828800" y="3200400"/>
              <a:ext cx="1447920" cy="1066680"/>
            </a:xfrm>
            <a:prstGeom prst="flowChartProcess">
              <a:avLst/>
            </a:prstGeom>
            <a:solidFill>
              <a:srgbClr val="7db8e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55440" y="3505320"/>
              <a:ext cx="1387800" cy="587160"/>
            </a:xfrm>
            <a:prstGeom prst="rect">
              <a:avLst/>
            </a:prstGeom>
            <a:solidFill>
              <a:srgbClr val="7db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962520" y="3429000"/>
            <a:ext cx="838080" cy="838080"/>
          </a:xfrm>
          <a:prstGeom prst="flowChartMagneticTape">
            <a:avLst/>
          </a:prstGeom>
          <a:solidFill>
            <a:srgbClr val="7db8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12200" y="3654360"/>
            <a:ext cx="814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962520" y="4419720"/>
            <a:ext cx="838080" cy="838080"/>
            <a:chOff x="3962520" y="4419720"/>
            <a:chExt cx="838080" cy="838080"/>
          </a:xfrm>
        </p:grpSpPr>
        <p:sp>
          <p:nvSpPr>
            <p:cNvPr id="134" name=""/>
            <p:cNvSpPr/>
            <p:nvPr/>
          </p:nvSpPr>
          <p:spPr>
            <a:xfrm>
              <a:off x="3962520" y="4419720"/>
              <a:ext cx="838080" cy="838080"/>
            </a:xfrm>
            <a:prstGeom prst="flowChartMagneticTap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66200" y="4662360"/>
              <a:ext cx="662400" cy="340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334120" y="4460760"/>
            <a:ext cx="838080" cy="838080"/>
            <a:chOff x="5334120" y="4460760"/>
            <a:chExt cx="838080" cy="838080"/>
          </a:xfrm>
        </p:grpSpPr>
        <p:sp>
          <p:nvSpPr>
            <p:cNvPr id="137" name=""/>
            <p:cNvSpPr/>
            <p:nvPr/>
          </p:nvSpPr>
          <p:spPr>
            <a:xfrm>
              <a:off x="5334120" y="4460760"/>
              <a:ext cx="838080" cy="838080"/>
            </a:xfrm>
            <a:prstGeom prst="flowChartMagneticTap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37800" y="4703400"/>
              <a:ext cx="662400" cy="340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5313240" y="3456000"/>
            <a:ext cx="838440" cy="838080"/>
          </a:xfrm>
          <a:prstGeom prst="flowChartMagneticTape">
            <a:avLst/>
          </a:prstGeom>
          <a:solidFill>
            <a:srgbClr val="f5fe4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63280" y="3681360"/>
            <a:ext cx="814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181000" y="3962520"/>
            <a:ext cx="10432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31200" y="3657600"/>
            <a:ext cx="132372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entist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5562720"/>
            <a:ext cx="1447920" cy="1066680"/>
          </a:xfrm>
          <a:prstGeom prst="flowChartProcess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81000" y="5842080"/>
            <a:ext cx="13878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095880"/>
            <a:ext cx="152388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le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514600" y="48765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48769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11560" y="1752480"/>
            <a:ext cx="0" cy="45720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3886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32004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371600" y="39625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1981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98800" y="1981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5334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057400" y="43434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38098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38098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97544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50080" y="1216080"/>
            <a:ext cx="6919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DR - Supplemental Experiment Data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08800" y="1749600"/>
            <a:ext cx="73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J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30080" y="1749600"/>
            <a:ext cx="3267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cientist’s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23680" y="6531120"/>
            <a:ext cx="3345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R = Experiment Data Rec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83920" y="380520"/>
            <a:ext cx="59310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What Existed Prior to SPICE ?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6248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tivation for SP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29885-20BA-4274-AE72-CC25297481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52280" y="164772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DR Generation program was built and operated at JP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entist’s requirements on SEDR had to be provided long before laun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e or post-launch updates were hard/expensive to accommod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fficult to change WHAT gets comput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fficult to change HOW items are computed (algorithms, parameter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fficult to change TIMEs at which items get comput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ly only one SEDR file produced for each period of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:  the scientist can’t get better ancillary data if/when better inputs (e.g. spacecraft trajectory or orientation) are determin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DR generation was done “in the blind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ors were not familiar with processes used to make the inpu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ors were not familiar with scientist’s processing sche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:  SEDR may not optimally meet science team’s expect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2417760" y="380520"/>
            <a:ext cx="5864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EDR System Characteristic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tivation for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65518-5E4C-4695-8101-BFF1702B48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376880" y="1447920"/>
            <a:ext cx="0" cy="45720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1981080"/>
            <a:ext cx="1447920" cy="2743200"/>
          </a:xfrm>
          <a:prstGeom prst="flowChartMagneticDisk">
            <a:avLst/>
          </a:prstGeom>
          <a:solidFill>
            <a:srgbClr val="7db8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2687760"/>
            <a:ext cx="2666880" cy="1778040"/>
          </a:xfrm>
          <a:prstGeom prst="rect">
            <a:avLst/>
          </a:prstGeom>
          <a:solidFill>
            <a:srgbClr val="fdf55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11680" y="3048120"/>
            <a:ext cx="115560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6440" y="3200400"/>
            <a:ext cx="11196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18400" y="3297240"/>
            <a:ext cx="1323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entist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16880" y="2103480"/>
            <a:ext cx="217260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ientist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6560" y="3112920"/>
            <a:ext cx="12870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35812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96080" y="3048120"/>
            <a:ext cx="161316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ward-winning Sc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1520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8120" y="1353960"/>
            <a:ext cx="2840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perations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6680" y="1363680"/>
            <a:ext cx="3753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cientist’s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359160" y="380520"/>
            <a:ext cx="31082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he SPICE Idea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276720" y="5334120"/>
            <a:ext cx="838080" cy="838080"/>
            <a:chOff x="3276720" y="5334120"/>
            <a:chExt cx="838080" cy="838080"/>
          </a:xfrm>
        </p:grpSpPr>
        <p:sp>
          <p:nvSpPr>
            <p:cNvPr id="184" name=""/>
            <p:cNvSpPr/>
            <p:nvPr/>
          </p:nvSpPr>
          <p:spPr>
            <a:xfrm>
              <a:off x="3276720" y="5334120"/>
              <a:ext cx="838080" cy="838080"/>
            </a:xfrm>
            <a:prstGeom prst="flowChartMagneticTap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80400" y="5576760"/>
              <a:ext cx="662400" cy="340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648320" y="5375160"/>
            <a:ext cx="838080" cy="838080"/>
            <a:chOff x="4648320" y="5375160"/>
            <a:chExt cx="838080" cy="838080"/>
          </a:xfrm>
        </p:grpSpPr>
        <p:sp>
          <p:nvSpPr>
            <p:cNvPr id="187" name=""/>
            <p:cNvSpPr/>
            <p:nvPr/>
          </p:nvSpPr>
          <p:spPr>
            <a:xfrm>
              <a:off x="4648320" y="5375160"/>
              <a:ext cx="838080" cy="838080"/>
            </a:xfrm>
            <a:prstGeom prst="flowChartMagneticTap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52000" y="5617800"/>
              <a:ext cx="662400" cy="3405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44440" y="5238720"/>
            <a:ext cx="1447920" cy="1066680"/>
            <a:chOff x="244440" y="5238720"/>
            <a:chExt cx="1447920" cy="1066680"/>
          </a:xfrm>
        </p:grpSpPr>
        <p:sp>
          <p:nvSpPr>
            <p:cNvPr id="190" name=""/>
            <p:cNvSpPr/>
            <p:nvPr/>
          </p:nvSpPr>
          <p:spPr>
            <a:xfrm>
              <a:off x="244440" y="5238720"/>
              <a:ext cx="1447920" cy="1066680"/>
            </a:xfrm>
            <a:prstGeom prst="flowChartProcess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1080" y="5543280"/>
              <a:ext cx="13878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DR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752480" y="57913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91120" y="57913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029200" y="4647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62120" y="6505560"/>
            <a:ext cx="5817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EDR = Experiment Data Record = raw science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67040" y="3691080"/>
            <a:ext cx="75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l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82560" y="4648320"/>
            <a:ext cx="7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38280" y="2057400"/>
            <a:ext cx="1371600" cy="838080"/>
          </a:xfrm>
          <a:prstGeom prst="rect">
            <a:avLst/>
          </a:prstGeom>
          <a:solidFill>
            <a:srgbClr val="7db8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k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2514600"/>
            <a:ext cx="106704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tivation for SP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1DDEF-160A-482F-AE2E-BD3B4955C9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09120" y="167616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ustomer has great flexibility in decid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observation geometry parameters are comp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what times or frequency these parameters are comp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what time span these parameters are comp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ing if/when to re-do parameter computations using new (better) or otherwise different kernels or other data as inpu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ustomer also ha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tools and methods that can be reused on many tas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 visibility into algorithms and data used in geometry calcul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light project operations center ca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ntrate on producing better kernel data, rather than on producing lots of SEDRs and frequently updating the SEDR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2859120" y="380520"/>
            <a:ext cx="49845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PICE Benefits vs. SEDR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tivation for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A6D64-F021-4249-8A75-E4B4ACB854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99920" y="380520"/>
            <a:ext cx="55040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PICE Detriments vs. SEDR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91920" y="1676520"/>
            <a:ext cx="7918200" cy="442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use SPICE you must do some programm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ustomer must make the time to learn enough about SPICE to find and use the components needed for whatever job is at h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CE is rather “big,” so finding one’s way through it may appear daun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some areas of SPICE the offering of choices to allow correct handling of different situations may present complexity that is unwarranted for a particular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tivation for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3D185-31D5-4B92-BCBE-74D0E80F1F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1T04:16:29Z</dcterms:created>
  <dc:creator>Charles Acton</dc:creator>
  <dc:description/>
  <dc:language>en-US</dc:language>
  <cp:lastModifiedBy>Charles Acton</cp:lastModifiedBy>
  <dcterms:modified xsi:type="dcterms:W3CDTF">2007-10-12T23:45:36Z</dcterms:modified>
  <cp:revision>34</cp:revision>
  <dc:subject/>
  <dc:title>Motivation for Developing SPICE</dc:title>
</cp:coreProperties>
</file>