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172D-5E90-4C30-BF74-928982B78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10CA-20C0-4475-B5DE-C356E3312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00E3-58D8-4E0C-A249-2A5B44F98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11E7-93E1-4C32-9D42-1FB49A657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26C2-0DEB-4001-8E8F-6B09148C0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CDA3-B1F7-43F8-B0C7-40A71560F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C44D-BA3F-46C6-B2E6-1371F6301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85BF-CE73-4F5D-BB7B-50AE17A80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A860-51C2-4EDF-90B3-84CC89907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B72B-0C1A-4EA3-9619-72FE0D8BD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8AF9-EA8F-4DA0-A6CD-2F1C496DC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1512-014B-417E-9462-80E1AED22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298ED5-CFF2-4C48-B892-1F816B2BA6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92280" y="2285640"/>
            <a:ext cx="41911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ading FKs and IK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040" y="380520"/>
            <a:ext cx="36954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e The Real Stuff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may be useful for the student to examine a few existing Frames Kernels and Instrument Kernels to get a better understanding of the FK and IK tutorial informatio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suggests you use your browser to examine some of the following “real life” kerne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si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CASSINI/kernels/fk/cas_v39.txt (or whatever is the latest version availabl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CASSINI/kernels/ik/&lt;any IK na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 Expre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MEX/kernels/fk/MEX_V08.TF (or whatever is the latest version availabl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MEX/kernels/ik/&lt;any IK na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ading FKs and I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B136-2D2F-420F-AFD5-8B210CA29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03:46:47Z</dcterms:created>
  <dc:creator>Chuck Acton</dc:creator>
  <dc:description/>
  <dc:language>en-US</dc:language>
  <cp:lastModifiedBy>Charles Acton</cp:lastModifiedBy>
  <cp:lastPrinted>2003-10-05T22:15:22Z</cp:lastPrinted>
  <dcterms:modified xsi:type="dcterms:W3CDTF">2007-10-12T23:35:26Z</dcterms:modified>
  <cp:revision>63</cp:revision>
  <dc:subject/>
  <dc:title>Primary Kernel Interfaces</dc:title>
</cp:coreProperties>
</file>