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6264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92E4-C08C-4CB2-8E8C-F3AEFC96B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8780-77FE-49D8-9C46-FE9F0AFFF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5FF7-72EC-45E9-805B-AB22BED8C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BC74-CA43-4923-B2F6-DA655878A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FA79-79B2-45A4-8ABA-24B644384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6E6C-BA22-4839-8EDB-AEFD1F608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6C88-9B1C-4FE8-9646-F1D8BAC06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94E3-BBCE-4D3C-B4FD-2731543EF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773B-D6E0-4647-803C-E60196179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E674-54A1-447F-940D-51BC2BDEE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47BF-ED4A-47A6-8080-4669E06EE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D234-C259-49DC-A065-90DD0591D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9EDA-253A-46AE-BBED-F67FFC086B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6680" y="2384280"/>
            <a:ext cx="6402600" cy="1324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etadata” In SPICE Kernels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Also known as “comments”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992480"/>
            <a:ext cx="6400800" cy="5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320480"/>
            <a:ext cx="807732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are information that describe the context of kernel data, i.e. “data about data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you don’t write it down, it didn’t happe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metadat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descri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ile contains representations of the trajectories for bodies X, Y and Z over the interval from launch to landing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accura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pedigr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and by whom was the kernel crea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program(s) and/or steps used in cre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 information for user’s ques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num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ources used as inputs when creating the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nded kernel us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on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PICE, we normally refer to metadata as “kernel comment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367080" y="380520"/>
            <a:ext cx="3965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are Metadata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6FBE-5A67-4B6B-AEBF-B5F8D97A70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9185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Kernels contain a “comment” a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ment is tex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may be placed in binary kernels or read or extracted from binary kernels using the SPICE utility progra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Kernels have comments interleaved with the dat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in text kernels can be read using any editor, or UNIX’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034720" y="380520"/>
            <a:ext cx="6946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ere are SPICE Metadata Stor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89DB-A42A-462D-B70A-CD14B80026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09480" y="1600200"/>
            <a:ext cx="7848720" cy="4343040"/>
            <a:chOff x="609480" y="1600200"/>
            <a:chExt cx="7848720" cy="4343040"/>
          </a:xfrm>
        </p:grpSpPr>
        <p:grpSp>
          <p:nvGrpSpPr>
            <p:cNvPr id="122" name=""/>
            <p:cNvGrpSpPr/>
            <p:nvPr/>
          </p:nvGrpSpPr>
          <p:grpSpPr>
            <a:xfrm>
              <a:off x="609480" y="1600200"/>
              <a:ext cx="7848720" cy="4343040"/>
              <a:chOff x="609480" y="1600200"/>
              <a:chExt cx="7848720" cy="43430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609480" y="1600200"/>
                <a:ext cx="7848720" cy="4343040"/>
                <a:chOff x="609480" y="1600200"/>
                <a:chExt cx="7848720" cy="434304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609480" y="1600200"/>
                  <a:ext cx="7848720" cy="4343040"/>
                  <a:chOff x="609480" y="1600200"/>
                  <a:chExt cx="7848720" cy="43430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609480" y="1865160"/>
                    <a:ext cx="7848720" cy="407664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65160" y="1768320"/>
                    <a:ext cx="7493040" cy="41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09480" y="1600200"/>
                    <a:ext cx="7848720" cy="264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09480" y="5870160"/>
                    <a:ext cx="7848720" cy="7308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65160" y="5868720"/>
                    <a:ext cx="7169040" cy="74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38280" y="1626120"/>
                    <a:ext cx="7788240" cy="21060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>
                  <a:off x="3750480" y="162180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31800" y="3305160"/>
                <a:ext cx="274680" cy="1945080"/>
                <a:chOff x="631800" y="3305160"/>
                <a:chExt cx="274680" cy="194508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631800" y="3305160"/>
                  <a:ext cx="274680" cy="1945080"/>
                  <a:chOff x="631800" y="3305160"/>
                  <a:chExt cx="274680" cy="19450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644400" y="3310560"/>
                    <a:ext cx="262080" cy="192780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31800" y="3305160"/>
                    <a:ext cx="274680" cy="1945080"/>
                    <a:chOff x="631800" y="3305160"/>
                    <a:chExt cx="274680" cy="194508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31800" y="3305160"/>
                      <a:ext cx="0" cy="19407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33600" y="5250240"/>
                      <a:ext cx="2728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63560" y="4255560"/>
                  <a:ext cx="42840" cy="40680"/>
                  <a:chOff x="763560" y="4255560"/>
                  <a:chExt cx="42840" cy="406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763560" y="4255560"/>
                    <a:ext cx="42840" cy="40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65360" y="4256640"/>
                    <a:ext cx="26640" cy="28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" name=""/>
              <p:cNvGrpSpPr/>
              <p:nvPr/>
            </p:nvGrpSpPr>
            <p:grpSpPr>
              <a:xfrm>
                <a:off x="631800" y="5284080"/>
                <a:ext cx="276120" cy="544680"/>
                <a:chOff x="631800" y="5284080"/>
                <a:chExt cx="276120" cy="54468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631800" y="5575680"/>
                  <a:ext cx="276120" cy="253080"/>
                  <a:chOff x="631800" y="5575680"/>
                  <a:chExt cx="276120" cy="2530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644400" y="5578560"/>
                    <a:ext cx="262080" cy="2379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631800" y="5575680"/>
                    <a:ext cx="276120" cy="253080"/>
                    <a:chOff x="631800" y="5575680"/>
                    <a:chExt cx="276120" cy="2530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31800" y="5575680"/>
                      <a:ext cx="0" cy="24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35040" y="5828760"/>
                      <a:ext cx="2728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31800" y="5284080"/>
                  <a:ext cx="276120" cy="253080"/>
                  <a:chOff x="631800" y="5284080"/>
                  <a:chExt cx="276120" cy="2530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644400" y="5288400"/>
                    <a:ext cx="262080" cy="236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31800" y="5284080"/>
                    <a:ext cx="276120" cy="253080"/>
                    <a:chOff x="631800" y="5284080"/>
                    <a:chExt cx="276120" cy="25308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31800" y="5284080"/>
                      <a:ext cx="0" cy="2473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35040" y="5537160"/>
                      <a:ext cx="2728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2" name=""/>
                <p:cNvSpPr/>
                <p:nvPr/>
              </p:nvSpPr>
              <p:spPr>
                <a:xfrm>
                  <a:off x="731880" y="5641200"/>
                  <a:ext cx="108000" cy="115920"/>
                </a:xfrm>
                <a:custGeom>
                  <a:avLst/>
                  <a:gdLst/>
                  <a:ahLst/>
                  <a:rect l="l" t="t" r="r" b="b"/>
                  <a:pathLst>
                    <a:path w="68" h="79">
                      <a:moveTo>
                        <a:pt x="32" y="0"/>
                      </a:moveTo>
                      <a:lnTo>
                        <a:pt x="0" y="78"/>
                      </a:lnTo>
                      <a:lnTo>
                        <a:pt x="67" y="78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0440" y="5349960"/>
                  <a:ext cx="107640" cy="117000"/>
                </a:xfrm>
                <a:custGeom>
                  <a:avLst/>
                  <a:gdLst/>
                  <a:ahLst/>
                  <a:rect l="l" t="t" r="r" b="b"/>
                  <a:pathLst>
                    <a:path w="68" h="80">
                      <a:moveTo>
                        <a:pt x="32" y="79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32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58800" y="1642680"/>
                <a:ext cx="176400" cy="160560"/>
                <a:chOff x="658800" y="1642680"/>
                <a:chExt cx="176400" cy="1605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65280" y="1642680"/>
                  <a:ext cx="169920" cy="15480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"/>
                <p:cNvGrpSpPr/>
                <p:nvPr/>
              </p:nvGrpSpPr>
              <p:grpSpPr>
                <a:xfrm>
                  <a:off x="658800" y="1645560"/>
                  <a:ext cx="173160" cy="157680"/>
                  <a:chOff x="658800" y="1645560"/>
                  <a:chExt cx="173160" cy="1576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658800" y="1645560"/>
                    <a:ext cx="0" cy="153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63480" y="1803240"/>
                    <a:ext cx="1684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03440" y="1677600"/>
                  <a:ext cx="93600" cy="90360"/>
                  <a:chOff x="703440" y="1677600"/>
                  <a:chExt cx="93600" cy="90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3440" y="1677600"/>
                    <a:ext cx="93600" cy="90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03440" y="1677600"/>
                    <a:ext cx="93600" cy="16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8210520" y="1649880"/>
                <a:ext cx="177840" cy="158760"/>
                <a:chOff x="8210520" y="1649880"/>
                <a:chExt cx="177840" cy="15876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8210520" y="1649880"/>
                  <a:ext cx="177840" cy="158760"/>
                  <a:chOff x="8210520" y="1649880"/>
                  <a:chExt cx="177840" cy="1587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8217000" y="1649880"/>
                    <a:ext cx="171360" cy="154800"/>
                  </a:xfrm>
                  <a:prstGeom prst="rect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8210520" y="1650960"/>
                    <a:ext cx="177840" cy="157680"/>
                    <a:chOff x="8210520" y="1650960"/>
                    <a:chExt cx="177840" cy="15768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8210520" y="1650960"/>
                      <a:ext cx="0" cy="153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218440" y="1808640"/>
                      <a:ext cx="1699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8240760" y="1657800"/>
                  <a:ext cx="125280" cy="138600"/>
                  <a:chOff x="8240760" y="1657800"/>
                  <a:chExt cx="125280" cy="1386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8240760" y="1670040"/>
                    <a:ext cx="125280" cy="114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8240760" y="1657800"/>
                    <a:ext cx="125280" cy="13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1" name=""/>
            <p:cNvSpPr/>
            <p:nvPr/>
          </p:nvSpPr>
          <p:spPr>
            <a:xfrm>
              <a:off x="946440" y="1896120"/>
              <a:ext cx="6582240" cy="35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prompt&gt; 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comm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Welcome to COMMNT Version: 6.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SPICE Toolkit N005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COMMNT 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 Q ) Qui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 A ) Add comments to a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3de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63de8"/>
                  </a:solidFill>
                  <a:latin typeface="Courier New"/>
                </a:rPr>
                <a:t>( R ) Read the comments in a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 E ) Extract the comments from a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 D ) Delete the comments in a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Option: 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ter the name of the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ilename?</a:t>
              </a:r>
              <a:r>
                <a:rPr b="0" lang="en-US" sz="1400" spc="-1" strike="noStrike">
                  <a:solidFill>
                    <a:srgbClr val="fc0128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/home/mydirectory/myproject/kernels/spk/de403s.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55880" y="380520"/>
            <a:ext cx="6788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sing COMMNT on Binary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2320" y="6172200"/>
            <a:ext cx="835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name must include any required path and be less than 257 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5440" y="121932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shows reading the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E60A-6E5C-4E07-8C90-80DE439DE4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54120" y="1447920"/>
            <a:ext cx="7848360" cy="4706280"/>
            <a:chOff x="654120" y="1447920"/>
            <a:chExt cx="7848360" cy="4706280"/>
          </a:xfrm>
        </p:grpSpPr>
        <p:grpSp>
          <p:nvGrpSpPr>
            <p:cNvPr id="176" name=""/>
            <p:cNvGrpSpPr/>
            <p:nvPr/>
          </p:nvGrpSpPr>
          <p:grpSpPr>
            <a:xfrm>
              <a:off x="654120" y="1447920"/>
              <a:ext cx="7848360" cy="4706280"/>
              <a:chOff x="654120" y="1447920"/>
              <a:chExt cx="7848360" cy="4706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54120" y="1447920"/>
                <a:ext cx="7848360" cy="4706280"/>
                <a:chOff x="654120" y="1447920"/>
                <a:chExt cx="7848360" cy="4706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54120" y="1734840"/>
                  <a:ext cx="7848360" cy="4417560"/>
                </a:xfrm>
                <a:prstGeom prst="rect">
                  <a:avLst/>
                </a:prstGeom>
                <a:solidFill>
                  <a:srgbClr val="6f6f6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009440" y="1630080"/>
                  <a:ext cx="7492680" cy="4524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54120" y="1447920"/>
                  <a:ext cx="7848360" cy="286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54120" y="6075000"/>
                  <a:ext cx="7848360" cy="79200"/>
                </a:xfrm>
                <a:prstGeom prst="rect">
                  <a:avLst/>
                </a:prstGeom>
                <a:solidFill>
                  <a:srgbClr val="ababa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009440" y="6073560"/>
                  <a:ext cx="7168680" cy="80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82560" y="1476000"/>
                  <a:ext cx="7787880" cy="2282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794400" y="1471320"/>
                <a:ext cx="15559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rminal Wind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76080" y="3295440"/>
              <a:ext cx="273960" cy="2107800"/>
              <a:chOff x="676080" y="3295440"/>
              <a:chExt cx="273960" cy="2107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76080" y="3295440"/>
                <a:ext cx="273960" cy="2107800"/>
                <a:chOff x="676080" y="3295440"/>
                <a:chExt cx="273960" cy="2107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88320" y="3301200"/>
                  <a:ext cx="261720" cy="208908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76080" y="3295440"/>
                  <a:ext cx="273960" cy="2107800"/>
                  <a:chOff x="676080" y="3295440"/>
                  <a:chExt cx="273960" cy="2107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76080" y="3295440"/>
                    <a:ext cx="0" cy="21031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77520" y="5403240"/>
                    <a:ext cx="272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807480" y="4325400"/>
                <a:ext cx="42480" cy="43920"/>
                <a:chOff x="807480" y="4325400"/>
                <a:chExt cx="42480" cy="43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807480" y="4325400"/>
                  <a:ext cx="42480" cy="43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8920" y="4326480"/>
                  <a:ext cx="26280" cy="31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" name=""/>
            <p:cNvGrpSpPr/>
            <p:nvPr/>
          </p:nvGrpSpPr>
          <p:grpSpPr>
            <a:xfrm>
              <a:off x="676080" y="5439960"/>
              <a:ext cx="275400" cy="590040"/>
              <a:chOff x="676080" y="5439960"/>
              <a:chExt cx="275400" cy="59004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676080" y="5755680"/>
                <a:ext cx="275400" cy="274320"/>
                <a:chOff x="676080" y="5755680"/>
                <a:chExt cx="275400" cy="274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88320" y="5758560"/>
                  <a:ext cx="261720" cy="25812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676080" y="5755680"/>
                  <a:ext cx="275400" cy="274320"/>
                  <a:chOff x="676080" y="5755680"/>
                  <a:chExt cx="275400" cy="274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6080" y="5755680"/>
                    <a:ext cx="0" cy="269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78960" y="6030000"/>
                    <a:ext cx="272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676080" y="5439960"/>
                <a:ext cx="275400" cy="274320"/>
                <a:chOff x="676080" y="5439960"/>
                <a:chExt cx="275400" cy="2743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88320" y="5444640"/>
                  <a:ext cx="261720" cy="25668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676080" y="5439960"/>
                  <a:ext cx="275400" cy="274320"/>
                  <a:chOff x="676080" y="5439960"/>
                  <a:chExt cx="275400" cy="2743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76080" y="5439960"/>
                    <a:ext cx="0" cy="268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78960" y="5714280"/>
                    <a:ext cx="272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" name=""/>
              <p:cNvSpPr/>
              <p:nvPr/>
            </p:nvSpPr>
            <p:spPr>
              <a:xfrm>
                <a:off x="775800" y="5826960"/>
                <a:ext cx="107640" cy="125280"/>
              </a:xfrm>
              <a:custGeom>
                <a:avLst/>
                <a:gdLst/>
                <a:ahLst/>
                <a:rect l="l" t="t" r="r" b="b"/>
                <a:pathLst>
                  <a:path w="68" h="79">
                    <a:moveTo>
                      <a:pt x="32" y="0"/>
                    </a:moveTo>
                    <a:lnTo>
                      <a:pt x="0" y="78"/>
                    </a:lnTo>
                    <a:lnTo>
                      <a:pt x="67" y="7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4360" y="5511240"/>
                <a:ext cx="107280" cy="12672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32" y="79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32" y="7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03080" y="1493640"/>
              <a:ext cx="175680" cy="173880"/>
              <a:chOff x="703080" y="1493640"/>
              <a:chExt cx="175680" cy="173880"/>
            </a:xfrm>
          </p:grpSpPr>
          <p:sp>
            <p:nvSpPr>
              <p:cNvPr id="208" name=""/>
              <p:cNvSpPr/>
              <p:nvPr/>
            </p:nvSpPr>
            <p:spPr>
              <a:xfrm>
                <a:off x="709200" y="1493640"/>
                <a:ext cx="169560" cy="167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03080" y="1496520"/>
                <a:ext cx="172440" cy="171000"/>
                <a:chOff x="703080" y="1496520"/>
                <a:chExt cx="172440" cy="171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03080" y="1496520"/>
                  <a:ext cx="0" cy="16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07400" y="1667520"/>
                  <a:ext cx="168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747360" y="1531440"/>
                <a:ext cx="93240" cy="97920"/>
                <a:chOff x="747360" y="1531440"/>
                <a:chExt cx="93240" cy="979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747360" y="1531440"/>
                  <a:ext cx="93240" cy="9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360" y="1531440"/>
                  <a:ext cx="93240" cy="183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" name=""/>
            <p:cNvGrpSpPr/>
            <p:nvPr/>
          </p:nvGrpSpPr>
          <p:grpSpPr>
            <a:xfrm>
              <a:off x="8254800" y="1501560"/>
              <a:ext cx="177120" cy="172080"/>
              <a:chOff x="8254800" y="1501560"/>
              <a:chExt cx="177120" cy="1720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8254800" y="1501560"/>
                <a:ext cx="177120" cy="172080"/>
                <a:chOff x="8254800" y="1501560"/>
                <a:chExt cx="177120" cy="1720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8260920" y="1501560"/>
                  <a:ext cx="171000" cy="167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8254800" y="1502640"/>
                  <a:ext cx="177120" cy="171000"/>
                  <a:chOff x="8254800" y="1502640"/>
                  <a:chExt cx="177120" cy="1710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8254800" y="1502640"/>
                    <a:ext cx="0" cy="1663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8262360" y="1673640"/>
                    <a:ext cx="169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8284680" y="1510560"/>
                <a:ext cx="124920" cy="150480"/>
                <a:chOff x="8284680" y="1510560"/>
                <a:chExt cx="124920" cy="1504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284680" y="1523160"/>
                  <a:ext cx="124920" cy="12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8284680" y="1510560"/>
                  <a:ext cx="12492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" name=""/>
            <p:cNvSpPr/>
            <p:nvPr/>
          </p:nvSpPr>
          <p:spPr>
            <a:xfrm>
              <a:off x="962280" y="1717560"/>
              <a:ext cx="7008840" cy="41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ompt&gt;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more leapseconds.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\begi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LEAPSECONDS KERNEL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==============================================================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Modification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1998, Jun 17  WLT  Modified file to account for the leapsec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   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that will occur on December 31, 1998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1997, Feb 22  WLT  Modified file to account for the leapsec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   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that will occur on June 30, 199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1995, Dec 14  KSZ  Corrected date of last leapsecond from 1-1-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   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to 1-1-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etc…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--More--(19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3440" y="5749560"/>
              <a:ext cx="1450800" cy="272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56960" y="5751360"/>
              <a:ext cx="1461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-More--(19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49640" y="380520"/>
            <a:ext cx="620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ext Kernel Comm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BC0C-AAD5-4BBD-87F7-4038973C30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Ker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 comment information at the time of kernel creation, using SPICE modules (subroutin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capability not yet available in Icy or M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tility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s comments provided in an external text f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Ker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a text edi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 comment sections with the “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 marker alone on a l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both binary and text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 line length limit is 255 characters. However, NAIF recommends using no more than 80 characters per line as this makes your comments far more readable!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nly printing characters (ASCII 32 - 126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ipulating binary kernel comments requires the kernel be in the native binary format for the machine being us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ext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 to “Kernel Required Reading”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ernel.req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for detai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050640" y="380520"/>
            <a:ext cx="4597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to Add Comm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12FF-50D1-4ECC-9E20-449825C70815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dcterms:modified xsi:type="dcterms:W3CDTF">2007-10-12T23:29:19Z</dcterms:modified>
  <cp:revision>60</cp:revision>
  <dc:subject/>
  <dc:title>Metadata In SPICE Kernels</dc:title>
</cp:coreProperties>
</file>