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454BC-E53E-4A9A-A039-2BBC0E612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BC95A-4D70-4021-ACB9-9DC2CC5761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F4372-737A-47FD-8341-32CC7EFF6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4465-2C36-44A2-AB1F-D6649B8060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5B7504-A361-4B0E-94AD-ED4142A488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63E84-C2E0-4FDE-A4D9-C8EBC8789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9619C-5314-40A9-A0A1-A355C5D88A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98B02-ABC3-4D31-BC33-9AD57BA40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41A28-0B98-40B5-9759-A305AE3F2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58DC8-71CA-46CF-9618-7E4752C4D5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A490-ED0A-4EB8-8E74-3C3EC996E9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527A-92FF-4E6D-A4E8-4E52C158E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AE63-0813-4A43-86A0-A2D8CE864D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99B3-BF86-48DD-9451-D06ACA6F7252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8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08200" y="228564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-228240" y="182520"/>
            <a:ext cx="2230200" cy="897120"/>
            <a:chOff x="-228240" y="182520"/>
            <a:chExt cx="2230200" cy="897120"/>
          </a:xfrm>
        </p:grpSpPr>
        <p:sp>
          <p:nvSpPr>
            <p:cNvPr id="62" name=""/>
            <p:cNvSpPr/>
            <p:nvPr/>
          </p:nvSpPr>
          <p:spPr>
            <a:xfrm flipH="1">
              <a:off x="1008000" y="326880"/>
              <a:ext cx="125280" cy="123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684" y="19702"/>
                  </a:moveTo>
                  <a:arcTo wR="10800" hR="10800" stAng="7469441" swAng="17318365"/>
                  <a:lnTo>
                    <a:pt x="10800" y="10800"/>
                  </a:lnTo>
                  <a:close/>
                </a:path>
                <a:path fill="none" w="21600" h="21600">
                  <a:moveTo>
                    <a:pt x="4684" y="19702"/>
                  </a:moveTo>
                  <a:arcTo wR="10800" hR="10800" stAng="7469441" swAng="1731836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>
              <a:off x="-227880" y="368280"/>
              <a:ext cx="2208960" cy="51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72674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726747"/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88840" y="371520"/>
              <a:ext cx="370080" cy="398520"/>
            </a:xfrm>
            <a:custGeom>
              <a:avLst/>
              <a:gdLst/>
              <a:ahLst/>
              <a:rect l="l" t="t" r="r" b="b"/>
              <a:pathLst>
                <a:path w="233" h="251">
                  <a:moveTo>
                    <a:pt x="134" y="0"/>
                  </a:moveTo>
                  <a:lnTo>
                    <a:pt x="95" y="0"/>
                  </a:lnTo>
                  <a:lnTo>
                    <a:pt x="0" y="246"/>
                  </a:lnTo>
                  <a:lnTo>
                    <a:pt x="114" y="35"/>
                  </a:lnTo>
                  <a:lnTo>
                    <a:pt x="233" y="251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920" y="1608120"/>
            <a:ext cx="8242200" cy="39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mote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March 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0360" y="380520"/>
            <a:ext cx="591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getsta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253200" cy="451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AF8C2-44F0-450C-ADCE-4DF8B314B4D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60600" y="380520"/>
            <a:ext cx="58420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xform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07200" cy="46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337F3-648E-48F6-8A28-2D182E2212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59080" y="380520"/>
            <a:ext cx="604512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subpt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80280" cy="467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55FCF-4C46-4DC5-A84B-868B192EC8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73200" y="380520"/>
            <a:ext cx="5819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fovin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326280" cy="467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AFAD8-BD12-4806-BB49-34D838FB74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381400" y="380520"/>
            <a:ext cx="600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angle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88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18520" cy="467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E08C3-2520-40D5-885F-CCD01B9310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ris Semenov</cp:lastModifiedBy>
  <cp:lastPrinted>2004-04-30T20:29:12Z</cp:lastPrinted>
  <dcterms:modified xsi:type="dcterms:W3CDTF">2006-03-14T18:58:20Z</dcterms:modified>
  <cp:revision>71</cp:revision>
  <dc:subject/>
  <dc:title>Preview of Coming Attractions</dc:title>
</cp:coreProperties>
</file>