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C54A-63A4-46A6-B4A5-45EF5EE17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4EEA-8A89-449F-9629-898F4C445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E7F8-6A64-4940-8790-D0856511F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703D-43F7-4A08-A906-BCE7DB7B7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BB70-C98D-4DC4-B6D7-5B01A9A98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285B-5F09-4EC0-84CA-7E179BCE4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4CB6-818E-4345-94CA-4F17D1C62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6CF8-F626-44AE-99AA-A99B9F321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904B-D90B-411F-AD72-985807767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F9FA-1187-429F-A82A-147EF91B1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C738-9C15-41BE-8C4A-5F4744D5A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B8B9-62B6-4882-A483-0F8BFCF01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F7DC-668E-4C16-AD78-1D944A62E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757-321B-40FA-B985-C90D2633DE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63A7-4D09-413E-B62C-76C23619F1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B4F1-2F7D-4994-B23B-FAE7309B31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ADCD-99D0-42A1-8E5E-C3EC4B8C8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62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5FCC-06B7-4DAA-AD8E-D217E5A6C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81400" y="380520"/>
            <a:ext cx="600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angle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1852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A51B-F3D8-4DC5-88F9-F3BA34011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8:20Z</dcterms:modified>
  <cp:revision>71</cp:revision>
  <dc:subject/>
  <dc:title>Preview of Coming Attractions</dc:title>
</cp:coreProperties>
</file>