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95BB-5072-4460-833D-E232B9CF3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9068-286B-4596-81BE-9F0474C32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FFCB-AC5F-4642-8BC0-80D32113C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BC3D-2567-4084-ACDB-F815A8778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3271-761B-4DD7-8742-796224322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91AE-9FD0-4E47-890A-9A47EC0AD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3781-7D96-43C3-B894-49B28E72B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8994-9CC3-4A01-89AE-12F1FA060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B0FF-42C5-415B-837A-B7DFEF5C5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5630-BA43-4FD0-B9A0-0EC554007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A1FC-5C3E-4727-BF84-F96143D5A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44A3-5A5F-4663-A407-B13364B01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A97-4DF3-4E23-9DC3-C692EF263BE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04880" y="167940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a program that determines when a point target is visible, as seen from a surface point on an extended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that a second extended body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the possibility that the body on which the surface point is located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rete appl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2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6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Mars Express orbiter is visible from the DSN station DSS-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by the earth or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D5CE-0AEC-4604-8979-D969BA047D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330192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21c6a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19000" y="3746520"/>
            <a:ext cx="6516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415600">
            <a:off x="2521440" y="3348360"/>
            <a:ext cx="10980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1920" y="2803680"/>
            <a:ext cx="17715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3724200"/>
            <a:ext cx="1273320" cy="528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545800">
            <a:off x="2383920" y="3233160"/>
            <a:ext cx="1266840" cy="11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911800">
            <a:off x="2651400" y="3538080"/>
            <a:ext cx="6883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287000">
            <a:off x="1503720" y="2509200"/>
            <a:ext cx="2574360" cy="89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49600" y="3622680"/>
            <a:ext cx="920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SS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  not occulted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98E1-52D6-435E-A8AF-12090F9D532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dcterms:modified xsi:type="dcterms:W3CDTF">2006-03-14T18:57:07Z</dcterms:modified>
  <cp:revision>95</cp:revision>
  <dc:subject/>
  <dc:title>Time Conversion and Formats</dc:title>
</cp:coreProperties>
</file>