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6921-FA69-4E06-B8B5-B806E1DEE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4498-EDAC-40D5-833D-4B9A4C379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45D2-EA12-4637-9933-369C3FD3D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7A5D-A81C-4926-BE58-9DB0749EB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B74F-0EEE-4D63-B01B-CC0FE3B2E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3AFB-4E19-4397-ACEF-F47F5425F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8995-C09F-4861-B588-7BEBF95E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67C6-75ED-42EE-8C40-DBDCD56A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1B75-BCC8-48EF-89C4-3B4396CB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56C3-2F5D-4344-8D92-B30D903E8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8B0E-621C-4CD8-8DBB-9EC6270D6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981C-FA00-4D67-B4DC-1ED2C384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CB99-20BE-4A7A-A80F-E86F996A8C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6794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 program that determines when a point target is visible, as seen from a surface point on an extended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that a second extended body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the possibility that the body on which the surface point is located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rete appl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2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6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is visible from the DSN station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by the earth or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EFB6-92C8-4C92-B057-7A3CAC0CBA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192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19000" y="3746520"/>
            <a:ext cx="6516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1920" y="2803680"/>
            <a:ext cx="17715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724200"/>
            <a:ext cx="1273320" cy="528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9600" y="362268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3D24-4205-4F21-B7D1-3275D4C6522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dcterms:modified xsi:type="dcterms:W3CDTF">2006-03-14T18:57:07Z</dcterms:modified>
  <cp:revision>95</cp:revision>
  <dc:subject/>
  <dc:title>Time Conversion and Formats</dc:title>
</cp:coreProperties>
</file>