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6BB7-36D8-4B2E-AA43-EC6B1BB0A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7D942-0BC8-4703-A82F-23751107A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E232A-B192-4F8E-9CBC-1EC0145E8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6FF99-A117-424B-8FB3-E22CEDF90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ABB1D-55DA-47D2-968A-CE8FA30FA1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B11B9-5B54-43FD-A0C0-277C58282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FBAFE-B27B-4A33-8FB0-FBBDCD5EE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7D85D-CDE5-4EF0-9847-1674014EE5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ED67A-6680-4CF7-9413-90908D549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339E7-6444-4393-82FF-13C590253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389B9-A574-408E-AFC7-FD658835BC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C9D44-3122-47EA-BFD7-DEE8EAA50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9CC88-B00E-4F0D-9DCA-CC9EE0847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3085-EDEB-4B37-BFD0-72FBA4F1137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6760" y="3171600"/>
            <a:ext cx="4300560" cy="1375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In-situ Sens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08200" y="380520"/>
            <a:ext cx="3740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207120" cy="451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A4D44-AB96-4977-A907-EA524B8D67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741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4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105240" cy="45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96625-8486-4749-99BE-114F8EA272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741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5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379920" cy="466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EA632-0156-433E-8CEB-2986309FDA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741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6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306840" cy="451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8F249-3E35-4F25-87EC-38BDE2ECB1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4-10-15T20:19:16Z</dcterms:modified>
  <cp:revision>68</cp:revision>
  <dc:subject/>
  <dc:title>Preview of Coming Attractions</dc:title>
</cp:coreProperties>
</file>